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7"/>
          </p:nvPr>
        </p:nvSpPr>
        <p:spPr>
          <a:xfrm>
            <a:off x="4145040" y="-14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269720" y="729720"/>
            <a:ext cx="4776840" cy="3583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9"/>
          </p:nvPr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4C89F-55A5-442D-89B1-5B468DD44096}" type="slidenum"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F8BF3-0C45-438E-A5B3-14EEEB58B587}" type="slidenum">
              <a:rPr b="0" i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270080" y="730080"/>
            <a:ext cx="4776840" cy="358308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9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431640"/>
                <a:tab algn="l" pos="865080"/>
                <a:tab algn="l" pos="1300320"/>
                <a:tab algn="l" pos="1733400"/>
                <a:tab algn="l" pos="2166840"/>
                <a:tab algn="l" pos="2598840"/>
                <a:tab algn="l" pos="3035160"/>
                <a:tab algn="l" pos="3468600"/>
                <a:tab algn="l" pos="3902040"/>
                <a:tab algn="l" pos="4335480"/>
                <a:tab algn="l" pos="4768920"/>
                <a:tab algn="l" pos="5203800"/>
                <a:tab algn="l" pos="5637240"/>
                <a:tab algn="l" pos="6070680"/>
                <a:tab algn="l" pos="6504120"/>
                <a:tab algn="l" pos="6939000"/>
                <a:tab algn="l" pos="7370640"/>
                <a:tab algn="l" pos="7805880"/>
                <a:tab algn="l" pos="8238960"/>
                <a:tab algn="l" pos="8674200"/>
                <a:tab algn="l" pos="9067680"/>
                <a:tab algn="l" pos="9499680"/>
                <a:tab algn="l" pos="9931320"/>
                <a:tab algn="l" pos="10363320"/>
                <a:tab algn="l" pos="10794960"/>
              </a:tabLst>
            </a:pPr>
            <a:fld id="{7F01B8CC-8F8F-4D21-A831-6FDF8B26FEE3}" type="slidenum">
              <a:rPr b="0" i="1" lang="en-US" sz="11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9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431640"/>
                <a:tab algn="l" pos="865080"/>
                <a:tab algn="l" pos="1300320"/>
                <a:tab algn="l" pos="1733400"/>
                <a:tab algn="l" pos="2166840"/>
                <a:tab algn="l" pos="2598840"/>
                <a:tab algn="l" pos="3035160"/>
                <a:tab algn="l" pos="3468600"/>
                <a:tab algn="l" pos="3902040"/>
                <a:tab algn="l" pos="4335480"/>
                <a:tab algn="l" pos="4768920"/>
                <a:tab algn="l" pos="5203800"/>
                <a:tab algn="l" pos="5637240"/>
                <a:tab algn="l" pos="6070680"/>
                <a:tab algn="l" pos="6504120"/>
                <a:tab algn="l" pos="6939000"/>
                <a:tab algn="l" pos="7370640"/>
                <a:tab algn="l" pos="7805880"/>
                <a:tab algn="l" pos="8238960"/>
                <a:tab algn="l" pos="8674200"/>
                <a:tab algn="l" pos="9067680"/>
                <a:tab algn="l" pos="9499680"/>
                <a:tab algn="l" pos="9931320"/>
                <a:tab algn="l" pos="10363320"/>
                <a:tab algn="l" pos="10794960"/>
              </a:tabLst>
            </a:pPr>
            <a:fld id="{82B16304-0EC0-4ADF-BB3D-5A65FEFD3FCF}" type="slidenum">
              <a:rPr b="0" i="1" lang="en-US" sz="11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270080" y="730080"/>
            <a:ext cx="4776840" cy="358308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010 Census stats also show 12% as foreign born, but I don’t have the state by state breakdown. http://www.census.gov/population/foreign/data/cps2010.htm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CFDD2-5200-4B9C-ABB2-DBAC1CA7A418}" type="slidenum">
              <a:rPr b="0" i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E945-FC8C-461E-8510-9C594AA87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A9D3-9FBD-4B5A-BFEA-B56234047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F660-32D6-41F1-AD14-3E7CFC133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2655-6638-4C7C-A87B-3E257121E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32D2D-DFA8-4852-824E-774E25229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480CF-185B-4A9C-A920-C318F1AC8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660C9-C599-47EC-8311-82594D2A9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E8E68-06DB-474D-BB30-C700F1F40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0B2DE-5E60-44B5-87DB-279DCAF6A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1778A-9AC0-443B-8DDA-D91ACD06B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79D35-F39D-45FA-BA80-ABC7311F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B9E3-CDD7-4A18-AA22-F7D346775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DFDA3-20E3-4496-9BBF-F3F7B7B9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556AF-C919-483A-BD69-743CC9F5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D7634-7B12-492E-94F9-44D0E50B8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C78CA-BC24-4A2F-938F-07E8E03A4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92ABB-C8D7-49A8-B58A-C6A9FCFD6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58F1-D13F-4B7D-A042-F9905C79B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F391-C816-4959-969D-D10BE98E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41F9-CD23-496A-890C-FE55EF725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7EFD-1DAD-4BEA-AF62-DD5879CE1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05B5-7824-4EC7-AEB3-39A64208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DB6B-B5EE-479E-A39F-AEBD241D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EE8C-2BF6-4803-8436-B6EB8AA7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Rectangle 2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11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Oval 3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Oval 4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Oval 5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Oval 6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Oval 7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Oval 8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Oval 9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Oval 10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Rectangle 12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Oval 13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Oval 14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Oval 15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6854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12 AALS Globalization Workshop- Laurel Terry, p. ‹#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ECF2D-9BAE-48F6-A2AD-C85CD0ADD5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7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Rectangle 2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Rectangle 3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Oval 4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Oval 5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Oval 6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Oval 7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Oval 8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Oval 9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Oval 10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Oval 11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Oval 12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Group 21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Oval 13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Oval 14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Oval 15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Oval 16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Oval 17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Oval 18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Oval 19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Oval 20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Oval 22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Group 26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Freeform 23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>
                  <a:gd name="textAreaLeft" fmla="*/ 0 w 703440"/>
                  <a:gd name="textAreaRight" fmla="*/ 703800 w 703440"/>
                  <a:gd name="textAreaTop" fmla="*/ 0 h 1639800"/>
                  <a:gd name="textAreaBottom" fmla="*/ 1640160 h 1639800"/>
                </a:gdLst>
                <a:ahLst/>
                <a:rect l="textAreaLeft" t="textAreaTop" r="textAreaRight" b="textAreaBottom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Freeform 24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>
                  <a:gd name="textAreaLeft" fmla="*/ 0 w 1308240"/>
                  <a:gd name="textAreaRight" fmla="*/ 1308600 w 1308240"/>
                  <a:gd name="textAreaTop" fmla="*/ 0 h 1909800"/>
                  <a:gd name="textAreaBottom" fmla="*/ 1910160 h 1909800"/>
                </a:gdLst>
                <a:ahLst/>
                <a:rect l="textAreaLeft" t="textAreaTop" r="textAreaRight" b="textAreaBottom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Freeform 25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12 AALS Globalization Workshop- Laurel Terry, p. ‹#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77255-2AD0-4208-90EA-3414AA30DA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LTerry@psu.edu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2.goldmansachs.com/our-thinking/brics/brics-reports-pdfs/brics-dream.pdf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papers.ssrn.com/sol3/cf_dev/AbsByAuth.cfm?per_id=288407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americanbar.org/groups/professional_responsibility/aba_commission_on_ethics_20_20/initial_proposals.html" TargetMode="External"/><Relationship Id="rId2" Type="http://schemas.openxmlformats.org/officeDocument/2006/relationships/hyperlink" Target="http://www.ccbe.org/index.php?id=25&amp;L=0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2362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Times New Roman"/>
              </a:rPr>
              <a:t>Globalization and the Legal Profession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828800" y="3276720"/>
            <a:ext cx="73152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INTERNATIONAL LEGAL EDUCATION ABROAD CONFEREN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erican University, Washingt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llege of Law, April 2, 201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f. Laurel S. Terry (</a:t>
            </a:r>
            <a:r>
              <a:rPr b="1" lang="en-US" sz="2800" spc="-1" strike="noStrike" u="sng">
                <a:solidFill>
                  <a:srgbClr val="330099"/>
                </a:solidFill>
                <a:uFillTx/>
                <a:latin typeface="Arial"/>
                <a:hlinkClick r:id="rId1"/>
              </a:rPr>
              <a:t>LTerry@psu.ed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nn State Dickinson School of La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RICs: Brazil, Russia, India, Chin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9" name="Slide Number Placeholder 2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9E8D2-7721-437A-BCE8-8FE8A44F4E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0" name="Picture 2" descr=""/>
          <p:cNvPicPr/>
          <p:nvPr/>
        </p:nvPicPr>
        <p:blipFill>
          <a:blip r:embed="rId1"/>
          <a:srcRect l="51064" t="24524" r="11421" b="13157"/>
          <a:stretch/>
        </p:blipFill>
        <p:spPr>
          <a:xfrm>
            <a:off x="1825560" y="1638360"/>
            <a:ext cx="4800600" cy="4484520"/>
          </a:xfrm>
          <a:prstGeom prst="rect">
            <a:avLst/>
          </a:prstGeom>
          <a:ln w="0">
            <a:noFill/>
          </a:ln>
        </p:spPr>
      </p:pic>
      <p:sp>
        <p:nvSpPr>
          <p:cNvPr id="491" name="TextBox 3"/>
          <p:cNvSpPr/>
          <p:nvPr/>
        </p:nvSpPr>
        <p:spPr>
          <a:xfrm>
            <a:off x="6629400" y="2133720"/>
            <a:ext cx="22096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uth Africa has now joined this group which is now known as “BRIC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TextBox 4"/>
          <p:cNvSpPr/>
          <p:nvPr/>
        </p:nvSpPr>
        <p:spPr>
          <a:xfrm>
            <a:off x="301680" y="6122880"/>
            <a:ext cx="784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Times New Roman"/>
              </a:rPr>
              <a:t>Source: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Goldman Sachs, Dreaming With BRICs: The Path to 2050, Global Economics Paper #99 (2003), </a:t>
            </a:r>
            <a:r>
              <a:rPr b="0" lang="en-US" sz="1400" spc="-1" strike="noStrike" u="sng">
                <a:solidFill>
                  <a:srgbClr val="330099"/>
                </a:solidFill>
                <a:uFillTx/>
                <a:latin typeface="Times New Roman"/>
                <a:hlinkClick r:id="rId2"/>
              </a:rPr>
              <a:t>http://www2.goldmansachs.com/our-thinking/brics/brics-reports-pdfs/brics-dream.pdf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Times New Roman"/>
              </a:rPr>
              <a:t>This Shift will affect clients &amp; thus lawyers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D358E-826E-459B-A267-1C367F828D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5" name="Picture 2" descr=""/>
          <p:cNvPicPr/>
          <p:nvPr/>
        </p:nvPicPr>
        <p:blipFill>
          <a:blip r:embed="rId1"/>
          <a:srcRect l="50970" t="28232" r="12463" b="11473"/>
          <a:stretch/>
        </p:blipFill>
        <p:spPr>
          <a:xfrm>
            <a:off x="4641840" y="2438280"/>
            <a:ext cx="4272120" cy="396252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3" descr=""/>
          <p:cNvPicPr/>
          <p:nvPr/>
        </p:nvPicPr>
        <p:blipFill>
          <a:blip r:embed="rId2"/>
          <a:srcRect l="50948" t="29580" r="12295" b="10125"/>
          <a:stretch/>
        </p:blipFill>
        <p:spPr>
          <a:xfrm>
            <a:off x="152280" y="1752480"/>
            <a:ext cx="4376880" cy="4038840"/>
          </a:xfrm>
          <a:prstGeom prst="rect">
            <a:avLst/>
          </a:prstGeom>
          <a:ln w="0">
            <a:noFill/>
          </a:ln>
        </p:spPr>
      </p:pic>
      <p:sp>
        <p:nvSpPr>
          <p:cNvPr id="497" name="TextBox 4"/>
          <p:cNvSpPr/>
          <p:nvPr/>
        </p:nvSpPr>
        <p:spPr>
          <a:xfrm>
            <a:off x="264960" y="609588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urce: See previous sli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II.  Is There a Coordinated Regulatory Regime?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412560" y="1676520"/>
            <a:ext cx="8731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really…we are at the beginning stages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A Commission on Ethics 20/20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60120" indent="-191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bound” lawyer propos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ncil of the ABA Sec. of Legal Ed. &amp; Admission[s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60120" indent="-191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nding Model Rule on [Full] Admission for LL.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60120" indent="-191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ents sought on off-shore accreditation ru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York LL.M - Bar Eligibility ru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ference of Chief Justic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60120" indent="-191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scipline cooperation with the CCBE &amp; Law Council of Austral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lobal Effort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Bologna Process, GATS, APEC, etc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7D0DF-C362-4F44-BB12-6F6081FACD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Times New Roman"/>
              </a:rPr>
              <a:t>III.  What Should Legal Educators Do?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45684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cognize that…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live in a global wor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udents from all law schools will need to be prepared to represent clients with global nee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’l programs expose students to law’s global dimension – directly and indirect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No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Could we better leverage the global exposure students have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e, e.g., Carole Silver, Fordham 2012, </a:t>
            </a:r>
            <a:r>
              <a:rPr b="0" lang="en-US" sz="2000" spc="-1" strike="noStrike" u="sng">
                <a:solidFill>
                  <a:srgbClr val="330099"/>
                </a:solidFill>
                <a:uFillTx/>
                <a:latin typeface="Times New Roman"/>
                <a:hlinkClick r:id="rId1"/>
              </a:rPr>
              <a:t>http://papers.ssrn.com/sol3/cf_dev/AbsByAuth.cfm?per_id=288407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D4223-FCF3-4567-AB6F-08D67C103F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bcbcb"/>
                </a:solidFill>
                <a:latin typeface="Times New Roman"/>
              </a:rPr>
              <a:t>To Read More About It…</a:t>
            </a:r>
            <a:endParaRPr b="0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762120" y="1523880"/>
            <a:ext cx="807696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A Commission on Ethics 20/20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0099"/>
                </a:solidFill>
                <a:uFillTx/>
                <a:latin typeface="Times New Roman"/>
                <a:hlinkClick r:id="rId1"/>
              </a:rPr>
              <a:t>http://www.americanbar.org/groups/professional_responsibility/aba_commission_on_ethics_20_20/initial_proposals.htm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TO Secretariat’s 2010 Legal Services Paper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0099"/>
                </a:solidFill>
                <a:uFillTx/>
                <a:latin typeface="Times New Roman"/>
                <a:hlinkClick r:id="rId2"/>
              </a:rPr>
              <a:t>http://www.wto.org/english/tratop_e/serv_e/legal_e/legal_e.ht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national Association of Legal Ethics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nd ILEC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www.stanford.edu/group/lawlibrary/cgi-bin/iaole/wordpress/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wWithoutWalls Materi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www.lawwithoutwalls.org/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ll 2011 Fordham Symposium on Globalization and the Legal Profes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chived programs at,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nter alia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rvard, Stanford, Georgetown, MSU, Akron, &amp; Hofstra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7EE76-1A21-4B87-9EDD-5E53D4E532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Times New Roman"/>
              </a:rPr>
              <a:t>To Read More About It…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By Laurel Terr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ffffff"/>
                </a:solidFill>
                <a:uFillTx/>
                <a:latin typeface="Arial"/>
              </a:rPr>
              <a:t>Global Legal Practice Resources Webpage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ttp://www.personal.psu.edu/faculty/l/s/lst3/globalprac.htm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ffffff"/>
                </a:solidFill>
                <a:uFillTx/>
                <a:latin typeface="Arial"/>
              </a:rPr>
              <a:t>Links to Publications by Topic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ttp://www.personal.psu.edu/faculty/l/s/lst3/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ffffff"/>
                </a:solidFill>
                <a:uFillTx/>
                <a:latin typeface="Arial"/>
              </a:rPr>
              <a:t>Presentations Page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4068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ttp://www.personal.psu.edu/faculty/l/s/lst3/presentations.htm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068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ffffff"/>
                </a:solidFill>
                <a:uFillTx/>
                <a:latin typeface="Arial"/>
              </a:rPr>
              <a:t>SSRN page</a:t>
            </a: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http://ssrn.com/author=340745 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ee, e.g., </a:t>
            </a: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International Initiatives Relevant to Transnational and Cross-Border Higher Education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[2011</a:t>
            </a: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esentation &amp; Paper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1B704-B190-48BD-A49C-440735D482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0" name="Picture 2" descr=""/>
          <p:cNvPicPr/>
          <p:nvPr/>
        </p:nvPicPr>
        <p:blipFill>
          <a:blip r:embed="rId1"/>
          <a:stretch/>
        </p:blipFill>
        <p:spPr>
          <a:xfrm>
            <a:off x="7620120" y="1752480"/>
            <a:ext cx="1066680" cy="10670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14040" y="6858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My Presentations Webpage: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12" name="Slide Number Placeholder 2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0487E-B7B9-44E1-A138-93D36A3FFA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3" name="Picture 2" descr=""/>
          <p:cNvPicPr/>
          <p:nvPr/>
        </p:nvPicPr>
        <p:blipFill>
          <a:blip r:embed="rId1"/>
          <a:srcRect l="4846" t="36037" r="22605" b="2740"/>
          <a:stretch/>
        </p:blipFill>
        <p:spPr>
          <a:xfrm>
            <a:off x="0" y="2057400"/>
            <a:ext cx="9124920" cy="3381480"/>
          </a:xfrm>
          <a:prstGeom prst="rect">
            <a:avLst/>
          </a:prstGeom>
          <a:ln w="0">
            <a:noFill/>
          </a:ln>
        </p:spPr>
      </p:pic>
      <p:sp>
        <p:nvSpPr>
          <p:cNvPr id="514" name="TextBox 3"/>
          <p:cNvSpPr/>
          <p:nvPr/>
        </p:nvSpPr>
        <p:spPr>
          <a:xfrm>
            <a:off x="228600" y="609444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personal.psu.edu/faculty/l/s/lst3/presentations.htm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Times New Roman"/>
              </a:rPr>
              <a:t>Roadmap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1801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global dimension of law practi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servations about lawyer regul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lications for legal educato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25159-DE43-4E2D-94EB-46AFEF8893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Picture 5" descr="C:\Users\lst3\AppData\Local\Microsoft\Windows\Temporary Internet Files\Content.IE5\NO11FKO2\MC900358965[1].wmf"/>
          <p:cNvPicPr/>
          <p:nvPr/>
        </p:nvPicPr>
        <p:blipFill>
          <a:blip r:embed="rId1"/>
          <a:srcRect l="8194" t="0" r="7386" b="45959"/>
          <a:stretch/>
        </p:blipFill>
        <p:spPr>
          <a:xfrm>
            <a:off x="2971800" y="3962520"/>
            <a:ext cx="3459240" cy="22176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49160" y="79164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Times New Roman"/>
                <a:ea typeface="Arial Unicode MS"/>
              </a:rPr>
              <a:t>I. The Global Dimension of Law Practice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1"/>
          <a:stretch/>
        </p:blipFill>
        <p:spPr>
          <a:xfrm>
            <a:off x="1036800" y="1631880"/>
            <a:ext cx="7619760" cy="4603680"/>
          </a:xfrm>
          <a:prstGeom prst="rect">
            <a:avLst/>
          </a:prstGeom>
          <a:ln w="0">
            <a:noFill/>
          </a:ln>
        </p:spPr>
      </p:pic>
      <p:sp>
        <p:nvSpPr>
          <p:cNvPr id="138" name="TextBox 4"/>
          <p:cNvSpPr/>
          <p:nvPr/>
        </p:nvSpPr>
        <p:spPr>
          <a:xfrm>
            <a:off x="533520" y="6235560"/>
            <a:ext cx="862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urce: WTO Secretariat Report on Legal Services, S/C/W/38 (June 2010), at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¶7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Slide Number Placeholder 11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36DA0-50D5-410A-A781-BCCDD1FCBC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he Global Dimension is… Globa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rcRect l="0" t="0" r="14578" b="12634"/>
          <a:stretch/>
        </p:blipFill>
        <p:spPr>
          <a:xfrm>
            <a:off x="762120" y="1801800"/>
            <a:ext cx="7859520" cy="4141800"/>
          </a:xfrm>
          <a:prstGeom prst="rect">
            <a:avLst/>
          </a:prstGeom>
          <a:ln w="0">
            <a:noFill/>
          </a:ln>
        </p:spPr>
      </p:pic>
      <p:sp>
        <p:nvSpPr>
          <p:cNvPr id="142" name="TextBox 4"/>
          <p:cNvSpPr/>
          <p:nvPr/>
        </p:nvSpPr>
        <p:spPr>
          <a:xfrm>
            <a:off x="1295280" y="594360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rce: WTO Secretariat Report, supra, at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¶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Slide Number Placeholder 6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B46C5-130B-4DBA-A6B4-5360441FFB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Globalization Affects All US States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rcRect l="21099" t="37648" r="27055" b="14337"/>
          <a:stretch/>
        </p:blipFill>
        <p:spPr>
          <a:xfrm>
            <a:off x="1219320" y="1639800"/>
            <a:ext cx="7439040" cy="38736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"/>
          <p:cNvPicPr/>
          <p:nvPr/>
        </p:nvPicPr>
        <p:blipFill>
          <a:blip r:embed="rId2"/>
          <a:srcRect l="11582" t="10719" r="0" b="0"/>
          <a:stretch/>
        </p:blipFill>
        <p:spPr>
          <a:xfrm>
            <a:off x="304920" y="3048120"/>
            <a:ext cx="2076480" cy="1147680"/>
          </a:xfrm>
          <a:prstGeom prst="rect">
            <a:avLst/>
          </a:prstGeom>
          <a:ln w="0">
            <a:noFill/>
          </a:ln>
        </p:spPr>
      </p:pic>
      <p:sp>
        <p:nvSpPr>
          <p:cNvPr id="147" name="TextBox 2"/>
          <p:cNvSpPr/>
          <p:nvPr/>
        </p:nvSpPr>
        <p:spPr>
          <a:xfrm>
            <a:off x="1044720" y="6019920"/>
            <a:ext cx="771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Sourc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: Office of Trade and Industry Information (OTII), Manufacturing and Services, International Trade Administration, U.S. Department of Commerc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Box 3"/>
          <p:cNvSpPr/>
          <p:nvPr/>
        </p:nvSpPr>
        <p:spPr>
          <a:xfrm>
            <a:off x="609480" y="541008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*All states except Hawaii and Wyoming had 2010 exports in the billions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Slide Number Placeholder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98D6A-6325-4C72-BFD7-6352B19C16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560" y="533520"/>
            <a:ext cx="9347040" cy="96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Times New Roman"/>
              </a:rPr>
              <a:t>States in Which NLJ 250 Firms Have Offices</a:t>
            </a:r>
            <a:br>
              <a:rPr sz="3600"/>
            </a:br>
            <a:r>
              <a:rPr b="1" lang="en-US" sz="2400" spc="-1" strike="noStrike">
                <a:solidFill>
                  <a:srgbClr val="cbcbcb"/>
                </a:solidFill>
                <a:latin typeface="Times New Roman"/>
              </a:rPr>
              <a:t>(U.S. “imputation” rules extend the effects of globalization)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51" name="Picture 3" descr="location of nlj 250 offices"/>
          <p:cNvPicPr/>
          <p:nvPr/>
        </p:nvPicPr>
        <p:blipFill>
          <a:blip r:embed="rId1"/>
          <a:srcRect l="44132" t="83049" r="38888" b="7949"/>
          <a:stretch/>
        </p:blipFill>
        <p:spPr>
          <a:xfrm>
            <a:off x="2336760" y="4930920"/>
            <a:ext cx="1143000" cy="7840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location of nlj 250 offices red"/>
          <p:cNvPicPr/>
          <p:nvPr/>
        </p:nvPicPr>
        <p:blipFill>
          <a:blip r:embed="rId2"/>
          <a:srcRect l="0" t="28031" r="7355" b="28411"/>
          <a:stretch/>
        </p:blipFill>
        <p:spPr>
          <a:xfrm>
            <a:off x="946080" y="1676520"/>
            <a:ext cx="7378920" cy="4489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location of nlj 250 offices red"/>
          <p:cNvPicPr/>
          <p:nvPr/>
        </p:nvPicPr>
        <p:blipFill>
          <a:blip r:embed="rId3"/>
          <a:srcRect l="4085" t="79170" r="61278" b="5179"/>
          <a:stretch/>
        </p:blipFill>
        <p:spPr>
          <a:xfrm>
            <a:off x="216000" y="5126040"/>
            <a:ext cx="2692440" cy="1574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location of nlj 250 offices"/>
          <p:cNvPicPr/>
          <p:nvPr/>
        </p:nvPicPr>
        <p:blipFill>
          <a:blip r:embed="rId4"/>
          <a:srcRect l="44132" t="83049" r="38888" b="7949"/>
          <a:stretch/>
        </p:blipFill>
        <p:spPr>
          <a:xfrm>
            <a:off x="312840" y="5181480"/>
            <a:ext cx="998280" cy="68580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7"/>
          <p:cNvSpPr/>
          <p:nvPr/>
        </p:nvSpPr>
        <p:spPr>
          <a:xfrm>
            <a:off x="0" y="0"/>
            <a:ext cx="927252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lide content from Jim Jones at the May 2009 CCJ-Globalization Confer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Slide Number Placeholder 2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9EAE4-2AF8-49AB-B70C-725BC7D3BB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39680" y="525600"/>
            <a:ext cx="774864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Concentration of Fortune 1000 Companies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Freeform 3"/>
          <p:cNvSpPr/>
          <p:nvPr/>
        </p:nvSpPr>
        <p:spPr>
          <a:xfrm>
            <a:off x="419040" y="2414520"/>
            <a:ext cx="1301760" cy="2094120"/>
          </a:xfrm>
          <a:custGeom>
            <a:avLst/>
            <a:gdLst>
              <a:gd name="textAreaLeft" fmla="*/ 0 w 1301760"/>
              <a:gd name="textAreaRight" fmla="*/ 1302120 w 1301760"/>
              <a:gd name="textAreaTop" fmla="*/ 0 h 2094120"/>
              <a:gd name="textAreaBottom" fmla="*/ 2094480 h 2094120"/>
            </a:gdLst>
            <a:ahLst/>
            <a:rect l="textAreaLeft" t="textAreaTop" r="textAreaRight" b="textAreaBottom"/>
            <a:pathLst>
              <a:path w="1661" h="2859">
                <a:moveTo>
                  <a:pt x="160" y="0"/>
                </a:moveTo>
                <a:lnTo>
                  <a:pt x="925" y="197"/>
                </a:lnTo>
                <a:lnTo>
                  <a:pt x="763" y="972"/>
                </a:lnTo>
                <a:lnTo>
                  <a:pt x="1589" y="2275"/>
                </a:lnTo>
                <a:lnTo>
                  <a:pt x="1598" y="2292"/>
                </a:lnTo>
                <a:lnTo>
                  <a:pt x="1598" y="2345"/>
                </a:lnTo>
                <a:lnTo>
                  <a:pt x="1598" y="2360"/>
                </a:lnTo>
                <a:lnTo>
                  <a:pt x="1605" y="2382"/>
                </a:lnTo>
                <a:lnTo>
                  <a:pt x="1615" y="2400"/>
                </a:lnTo>
                <a:lnTo>
                  <a:pt x="1625" y="2415"/>
                </a:lnTo>
                <a:lnTo>
                  <a:pt x="1635" y="2431"/>
                </a:lnTo>
                <a:lnTo>
                  <a:pt x="1640" y="2444"/>
                </a:lnTo>
                <a:lnTo>
                  <a:pt x="1651" y="2454"/>
                </a:lnTo>
                <a:lnTo>
                  <a:pt x="1660" y="2469"/>
                </a:lnTo>
                <a:lnTo>
                  <a:pt x="1661" y="2480"/>
                </a:lnTo>
                <a:lnTo>
                  <a:pt x="1653" y="2484"/>
                </a:lnTo>
                <a:lnTo>
                  <a:pt x="1620" y="2503"/>
                </a:lnTo>
                <a:lnTo>
                  <a:pt x="1577" y="2512"/>
                </a:lnTo>
                <a:lnTo>
                  <a:pt x="1558" y="2542"/>
                </a:lnTo>
                <a:lnTo>
                  <a:pt x="1543" y="2574"/>
                </a:lnTo>
                <a:lnTo>
                  <a:pt x="1529" y="2628"/>
                </a:lnTo>
                <a:lnTo>
                  <a:pt x="1521" y="2701"/>
                </a:lnTo>
                <a:lnTo>
                  <a:pt x="1505" y="2743"/>
                </a:lnTo>
                <a:lnTo>
                  <a:pt x="1480" y="2756"/>
                </a:lnTo>
                <a:lnTo>
                  <a:pt x="1480" y="2763"/>
                </a:lnTo>
                <a:lnTo>
                  <a:pt x="1480" y="2778"/>
                </a:lnTo>
                <a:lnTo>
                  <a:pt x="1506" y="2787"/>
                </a:lnTo>
                <a:lnTo>
                  <a:pt x="1515" y="2802"/>
                </a:lnTo>
                <a:lnTo>
                  <a:pt x="1516" y="2818"/>
                </a:lnTo>
                <a:lnTo>
                  <a:pt x="1500" y="2828"/>
                </a:lnTo>
                <a:lnTo>
                  <a:pt x="1465" y="2856"/>
                </a:lnTo>
                <a:lnTo>
                  <a:pt x="1448" y="2859"/>
                </a:lnTo>
                <a:lnTo>
                  <a:pt x="1448" y="2836"/>
                </a:lnTo>
                <a:lnTo>
                  <a:pt x="1448" y="2829"/>
                </a:lnTo>
                <a:lnTo>
                  <a:pt x="896" y="2767"/>
                </a:lnTo>
                <a:lnTo>
                  <a:pt x="895" y="2733"/>
                </a:lnTo>
                <a:lnTo>
                  <a:pt x="903" y="2709"/>
                </a:lnTo>
                <a:lnTo>
                  <a:pt x="892" y="2596"/>
                </a:lnTo>
                <a:lnTo>
                  <a:pt x="866" y="2538"/>
                </a:lnTo>
                <a:lnTo>
                  <a:pt x="832" y="2507"/>
                </a:lnTo>
                <a:lnTo>
                  <a:pt x="832" y="2493"/>
                </a:lnTo>
                <a:lnTo>
                  <a:pt x="825" y="2444"/>
                </a:lnTo>
                <a:lnTo>
                  <a:pt x="797" y="2424"/>
                </a:lnTo>
                <a:lnTo>
                  <a:pt x="757" y="2384"/>
                </a:lnTo>
                <a:lnTo>
                  <a:pt x="739" y="2376"/>
                </a:lnTo>
                <a:lnTo>
                  <a:pt x="739" y="2367"/>
                </a:lnTo>
                <a:lnTo>
                  <a:pt x="737" y="2353"/>
                </a:lnTo>
                <a:lnTo>
                  <a:pt x="695" y="2323"/>
                </a:lnTo>
                <a:lnTo>
                  <a:pt x="620" y="2255"/>
                </a:lnTo>
                <a:lnTo>
                  <a:pt x="601" y="2238"/>
                </a:lnTo>
                <a:lnTo>
                  <a:pt x="567" y="2223"/>
                </a:lnTo>
                <a:lnTo>
                  <a:pt x="457" y="2124"/>
                </a:lnTo>
                <a:lnTo>
                  <a:pt x="441" y="2109"/>
                </a:lnTo>
                <a:lnTo>
                  <a:pt x="406" y="2091"/>
                </a:lnTo>
                <a:lnTo>
                  <a:pt x="373" y="2086"/>
                </a:lnTo>
                <a:lnTo>
                  <a:pt x="355" y="2075"/>
                </a:lnTo>
                <a:lnTo>
                  <a:pt x="340" y="2055"/>
                </a:lnTo>
                <a:lnTo>
                  <a:pt x="328" y="2023"/>
                </a:lnTo>
                <a:lnTo>
                  <a:pt x="339" y="2000"/>
                </a:lnTo>
                <a:lnTo>
                  <a:pt x="371" y="1952"/>
                </a:lnTo>
                <a:lnTo>
                  <a:pt x="363" y="1914"/>
                </a:lnTo>
                <a:lnTo>
                  <a:pt x="353" y="1874"/>
                </a:lnTo>
                <a:lnTo>
                  <a:pt x="337" y="1833"/>
                </a:lnTo>
                <a:lnTo>
                  <a:pt x="266" y="1742"/>
                </a:lnTo>
                <a:lnTo>
                  <a:pt x="250" y="1719"/>
                </a:lnTo>
                <a:lnTo>
                  <a:pt x="249" y="1667"/>
                </a:lnTo>
                <a:lnTo>
                  <a:pt x="231" y="1647"/>
                </a:lnTo>
                <a:lnTo>
                  <a:pt x="216" y="1632"/>
                </a:lnTo>
                <a:lnTo>
                  <a:pt x="198" y="1614"/>
                </a:lnTo>
                <a:lnTo>
                  <a:pt x="198" y="1599"/>
                </a:lnTo>
                <a:lnTo>
                  <a:pt x="197" y="1568"/>
                </a:lnTo>
                <a:lnTo>
                  <a:pt x="188" y="1545"/>
                </a:lnTo>
                <a:lnTo>
                  <a:pt x="178" y="1514"/>
                </a:lnTo>
                <a:lnTo>
                  <a:pt x="169" y="1498"/>
                </a:lnTo>
                <a:lnTo>
                  <a:pt x="169" y="1482"/>
                </a:lnTo>
                <a:lnTo>
                  <a:pt x="178" y="1460"/>
                </a:lnTo>
                <a:lnTo>
                  <a:pt x="186" y="1452"/>
                </a:lnTo>
                <a:lnTo>
                  <a:pt x="236" y="1442"/>
                </a:lnTo>
                <a:lnTo>
                  <a:pt x="259" y="1424"/>
                </a:lnTo>
                <a:lnTo>
                  <a:pt x="259" y="1419"/>
                </a:lnTo>
                <a:lnTo>
                  <a:pt x="227" y="1390"/>
                </a:lnTo>
                <a:lnTo>
                  <a:pt x="199" y="1349"/>
                </a:lnTo>
                <a:lnTo>
                  <a:pt x="182" y="1309"/>
                </a:lnTo>
                <a:lnTo>
                  <a:pt x="175" y="1270"/>
                </a:lnTo>
                <a:lnTo>
                  <a:pt x="175" y="1217"/>
                </a:lnTo>
                <a:lnTo>
                  <a:pt x="165" y="1178"/>
                </a:lnTo>
                <a:lnTo>
                  <a:pt x="165" y="1164"/>
                </a:lnTo>
                <a:lnTo>
                  <a:pt x="174" y="1147"/>
                </a:lnTo>
                <a:lnTo>
                  <a:pt x="197" y="1163"/>
                </a:lnTo>
                <a:lnTo>
                  <a:pt x="221" y="1177"/>
                </a:lnTo>
                <a:lnTo>
                  <a:pt x="233" y="1194"/>
                </a:lnTo>
                <a:lnTo>
                  <a:pt x="241" y="1201"/>
                </a:lnTo>
                <a:lnTo>
                  <a:pt x="256" y="1200"/>
                </a:lnTo>
                <a:lnTo>
                  <a:pt x="266" y="1200"/>
                </a:lnTo>
                <a:lnTo>
                  <a:pt x="265" y="1166"/>
                </a:lnTo>
                <a:lnTo>
                  <a:pt x="265" y="1150"/>
                </a:lnTo>
                <a:lnTo>
                  <a:pt x="265" y="1138"/>
                </a:lnTo>
                <a:lnTo>
                  <a:pt x="248" y="1121"/>
                </a:lnTo>
                <a:lnTo>
                  <a:pt x="239" y="1097"/>
                </a:lnTo>
                <a:lnTo>
                  <a:pt x="239" y="1082"/>
                </a:lnTo>
                <a:lnTo>
                  <a:pt x="239" y="1075"/>
                </a:lnTo>
                <a:lnTo>
                  <a:pt x="263" y="1082"/>
                </a:lnTo>
                <a:lnTo>
                  <a:pt x="289" y="1096"/>
                </a:lnTo>
                <a:lnTo>
                  <a:pt x="289" y="1074"/>
                </a:lnTo>
                <a:lnTo>
                  <a:pt x="289" y="1066"/>
                </a:lnTo>
                <a:lnTo>
                  <a:pt x="280" y="1043"/>
                </a:lnTo>
                <a:lnTo>
                  <a:pt x="254" y="1027"/>
                </a:lnTo>
                <a:lnTo>
                  <a:pt x="229" y="1013"/>
                </a:lnTo>
                <a:lnTo>
                  <a:pt x="203" y="1004"/>
                </a:lnTo>
                <a:lnTo>
                  <a:pt x="195" y="1004"/>
                </a:lnTo>
                <a:lnTo>
                  <a:pt x="188" y="1004"/>
                </a:lnTo>
                <a:lnTo>
                  <a:pt x="188" y="1020"/>
                </a:lnTo>
                <a:lnTo>
                  <a:pt x="195" y="1035"/>
                </a:lnTo>
                <a:lnTo>
                  <a:pt x="195" y="1052"/>
                </a:lnTo>
                <a:lnTo>
                  <a:pt x="196" y="1075"/>
                </a:lnTo>
                <a:lnTo>
                  <a:pt x="189" y="1082"/>
                </a:lnTo>
                <a:lnTo>
                  <a:pt x="172" y="1100"/>
                </a:lnTo>
                <a:lnTo>
                  <a:pt x="156" y="1100"/>
                </a:lnTo>
                <a:lnTo>
                  <a:pt x="138" y="1083"/>
                </a:lnTo>
                <a:lnTo>
                  <a:pt x="122" y="1076"/>
                </a:lnTo>
                <a:lnTo>
                  <a:pt x="121" y="1053"/>
                </a:lnTo>
                <a:lnTo>
                  <a:pt x="121" y="1044"/>
                </a:lnTo>
                <a:lnTo>
                  <a:pt x="104" y="1021"/>
                </a:lnTo>
                <a:lnTo>
                  <a:pt x="95" y="1015"/>
                </a:lnTo>
                <a:lnTo>
                  <a:pt x="87" y="998"/>
                </a:lnTo>
                <a:lnTo>
                  <a:pt x="85" y="967"/>
                </a:lnTo>
                <a:lnTo>
                  <a:pt x="85" y="952"/>
                </a:lnTo>
                <a:lnTo>
                  <a:pt x="95" y="952"/>
                </a:lnTo>
                <a:lnTo>
                  <a:pt x="110" y="943"/>
                </a:lnTo>
                <a:lnTo>
                  <a:pt x="118" y="920"/>
                </a:lnTo>
                <a:lnTo>
                  <a:pt x="95" y="881"/>
                </a:lnTo>
                <a:lnTo>
                  <a:pt x="74" y="859"/>
                </a:lnTo>
                <a:lnTo>
                  <a:pt x="68" y="843"/>
                </a:lnTo>
                <a:lnTo>
                  <a:pt x="68" y="817"/>
                </a:lnTo>
                <a:lnTo>
                  <a:pt x="57" y="773"/>
                </a:lnTo>
                <a:lnTo>
                  <a:pt x="42" y="739"/>
                </a:lnTo>
                <a:lnTo>
                  <a:pt x="31" y="710"/>
                </a:lnTo>
                <a:lnTo>
                  <a:pt x="30" y="647"/>
                </a:lnTo>
                <a:lnTo>
                  <a:pt x="45" y="598"/>
                </a:lnTo>
                <a:lnTo>
                  <a:pt x="53" y="551"/>
                </a:lnTo>
                <a:lnTo>
                  <a:pt x="61" y="536"/>
                </a:lnTo>
                <a:lnTo>
                  <a:pt x="52" y="497"/>
                </a:lnTo>
                <a:lnTo>
                  <a:pt x="27" y="459"/>
                </a:lnTo>
                <a:lnTo>
                  <a:pt x="20" y="443"/>
                </a:lnTo>
                <a:lnTo>
                  <a:pt x="20" y="419"/>
                </a:lnTo>
                <a:lnTo>
                  <a:pt x="0" y="394"/>
                </a:lnTo>
                <a:lnTo>
                  <a:pt x="0" y="379"/>
                </a:lnTo>
                <a:lnTo>
                  <a:pt x="0" y="348"/>
                </a:lnTo>
                <a:lnTo>
                  <a:pt x="17" y="277"/>
                </a:lnTo>
                <a:lnTo>
                  <a:pt x="32" y="246"/>
                </a:lnTo>
                <a:lnTo>
                  <a:pt x="39" y="230"/>
                </a:lnTo>
                <a:lnTo>
                  <a:pt x="47" y="230"/>
                </a:lnTo>
                <a:lnTo>
                  <a:pt x="57" y="246"/>
                </a:lnTo>
                <a:lnTo>
                  <a:pt x="64" y="269"/>
                </a:lnTo>
                <a:lnTo>
                  <a:pt x="67" y="276"/>
                </a:lnTo>
                <a:lnTo>
                  <a:pt x="82" y="276"/>
                </a:lnTo>
                <a:lnTo>
                  <a:pt x="92" y="276"/>
                </a:lnTo>
                <a:lnTo>
                  <a:pt x="97" y="254"/>
                </a:lnTo>
                <a:lnTo>
                  <a:pt x="114" y="174"/>
                </a:lnTo>
                <a:lnTo>
                  <a:pt x="135" y="102"/>
                </a:lnTo>
                <a:lnTo>
                  <a:pt x="153" y="26"/>
                </a:lnTo>
                <a:lnTo>
                  <a:pt x="160" y="0"/>
                </a:lnTo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Freeform 4"/>
          <p:cNvSpPr/>
          <p:nvPr/>
        </p:nvSpPr>
        <p:spPr>
          <a:xfrm>
            <a:off x="536400" y="1635120"/>
            <a:ext cx="1257480" cy="1020600"/>
          </a:xfrm>
          <a:custGeom>
            <a:avLst/>
            <a:gdLst>
              <a:gd name="textAreaLeft" fmla="*/ 0 w 1257480"/>
              <a:gd name="textAreaRight" fmla="*/ 1257840 w 1257480"/>
              <a:gd name="textAreaTop" fmla="*/ 0 h 1020600"/>
              <a:gd name="textAreaBottom" fmla="*/ 1020960 h 1020600"/>
            </a:gdLst>
            <a:ahLst/>
            <a:rect l="textAreaLeft" t="textAreaTop" r="textAreaRight" b="textAreaBottom"/>
            <a:pathLst>
              <a:path w="1601" h="1394">
                <a:moveTo>
                  <a:pt x="8" y="1062"/>
                </a:moveTo>
                <a:lnTo>
                  <a:pt x="8" y="1008"/>
                </a:lnTo>
                <a:lnTo>
                  <a:pt x="2" y="979"/>
                </a:lnTo>
                <a:lnTo>
                  <a:pt x="0" y="960"/>
                </a:lnTo>
                <a:lnTo>
                  <a:pt x="0" y="939"/>
                </a:lnTo>
                <a:lnTo>
                  <a:pt x="1" y="909"/>
                </a:lnTo>
                <a:lnTo>
                  <a:pt x="1" y="824"/>
                </a:lnTo>
                <a:lnTo>
                  <a:pt x="0" y="778"/>
                </a:lnTo>
                <a:lnTo>
                  <a:pt x="0" y="773"/>
                </a:lnTo>
                <a:lnTo>
                  <a:pt x="5" y="765"/>
                </a:lnTo>
                <a:lnTo>
                  <a:pt x="25" y="750"/>
                </a:lnTo>
                <a:lnTo>
                  <a:pt x="54" y="734"/>
                </a:lnTo>
                <a:lnTo>
                  <a:pt x="74" y="722"/>
                </a:lnTo>
                <a:lnTo>
                  <a:pt x="88" y="708"/>
                </a:lnTo>
                <a:lnTo>
                  <a:pt x="105" y="692"/>
                </a:lnTo>
                <a:lnTo>
                  <a:pt x="121" y="668"/>
                </a:lnTo>
                <a:lnTo>
                  <a:pt x="139" y="626"/>
                </a:lnTo>
                <a:lnTo>
                  <a:pt x="165" y="575"/>
                </a:lnTo>
                <a:lnTo>
                  <a:pt x="173" y="559"/>
                </a:lnTo>
                <a:lnTo>
                  <a:pt x="172" y="533"/>
                </a:lnTo>
                <a:lnTo>
                  <a:pt x="174" y="516"/>
                </a:lnTo>
                <a:lnTo>
                  <a:pt x="174" y="491"/>
                </a:lnTo>
                <a:lnTo>
                  <a:pt x="190" y="475"/>
                </a:lnTo>
                <a:lnTo>
                  <a:pt x="203" y="457"/>
                </a:lnTo>
                <a:lnTo>
                  <a:pt x="225" y="407"/>
                </a:lnTo>
                <a:lnTo>
                  <a:pt x="242" y="357"/>
                </a:lnTo>
                <a:lnTo>
                  <a:pt x="266" y="323"/>
                </a:lnTo>
                <a:lnTo>
                  <a:pt x="283" y="288"/>
                </a:lnTo>
                <a:lnTo>
                  <a:pt x="295" y="271"/>
                </a:lnTo>
                <a:lnTo>
                  <a:pt x="311" y="260"/>
                </a:lnTo>
                <a:lnTo>
                  <a:pt x="328" y="255"/>
                </a:lnTo>
                <a:lnTo>
                  <a:pt x="335" y="246"/>
                </a:lnTo>
                <a:lnTo>
                  <a:pt x="355" y="236"/>
                </a:lnTo>
                <a:lnTo>
                  <a:pt x="355" y="229"/>
                </a:lnTo>
                <a:lnTo>
                  <a:pt x="355" y="221"/>
                </a:lnTo>
                <a:lnTo>
                  <a:pt x="346" y="200"/>
                </a:lnTo>
                <a:lnTo>
                  <a:pt x="335" y="189"/>
                </a:lnTo>
                <a:lnTo>
                  <a:pt x="333" y="167"/>
                </a:lnTo>
                <a:lnTo>
                  <a:pt x="333" y="155"/>
                </a:lnTo>
                <a:lnTo>
                  <a:pt x="338" y="138"/>
                </a:lnTo>
                <a:lnTo>
                  <a:pt x="361" y="88"/>
                </a:lnTo>
                <a:lnTo>
                  <a:pt x="377" y="51"/>
                </a:lnTo>
                <a:lnTo>
                  <a:pt x="389" y="0"/>
                </a:lnTo>
                <a:lnTo>
                  <a:pt x="410" y="2"/>
                </a:lnTo>
                <a:lnTo>
                  <a:pt x="434" y="13"/>
                </a:lnTo>
                <a:lnTo>
                  <a:pt x="450" y="36"/>
                </a:lnTo>
                <a:lnTo>
                  <a:pt x="457" y="48"/>
                </a:lnTo>
                <a:lnTo>
                  <a:pt x="479" y="56"/>
                </a:lnTo>
                <a:lnTo>
                  <a:pt x="502" y="69"/>
                </a:lnTo>
                <a:lnTo>
                  <a:pt x="520" y="98"/>
                </a:lnTo>
                <a:lnTo>
                  <a:pt x="520" y="134"/>
                </a:lnTo>
                <a:lnTo>
                  <a:pt x="523" y="165"/>
                </a:lnTo>
                <a:lnTo>
                  <a:pt x="537" y="221"/>
                </a:lnTo>
                <a:lnTo>
                  <a:pt x="544" y="237"/>
                </a:lnTo>
                <a:lnTo>
                  <a:pt x="562" y="256"/>
                </a:lnTo>
                <a:lnTo>
                  <a:pt x="598" y="266"/>
                </a:lnTo>
                <a:lnTo>
                  <a:pt x="643" y="266"/>
                </a:lnTo>
                <a:lnTo>
                  <a:pt x="676" y="265"/>
                </a:lnTo>
                <a:lnTo>
                  <a:pt x="697" y="260"/>
                </a:lnTo>
                <a:lnTo>
                  <a:pt x="727" y="248"/>
                </a:lnTo>
                <a:lnTo>
                  <a:pt x="735" y="248"/>
                </a:lnTo>
                <a:lnTo>
                  <a:pt x="745" y="256"/>
                </a:lnTo>
                <a:lnTo>
                  <a:pt x="790" y="270"/>
                </a:lnTo>
                <a:lnTo>
                  <a:pt x="818" y="270"/>
                </a:lnTo>
                <a:lnTo>
                  <a:pt x="825" y="270"/>
                </a:lnTo>
                <a:lnTo>
                  <a:pt x="839" y="276"/>
                </a:lnTo>
                <a:lnTo>
                  <a:pt x="874" y="297"/>
                </a:lnTo>
                <a:lnTo>
                  <a:pt x="899" y="317"/>
                </a:lnTo>
                <a:lnTo>
                  <a:pt x="918" y="323"/>
                </a:lnTo>
                <a:lnTo>
                  <a:pt x="952" y="340"/>
                </a:lnTo>
                <a:lnTo>
                  <a:pt x="994" y="339"/>
                </a:lnTo>
                <a:lnTo>
                  <a:pt x="1036" y="339"/>
                </a:lnTo>
                <a:lnTo>
                  <a:pt x="1056" y="348"/>
                </a:lnTo>
                <a:lnTo>
                  <a:pt x="1089" y="351"/>
                </a:lnTo>
                <a:lnTo>
                  <a:pt x="1116" y="351"/>
                </a:lnTo>
                <a:lnTo>
                  <a:pt x="1134" y="346"/>
                </a:lnTo>
                <a:lnTo>
                  <a:pt x="1154" y="336"/>
                </a:lnTo>
                <a:lnTo>
                  <a:pt x="1168" y="324"/>
                </a:lnTo>
                <a:lnTo>
                  <a:pt x="1172" y="319"/>
                </a:lnTo>
                <a:lnTo>
                  <a:pt x="1176" y="319"/>
                </a:lnTo>
                <a:lnTo>
                  <a:pt x="1193" y="326"/>
                </a:lnTo>
                <a:lnTo>
                  <a:pt x="1264" y="351"/>
                </a:lnTo>
                <a:lnTo>
                  <a:pt x="1297" y="351"/>
                </a:lnTo>
                <a:lnTo>
                  <a:pt x="1314" y="354"/>
                </a:lnTo>
                <a:lnTo>
                  <a:pt x="1344" y="354"/>
                </a:lnTo>
                <a:lnTo>
                  <a:pt x="1371" y="354"/>
                </a:lnTo>
                <a:lnTo>
                  <a:pt x="1378" y="354"/>
                </a:lnTo>
                <a:lnTo>
                  <a:pt x="1404" y="365"/>
                </a:lnTo>
                <a:lnTo>
                  <a:pt x="1456" y="380"/>
                </a:lnTo>
                <a:lnTo>
                  <a:pt x="1499" y="389"/>
                </a:lnTo>
                <a:lnTo>
                  <a:pt x="1541" y="395"/>
                </a:lnTo>
                <a:lnTo>
                  <a:pt x="1556" y="401"/>
                </a:lnTo>
                <a:lnTo>
                  <a:pt x="1572" y="409"/>
                </a:lnTo>
                <a:lnTo>
                  <a:pt x="1583" y="416"/>
                </a:lnTo>
                <a:lnTo>
                  <a:pt x="1595" y="433"/>
                </a:lnTo>
                <a:lnTo>
                  <a:pt x="1601" y="461"/>
                </a:lnTo>
                <a:lnTo>
                  <a:pt x="1601" y="483"/>
                </a:lnTo>
                <a:lnTo>
                  <a:pt x="1601" y="499"/>
                </a:lnTo>
                <a:lnTo>
                  <a:pt x="1590" y="547"/>
                </a:lnTo>
                <a:lnTo>
                  <a:pt x="1579" y="562"/>
                </a:lnTo>
                <a:lnTo>
                  <a:pt x="1563" y="585"/>
                </a:lnTo>
                <a:lnTo>
                  <a:pt x="1531" y="619"/>
                </a:lnTo>
                <a:lnTo>
                  <a:pt x="1514" y="634"/>
                </a:lnTo>
                <a:lnTo>
                  <a:pt x="1457" y="698"/>
                </a:lnTo>
                <a:lnTo>
                  <a:pt x="1436" y="732"/>
                </a:lnTo>
                <a:lnTo>
                  <a:pt x="1423" y="767"/>
                </a:lnTo>
                <a:lnTo>
                  <a:pt x="1411" y="864"/>
                </a:lnTo>
                <a:lnTo>
                  <a:pt x="1418" y="890"/>
                </a:lnTo>
                <a:lnTo>
                  <a:pt x="1421" y="918"/>
                </a:lnTo>
                <a:lnTo>
                  <a:pt x="1421" y="939"/>
                </a:lnTo>
                <a:lnTo>
                  <a:pt x="1421" y="950"/>
                </a:lnTo>
                <a:lnTo>
                  <a:pt x="1415" y="965"/>
                </a:lnTo>
                <a:lnTo>
                  <a:pt x="1280" y="1394"/>
                </a:lnTo>
                <a:lnTo>
                  <a:pt x="767" y="1259"/>
                </a:lnTo>
                <a:lnTo>
                  <a:pt x="25" y="1068"/>
                </a:lnTo>
                <a:lnTo>
                  <a:pt x="8" y="1062"/>
                </a:lnTo>
              </a:path>
            </a:pathLst>
          </a:custGeom>
          <a:solidFill>
            <a:srgbClr val="ff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Freeform 5"/>
          <p:cNvSpPr/>
          <p:nvPr/>
        </p:nvSpPr>
        <p:spPr>
          <a:xfrm>
            <a:off x="1022400" y="120636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2840 h 42840"/>
            </a:gdLst>
            <a:ahLst/>
            <a:rect l="textAreaLeft" t="textAreaTop" r="textAreaRight" b="textAreaBottom"/>
            <a:pathLst>
              <a:path w="29" h="22">
                <a:moveTo>
                  <a:pt x="17" y="1"/>
                </a:moveTo>
                <a:lnTo>
                  <a:pt x="8" y="0"/>
                </a:lnTo>
                <a:lnTo>
                  <a:pt x="1" y="3"/>
                </a:lnTo>
                <a:lnTo>
                  <a:pt x="0" y="10"/>
                </a:lnTo>
                <a:lnTo>
                  <a:pt x="1" y="16"/>
                </a:lnTo>
                <a:lnTo>
                  <a:pt x="8" y="20"/>
                </a:lnTo>
                <a:lnTo>
                  <a:pt x="19" y="22"/>
                </a:lnTo>
                <a:lnTo>
                  <a:pt x="27" y="16"/>
                </a:lnTo>
                <a:lnTo>
                  <a:pt x="29" y="11"/>
                </a:lnTo>
                <a:lnTo>
                  <a:pt x="20" y="7"/>
                </a:lnTo>
                <a:lnTo>
                  <a:pt x="17" y="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440" bIns="1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Freeform 6"/>
          <p:cNvSpPr/>
          <p:nvPr/>
        </p:nvSpPr>
        <p:spPr>
          <a:xfrm>
            <a:off x="1065240" y="117324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18" h="20">
                <a:moveTo>
                  <a:pt x="14" y="0"/>
                </a:moveTo>
                <a:lnTo>
                  <a:pt x="0" y="17"/>
                </a:lnTo>
                <a:lnTo>
                  <a:pt x="0" y="20"/>
                </a:lnTo>
                <a:lnTo>
                  <a:pt x="14" y="20"/>
                </a:lnTo>
                <a:lnTo>
                  <a:pt x="18" y="15"/>
                </a:lnTo>
                <a:lnTo>
                  <a:pt x="18" y="3"/>
                </a:lnTo>
                <a:lnTo>
                  <a:pt x="1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Freeform 7"/>
          <p:cNvSpPr/>
          <p:nvPr/>
        </p:nvSpPr>
        <p:spPr>
          <a:xfrm>
            <a:off x="1068480" y="1262160"/>
            <a:ext cx="42840" cy="42840"/>
          </a:xfrm>
          <a:custGeom>
            <a:avLst/>
            <a:gdLst>
              <a:gd name="textAreaLeft" fmla="*/ 0 w 42840"/>
              <a:gd name="textAreaRight" fmla="*/ 4284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22" h="33">
                <a:moveTo>
                  <a:pt x="10" y="0"/>
                </a:moveTo>
                <a:lnTo>
                  <a:pt x="0" y="6"/>
                </a:lnTo>
                <a:lnTo>
                  <a:pt x="0" y="13"/>
                </a:lnTo>
                <a:lnTo>
                  <a:pt x="15" y="33"/>
                </a:lnTo>
                <a:lnTo>
                  <a:pt x="22" y="30"/>
                </a:lnTo>
                <a:lnTo>
                  <a:pt x="22" y="17"/>
                </a:lnTo>
                <a:lnTo>
                  <a:pt x="17" y="6"/>
                </a:lnTo>
                <a:lnTo>
                  <a:pt x="1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Freeform 8"/>
          <p:cNvSpPr/>
          <p:nvPr/>
        </p:nvSpPr>
        <p:spPr>
          <a:xfrm>
            <a:off x="831960" y="1143000"/>
            <a:ext cx="1060200" cy="782640"/>
          </a:xfrm>
          <a:custGeom>
            <a:avLst/>
            <a:gdLst>
              <a:gd name="textAreaLeft" fmla="*/ 0 w 1060200"/>
              <a:gd name="textAreaRight" fmla="*/ 1060560 w 1060200"/>
              <a:gd name="textAreaTop" fmla="*/ 0 h 782640"/>
              <a:gd name="textAreaBottom" fmla="*/ 783000 h 782640"/>
            </a:gdLst>
            <a:ahLst/>
            <a:rect l="textAreaLeft" t="textAreaTop" r="textAreaRight" b="textAreaBottom"/>
            <a:pathLst>
              <a:path w="1354" h="1068">
                <a:moveTo>
                  <a:pt x="7" y="674"/>
                </a:moveTo>
                <a:lnTo>
                  <a:pt x="13" y="656"/>
                </a:lnTo>
                <a:lnTo>
                  <a:pt x="15" y="644"/>
                </a:lnTo>
                <a:lnTo>
                  <a:pt x="14" y="613"/>
                </a:lnTo>
                <a:lnTo>
                  <a:pt x="6" y="593"/>
                </a:lnTo>
                <a:lnTo>
                  <a:pt x="12" y="587"/>
                </a:lnTo>
                <a:lnTo>
                  <a:pt x="18" y="575"/>
                </a:lnTo>
                <a:lnTo>
                  <a:pt x="26" y="573"/>
                </a:lnTo>
                <a:lnTo>
                  <a:pt x="37" y="587"/>
                </a:lnTo>
                <a:lnTo>
                  <a:pt x="45" y="590"/>
                </a:lnTo>
                <a:lnTo>
                  <a:pt x="57" y="590"/>
                </a:lnTo>
                <a:lnTo>
                  <a:pt x="64" y="584"/>
                </a:lnTo>
                <a:lnTo>
                  <a:pt x="68" y="574"/>
                </a:lnTo>
                <a:lnTo>
                  <a:pt x="57" y="558"/>
                </a:lnTo>
                <a:lnTo>
                  <a:pt x="57" y="552"/>
                </a:lnTo>
                <a:lnTo>
                  <a:pt x="50" y="543"/>
                </a:lnTo>
                <a:lnTo>
                  <a:pt x="28" y="535"/>
                </a:lnTo>
                <a:lnTo>
                  <a:pt x="5" y="523"/>
                </a:lnTo>
                <a:lnTo>
                  <a:pt x="4" y="519"/>
                </a:lnTo>
                <a:lnTo>
                  <a:pt x="0" y="504"/>
                </a:lnTo>
                <a:lnTo>
                  <a:pt x="0" y="498"/>
                </a:lnTo>
                <a:lnTo>
                  <a:pt x="21" y="498"/>
                </a:lnTo>
                <a:lnTo>
                  <a:pt x="36" y="506"/>
                </a:lnTo>
                <a:lnTo>
                  <a:pt x="40" y="504"/>
                </a:lnTo>
                <a:lnTo>
                  <a:pt x="58" y="487"/>
                </a:lnTo>
                <a:lnTo>
                  <a:pt x="57" y="478"/>
                </a:lnTo>
                <a:lnTo>
                  <a:pt x="65" y="469"/>
                </a:lnTo>
                <a:lnTo>
                  <a:pt x="86" y="460"/>
                </a:lnTo>
                <a:lnTo>
                  <a:pt x="78" y="459"/>
                </a:lnTo>
                <a:lnTo>
                  <a:pt x="45" y="449"/>
                </a:lnTo>
                <a:lnTo>
                  <a:pt x="33" y="443"/>
                </a:lnTo>
                <a:lnTo>
                  <a:pt x="20" y="429"/>
                </a:lnTo>
                <a:lnTo>
                  <a:pt x="18" y="410"/>
                </a:lnTo>
                <a:lnTo>
                  <a:pt x="18" y="383"/>
                </a:lnTo>
                <a:lnTo>
                  <a:pt x="6" y="357"/>
                </a:lnTo>
                <a:lnTo>
                  <a:pt x="5" y="348"/>
                </a:lnTo>
                <a:lnTo>
                  <a:pt x="14" y="299"/>
                </a:lnTo>
                <a:lnTo>
                  <a:pt x="15" y="258"/>
                </a:lnTo>
                <a:lnTo>
                  <a:pt x="6" y="219"/>
                </a:lnTo>
                <a:lnTo>
                  <a:pt x="4" y="201"/>
                </a:lnTo>
                <a:lnTo>
                  <a:pt x="3" y="150"/>
                </a:lnTo>
                <a:lnTo>
                  <a:pt x="3" y="128"/>
                </a:lnTo>
                <a:lnTo>
                  <a:pt x="11" y="107"/>
                </a:lnTo>
                <a:lnTo>
                  <a:pt x="20" y="100"/>
                </a:lnTo>
                <a:lnTo>
                  <a:pt x="30" y="100"/>
                </a:lnTo>
                <a:lnTo>
                  <a:pt x="42" y="107"/>
                </a:lnTo>
                <a:lnTo>
                  <a:pt x="56" y="123"/>
                </a:lnTo>
                <a:lnTo>
                  <a:pt x="75" y="131"/>
                </a:lnTo>
                <a:lnTo>
                  <a:pt x="86" y="142"/>
                </a:lnTo>
                <a:lnTo>
                  <a:pt x="102" y="149"/>
                </a:lnTo>
                <a:lnTo>
                  <a:pt x="166" y="171"/>
                </a:lnTo>
                <a:lnTo>
                  <a:pt x="200" y="188"/>
                </a:lnTo>
                <a:lnTo>
                  <a:pt x="212" y="193"/>
                </a:lnTo>
                <a:lnTo>
                  <a:pt x="226" y="197"/>
                </a:lnTo>
                <a:lnTo>
                  <a:pt x="241" y="197"/>
                </a:lnTo>
                <a:lnTo>
                  <a:pt x="259" y="205"/>
                </a:lnTo>
                <a:lnTo>
                  <a:pt x="278" y="205"/>
                </a:lnTo>
                <a:lnTo>
                  <a:pt x="282" y="206"/>
                </a:lnTo>
                <a:lnTo>
                  <a:pt x="299" y="221"/>
                </a:lnTo>
                <a:lnTo>
                  <a:pt x="307" y="229"/>
                </a:lnTo>
                <a:lnTo>
                  <a:pt x="315" y="235"/>
                </a:lnTo>
                <a:lnTo>
                  <a:pt x="324" y="234"/>
                </a:lnTo>
                <a:lnTo>
                  <a:pt x="332" y="264"/>
                </a:lnTo>
                <a:lnTo>
                  <a:pt x="339" y="287"/>
                </a:lnTo>
                <a:lnTo>
                  <a:pt x="339" y="300"/>
                </a:lnTo>
                <a:lnTo>
                  <a:pt x="339" y="322"/>
                </a:lnTo>
                <a:lnTo>
                  <a:pt x="330" y="341"/>
                </a:lnTo>
                <a:lnTo>
                  <a:pt x="314" y="361"/>
                </a:lnTo>
                <a:lnTo>
                  <a:pt x="301" y="378"/>
                </a:lnTo>
                <a:lnTo>
                  <a:pt x="295" y="384"/>
                </a:lnTo>
                <a:lnTo>
                  <a:pt x="331" y="377"/>
                </a:lnTo>
                <a:lnTo>
                  <a:pt x="353" y="367"/>
                </a:lnTo>
                <a:lnTo>
                  <a:pt x="368" y="352"/>
                </a:lnTo>
                <a:lnTo>
                  <a:pt x="389" y="310"/>
                </a:lnTo>
                <a:lnTo>
                  <a:pt x="405" y="264"/>
                </a:lnTo>
                <a:lnTo>
                  <a:pt x="414" y="248"/>
                </a:lnTo>
                <a:lnTo>
                  <a:pt x="405" y="212"/>
                </a:lnTo>
                <a:lnTo>
                  <a:pt x="405" y="203"/>
                </a:lnTo>
                <a:lnTo>
                  <a:pt x="390" y="167"/>
                </a:lnTo>
                <a:lnTo>
                  <a:pt x="373" y="141"/>
                </a:lnTo>
                <a:lnTo>
                  <a:pt x="373" y="136"/>
                </a:lnTo>
                <a:lnTo>
                  <a:pt x="404" y="117"/>
                </a:lnTo>
                <a:lnTo>
                  <a:pt x="426" y="88"/>
                </a:lnTo>
                <a:lnTo>
                  <a:pt x="422" y="82"/>
                </a:lnTo>
                <a:lnTo>
                  <a:pt x="405" y="74"/>
                </a:lnTo>
                <a:lnTo>
                  <a:pt x="391" y="55"/>
                </a:lnTo>
                <a:lnTo>
                  <a:pt x="383" y="39"/>
                </a:lnTo>
                <a:lnTo>
                  <a:pt x="378" y="20"/>
                </a:lnTo>
                <a:lnTo>
                  <a:pt x="376" y="0"/>
                </a:lnTo>
                <a:lnTo>
                  <a:pt x="430" y="27"/>
                </a:lnTo>
                <a:lnTo>
                  <a:pt x="603" y="80"/>
                </a:lnTo>
                <a:lnTo>
                  <a:pt x="867" y="159"/>
                </a:lnTo>
                <a:lnTo>
                  <a:pt x="1045" y="204"/>
                </a:lnTo>
                <a:lnTo>
                  <a:pt x="1250" y="252"/>
                </a:lnTo>
                <a:lnTo>
                  <a:pt x="1354" y="274"/>
                </a:lnTo>
                <a:lnTo>
                  <a:pt x="1169" y="978"/>
                </a:lnTo>
                <a:lnTo>
                  <a:pt x="1169" y="996"/>
                </a:lnTo>
                <a:lnTo>
                  <a:pt x="1165" y="1024"/>
                </a:lnTo>
                <a:lnTo>
                  <a:pt x="1162" y="1068"/>
                </a:lnTo>
                <a:lnTo>
                  <a:pt x="1147" y="1066"/>
                </a:lnTo>
                <a:lnTo>
                  <a:pt x="1110" y="1061"/>
                </a:lnTo>
                <a:lnTo>
                  <a:pt x="1076" y="1053"/>
                </a:lnTo>
                <a:lnTo>
                  <a:pt x="1053" y="1047"/>
                </a:lnTo>
                <a:lnTo>
                  <a:pt x="1039" y="1044"/>
                </a:lnTo>
                <a:lnTo>
                  <a:pt x="1021" y="1038"/>
                </a:lnTo>
                <a:lnTo>
                  <a:pt x="1001" y="1029"/>
                </a:lnTo>
                <a:lnTo>
                  <a:pt x="998" y="1025"/>
                </a:lnTo>
                <a:lnTo>
                  <a:pt x="928" y="1028"/>
                </a:lnTo>
                <a:lnTo>
                  <a:pt x="915" y="1025"/>
                </a:lnTo>
                <a:lnTo>
                  <a:pt x="881" y="1025"/>
                </a:lnTo>
                <a:lnTo>
                  <a:pt x="861" y="1021"/>
                </a:lnTo>
                <a:lnTo>
                  <a:pt x="840" y="1007"/>
                </a:lnTo>
                <a:lnTo>
                  <a:pt x="815" y="1001"/>
                </a:lnTo>
                <a:lnTo>
                  <a:pt x="802" y="996"/>
                </a:lnTo>
                <a:lnTo>
                  <a:pt x="795" y="993"/>
                </a:lnTo>
                <a:lnTo>
                  <a:pt x="792" y="993"/>
                </a:lnTo>
                <a:lnTo>
                  <a:pt x="785" y="1000"/>
                </a:lnTo>
                <a:lnTo>
                  <a:pt x="777" y="1007"/>
                </a:lnTo>
                <a:lnTo>
                  <a:pt x="763" y="1012"/>
                </a:lnTo>
                <a:lnTo>
                  <a:pt x="749" y="1019"/>
                </a:lnTo>
                <a:lnTo>
                  <a:pt x="733" y="1024"/>
                </a:lnTo>
                <a:lnTo>
                  <a:pt x="705" y="1024"/>
                </a:lnTo>
                <a:lnTo>
                  <a:pt x="673" y="1021"/>
                </a:lnTo>
                <a:lnTo>
                  <a:pt x="665" y="1017"/>
                </a:lnTo>
                <a:lnTo>
                  <a:pt x="658" y="1013"/>
                </a:lnTo>
                <a:lnTo>
                  <a:pt x="656" y="1011"/>
                </a:lnTo>
                <a:lnTo>
                  <a:pt x="641" y="1012"/>
                </a:lnTo>
                <a:lnTo>
                  <a:pt x="571" y="1013"/>
                </a:lnTo>
                <a:lnTo>
                  <a:pt x="558" y="1007"/>
                </a:lnTo>
                <a:lnTo>
                  <a:pt x="540" y="1000"/>
                </a:lnTo>
                <a:lnTo>
                  <a:pt x="535" y="997"/>
                </a:lnTo>
                <a:lnTo>
                  <a:pt x="522" y="994"/>
                </a:lnTo>
                <a:lnTo>
                  <a:pt x="512" y="989"/>
                </a:lnTo>
                <a:lnTo>
                  <a:pt x="500" y="978"/>
                </a:lnTo>
                <a:lnTo>
                  <a:pt x="487" y="967"/>
                </a:lnTo>
                <a:lnTo>
                  <a:pt x="477" y="961"/>
                </a:lnTo>
                <a:lnTo>
                  <a:pt x="466" y="955"/>
                </a:lnTo>
                <a:lnTo>
                  <a:pt x="454" y="947"/>
                </a:lnTo>
                <a:lnTo>
                  <a:pt x="444" y="944"/>
                </a:lnTo>
                <a:lnTo>
                  <a:pt x="409" y="944"/>
                </a:lnTo>
                <a:lnTo>
                  <a:pt x="398" y="941"/>
                </a:lnTo>
                <a:lnTo>
                  <a:pt x="379" y="934"/>
                </a:lnTo>
                <a:lnTo>
                  <a:pt x="370" y="931"/>
                </a:lnTo>
                <a:lnTo>
                  <a:pt x="361" y="926"/>
                </a:lnTo>
                <a:lnTo>
                  <a:pt x="358" y="922"/>
                </a:lnTo>
                <a:lnTo>
                  <a:pt x="353" y="921"/>
                </a:lnTo>
                <a:lnTo>
                  <a:pt x="343" y="921"/>
                </a:lnTo>
                <a:lnTo>
                  <a:pt x="333" y="926"/>
                </a:lnTo>
                <a:lnTo>
                  <a:pt x="314" y="932"/>
                </a:lnTo>
                <a:lnTo>
                  <a:pt x="300" y="939"/>
                </a:lnTo>
                <a:lnTo>
                  <a:pt x="287" y="939"/>
                </a:lnTo>
                <a:lnTo>
                  <a:pt x="255" y="940"/>
                </a:lnTo>
                <a:lnTo>
                  <a:pt x="230" y="940"/>
                </a:lnTo>
                <a:lnTo>
                  <a:pt x="217" y="940"/>
                </a:lnTo>
                <a:lnTo>
                  <a:pt x="201" y="934"/>
                </a:lnTo>
                <a:lnTo>
                  <a:pt x="180" y="930"/>
                </a:lnTo>
                <a:lnTo>
                  <a:pt x="173" y="921"/>
                </a:lnTo>
                <a:lnTo>
                  <a:pt x="164" y="915"/>
                </a:lnTo>
                <a:lnTo>
                  <a:pt x="155" y="902"/>
                </a:lnTo>
                <a:lnTo>
                  <a:pt x="154" y="890"/>
                </a:lnTo>
                <a:lnTo>
                  <a:pt x="149" y="886"/>
                </a:lnTo>
                <a:lnTo>
                  <a:pt x="149" y="877"/>
                </a:lnTo>
                <a:lnTo>
                  <a:pt x="144" y="862"/>
                </a:lnTo>
                <a:lnTo>
                  <a:pt x="141" y="840"/>
                </a:lnTo>
                <a:lnTo>
                  <a:pt x="141" y="828"/>
                </a:lnTo>
                <a:lnTo>
                  <a:pt x="138" y="820"/>
                </a:lnTo>
                <a:lnTo>
                  <a:pt x="138" y="782"/>
                </a:lnTo>
                <a:lnTo>
                  <a:pt x="138" y="771"/>
                </a:lnTo>
                <a:lnTo>
                  <a:pt x="134" y="764"/>
                </a:lnTo>
                <a:lnTo>
                  <a:pt x="124" y="748"/>
                </a:lnTo>
                <a:lnTo>
                  <a:pt x="116" y="739"/>
                </a:lnTo>
                <a:lnTo>
                  <a:pt x="98" y="729"/>
                </a:lnTo>
                <a:lnTo>
                  <a:pt x="90" y="725"/>
                </a:lnTo>
                <a:lnTo>
                  <a:pt x="73" y="720"/>
                </a:lnTo>
                <a:lnTo>
                  <a:pt x="66" y="710"/>
                </a:lnTo>
                <a:lnTo>
                  <a:pt x="56" y="694"/>
                </a:lnTo>
                <a:lnTo>
                  <a:pt x="53" y="689"/>
                </a:lnTo>
                <a:lnTo>
                  <a:pt x="40" y="681"/>
                </a:lnTo>
                <a:lnTo>
                  <a:pt x="20" y="674"/>
                </a:lnTo>
                <a:lnTo>
                  <a:pt x="15" y="674"/>
                </a:lnTo>
                <a:lnTo>
                  <a:pt x="7" y="674"/>
                </a:lnTo>
              </a:path>
            </a:pathLst>
          </a:custGeom>
          <a:solidFill>
            <a:srgbClr val="0080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Freeform 9"/>
          <p:cNvSpPr/>
          <p:nvPr/>
        </p:nvSpPr>
        <p:spPr>
          <a:xfrm>
            <a:off x="1539720" y="1343160"/>
            <a:ext cx="978120" cy="1476360"/>
          </a:xfrm>
          <a:custGeom>
            <a:avLst/>
            <a:gdLst>
              <a:gd name="textAreaLeft" fmla="*/ 0 w 978120"/>
              <a:gd name="textAreaRight" fmla="*/ 978480 w 978120"/>
              <a:gd name="textAreaTop" fmla="*/ 0 h 1476360"/>
              <a:gd name="textAreaBottom" fmla="*/ 1476720 h 1476360"/>
            </a:gdLst>
            <a:ahLst/>
            <a:rect l="textAreaLeft" t="textAreaTop" r="textAreaRight" b="textAreaBottom"/>
            <a:pathLst>
              <a:path w="1244" h="2016">
                <a:moveTo>
                  <a:pt x="454" y="0"/>
                </a:moveTo>
                <a:lnTo>
                  <a:pt x="277" y="684"/>
                </a:lnTo>
                <a:lnTo>
                  <a:pt x="271" y="712"/>
                </a:lnTo>
                <a:lnTo>
                  <a:pt x="267" y="752"/>
                </a:lnTo>
                <a:lnTo>
                  <a:pt x="265" y="773"/>
                </a:lnTo>
                <a:lnTo>
                  <a:pt x="262" y="796"/>
                </a:lnTo>
                <a:lnTo>
                  <a:pt x="277" y="803"/>
                </a:lnTo>
                <a:lnTo>
                  <a:pt x="296" y="811"/>
                </a:lnTo>
                <a:lnTo>
                  <a:pt x="307" y="826"/>
                </a:lnTo>
                <a:lnTo>
                  <a:pt x="315" y="834"/>
                </a:lnTo>
                <a:lnTo>
                  <a:pt x="321" y="859"/>
                </a:lnTo>
                <a:lnTo>
                  <a:pt x="321" y="892"/>
                </a:lnTo>
                <a:lnTo>
                  <a:pt x="317" y="909"/>
                </a:lnTo>
                <a:lnTo>
                  <a:pt x="311" y="942"/>
                </a:lnTo>
                <a:lnTo>
                  <a:pt x="298" y="965"/>
                </a:lnTo>
                <a:lnTo>
                  <a:pt x="253" y="1020"/>
                </a:lnTo>
                <a:lnTo>
                  <a:pt x="219" y="1053"/>
                </a:lnTo>
                <a:lnTo>
                  <a:pt x="194" y="1081"/>
                </a:lnTo>
                <a:lnTo>
                  <a:pt x="176" y="1098"/>
                </a:lnTo>
                <a:lnTo>
                  <a:pt x="165" y="1122"/>
                </a:lnTo>
                <a:lnTo>
                  <a:pt x="156" y="1133"/>
                </a:lnTo>
                <a:lnTo>
                  <a:pt x="143" y="1172"/>
                </a:lnTo>
                <a:lnTo>
                  <a:pt x="137" y="1205"/>
                </a:lnTo>
                <a:lnTo>
                  <a:pt x="130" y="1264"/>
                </a:lnTo>
                <a:lnTo>
                  <a:pt x="138" y="1293"/>
                </a:lnTo>
                <a:lnTo>
                  <a:pt x="141" y="1320"/>
                </a:lnTo>
                <a:lnTo>
                  <a:pt x="141" y="1338"/>
                </a:lnTo>
                <a:lnTo>
                  <a:pt x="141" y="1351"/>
                </a:lnTo>
                <a:lnTo>
                  <a:pt x="135" y="1365"/>
                </a:lnTo>
                <a:lnTo>
                  <a:pt x="114" y="1422"/>
                </a:lnTo>
                <a:lnTo>
                  <a:pt x="0" y="1794"/>
                </a:lnTo>
                <a:lnTo>
                  <a:pt x="112" y="1827"/>
                </a:lnTo>
                <a:lnTo>
                  <a:pt x="351" y="1881"/>
                </a:lnTo>
                <a:lnTo>
                  <a:pt x="615" y="1934"/>
                </a:lnTo>
                <a:lnTo>
                  <a:pt x="1007" y="1997"/>
                </a:lnTo>
                <a:lnTo>
                  <a:pt x="1136" y="2016"/>
                </a:lnTo>
                <a:lnTo>
                  <a:pt x="1147" y="1971"/>
                </a:lnTo>
                <a:lnTo>
                  <a:pt x="1152" y="1935"/>
                </a:lnTo>
                <a:lnTo>
                  <a:pt x="1162" y="1877"/>
                </a:lnTo>
                <a:lnTo>
                  <a:pt x="1168" y="1839"/>
                </a:lnTo>
                <a:lnTo>
                  <a:pt x="1176" y="1789"/>
                </a:lnTo>
                <a:lnTo>
                  <a:pt x="1182" y="1744"/>
                </a:lnTo>
                <a:lnTo>
                  <a:pt x="1197" y="1676"/>
                </a:lnTo>
                <a:lnTo>
                  <a:pt x="1204" y="1609"/>
                </a:lnTo>
                <a:lnTo>
                  <a:pt x="1220" y="1540"/>
                </a:lnTo>
                <a:lnTo>
                  <a:pt x="1231" y="1470"/>
                </a:lnTo>
                <a:lnTo>
                  <a:pt x="1238" y="1430"/>
                </a:lnTo>
                <a:lnTo>
                  <a:pt x="1244" y="1388"/>
                </a:lnTo>
                <a:lnTo>
                  <a:pt x="1227" y="1392"/>
                </a:lnTo>
                <a:lnTo>
                  <a:pt x="1221" y="1392"/>
                </a:lnTo>
                <a:lnTo>
                  <a:pt x="1215" y="1386"/>
                </a:lnTo>
                <a:lnTo>
                  <a:pt x="1204" y="1371"/>
                </a:lnTo>
                <a:lnTo>
                  <a:pt x="1182" y="1357"/>
                </a:lnTo>
                <a:lnTo>
                  <a:pt x="1175" y="1353"/>
                </a:lnTo>
                <a:lnTo>
                  <a:pt x="1160" y="1338"/>
                </a:lnTo>
                <a:lnTo>
                  <a:pt x="1145" y="1335"/>
                </a:lnTo>
                <a:lnTo>
                  <a:pt x="1123" y="1340"/>
                </a:lnTo>
                <a:lnTo>
                  <a:pt x="1111" y="1349"/>
                </a:lnTo>
                <a:lnTo>
                  <a:pt x="1075" y="1336"/>
                </a:lnTo>
                <a:lnTo>
                  <a:pt x="1055" y="1326"/>
                </a:lnTo>
                <a:lnTo>
                  <a:pt x="1033" y="1326"/>
                </a:lnTo>
                <a:lnTo>
                  <a:pt x="1015" y="1327"/>
                </a:lnTo>
                <a:lnTo>
                  <a:pt x="993" y="1333"/>
                </a:lnTo>
                <a:lnTo>
                  <a:pt x="985" y="1338"/>
                </a:lnTo>
                <a:lnTo>
                  <a:pt x="965" y="1333"/>
                </a:lnTo>
                <a:lnTo>
                  <a:pt x="924" y="1311"/>
                </a:lnTo>
                <a:lnTo>
                  <a:pt x="897" y="1289"/>
                </a:lnTo>
                <a:lnTo>
                  <a:pt x="871" y="1285"/>
                </a:lnTo>
                <a:lnTo>
                  <a:pt x="856" y="1271"/>
                </a:lnTo>
                <a:lnTo>
                  <a:pt x="850" y="1268"/>
                </a:lnTo>
                <a:lnTo>
                  <a:pt x="835" y="1233"/>
                </a:lnTo>
                <a:lnTo>
                  <a:pt x="829" y="1188"/>
                </a:lnTo>
                <a:lnTo>
                  <a:pt x="825" y="1161"/>
                </a:lnTo>
                <a:lnTo>
                  <a:pt x="817" y="1150"/>
                </a:lnTo>
                <a:lnTo>
                  <a:pt x="806" y="1133"/>
                </a:lnTo>
                <a:lnTo>
                  <a:pt x="780" y="1104"/>
                </a:lnTo>
                <a:lnTo>
                  <a:pt x="762" y="1062"/>
                </a:lnTo>
                <a:lnTo>
                  <a:pt x="754" y="1037"/>
                </a:lnTo>
                <a:lnTo>
                  <a:pt x="747" y="1028"/>
                </a:lnTo>
                <a:lnTo>
                  <a:pt x="729" y="1009"/>
                </a:lnTo>
                <a:lnTo>
                  <a:pt x="706" y="1017"/>
                </a:lnTo>
                <a:lnTo>
                  <a:pt x="693" y="1017"/>
                </a:lnTo>
                <a:lnTo>
                  <a:pt x="684" y="1000"/>
                </a:lnTo>
                <a:lnTo>
                  <a:pt x="662" y="979"/>
                </a:lnTo>
                <a:lnTo>
                  <a:pt x="656" y="941"/>
                </a:lnTo>
                <a:lnTo>
                  <a:pt x="656" y="914"/>
                </a:lnTo>
                <a:lnTo>
                  <a:pt x="667" y="876"/>
                </a:lnTo>
                <a:lnTo>
                  <a:pt x="697" y="840"/>
                </a:lnTo>
                <a:lnTo>
                  <a:pt x="714" y="824"/>
                </a:lnTo>
                <a:lnTo>
                  <a:pt x="721" y="794"/>
                </a:lnTo>
                <a:lnTo>
                  <a:pt x="721" y="777"/>
                </a:lnTo>
                <a:lnTo>
                  <a:pt x="713" y="767"/>
                </a:lnTo>
                <a:lnTo>
                  <a:pt x="696" y="751"/>
                </a:lnTo>
                <a:lnTo>
                  <a:pt x="670" y="739"/>
                </a:lnTo>
                <a:lnTo>
                  <a:pt x="659" y="735"/>
                </a:lnTo>
                <a:lnTo>
                  <a:pt x="653" y="715"/>
                </a:lnTo>
                <a:lnTo>
                  <a:pt x="633" y="665"/>
                </a:lnTo>
                <a:lnTo>
                  <a:pt x="625" y="643"/>
                </a:lnTo>
                <a:lnTo>
                  <a:pt x="621" y="609"/>
                </a:lnTo>
                <a:lnTo>
                  <a:pt x="616" y="583"/>
                </a:lnTo>
                <a:lnTo>
                  <a:pt x="600" y="568"/>
                </a:lnTo>
                <a:lnTo>
                  <a:pt x="594" y="560"/>
                </a:lnTo>
                <a:lnTo>
                  <a:pt x="578" y="543"/>
                </a:lnTo>
                <a:lnTo>
                  <a:pt x="571" y="535"/>
                </a:lnTo>
                <a:lnTo>
                  <a:pt x="571" y="530"/>
                </a:lnTo>
                <a:lnTo>
                  <a:pt x="582" y="485"/>
                </a:lnTo>
                <a:lnTo>
                  <a:pt x="582" y="469"/>
                </a:lnTo>
                <a:lnTo>
                  <a:pt x="569" y="445"/>
                </a:lnTo>
                <a:lnTo>
                  <a:pt x="564" y="440"/>
                </a:lnTo>
                <a:lnTo>
                  <a:pt x="563" y="378"/>
                </a:lnTo>
                <a:lnTo>
                  <a:pt x="622" y="32"/>
                </a:lnTo>
                <a:lnTo>
                  <a:pt x="544" y="17"/>
                </a:lnTo>
                <a:lnTo>
                  <a:pt x="470" y="3"/>
                </a:lnTo>
                <a:lnTo>
                  <a:pt x="454" y="0"/>
                </a:lnTo>
              </a:path>
            </a:pathLst>
          </a:custGeom>
          <a:solidFill>
            <a:srgbClr val="ff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Freeform 10"/>
          <p:cNvSpPr/>
          <p:nvPr/>
        </p:nvSpPr>
        <p:spPr>
          <a:xfrm>
            <a:off x="1017720" y="2558880"/>
            <a:ext cx="1003320" cy="1522440"/>
          </a:xfrm>
          <a:custGeom>
            <a:avLst/>
            <a:gdLst>
              <a:gd name="textAreaLeft" fmla="*/ 0 w 1003320"/>
              <a:gd name="textAreaRight" fmla="*/ 1003680 w 1003320"/>
              <a:gd name="textAreaTop" fmla="*/ 0 h 1522440"/>
              <a:gd name="textAreaBottom" fmla="*/ 1522800 h 1522440"/>
            </a:gdLst>
            <a:ahLst/>
            <a:rect l="textAreaLeft" t="textAreaTop" r="textAreaRight" b="textAreaBottom"/>
            <a:pathLst>
              <a:path w="1281" h="2080">
                <a:moveTo>
                  <a:pt x="162" y="0"/>
                </a:moveTo>
                <a:lnTo>
                  <a:pt x="346" y="48"/>
                </a:lnTo>
                <a:lnTo>
                  <a:pt x="525" y="95"/>
                </a:lnTo>
                <a:lnTo>
                  <a:pt x="733" y="148"/>
                </a:lnTo>
                <a:lnTo>
                  <a:pt x="953" y="202"/>
                </a:lnTo>
                <a:lnTo>
                  <a:pt x="1165" y="248"/>
                </a:lnTo>
                <a:lnTo>
                  <a:pt x="1281" y="272"/>
                </a:lnTo>
                <a:lnTo>
                  <a:pt x="988" y="1787"/>
                </a:lnTo>
                <a:lnTo>
                  <a:pt x="975" y="1809"/>
                </a:lnTo>
                <a:lnTo>
                  <a:pt x="968" y="1821"/>
                </a:lnTo>
                <a:lnTo>
                  <a:pt x="951" y="1821"/>
                </a:lnTo>
                <a:lnTo>
                  <a:pt x="927" y="1829"/>
                </a:lnTo>
                <a:lnTo>
                  <a:pt x="909" y="1822"/>
                </a:lnTo>
                <a:lnTo>
                  <a:pt x="905" y="1809"/>
                </a:lnTo>
                <a:lnTo>
                  <a:pt x="902" y="1799"/>
                </a:lnTo>
                <a:lnTo>
                  <a:pt x="897" y="1791"/>
                </a:lnTo>
                <a:lnTo>
                  <a:pt x="877" y="1776"/>
                </a:lnTo>
                <a:lnTo>
                  <a:pt x="865" y="1791"/>
                </a:lnTo>
                <a:lnTo>
                  <a:pt x="852" y="1807"/>
                </a:lnTo>
                <a:lnTo>
                  <a:pt x="846" y="1810"/>
                </a:lnTo>
                <a:lnTo>
                  <a:pt x="849" y="1823"/>
                </a:lnTo>
                <a:lnTo>
                  <a:pt x="856" y="1847"/>
                </a:lnTo>
                <a:lnTo>
                  <a:pt x="858" y="1913"/>
                </a:lnTo>
                <a:lnTo>
                  <a:pt x="857" y="1947"/>
                </a:lnTo>
                <a:lnTo>
                  <a:pt x="845" y="1981"/>
                </a:lnTo>
                <a:lnTo>
                  <a:pt x="833" y="2005"/>
                </a:lnTo>
                <a:lnTo>
                  <a:pt x="830" y="2037"/>
                </a:lnTo>
                <a:lnTo>
                  <a:pt x="826" y="2061"/>
                </a:lnTo>
                <a:lnTo>
                  <a:pt x="829" y="2080"/>
                </a:lnTo>
                <a:lnTo>
                  <a:pt x="0" y="775"/>
                </a:lnTo>
                <a:lnTo>
                  <a:pt x="155" y="30"/>
                </a:lnTo>
                <a:lnTo>
                  <a:pt x="162" y="0"/>
                </a:lnTo>
              </a:path>
            </a:pathLst>
          </a:custGeom>
          <a:solidFill>
            <a:srgbClr val="00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Freeform 11"/>
          <p:cNvSpPr/>
          <p:nvPr/>
        </p:nvSpPr>
        <p:spPr>
          <a:xfrm>
            <a:off x="1982880" y="1365120"/>
            <a:ext cx="1770120" cy="997200"/>
          </a:xfrm>
          <a:custGeom>
            <a:avLst/>
            <a:gdLst>
              <a:gd name="textAreaLeft" fmla="*/ 0 w 1770120"/>
              <a:gd name="textAreaRight" fmla="*/ 1770480 w 1770120"/>
              <a:gd name="textAreaTop" fmla="*/ 0 h 997200"/>
              <a:gd name="textAreaBottom" fmla="*/ 997560 h 997200"/>
            </a:gdLst>
            <a:ahLst/>
            <a:rect l="textAreaLeft" t="textAreaTop" r="textAreaRight" b="textAreaBottom"/>
            <a:pathLst>
              <a:path w="2258" h="1361">
                <a:moveTo>
                  <a:pt x="59" y="0"/>
                </a:moveTo>
                <a:lnTo>
                  <a:pt x="4" y="321"/>
                </a:lnTo>
                <a:lnTo>
                  <a:pt x="0" y="351"/>
                </a:lnTo>
                <a:lnTo>
                  <a:pt x="1" y="407"/>
                </a:lnTo>
                <a:lnTo>
                  <a:pt x="12" y="418"/>
                </a:lnTo>
                <a:lnTo>
                  <a:pt x="20" y="438"/>
                </a:lnTo>
                <a:lnTo>
                  <a:pt x="19" y="452"/>
                </a:lnTo>
                <a:lnTo>
                  <a:pt x="15" y="469"/>
                </a:lnTo>
                <a:lnTo>
                  <a:pt x="9" y="495"/>
                </a:lnTo>
                <a:lnTo>
                  <a:pt x="7" y="501"/>
                </a:lnTo>
                <a:lnTo>
                  <a:pt x="17" y="514"/>
                </a:lnTo>
                <a:lnTo>
                  <a:pt x="36" y="536"/>
                </a:lnTo>
                <a:lnTo>
                  <a:pt x="47" y="551"/>
                </a:lnTo>
                <a:lnTo>
                  <a:pt x="53" y="554"/>
                </a:lnTo>
                <a:lnTo>
                  <a:pt x="55" y="569"/>
                </a:lnTo>
                <a:lnTo>
                  <a:pt x="70" y="630"/>
                </a:lnTo>
                <a:lnTo>
                  <a:pt x="82" y="664"/>
                </a:lnTo>
                <a:lnTo>
                  <a:pt x="96" y="703"/>
                </a:lnTo>
                <a:lnTo>
                  <a:pt x="121" y="713"/>
                </a:lnTo>
                <a:lnTo>
                  <a:pt x="133" y="719"/>
                </a:lnTo>
                <a:lnTo>
                  <a:pt x="144" y="726"/>
                </a:lnTo>
                <a:lnTo>
                  <a:pt x="157" y="745"/>
                </a:lnTo>
                <a:lnTo>
                  <a:pt x="157" y="762"/>
                </a:lnTo>
                <a:lnTo>
                  <a:pt x="157" y="772"/>
                </a:lnTo>
                <a:lnTo>
                  <a:pt x="152" y="783"/>
                </a:lnTo>
                <a:lnTo>
                  <a:pt x="148" y="796"/>
                </a:lnTo>
                <a:lnTo>
                  <a:pt x="130" y="812"/>
                </a:lnTo>
                <a:lnTo>
                  <a:pt x="120" y="830"/>
                </a:lnTo>
                <a:lnTo>
                  <a:pt x="99" y="852"/>
                </a:lnTo>
                <a:lnTo>
                  <a:pt x="96" y="880"/>
                </a:lnTo>
                <a:lnTo>
                  <a:pt x="93" y="909"/>
                </a:lnTo>
                <a:lnTo>
                  <a:pt x="99" y="948"/>
                </a:lnTo>
                <a:lnTo>
                  <a:pt x="116" y="965"/>
                </a:lnTo>
                <a:lnTo>
                  <a:pt x="126" y="978"/>
                </a:lnTo>
                <a:lnTo>
                  <a:pt x="138" y="985"/>
                </a:lnTo>
                <a:lnTo>
                  <a:pt x="145" y="984"/>
                </a:lnTo>
                <a:lnTo>
                  <a:pt x="157" y="978"/>
                </a:lnTo>
                <a:lnTo>
                  <a:pt x="163" y="978"/>
                </a:lnTo>
                <a:lnTo>
                  <a:pt x="174" y="984"/>
                </a:lnTo>
                <a:lnTo>
                  <a:pt x="182" y="990"/>
                </a:lnTo>
                <a:lnTo>
                  <a:pt x="189" y="1003"/>
                </a:lnTo>
                <a:lnTo>
                  <a:pt x="196" y="1021"/>
                </a:lnTo>
                <a:lnTo>
                  <a:pt x="201" y="1036"/>
                </a:lnTo>
                <a:lnTo>
                  <a:pt x="213" y="1069"/>
                </a:lnTo>
                <a:lnTo>
                  <a:pt x="235" y="1092"/>
                </a:lnTo>
                <a:lnTo>
                  <a:pt x="250" y="1112"/>
                </a:lnTo>
                <a:lnTo>
                  <a:pt x="260" y="1125"/>
                </a:lnTo>
                <a:lnTo>
                  <a:pt x="266" y="1156"/>
                </a:lnTo>
                <a:lnTo>
                  <a:pt x="270" y="1186"/>
                </a:lnTo>
                <a:lnTo>
                  <a:pt x="280" y="1212"/>
                </a:lnTo>
                <a:lnTo>
                  <a:pt x="287" y="1236"/>
                </a:lnTo>
                <a:lnTo>
                  <a:pt x="305" y="1250"/>
                </a:lnTo>
                <a:lnTo>
                  <a:pt x="325" y="1256"/>
                </a:lnTo>
                <a:lnTo>
                  <a:pt x="333" y="1261"/>
                </a:lnTo>
                <a:lnTo>
                  <a:pt x="358" y="1276"/>
                </a:lnTo>
                <a:lnTo>
                  <a:pt x="389" y="1293"/>
                </a:lnTo>
                <a:lnTo>
                  <a:pt x="418" y="1307"/>
                </a:lnTo>
                <a:lnTo>
                  <a:pt x="437" y="1299"/>
                </a:lnTo>
                <a:lnTo>
                  <a:pt x="447" y="1295"/>
                </a:lnTo>
                <a:lnTo>
                  <a:pt x="491" y="1294"/>
                </a:lnTo>
                <a:lnTo>
                  <a:pt x="509" y="1302"/>
                </a:lnTo>
                <a:lnTo>
                  <a:pt x="520" y="1309"/>
                </a:lnTo>
                <a:lnTo>
                  <a:pt x="548" y="1317"/>
                </a:lnTo>
                <a:lnTo>
                  <a:pt x="566" y="1308"/>
                </a:lnTo>
                <a:lnTo>
                  <a:pt x="577" y="1304"/>
                </a:lnTo>
                <a:lnTo>
                  <a:pt x="594" y="1304"/>
                </a:lnTo>
                <a:lnTo>
                  <a:pt x="597" y="1304"/>
                </a:lnTo>
                <a:lnTo>
                  <a:pt x="601" y="1314"/>
                </a:lnTo>
                <a:lnTo>
                  <a:pt x="612" y="1319"/>
                </a:lnTo>
                <a:lnTo>
                  <a:pt x="636" y="1337"/>
                </a:lnTo>
                <a:lnTo>
                  <a:pt x="657" y="1355"/>
                </a:lnTo>
                <a:lnTo>
                  <a:pt x="660" y="1361"/>
                </a:lnTo>
                <a:lnTo>
                  <a:pt x="669" y="1359"/>
                </a:lnTo>
                <a:lnTo>
                  <a:pt x="676" y="1354"/>
                </a:lnTo>
                <a:lnTo>
                  <a:pt x="681" y="1348"/>
                </a:lnTo>
                <a:lnTo>
                  <a:pt x="696" y="1240"/>
                </a:lnTo>
                <a:lnTo>
                  <a:pt x="918" y="1270"/>
                </a:lnTo>
                <a:lnTo>
                  <a:pt x="1093" y="1288"/>
                </a:lnTo>
                <a:lnTo>
                  <a:pt x="1282" y="1306"/>
                </a:lnTo>
                <a:lnTo>
                  <a:pt x="1493" y="1322"/>
                </a:lnTo>
                <a:lnTo>
                  <a:pt x="1647" y="1336"/>
                </a:lnTo>
                <a:lnTo>
                  <a:pt x="1893" y="1342"/>
                </a:lnTo>
                <a:lnTo>
                  <a:pt x="2112" y="1348"/>
                </a:lnTo>
                <a:lnTo>
                  <a:pt x="2158" y="1348"/>
                </a:lnTo>
                <a:lnTo>
                  <a:pt x="2167" y="1265"/>
                </a:lnTo>
                <a:lnTo>
                  <a:pt x="2201" y="872"/>
                </a:lnTo>
                <a:lnTo>
                  <a:pt x="2230" y="550"/>
                </a:lnTo>
                <a:lnTo>
                  <a:pt x="2258" y="249"/>
                </a:lnTo>
                <a:lnTo>
                  <a:pt x="1819" y="223"/>
                </a:lnTo>
                <a:lnTo>
                  <a:pt x="1495" y="190"/>
                </a:lnTo>
                <a:lnTo>
                  <a:pt x="1140" y="155"/>
                </a:lnTo>
                <a:lnTo>
                  <a:pt x="712" y="104"/>
                </a:lnTo>
                <a:lnTo>
                  <a:pt x="289" y="45"/>
                </a:lnTo>
                <a:lnTo>
                  <a:pt x="89" y="6"/>
                </a:lnTo>
                <a:lnTo>
                  <a:pt x="5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Freeform 12"/>
          <p:cNvSpPr/>
          <p:nvPr/>
        </p:nvSpPr>
        <p:spPr>
          <a:xfrm>
            <a:off x="2401920" y="2273400"/>
            <a:ext cx="1273320" cy="842760"/>
          </a:xfrm>
          <a:custGeom>
            <a:avLst/>
            <a:gdLst>
              <a:gd name="textAreaLeft" fmla="*/ 0 w 1273320"/>
              <a:gd name="textAreaRight" fmla="*/ 1273680 w 1273320"/>
              <a:gd name="textAreaTop" fmla="*/ 0 h 842760"/>
              <a:gd name="textAreaBottom" fmla="*/ 843120 h 842760"/>
            </a:gdLst>
            <a:ahLst/>
            <a:rect l="textAreaLeft" t="textAreaTop" r="textAreaRight" b="textAreaBottom"/>
            <a:pathLst>
              <a:path w="1623" h="1150">
                <a:moveTo>
                  <a:pt x="0" y="1000"/>
                </a:moveTo>
                <a:lnTo>
                  <a:pt x="96" y="1014"/>
                </a:lnTo>
                <a:lnTo>
                  <a:pt x="209" y="1035"/>
                </a:lnTo>
                <a:lnTo>
                  <a:pt x="359" y="1058"/>
                </a:lnTo>
                <a:lnTo>
                  <a:pt x="488" y="1073"/>
                </a:lnTo>
                <a:lnTo>
                  <a:pt x="770" y="1099"/>
                </a:lnTo>
                <a:lnTo>
                  <a:pt x="1151" y="1129"/>
                </a:lnTo>
                <a:lnTo>
                  <a:pt x="1361" y="1144"/>
                </a:lnTo>
                <a:lnTo>
                  <a:pt x="1527" y="1150"/>
                </a:lnTo>
                <a:lnTo>
                  <a:pt x="1623" y="107"/>
                </a:lnTo>
                <a:lnTo>
                  <a:pt x="1374" y="101"/>
                </a:lnTo>
                <a:lnTo>
                  <a:pt x="1044" y="89"/>
                </a:lnTo>
                <a:lnTo>
                  <a:pt x="802" y="67"/>
                </a:lnTo>
                <a:lnTo>
                  <a:pt x="413" y="32"/>
                </a:lnTo>
                <a:lnTo>
                  <a:pt x="169" y="0"/>
                </a:lnTo>
                <a:lnTo>
                  <a:pt x="163" y="0"/>
                </a:lnTo>
                <a:lnTo>
                  <a:pt x="0" y="994"/>
                </a:lnTo>
                <a:lnTo>
                  <a:pt x="0" y="100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Freeform 13"/>
          <p:cNvSpPr/>
          <p:nvPr/>
        </p:nvSpPr>
        <p:spPr>
          <a:xfrm>
            <a:off x="1824120" y="2759040"/>
            <a:ext cx="925560" cy="1065240"/>
          </a:xfrm>
          <a:custGeom>
            <a:avLst/>
            <a:gdLst>
              <a:gd name="textAreaLeft" fmla="*/ 0 w 925560"/>
              <a:gd name="textAreaRight" fmla="*/ 925920 w 925560"/>
              <a:gd name="textAreaTop" fmla="*/ 0 h 1065240"/>
              <a:gd name="textAreaBottom" fmla="*/ 1065600 h 1065240"/>
            </a:gdLst>
            <a:ahLst/>
            <a:rect l="textAreaLeft" t="textAreaTop" r="textAreaRight" b="textAreaBottom"/>
            <a:pathLst>
              <a:path w="1177" h="1455">
                <a:moveTo>
                  <a:pt x="0" y="1288"/>
                </a:moveTo>
                <a:lnTo>
                  <a:pt x="250" y="0"/>
                </a:lnTo>
                <a:lnTo>
                  <a:pt x="363" y="16"/>
                </a:lnTo>
                <a:lnTo>
                  <a:pt x="498" y="40"/>
                </a:lnTo>
                <a:lnTo>
                  <a:pt x="687" y="68"/>
                </a:lnTo>
                <a:lnTo>
                  <a:pt x="773" y="82"/>
                </a:lnTo>
                <a:lnTo>
                  <a:pt x="733" y="339"/>
                </a:lnTo>
                <a:lnTo>
                  <a:pt x="1054" y="391"/>
                </a:lnTo>
                <a:lnTo>
                  <a:pt x="1147" y="405"/>
                </a:lnTo>
                <a:lnTo>
                  <a:pt x="1177" y="408"/>
                </a:lnTo>
                <a:lnTo>
                  <a:pt x="1033" y="1455"/>
                </a:lnTo>
                <a:lnTo>
                  <a:pt x="679" y="1408"/>
                </a:lnTo>
                <a:lnTo>
                  <a:pt x="460" y="1364"/>
                </a:lnTo>
                <a:lnTo>
                  <a:pt x="111" y="1307"/>
                </a:lnTo>
                <a:lnTo>
                  <a:pt x="18" y="1289"/>
                </a:lnTo>
                <a:lnTo>
                  <a:pt x="0" y="1288"/>
                </a:lnTo>
              </a:path>
            </a:pathLst>
          </a:custGeom>
          <a:solidFill>
            <a:srgbClr val="ff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Freeform 14"/>
          <p:cNvSpPr/>
          <p:nvPr/>
        </p:nvSpPr>
        <p:spPr>
          <a:xfrm>
            <a:off x="1562040" y="3697200"/>
            <a:ext cx="1081080" cy="1243080"/>
          </a:xfrm>
          <a:custGeom>
            <a:avLst/>
            <a:gdLst>
              <a:gd name="textAreaLeft" fmla="*/ 0 w 1081080"/>
              <a:gd name="textAreaRight" fmla="*/ 1081440 w 1081080"/>
              <a:gd name="textAreaTop" fmla="*/ 0 h 1243080"/>
              <a:gd name="textAreaBottom" fmla="*/ 1243440 h 1243080"/>
            </a:gdLst>
            <a:ahLst/>
            <a:rect l="textAreaLeft" t="textAreaTop" r="textAreaRight" b="textAreaBottom"/>
            <a:pathLst>
              <a:path w="1379" h="1697">
                <a:moveTo>
                  <a:pt x="0" y="1105"/>
                </a:moveTo>
                <a:lnTo>
                  <a:pt x="22" y="1098"/>
                </a:lnTo>
                <a:lnTo>
                  <a:pt x="33" y="1089"/>
                </a:lnTo>
                <a:lnTo>
                  <a:pt x="47" y="1074"/>
                </a:lnTo>
                <a:lnTo>
                  <a:pt x="59" y="1069"/>
                </a:lnTo>
                <a:lnTo>
                  <a:pt x="66" y="1069"/>
                </a:lnTo>
                <a:lnTo>
                  <a:pt x="68" y="1059"/>
                </a:lnTo>
                <a:lnTo>
                  <a:pt x="67" y="1056"/>
                </a:lnTo>
                <a:lnTo>
                  <a:pt x="67" y="1048"/>
                </a:lnTo>
                <a:lnTo>
                  <a:pt x="58" y="1036"/>
                </a:lnTo>
                <a:lnTo>
                  <a:pt x="43" y="1029"/>
                </a:lnTo>
                <a:lnTo>
                  <a:pt x="32" y="1023"/>
                </a:lnTo>
                <a:lnTo>
                  <a:pt x="32" y="1018"/>
                </a:lnTo>
                <a:lnTo>
                  <a:pt x="32" y="1008"/>
                </a:lnTo>
                <a:lnTo>
                  <a:pt x="32" y="1004"/>
                </a:lnTo>
                <a:lnTo>
                  <a:pt x="43" y="995"/>
                </a:lnTo>
                <a:lnTo>
                  <a:pt x="52" y="989"/>
                </a:lnTo>
                <a:lnTo>
                  <a:pt x="58" y="978"/>
                </a:lnTo>
                <a:lnTo>
                  <a:pt x="68" y="964"/>
                </a:lnTo>
                <a:lnTo>
                  <a:pt x="74" y="919"/>
                </a:lnTo>
                <a:lnTo>
                  <a:pt x="77" y="903"/>
                </a:lnTo>
                <a:lnTo>
                  <a:pt x="81" y="870"/>
                </a:lnTo>
                <a:lnTo>
                  <a:pt x="91" y="834"/>
                </a:lnTo>
                <a:lnTo>
                  <a:pt x="96" y="812"/>
                </a:lnTo>
                <a:lnTo>
                  <a:pt x="121" y="772"/>
                </a:lnTo>
                <a:lnTo>
                  <a:pt x="128" y="757"/>
                </a:lnTo>
                <a:lnTo>
                  <a:pt x="150" y="752"/>
                </a:lnTo>
                <a:lnTo>
                  <a:pt x="172" y="749"/>
                </a:lnTo>
                <a:lnTo>
                  <a:pt x="191" y="738"/>
                </a:lnTo>
                <a:lnTo>
                  <a:pt x="209" y="727"/>
                </a:lnTo>
                <a:lnTo>
                  <a:pt x="212" y="725"/>
                </a:lnTo>
                <a:lnTo>
                  <a:pt x="207" y="712"/>
                </a:lnTo>
                <a:lnTo>
                  <a:pt x="196" y="692"/>
                </a:lnTo>
                <a:lnTo>
                  <a:pt x="187" y="678"/>
                </a:lnTo>
                <a:lnTo>
                  <a:pt x="167" y="648"/>
                </a:lnTo>
                <a:lnTo>
                  <a:pt x="158" y="629"/>
                </a:lnTo>
                <a:lnTo>
                  <a:pt x="150" y="609"/>
                </a:lnTo>
                <a:lnTo>
                  <a:pt x="150" y="541"/>
                </a:lnTo>
                <a:lnTo>
                  <a:pt x="145" y="529"/>
                </a:lnTo>
                <a:lnTo>
                  <a:pt x="139" y="519"/>
                </a:lnTo>
                <a:lnTo>
                  <a:pt x="136" y="514"/>
                </a:lnTo>
                <a:lnTo>
                  <a:pt x="139" y="501"/>
                </a:lnTo>
                <a:lnTo>
                  <a:pt x="149" y="449"/>
                </a:lnTo>
                <a:lnTo>
                  <a:pt x="165" y="410"/>
                </a:lnTo>
                <a:lnTo>
                  <a:pt x="173" y="371"/>
                </a:lnTo>
                <a:lnTo>
                  <a:pt x="173" y="351"/>
                </a:lnTo>
                <a:lnTo>
                  <a:pt x="167" y="281"/>
                </a:lnTo>
                <a:lnTo>
                  <a:pt x="161" y="273"/>
                </a:lnTo>
                <a:lnTo>
                  <a:pt x="161" y="264"/>
                </a:lnTo>
                <a:lnTo>
                  <a:pt x="166" y="246"/>
                </a:lnTo>
                <a:lnTo>
                  <a:pt x="172" y="241"/>
                </a:lnTo>
                <a:lnTo>
                  <a:pt x="177" y="234"/>
                </a:lnTo>
                <a:lnTo>
                  <a:pt x="189" y="228"/>
                </a:lnTo>
                <a:lnTo>
                  <a:pt x="192" y="227"/>
                </a:lnTo>
                <a:lnTo>
                  <a:pt x="203" y="227"/>
                </a:lnTo>
                <a:lnTo>
                  <a:pt x="213" y="237"/>
                </a:lnTo>
                <a:lnTo>
                  <a:pt x="219" y="246"/>
                </a:lnTo>
                <a:lnTo>
                  <a:pt x="226" y="257"/>
                </a:lnTo>
                <a:lnTo>
                  <a:pt x="226" y="263"/>
                </a:lnTo>
                <a:lnTo>
                  <a:pt x="232" y="266"/>
                </a:lnTo>
                <a:lnTo>
                  <a:pt x="242" y="272"/>
                </a:lnTo>
                <a:lnTo>
                  <a:pt x="265" y="265"/>
                </a:lnTo>
                <a:lnTo>
                  <a:pt x="280" y="265"/>
                </a:lnTo>
                <a:lnTo>
                  <a:pt x="289" y="253"/>
                </a:lnTo>
                <a:lnTo>
                  <a:pt x="294" y="250"/>
                </a:lnTo>
                <a:lnTo>
                  <a:pt x="300" y="230"/>
                </a:lnTo>
                <a:lnTo>
                  <a:pt x="342" y="0"/>
                </a:lnTo>
                <a:lnTo>
                  <a:pt x="583" y="47"/>
                </a:lnTo>
                <a:lnTo>
                  <a:pt x="752" y="72"/>
                </a:lnTo>
                <a:lnTo>
                  <a:pt x="916" y="99"/>
                </a:lnTo>
                <a:lnTo>
                  <a:pt x="1083" y="129"/>
                </a:lnTo>
                <a:lnTo>
                  <a:pt x="1251" y="151"/>
                </a:lnTo>
                <a:lnTo>
                  <a:pt x="1379" y="170"/>
                </a:lnTo>
                <a:lnTo>
                  <a:pt x="1176" y="1697"/>
                </a:lnTo>
                <a:lnTo>
                  <a:pt x="732" y="1624"/>
                </a:lnTo>
                <a:lnTo>
                  <a:pt x="1" y="1121"/>
                </a:lnTo>
                <a:lnTo>
                  <a:pt x="0" y="1105"/>
                </a:lnTo>
              </a:path>
            </a:pathLst>
          </a:custGeom>
          <a:solidFill>
            <a:srgbClr val="00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Freeform 15"/>
          <p:cNvSpPr/>
          <p:nvPr/>
        </p:nvSpPr>
        <p:spPr>
          <a:xfrm>
            <a:off x="2635200" y="3057480"/>
            <a:ext cx="1270080" cy="849240"/>
          </a:xfrm>
          <a:custGeom>
            <a:avLst/>
            <a:gdLst>
              <a:gd name="textAreaLeft" fmla="*/ 0 w 1270080"/>
              <a:gd name="textAreaRight" fmla="*/ 1270440 w 1270080"/>
              <a:gd name="textAreaTop" fmla="*/ 0 h 849240"/>
              <a:gd name="textAreaBottom" fmla="*/ 849600 h 849240"/>
            </a:gdLst>
            <a:ahLst/>
            <a:rect l="textAreaLeft" t="textAreaTop" r="textAreaRight" b="textAreaBottom"/>
            <a:pathLst>
              <a:path w="1617" h="1161">
                <a:moveTo>
                  <a:pt x="145" y="0"/>
                </a:moveTo>
                <a:lnTo>
                  <a:pt x="264" y="12"/>
                </a:lnTo>
                <a:lnTo>
                  <a:pt x="547" y="37"/>
                </a:lnTo>
                <a:lnTo>
                  <a:pt x="844" y="59"/>
                </a:lnTo>
                <a:lnTo>
                  <a:pt x="1170" y="78"/>
                </a:lnTo>
                <a:lnTo>
                  <a:pt x="1247" y="80"/>
                </a:lnTo>
                <a:lnTo>
                  <a:pt x="1617" y="96"/>
                </a:lnTo>
                <a:lnTo>
                  <a:pt x="1564" y="1161"/>
                </a:lnTo>
                <a:lnTo>
                  <a:pt x="1344" y="1158"/>
                </a:lnTo>
                <a:lnTo>
                  <a:pt x="1021" y="1136"/>
                </a:lnTo>
                <a:lnTo>
                  <a:pt x="743" y="1118"/>
                </a:lnTo>
                <a:lnTo>
                  <a:pt x="419" y="1091"/>
                </a:lnTo>
                <a:lnTo>
                  <a:pt x="175" y="1067"/>
                </a:lnTo>
                <a:lnTo>
                  <a:pt x="0" y="1049"/>
                </a:lnTo>
                <a:lnTo>
                  <a:pt x="136" y="72"/>
                </a:lnTo>
                <a:lnTo>
                  <a:pt x="142" y="22"/>
                </a:lnTo>
                <a:lnTo>
                  <a:pt x="145" y="0"/>
                </a:lnTo>
              </a:path>
            </a:pathLst>
          </a:custGeom>
          <a:solidFill>
            <a:srgbClr val="00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Freeform 16"/>
          <p:cNvSpPr/>
          <p:nvPr/>
        </p:nvSpPr>
        <p:spPr>
          <a:xfrm>
            <a:off x="2482920" y="3809880"/>
            <a:ext cx="1212840" cy="1125720"/>
          </a:xfrm>
          <a:custGeom>
            <a:avLst/>
            <a:gdLst>
              <a:gd name="textAreaLeft" fmla="*/ 0 w 1212840"/>
              <a:gd name="textAreaRight" fmla="*/ 1212840 w 1212840"/>
              <a:gd name="textAreaTop" fmla="*/ 0 h 1125720"/>
              <a:gd name="textAreaBottom" fmla="*/ 1126080 h 1125720"/>
            </a:gdLst>
            <a:ahLst/>
            <a:rect l="textAreaLeft" t="textAreaTop" r="textAreaRight" b="textAreaBottom"/>
            <a:pathLst>
              <a:path w="1547" h="1536">
                <a:moveTo>
                  <a:pt x="0" y="1528"/>
                </a:moveTo>
                <a:lnTo>
                  <a:pt x="202" y="0"/>
                </a:lnTo>
                <a:lnTo>
                  <a:pt x="408" y="25"/>
                </a:lnTo>
                <a:lnTo>
                  <a:pt x="856" y="65"/>
                </a:lnTo>
                <a:lnTo>
                  <a:pt x="1139" y="83"/>
                </a:lnTo>
                <a:lnTo>
                  <a:pt x="1430" y="103"/>
                </a:lnTo>
                <a:lnTo>
                  <a:pt x="1547" y="108"/>
                </a:lnTo>
                <a:lnTo>
                  <a:pt x="1472" y="1379"/>
                </a:lnTo>
                <a:lnTo>
                  <a:pt x="521" y="1378"/>
                </a:lnTo>
                <a:lnTo>
                  <a:pt x="517" y="1450"/>
                </a:lnTo>
                <a:lnTo>
                  <a:pt x="142" y="1429"/>
                </a:lnTo>
                <a:lnTo>
                  <a:pt x="130" y="1536"/>
                </a:lnTo>
                <a:lnTo>
                  <a:pt x="0" y="1528"/>
                </a:lnTo>
              </a:path>
            </a:pathLst>
          </a:custGeom>
          <a:solidFill>
            <a:srgbClr val="ff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Freeform 17"/>
          <p:cNvSpPr/>
          <p:nvPr/>
        </p:nvSpPr>
        <p:spPr>
          <a:xfrm>
            <a:off x="3693960" y="1549440"/>
            <a:ext cx="1051200" cy="673200"/>
          </a:xfrm>
          <a:custGeom>
            <a:avLst/>
            <a:gdLst>
              <a:gd name="textAreaLeft" fmla="*/ 0 w 1051200"/>
              <a:gd name="textAreaRight" fmla="*/ 1051560 w 1051200"/>
              <a:gd name="textAreaTop" fmla="*/ 0 h 673200"/>
              <a:gd name="textAreaBottom" fmla="*/ 673560 h 673200"/>
            </a:gdLst>
            <a:ahLst/>
            <a:rect l="textAreaLeft" t="textAreaTop" r="textAreaRight" b="textAreaBottom"/>
            <a:pathLst>
              <a:path w="1339" h="921">
                <a:moveTo>
                  <a:pt x="0" y="855"/>
                </a:moveTo>
                <a:lnTo>
                  <a:pt x="77" y="0"/>
                </a:lnTo>
                <a:lnTo>
                  <a:pt x="166" y="4"/>
                </a:lnTo>
                <a:lnTo>
                  <a:pt x="376" y="18"/>
                </a:lnTo>
                <a:lnTo>
                  <a:pt x="573" y="26"/>
                </a:lnTo>
                <a:lnTo>
                  <a:pt x="896" y="27"/>
                </a:lnTo>
                <a:lnTo>
                  <a:pt x="1119" y="29"/>
                </a:lnTo>
                <a:lnTo>
                  <a:pt x="1253" y="29"/>
                </a:lnTo>
                <a:lnTo>
                  <a:pt x="1258" y="116"/>
                </a:lnTo>
                <a:lnTo>
                  <a:pt x="1258" y="164"/>
                </a:lnTo>
                <a:lnTo>
                  <a:pt x="1254" y="208"/>
                </a:lnTo>
                <a:lnTo>
                  <a:pt x="1241" y="257"/>
                </a:lnTo>
                <a:lnTo>
                  <a:pt x="1237" y="285"/>
                </a:lnTo>
                <a:lnTo>
                  <a:pt x="1244" y="311"/>
                </a:lnTo>
                <a:lnTo>
                  <a:pt x="1254" y="326"/>
                </a:lnTo>
                <a:lnTo>
                  <a:pt x="1276" y="343"/>
                </a:lnTo>
                <a:lnTo>
                  <a:pt x="1292" y="360"/>
                </a:lnTo>
                <a:lnTo>
                  <a:pt x="1305" y="383"/>
                </a:lnTo>
                <a:lnTo>
                  <a:pt x="1305" y="390"/>
                </a:lnTo>
                <a:lnTo>
                  <a:pt x="1312" y="452"/>
                </a:lnTo>
                <a:lnTo>
                  <a:pt x="1307" y="505"/>
                </a:lnTo>
                <a:lnTo>
                  <a:pt x="1296" y="586"/>
                </a:lnTo>
                <a:lnTo>
                  <a:pt x="1305" y="642"/>
                </a:lnTo>
                <a:lnTo>
                  <a:pt x="1319" y="682"/>
                </a:lnTo>
                <a:lnTo>
                  <a:pt x="1324" y="712"/>
                </a:lnTo>
                <a:lnTo>
                  <a:pt x="1320" y="740"/>
                </a:lnTo>
                <a:lnTo>
                  <a:pt x="1321" y="775"/>
                </a:lnTo>
                <a:lnTo>
                  <a:pt x="1329" y="837"/>
                </a:lnTo>
                <a:lnTo>
                  <a:pt x="1339" y="884"/>
                </a:lnTo>
                <a:lnTo>
                  <a:pt x="1336" y="921"/>
                </a:lnTo>
                <a:lnTo>
                  <a:pt x="0" y="855"/>
                </a:lnTo>
              </a:path>
            </a:pathLst>
          </a:custGeom>
          <a:solidFill>
            <a:srgbClr val="ff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Freeform 18"/>
          <p:cNvSpPr/>
          <p:nvPr/>
        </p:nvSpPr>
        <p:spPr>
          <a:xfrm>
            <a:off x="3637080" y="2176560"/>
            <a:ext cx="1155600" cy="714240"/>
          </a:xfrm>
          <a:custGeom>
            <a:avLst/>
            <a:gdLst>
              <a:gd name="textAreaLeft" fmla="*/ 0 w 1155600"/>
              <a:gd name="textAreaRight" fmla="*/ 1155960 w 115560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1475" h="976">
                <a:moveTo>
                  <a:pt x="0" y="769"/>
                </a:moveTo>
                <a:lnTo>
                  <a:pt x="72" y="0"/>
                </a:lnTo>
                <a:lnTo>
                  <a:pt x="259" y="12"/>
                </a:lnTo>
                <a:lnTo>
                  <a:pt x="691" y="30"/>
                </a:lnTo>
                <a:lnTo>
                  <a:pt x="1138" y="54"/>
                </a:lnTo>
                <a:lnTo>
                  <a:pt x="1410" y="66"/>
                </a:lnTo>
                <a:lnTo>
                  <a:pt x="1414" y="120"/>
                </a:lnTo>
                <a:lnTo>
                  <a:pt x="1414" y="148"/>
                </a:lnTo>
                <a:lnTo>
                  <a:pt x="1419" y="163"/>
                </a:lnTo>
                <a:lnTo>
                  <a:pt x="1441" y="179"/>
                </a:lnTo>
                <a:lnTo>
                  <a:pt x="1447" y="182"/>
                </a:lnTo>
                <a:lnTo>
                  <a:pt x="1457" y="190"/>
                </a:lnTo>
                <a:lnTo>
                  <a:pt x="1464" y="200"/>
                </a:lnTo>
                <a:lnTo>
                  <a:pt x="1468" y="218"/>
                </a:lnTo>
                <a:lnTo>
                  <a:pt x="1475" y="628"/>
                </a:lnTo>
                <a:lnTo>
                  <a:pt x="1460" y="628"/>
                </a:lnTo>
                <a:lnTo>
                  <a:pt x="1457" y="628"/>
                </a:lnTo>
                <a:lnTo>
                  <a:pt x="1437" y="630"/>
                </a:lnTo>
                <a:lnTo>
                  <a:pt x="1441" y="647"/>
                </a:lnTo>
                <a:lnTo>
                  <a:pt x="1448" y="660"/>
                </a:lnTo>
                <a:lnTo>
                  <a:pt x="1446" y="671"/>
                </a:lnTo>
                <a:lnTo>
                  <a:pt x="1447" y="685"/>
                </a:lnTo>
                <a:lnTo>
                  <a:pt x="1425" y="698"/>
                </a:lnTo>
                <a:lnTo>
                  <a:pt x="1430" y="716"/>
                </a:lnTo>
                <a:lnTo>
                  <a:pt x="1452" y="732"/>
                </a:lnTo>
                <a:lnTo>
                  <a:pt x="1465" y="750"/>
                </a:lnTo>
                <a:lnTo>
                  <a:pt x="1469" y="781"/>
                </a:lnTo>
                <a:lnTo>
                  <a:pt x="1455" y="797"/>
                </a:lnTo>
                <a:lnTo>
                  <a:pt x="1457" y="824"/>
                </a:lnTo>
                <a:lnTo>
                  <a:pt x="1465" y="842"/>
                </a:lnTo>
                <a:lnTo>
                  <a:pt x="1474" y="864"/>
                </a:lnTo>
                <a:lnTo>
                  <a:pt x="1472" y="893"/>
                </a:lnTo>
                <a:lnTo>
                  <a:pt x="1467" y="933"/>
                </a:lnTo>
                <a:lnTo>
                  <a:pt x="1462" y="968"/>
                </a:lnTo>
                <a:lnTo>
                  <a:pt x="1457" y="976"/>
                </a:lnTo>
                <a:lnTo>
                  <a:pt x="1432" y="954"/>
                </a:lnTo>
                <a:lnTo>
                  <a:pt x="1406" y="941"/>
                </a:lnTo>
                <a:lnTo>
                  <a:pt x="1388" y="941"/>
                </a:lnTo>
                <a:lnTo>
                  <a:pt x="1369" y="943"/>
                </a:lnTo>
                <a:lnTo>
                  <a:pt x="1351" y="933"/>
                </a:lnTo>
                <a:lnTo>
                  <a:pt x="1332" y="921"/>
                </a:lnTo>
                <a:lnTo>
                  <a:pt x="1315" y="901"/>
                </a:lnTo>
                <a:lnTo>
                  <a:pt x="1292" y="891"/>
                </a:lnTo>
                <a:lnTo>
                  <a:pt x="1259" y="888"/>
                </a:lnTo>
                <a:lnTo>
                  <a:pt x="1213" y="891"/>
                </a:lnTo>
                <a:lnTo>
                  <a:pt x="1201" y="887"/>
                </a:lnTo>
                <a:lnTo>
                  <a:pt x="1150" y="867"/>
                </a:lnTo>
                <a:lnTo>
                  <a:pt x="1138" y="857"/>
                </a:lnTo>
                <a:lnTo>
                  <a:pt x="1121" y="853"/>
                </a:lnTo>
                <a:lnTo>
                  <a:pt x="1095" y="853"/>
                </a:lnTo>
                <a:lnTo>
                  <a:pt x="1062" y="853"/>
                </a:lnTo>
                <a:lnTo>
                  <a:pt x="1040" y="847"/>
                </a:lnTo>
                <a:lnTo>
                  <a:pt x="1037" y="837"/>
                </a:lnTo>
                <a:lnTo>
                  <a:pt x="1028" y="829"/>
                </a:lnTo>
                <a:lnTo>
                  <a:pt x="1022" y="823"/>
                </a:lnTo>
                <a:lnTo>
                  <a:pt x="1013" y="812"/>
                </a:lnTo>
                <a:lnTo>
                  <a:pt x="998" y="796"/>
                </a:lnTo>
                <a:lnTo>
                  <a:pt x="501" y="778"/>
                </a:lnTo>
                <a:lnTo>
                  <a:pt x="164" y="770"/>
                </a:lnTo>
                <a:lnTo>
                  <a:pt x="42" y="769"/>
                </a:lnTo>
                <a:lnTo>
                  <a:pt x="0" y="769"/>
                </a:lnTo>
              </a:path>
            </a:pathLst>
          </a:custGeom>
          <a:solidFill>
            <a:srgbClr val="ff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Freeform 19"/>
          <p:cNvSpPr/>
          <p:nvPr/>
        </p:nvSpPr>
        <p:spPr>
          <a:xfrm>
            <a:off x="3595680" y="2746440"/>
            <a:ext cx="1347840" cy="604800"/>
          </a:xfrm>
          <a:custGeom>
            <a:avLst/>
            <a:gdLst>
              <a:gd name="textAreaLeft" fmla="*/ 0 w 1347840"/>
              <a:gd name="textAreaRight" fmla="*/ 1348200 w 1347840"/>
              <a:gd name="textAreaTop" fmla="*/ 0 h 604800"/>
              <a:gd name="textAreaBottom" fmla="*/ 605160 h 604800"/>
            </a:gdLst>
            <a:ahLst/>
            <a:rect l="textAreaLeft" t="textAreaTop" r="textAreaRight" b="textAreaBottom"/>
            <a:pathLst>
              <a:path w="1715" h="826">
                <a:moveTo>
                  <a:pt x="0" y="516"/>
                </a:moveTo>
                <a:lnTo>
                  <a:pt x="47" y="0"/>
                </a:lnTo>
                <a:lnTo>
                  <a:pt x="249" y="4"/>
                </a:lnTo>
                <a:lnTo>
                  <a:pt x="469" y="6"/>
                </a:lnTo>
                <a:lnTo>
                  <a:pt x="829" y="19"/>
                </a:lnTo>
                <a:lnTo>
                  <a:pt x="1004" y="21"/>
                </a:lnTo>
                <a:lnTo>
                  <a:pt x="1032" y="21"/>
                </a:lnTo>
                <a:lnTo>
                  <a:pt x="1042" y="21"/>
                </a:lnTo>
                <a:lnTo>
                  <a:pt x="1054" y="31"/>
                </a:lnTo>
                <a:lnTo>
                  <a:pt x="1076" y="64"/>
                </a:lnTo>
                <a:lnTo>
                  <a:pt x="1092" y="79"/>
                </a:lnTo>
                <a:lnTo>
                  <a:pt x="1108" y="85"/>
                </a:lnTo>
                <a:lnTo>
                  <a:pt x="1137" y="85"/>
                </a:lnTo>
                <a:lnTo>
                  <a:pt x="1160" y="85"/>
                </a:lnTo>
                <a:lnTo>
                  <a:pt x="1178" y="85"/>
                </a:lnTo>
                <a:lnTo>
                  <a:pt x="1193" y="96"/>
                </a:lnTo>
                <a:lnTo>
                  <a:pt x="1229" y="110"/>
                </a:lnTo>
                <a:lnTo>
                  <a:pt x="1262" y="123"/>
                </a:lnTo>
                <a:lnTo>
                  <a:pt x="1290" y="119"/>
                </a:lnTo>
                <a:lnTo>
                  <a:pt x="1313" y="119"/>
                </a:lnTo>
                <a:lnTo>
                  <a:pt x="1343" y="120"/>
                </a:lnTo>
                <a:lnTo>
                  <a:pt x="1350" y="130"/>
                </a:lnTo>
                <a:lnTo>
                  <a:pt x="1362" y="133"/>
                </a:lnTo>
                <a:lnTo>
                  <a:pt x="1378" y="150"/>
                </a:lnTo>
                <a:lnTo>
                  <a:pt x="1398" y="165"/>
                </a:lnTo>
                <a:lnTo>
                  <a:pt x="1411" y="171"/>
                </a:lnTo>
                <a:lnTo>
                  <a:pt x="1418" y="173"/>
                </a:lnTo>
                <a:lnTo>
                  <a:pt x="1446" y="172"/>
                </a:lnTo>
                <a:lnTo>
                  <a:pt x="1453" y="172"/>
                </a:lnTo>
                <a:lnTo>
                  <a:pt x="1461" y="176"/>
                </a:lnTo>
                <a:lnTo>
                  <a:pt x="1480" y="187"/>
                </a:lnTo>
                <a:lnTo>
                  <a:pt x="1495" y="197"/>
                </a:lnTo>
                <a:lnTo>
                  <a:pt x="1504" y="209"/>
                </a:lnTo>
                <a:lnTo>
                  <a:pt x="1518" y="220"/>
                </a:lnTo>
                <a:lnTo>
                  <a:pt x="1532" y="239"/>
                </a:lnTo>
                <a:lnTo>
                  <a:pt x="1544" y="268"/>
                </a:lnTo>
                <a:lnTo>
                  <a:pt x="1544" y="281"/>
                </a:lnTo>
                <a:lnTo>
                  <a:pt x="1552" y="294"/>
                </a:lnTo>
                <a:lnTo>
                  <a:pt x="1568" y="328"/>
                </a:lnTo>
                <a:lnTo>
                  <a:pt x="1605" y="390"/>
                </a:lnTo>
                <a:lnTo>
                  <a:pt x="1615" y="422"/>
                </a:lnTo>
                <a:lnTo>
                  <a:pt x="1620" y="448"/>
                </a:lnTo>
                <a:lnTo>
                  <a:pt x="1630" y="476"/>
                </a:lnTo>
                <a:lnTo>
                  <a:pt x="1653" y="513"/>
                </a:lnTo>
                <a:lnTo>
                  <a:pt x="1661" y="519"/>
                </a:lnTo>
                <a:lnTo>
                  <a:pt x="1666" y="531"/>
                </a:lnTo>
                <a:lnTo>
                  <a:pt x="1666" y="544"/>
                </a:lnTo>
                <a:lnTo>
                  <a:pt x="1659" y="566"/>
                </a:lnTo>
                <a:lnTo>
                  <a:pt x="1654" y="574"/>
                </a:lnTo>
                <a:lnTo>
                  <a:pt x="1654" y="586"/>
                </a:lnTo>
                <a:lnTo>
                  <a:pt x="1654" y="607"/>
                </a:lnTo>
                <a:lnTo>
                  <a:pt x="1662" y="615"/>
                </a:lnTo>
                <a:lnTo>
                  <a:pt x="1677" y="632"/>
                </a:lnTo>
                <a:lnTo>
                  <a:pt x="1689" y="653"/>
                </a:lnTo>
                <a:lnTo>
                  <a:pt x="1697" y="671"/>
                </a:lnTo>
                <a:lnTo>
                  <a:pt x="1701" y="702"/>
                </a:lnTo>
                <a:lnTo>
                  <a:pt x="1707" y="735"/>
                </a:lnTo>
                <a:lnTo>
                  <a:pt x="1703" y="770"/>
                </a:lnTo>
                <a:lnTo>
                  <a:pt x="1708" y="798"/>
                </a:lnTo>
                <a:lnTo>
                  <a:pt x="1715" y="823"/>
                </a:lnTo>
                <a:lnTo>
                  <a:pt x="1715" y="826"/>
                </a:lnTo>
                <a:lnTo>
                  <a:pt x="1556" y="826"/>
                </a:lnTo>
                <a:lnTo>
                  <a:pt x="1200" y="822"/>
                </a:lnTo>
                <a:lnTo>
                  <a:pt x="745" y="814"/>
                </a:lnTo>
                <a:lnTo>
                  <a:pt x="429" y="806"/>
                </a:lnTo>
                <a:lnTo>
                  <a:pt x="376" y="807"/>
                </a:lnTo>
                <a:lnTo>
                  <a:pt x="388" y="532"/>
                </a:lnTo>
                <a:lnTo>
                  <a:pt x="35" y="517"/>
                </a:lnTo>
                <a:lnTo>
                  <a:pt x="0" y="516"/>
                </a:lnTo>
              </a:path>
            </a:pathLst>
          </a:custGeom>
          <a:solidFill>
            <a:srgbClr val="0080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Freeform 20"/>
          <p:cNvSpPr/>
          <p:nvPr/>
        </p:nvSpPr>
        <p:spPr>
          <a:xfrm>
            <a:off x="3681360" y="3903840"/>
            <a:ext cx="1447920" cy="68580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1845" h="937">
                <a:moveTo>
                  <a:pt x="11" y="0"/>
                </a:moveTo>
                <a:lnTo>
                  <a:pt x="535" y="12"/>
                </a:lnTo>
                <a:lnTo>
                  <a:pt x="1119" y="26"/>
                </a:lnTo>
                <a:lnTo>
                  <a:pt x="1710" y="39"/>
                </a:lnTo>
                <a:lnTo>
                  <a:pt x="1751" y="43"/>
                </a:lnTo>
                <a:lnTo>
                  <a:pt x="1756" y="134"/>
                </a:lnTo>
                <a:lnTo>
                  <a:pt x="1826" y="330"/>
                </a:lnTo>
                <a:lnTo>
                  <a:pt x="1845" y="937"/>
                </a:lnTo>
                <a:lnTo>
                  <a:pt x="1826" y="937"/>
                </a:lnTo>
                <a:lnTo>
                  <a:pt x="1805" y="928"/>
                </a:lnTo>
                <a:lnTo>
                  <a:pt x="1775" y="915"/>
                </a:lnTo>
                <a:lnTo>
                  <a:pt x="1758" y="910"/>
                </a:lnTo>
                <a:lnTo>
                  <a:pt x="1733" y="902"/>
                </a:lnTo>
                <a:lnTo>
                  <a:pt x="1695" y="890"/>
                </a:lnTo>
                <a:lnTo>
                  <a:pt x="1677" y="881"/>
                </a:lnTo>
                <a:lnTo>
                  <a:pt x="1652" y="874"/>
                </a:lnTo>
                <a:lnTo>
                  <a:pt x="1625" y="868"/>
                </a:lnTo>
                <a:lnTo>
                  <a:pt x="1595" y="872"/>
                </a:lnTo>
                <a:lnTo>
                  <a:pt x="1584" y="868"/>
                </a:lnTo>
                <a:lnTo>
                  <a:pt x="1566" y="864"/>
                </a:lnTo>
                <a:lnTo>
                  <a:pt x="1555" y="860"/>
                </a:lnTo>
                <a:lnTo>
                  <a:pt x="1532" y="864"/>
                </a:lnTo>
                <a:lnTo>
                  <a:pt x="1500" y="877"/>
                </a:lnTo>
                <a:lnTo>
                  <a:pt x="1478" y="887"/>
                </a:lnTo>
                <a:lnTo>
                  <a:pt x="1473" y="896"/>
                </a:lnTo>
                <a:lnTo>
                  <a:pt x="1464" y="902"/>
                </a:lnTo>
                <a:lnTo>
                  <a:pt x="1452" y="919"/>
                </a:lnTo>
                <a:lnTo>
                  <a:pt x="1441" y="925"/>
                </a:lnTo>
                <a:lnTo>
                  <a:pt x="1426" y="926"/>
                </a:lnTo>
                <a:lnTo>
                  <a:pt x="1417" y="929"/>
                </a:lnTo>
                <a:lnTo>
                  <a:pt x="1404" y="929"/>
                </a:lnTo>
                <a:lnTo>
                  <a:pt x="1394" y="930"/>
                </a:lnTo>
                <a:lnTo>
                  <a:pt x="1383" y="930"/>
                </a:lnTo>
                <a:lnTo>
                  <a:pt x="1369" y="919"/>
                </a:lnTo>
                <a:lnTo>
                  <a:pt x="1359" y="910"/>
                </a:lnTo>
                <a:lnTo>
                  <a:pt x="1354" y="902"/>
                </a:lnTo>
                <a:lnTo>
                  <a:pt x="1348" y="889"/>
                </a:lnTo>
                <a:lnTo>
                  <a:pt x="1342" y="880"/>
                </a:lnTo>
                <a:lnTo>
                  <a:pt x="1316" y="868"/>
                </a:lnTo>
                <a:lnTo>
                  <a:pt x="1306" y="869"/>
                </a:lnTo>
                <a:lnTo>
                  <a:pt x="1286" y="873"/>
                </a:lnTo>
                <a:lnTo>
                  <a:pt x="1273" y="887"/>
                </a:lnTo>
                <a:lnTo>
                  <a:pt x="1270" y="896"/>
                </a:lnTo>
                <a:lnTo>
                  <a:pt x="1265" y="902"/>
                </a:lnTo>
                <a:lnTo>
                  <a:pt x="1246" y="891"/>
                </a:lnTo>
                <a:lnTo>
                  <a:pt x="1230" y="888"/>
                </a:lnTo>
                <a:lnTo>
                  <a:pt x="1219" y="902"/>
                </a:lnTo>
                <a:lnTo>
                  <a:pt x="1215" y="910"/>
                </a:lnTo>
                <a:lnTo>
                  <a:pt x="1202" y="925"/>
                </a:lnTo>
                <a:lnTo>
                  <a:pt x="1194" y="930"/>
                </a:lnTo>
                <a:lnTo>
                  <a:pt x="1177" y="933"/>
                </a:lnTo>
                <a:lnTo>
                  <a:pt x="1168" y="919"/>
                </a:lnTo>
                <a:lnTo>
                  <a:pt x="1157" y="904"/>
                </a:lnTo>
                <a:lnTo>
                  <a:pt x="1152" y="896"/>
                </a:lnTo>
                <a:lnTo>
                  <a:pt x="1133" y="896"/>
                </a:lnTo>
                <a:lnTo>
                  <a:pt x="1123" y="896"/>
                </a:lnTo>
                <a:lnTo>
                  <a:pt x="1114" y="890"/>
                </a:lnTo>
                <a:lnTo>
                  <a:pt x="1098" y="879"/>
                </a:lnTo>
                <a:lnTo>
                  <a:pt x="1087" y="882"/>
                </a:lnTo>
                <a:lnTo>
                  <a:pt x="1068" y="885"/>
                </a:lnTo>
                <a:lnTo>
                  <a:pt x="1063" y="885"/>
                </a:lnTo>
                <a:lnTo>
                  <a:pt x="1048" y="885"/>
                </a:lnTo>
                <a:lnTo>
                  <a:pt x="1032" y="882"/>
                </a:lnTo>
                <a:lnTo>
                  <a:pt x="1025" y="872"/>
                </a:lnTo>
                <a:lnTo>
                  <a:pt x="1017" y="864"/>
                </a:lnTo>
                <a:lnTo>
                  <a:pt x="1015" y="858"/>
                </a:lnTo>
                <a:lnTo>
                  <a:pt x="1008" y="846"/>
                </a:lnTo>
                <a:lnTo>
                  <a:pt x="1002" y="844"/>
                </a:lnTo>
                <a:lnTo>
                  <a:pt x="992" y="844"/>
                </a:lnTo>
                <a:lnTo>
                  <a:pt x="980" y="849"/>
                </a:lnTo>
                <a:lnTo>
                  <a:pt x="966" y="853"/>
                </a:lnTo>
                <a:lnTo>
                  <a:pt x="955" y="852"/>
                </a:lnTo>
                <a:lnTo>
                  <a:pt x="942" y="853"/>
                </a:lnTo>
                <a:lnTo>
                  <a:pt x="934" y="853"/>
                </a:lnTo>
                <a:lnTo>
                  <a:pt x="921" y="852"/>
                </a:lnTo>
                <a:lnTo>
                  <a:pt x="916" y="838"/>
                </a:lnTo>
                <a:lnTo>
                  <a:pt x="910" y="827"/>
                </a:lnTo>
                <a:lnTo>
                  <a:pt x="898" y="822"/>
                </a:lnTo>
                <a:lnTo>
                  <a:pt x="887" y="822"/>
                </a:lnTo>
                <a:lnTo>
                  <a:pt x="868" y="822"/>
                </a:lnTo>
                <a:lnTo>
                  <a:pt x="860" y="822"/>
                </a:lnTo>
                <a:lnTo>
                  <a:pt x="848" y="820"/>
                </a:lnTo>
                <a:lnTo>
                  <a:pt x="830" y="815"/>
                </a:lnTo>
                <a:lnTo>
                  <a:pt x="815" y="820"/>
                </a:lnTo>
                <a:lnTo>
                  <a:pt x="806" y="823"/>
                </a:lnTo>
                <a:lnTo>
                  <a:pt x="793" y="823"/>
                </a:lnTo>
                <a:lnTo>
                  <a:pt x="787" y="820"/>
                </a:lnTo>
                <a:lnTo>
                  <a:pt x="777" y="813"/>
                </a:lnTo>
                <a:lnTo>
                  <a:pt x="777" y="798"/>
                </a:lnTo>
                <a:lnTo>
                  <a:pt x="769" y="784"/>
                </a:lnTo>
                <a:lnTo>
                  <a:pt x="765" y="769"/>
                </a:lnTo>
                <a:lnTo>
                  <a:pt x="757" y="762"/>
                </a:lnTo>
                <a:lnTo>
                  <a:pt x="747" y="749"/>
                </a:lnTo>
                <a:lnTo>
                  <a:pt x="731" y="738"/>
                </a:lnTo>
                <a:lnTo>
                  <a:pt x="729" y="736"/>
                </a:lnTo>
                <a:lnTo>
                  <a:pt x="715" y="737"/>
                </a:lnTo>
                <a:lnTo>
                  <a:pt x="708" y="739"/>
                </a:lnTo>
                <a:lnTo>
                  <a:pt x="708" y="743"/>
                </a:lnTo>
                <a:lnTo>
                  <a:pt x="705" y="751"/>
                </a:lnTo>
                <a:lnTo>
                  <a:pt x="694" y="751"/>
                </a:lnTo>
                <a:lnTo>
                  <a:pt x="688" y="737"/>
                </a:lnTo>
                <a:lnTo>
                  <a:pt x="685" y="729"/>
                </a:lnTo>
                <a:lnTo>
                  <a:pt x="674" y="718"/>
                </a:lnTo>
                <a:lnTo>
                  <a:pt x="660" y="716"/>
                </a:lnTo>
                <a:lnTo>
                  <a:pt x="646" y="714"/>
                </a:lnTo>
                <a:lnTo>
                  <a:pt x="633" y="711"/>
                </a:lnTo>
                <a:lnTo>
                  <a:pt x="633" y="187"/>
                </a:lnTo>
                <a:lnTo>
                  <a:pt x="252" y="182"/>
                </a:lnTo>
                <a:lnTo>
                  <a:pt x="0" y="176"/>
                </a:lnTo>
                <a:lnTo>
                  <a:pt x="11" y="0"/>
                </a:lnTo>
              </a:path>
            </a:pathLst>
          </a:custGeom>
          <a:solidFill>
            <a:srgbClr val="ff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Freeform 21"/>
          <p:cNvSpPr/>
          <p:nvPr/>
        </p:nvSpPr>
        <p:spPr>
          <a:xfrm>
            <a:off x="2895480" y="4027320"/>
            <a:ext cx="2378160" cy="2065680"/>
          </a:xfrm>
          <a:custGeom>
            <a:avLst/>
            <a:gdLst>
              <a:gd name="textAreaLeft" fmla="*/ 0 w 2378160"/>
              <a:gd name="textAreaRight" fmla="*/ 2378520 w 2378160"/>
              <a:gd name="textAreaTop" fmla="*/ 0 h 2065680"/>
              <a:gd name="textAreaBottom" fmla="*/ 2066040 h 2065680"/>
            </a:gdLst>
            <a:ahLst/>
            <a:rect l="textAreaLeft" t="textAreaTop" r="textAreaRight" b="textAreaBottom"/>
            <a:pathLst>
              <a:path w="3032" h="2822">
                <a:moveTo>
                  <a:pt x="955" y="1098"/>
                </a:moveTo>
                <a:lnTo>
                  <a:pt x="1021" y="0"/>
                </a:lnTo>
                <a:lnTo>
                  <a:pt x="1267" y="9"/>
                </a:lnTo>
                <a:lnTo>
                  <a:pt x="1653" y="13"/>
                </a:lnTo>
                <a:lnTo>
                  <a:pt x="1653" y="534"/>
                </a:lnTo>
                <a:lnTo>
                  <a:pt x="1668" y="542"/>
                </a:lnTo>
                <a:lnTo>
                  <a:pt x="1694" y="545"/>
                </a:lnTo>
                <a:lnTo>
                  <a:pt x="1711" y="572"/>
                </a:lnTo>
                <a:lnTo>
                  <a:pt x="1719" y="579"/>
                </a:lnTo>
                <a:lnTo>
                  <a:pt x="1735" y="563"/>
                </a:lnTo>
                <a:lnTo>
                  <a:pt x="1752" y="563"/>
                </a:lnTo>
                <a:lnTo>
                  <a:pt x="1784" y="594"/>
                </a:lnTo>
                <a:lnTo>
                  <a:pt x="1792" y="609"/>
                </a:lnTo>
                <a:lnTo>
                  <a:pt x="1801" y="631"/>
                </a:lnTo>
                <a:lnTo>
                  <a:pt x="1812" y="650"/>
                </a:lnTo>
                <a:lnTo>
                  <a:pt x="1826" y="650"/>
                </a:lnTo>
                <a:lnTo>
                  <a:pt x="1851" y="642"/>
                </a:lnTo>
                <a:lnTo>
                  <a:pt x="1881" y="649"/>
                </a:lnTo>
                <a:lnTo>
                  <a:pt x="1922" y="649"/>
                </a:lnTo>
                <a:lnTo>
                  <a:pt x="1937" y="662"/>
                </a:lnTo>
                <a:lnTo>
                  <a:pt x="1937" y="666"/>
                </a:lnTo>
                <a:lnTo>
                  <a:pt x="1948" y="679"/>
                </a:lnTo>
                <a:lnTo>
                  <a:pt x="1982" y="679"/>
                </a:lnTo>
                <a:lnTo>
                  <a:pt x="2015" y="671"/>
                </a:lnTo>
                <a:lnTo>
                  <a:pt x="2027" y="671"/>
                </a:lnTo>
                <a:lnTo>
                  <a:pt x="2036" y="687"/>
                </a:lnTo>
                <a:lnTo>
                  <a:pt x="2053" y="709"/>
                </a:lnTo>
                <a:lnTo>
                  <a:pt x="2083" y="712"/>
                </a:lnTo>
                <a:lnTo>
                  <a:pt x="2115" y="703"/>
                </a:lnTo>
                <a:lnTo>
                  <a:pt x="2131" y="715"/>
                </a:lnTo>
                <a:lnTo>
                  <a:pt x="2141" y="723"/>
                </a:lnTo>
                <a:lnTo>
                  <a:pt x="2172" y="723"/>
                </a:lnTo>
                <a:lnTo>
                  <a:pt x="2190" y="746"/>
                </a:lnTo>
                <a:lnTo>
                  <a:pt x="2198" y="760"/>
                </a:lnTo>
                <a:lnTo>
                  <a:pt x="2214" y="759"/>
                </a:lnTo>
                <a:lnTo>
                  <a:pt x="2222" y="752"/>
                </a:lnTo>
                <a:lnTo>
                  <a:pt x="2237" y="730"/>
                </a:lnTo>
                <a:lnTo>
                  <a:pt x="2252" y="712"/>
                </a:lnTo>
                <a:lnTo>
                  <a:pt x="2270" y="722"/>
                </a:lnTo>
                <a:lnTo>
                  <a:pt x="2283" y="729"/>
                </a:lnTo>
                <a:lnTo>
                  <a:pt x="2298" y="704"/>
                </a:lnTo>
                <a:lnTo>
                  <a:pt x="2323" y="696"/>
                </a:lnTo>
                <a:lnTo>
                  <a:pt x="2342" y="696"/>
                </a:lnTo>
                <a:lnTo>
                  <a:pt x="2366" y="711"/>
                </a:lnTo>
                <a:lnTo>
                  <a:pt x="2384" y="741"/>
                </a:lnTo>
                <a:lnTo>
                  <a:pt x="2404" y="759"/>
                </a:lnTo>
                <a:lnTo>
                  <a:pt x="2441" y="752"/>
                </a:lnTo>
                <a:lnTo>
                  <a:pt x="2454" y="752"/>
                </a:lnTo>
                <a:lnTo>
                  <a:pt x="2476" y="740"/>
                </a:lnTo>
                <a:lnTo>
                  <a:pt x="2487" y="724"/>
                </a:lnTo>
                <a:lnTo>
                  <a:pt x="2518" y="701"/>
                </a:lnTo>
                <a:lnTo>
                  <a:pt x="2568" y="687"/>
                </a:lnTo>
                <a:lnTo>
                  <a:pt x="2612" y="699"/>
                </a:lnTo>
                <a:lnTo>
                  <a:pt x="2639" y="691"/>
                </a:lnTo>
                <a:lnTo>
                  <a:pt x="2687" y="704"/>
                </a:lnTo>
                <a:lnTo>
                  <a:pt x="2728" y="718"/>
                </a:lnTo>
                <a:lnTo>
                  <a:pt x="2795" y="741"/>
                </a:lnTo>
                <a:lnTo>
                  <a:pt x="2846" y="764"/>
                </a:lnTo>
                <a:lnTo>
                  <a:pt x="2866" y="764"/>
                </a:lnTo>
                <a:lnTo>
                  <a:pt x="2900" y="775"/>
                </a:lnTo>
                <a:lnTo>
                  <a:pt x="2924" y="769"/>
                </a:lnTo>
                <a:lnTo>
                  <a:pt x="2948" y="1290"/>
                </a:lnTo>
                <a:lnTo>
                  <a:pt x="2972" y="1313"/>
                </a:lnTo>
                <a:lnTo>
                  <a:pt x="2998" y="1336"/>
                </a:lnTo>
                <a:lnTo>
                  <a:pt x="3014" y="1356"/>
                </a:lnTo>
                <a:lnTo>
                  <a:pt x="3025" y="1385"/>
                </a:lnTo>
                <a:lnTo>
                  <a:pt x="3007" y="1403"/>
                </a:lnTo>
                <a:lnTo>
                  <a:pt x="3015" y="1419"/>
                </a:lnTo>
                <a:lnTo>
                  <a:pt x="3031" y="1439"/>
                </a:lnTo>
                <a:lnTo>
                  <a:pt x="3032" y="1472"/>
                </a:lnTo>
                <a:lnTo>
                  <a:pt x="3017" y="1522"/>
                </a:lnTo>
                <a:lnTo>
                  <a:pt x="3001" y="1547"/>
                </a:lnTo>
                <a:lnTo>
                  <a:pt x="3002" y="1586"/>
                </a:lnTo>
                <a:lnTo>
                  <a:pt x="3018" y="1614"/>
                </a:lnTo>
                <a:lnTo>
                  <a:pt x="3013" y="1650"/>
                </a:lnTo>
                <a:lnTo>
                  <a:pt x="3003" y="1674"/>
                </a:lnTo>
                <a:lnTo>
                  <a:pt x="3003" y="1707"/>
                </a:lnTo>
                <a:lnTo>
                  <a:pt x="3014" y="1735"/>
                </a:lnTo>
                <a:lnTo>
                  <a:pt x="2998" y="1764"/>
                </a:lnTo>
                <a:lnTo>
                  <a:pt x="2940" y="1765"/>
                </a:lnTo>
                <a:lnTo>
                  <a:pt x="2820" y="1829"/>
                </a:lnTo>
                <a:lnTo>
                  <a:pt x="2788" y="1860"/>
                </a:lnTo>
                <a:lnTo>
                  <a:pt x="2782" y="1860"/>
                </a:lnTo>
                <a:lnTo>
                  <a:pt x="2774" y="1837"/>
                </a:lnTo>
                <a:lnTo>
                  <a:pt x="2813" y="1815"/>
                </a:lnTo>
                <a:lnTo>
                  <a:pt x="2813" y="1792"/>
                </a:lnTo>
                <a:lnTo>
                  <a:pt x="2781" y="1800"/>
                </a:lnTo>
                <a:lnTo>
                  <a:pt x="2759" y="1800"/>
                </a:lnTo>
                <a:lnTo>
                  <a:pt x="2757" y="1762"/>
                </a:lnTo>
                <a:lnTo>
                  <a:pt x="2740" y="1754"/>
                </a:lnTo>
                <a:lnTo>
                  <a:pt x="2691" y="1763"/>
                </a:lnTo>
                <a:lnTo>
                  <a:pt x="2660" y="1788"/>
                </a:lnTo>
                <a:lnTo>
                  <a:pt x="2676" y="1824"/>
                </a:lnTo>
                <a:lnTo>
                  <a:pt x="2709" y="1839"/>
                </a:lnTo>
                <a:lnTo>
                  <a:pt x="2725" y="1854"/>
                </a:lnTo>
                <a:lnTo>
                  <a:pt x="2719" y="1877"/>
                </a:lnTo>
                <a:lnTo>
                  <a:pt x="2670" y="1930"/>
                </a:lnTo>
                <a:lnTo>
                  <a:pt x="2656" y="2006"/>
                </a:lnTo>
                <a:lnTo>
                  <a:pt x="2615" y="2044"/>
                </a:lnTo>
                <a:lnTo>
                  <a:pt x="2541" y="2090"/>
                </a:lnTo>
                <a:lnTo>
                  <a:pt x="2464" y="2135"/>
                </a:lnTo>
                <a:lnTo>
                  <a:pt x="2512" y="2076"/>
                </a:lnTo>
                <a:lnTo>
                  <a:pt x="2503" y="2053"/>
                </a:lnTo>
                <a:lnTo>
                  <a:pt x="2437" y="2063"/>
                </a:lnTo>
                <a:lnTo>
                  <a:pt x="2414" y="2064"/>
                </a:lnTo>
                <a:lnTo>
                  <a:pt x="2395" y="2048"/>
                </a:lnTo>
                <a:lnTo>
                  <a:pt x="2407" y="2026"/>
                </a:lnTo>
                <a:lnTo>
                  <a:pt x="2391" y="2041"/>
                </a:lnTo>
                <a:lnTo>
                  <a:pt x="2338" y="2050"/>
                </a:lnTo>
                <a:lnTo>
                  <a:pt x="2313" y="2027"/>
                </a:lnTo>
                <a:lnTo>
                  <a:pt x="2290" y="2036"/>
                </a:lnTo>
                <a:lnTo>
                  <a:pt x="2290" y="2051"/>
                </a:lnTo>
                <a:lnTo>
                  <a:pt x="2330" y="2081"/>
                </a:lnTo>
                <a:lnTo>
                  <a:pt x="2356" y="2081"/>
                </a:lnTo>
                <a:lnTo>
                  <a:pt x="2356" y="2110"/>
                </a:lnTo>
                <a:lnTo>
                  <a:pt x="2308" y="2163"/>
                </a:lnTo>
                <a:lnTo>
                  <a:pt x="2300" y="2171"/>
                </a:lnTo>
                <a:lnTo>
                  <a:pt x="2285" y="2157"/>
                </a:lnTo>
                <a:lnTo>
                  <a:pt x="2285" y="2149"/>
                </a:lnTo>
                <a:lnTo>
                  <a:pt x="2264" y="2157"/>
                </a:lnTo>
                <a:lnTo>
                  <a:pt x="2270" y="2195"/>
                </a:lnTo>
                <a:lnTo>
                  <a:pt x="2278" y="2201"/>
                </a:lnTo>
                <a:lnTo>
                  <a:pt x="2240" y="2249"/>
                </a:lnTo>
                <a:lnTo>
                  <a:pt x="2215" y="2249"/>
                </a:lnTo>
                <a:lnTo>
                  <a:pt x="2215" y="2234"/>
                </a:lnTo>
                <a:lnTo>
                  <a:pt x="2215" y="2196"/>
                </a:lnTo>
                <a:lnTo>
                  <a:pt x="2206" y="2202"/>
                </a:lnTo>
                <a:lnTo>
                  <a:pt x="2206" y="2234"/>
                </a:lnTo>
                <a:lnTo>
                  <a:pt x="2150" y="2241"/>
                </a:lnTo>
                <a:lnTo>
                  <a:pt x="2161" y="2263"/>
                </a:lnTo>
                <a:lnTo>
                  <a:pt x="2201" y="2262"/>
                </a:lnTo>
                <a:lnTo>
                  <a:pt x="2192" y="2309"/>
                </a:lnTo>
                <a:lnTo>
                  <a:pt x="2120" y="2310"/>
                </a:lnTo>
                <a:lnTo>
                  <a:pt x="2096" y="2311"/>
                </a:lnTo>
                <a:lnTo>
                  <a:pt x="2106" y="2324"/>
                </a:lnTo>
                <a:lnTo>
                  <a:pt x="2136" y="2330"/>
                </a:lnTo>
                <a:lnTo>
                  <a:pt x="2152" y="2355"/>
                </a:lnTo>
                <a:lnTo>
                  <a:pt x="2153" y="2399"/>
                </a:lnTo>
                <a:lnTo>
                  <a:pt x="2128" y="2416"/>
                </a:lnTo>
                <a:lnTo>
                  <a:pt x="2083" y="2417"/>
                </a:lnTo>
                <a:lnTo>
                  <a:pt x="2083" y="2441"/>
                </a:lnTo>
                <a:lnTo>
                  <a:pt x="2099" y="2446"/>
                </a:lnTo>
                <a:lnTo>
                  <a:pt x="2107" y="2500"/>
                </a:lnTo>
                <a:lnTo>
                  <a:pt x="2126" y="2606"/>
                </a:lnTo>
                <a:lnTo>
                  <a:pt x="2175" y="2747"/>
                </a:lnTo>
                <a:lnTo>
                  <a:pt x="2168" y="2756"/>
                </a:lnTo>
                <a:lnTo>
                  <a:pt x="2159" y="2756"/>
                </a:lnTo>
                <a:lnTo>
                  <a:pt x="2168" y="2762"/>
                </a:lnTo>
                <a:lnTo>
                  <a:pt x="2184" y="2779"/>
                </a:lnTo>
                <a:lnTo>
                  <a:pt x="2201" y="2808"/>
                </a:lnTo>
                <a:lnTo>
                  <a:pt x="2201" y="2822"/>
                </a:lnTo>
                <a:lnTo>
                  <a:pt x="2128" y="2794"/>
                </a:lnTo>
                <a:lnTo>
                  <a:pt x="2055" y="2765"/>
                </a:lnTo>
                <a:lnTo>
                  <a:pt x="2008" y="2749"/>
                </a:lnTo>
                <a:lnTo>
                  <a:pt x="1969" y="2745"/>
                </a:lnTo>
                <a:lnTo>
                  <a:pt x="1934" y="2735"/>
                </a:lnTo>
                <a:lnTo>
                  <a:pt x="1895" y="2709"/>
                </a:lnTo>
                <a:lnTo>
                  <a:pt x="1869" y="2677"/>
                </a:lnTo>
                <a:lnTo>
                  <a:pt x="1830" y="2664"/>
                </a:lnTo>
                <a:lnTo>
                  <a:pt x="1780" y="2626"/>
                </a:lnTo>
                <a:lnTo>
                  <a:pt x="1737" y="2583"/>
                </a:lnTo>
                <a:lnTo>
                  <a:pt x="1714" y="2528"/>
                </a:lnTo>
                <a:lnTo>
                  <a:pt x="1680" y="2431"/>
                </a:lnTo>
                <a:lnTo>
                  <a:pt x="1655" y="2393"/>
                </a:lnTo>
                <a:lnTo>
                  <a:pt x="1606" y="2347"/>
                </a:lnTo>
                <a:lnTo>
                  <a:pt x="1572" y="2284"/>
                </a:lnTo>
                <a:lnTo>
                  <a:pt x="1546" y="2192"/>
                </a:lnTo>
                <a:lnTo>
                  <a:pt x="1513" y="2147"/>
                </a:lnTo>
                <a:lnTo>
                  <a:pt x="1466" y="2071"/>
                </a:lnTo>
                <a:lnTo>
                  <a:pt x="1423" y="1989"/>
                </a:lnTo>
                <a:lnTo>
                  <a:pt x="1413" y="1921"/>
                </a:lnTo>
                <a:lnTo>
                  <a:pt x="1383" y="1878"/>
                </a:lnTo>
                <a:lnTo>
                  <a:pt x="1331" y="1825"/>
                </a:lnTo>
                <a:lnTo>
                  <a:pt x="1297" y="1803"/>
                </a:lnTo>
                <a:lnTo>
                  <a:pt x="1250" y="1794"/>
                </a:lnTo>
                <a:lnTo>
                  <a:pt x="1233" y="1765"/>
                </a:lnTo>
                <a:lnTo>
                  <a:pt x="1176" y="1744"/>
                </a:lnTo>
                <a:lnTo>
                  <a:pt x="1112" y="1745"/>
                </a:lnTo>
                <a:lnTo>
                  <a:pt x="1066" y="1746"/>
                </a:lnTo>
                <a:lnTo>
                  <a:pt x="1007" y="1733"/>
                </a:lnTo>
                <a:lnTo>
                  <a:pt x="968" y="1734"/>
                </a:lnTo>
                <a:lnTo>
                  <a:pt x="952" y="1748"/>
                </a:lnTo>
                <a:lnTo>
                  <a:pt x="920" y="1830"/>
                </a:lnTo>
                <a:lnTo>
                  <a:pt x="913" y="1846"/>
                </a:lnTo>
                <a:lnTo>
                  <a:pt x="870" y="1913"/>
                </a:lnTo>
                <a:lnTo>
                  <a:pt x="841" y="1946"/>
                </a:lnTo>
                <a:lnTo>
                  <a:pt x="824" y="1951"/>
                </a:lnTo>
                <a:lnTo>
                  <a:pt x="761" y="1911"/>
                </a:lnTo>
                <a:lnTo>
                  <a:pt x="731" y="1889"/>
                </a:lnTo>
                <a:lnTo>
                  <a:pt x="704" y="1890"/>
                </a:lnTo>
                <a:lnTo>
                  <a:pt x="637" y="1873"/>
                </a:lnTo>
                <a:lnTo>
                  <a:pt x="539" y="1853"/>
                </a:lnTo>
                <a:lnTo>
                  <a:pt x="385" y="1780"/>
                </a:lnTo>
                <a:lnTo>
                  <a:pt x="349" y="1740"/>
                </a:lnTo>
                <a:lnTo>
                  <a:pt x="317" y="1658"/>
                </a:lnTo>
                <a:lnTo>
                  <a:pt x="283" y="1616"/>
                </a:lnTo>
                <a:lnTo>
                  <a:pt x="256" y="1579"/>
                </a:lnTo>
                <a:lnTo>
                  <a:pt x="237" y="1489"/>
                </a:lnTo>
                <a:lnTo>
                  <a:pt x="196" y="1430"/>
                </a:lnTo>
                <a:lnTo>
                  <a:pt x="156" y="1408"/>
                </a:lnTo>
                <a:lnTo>
                  <a:pt x="121" y="1340"/>
                </a:lnTo>
                <a:lnTo>
                  <a:pt x="81" y="1303"/>
                </a:lnTo>
                <a:lnTo>
                  <a:pt x="59" y="1261"/>
                </a:lnTo>
                <a:lnTo>
                  <a:pt x="15" y="1207"/>
                </a:lnTo>
                <a:lnTo>
                  <a:pt x="0" y="1170"/>
                </a:lnTo>
                <a:lnTo>
                  <a:pt x="4" y="1097"/>
                </a:lnTo>
                <a:lnTo>
                  <a:pt x="955" y="1098"/>
                </a:lnTo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Freeform 22"/>
          <p:cNvSpPr/>
          <p:nvPr/>
        </p:nvSpPr>
        <p:spPr>
          <a:xfrm>
            <a:off x="4664160" y="1566720"/>
            <a:ext cx="1033200" cy="1068480"/>
          </a:xfrm>
          <a:custGeom>
            <a:avLst/>
            <a:gdLst>
              <a:gd name="textAreaLeft" fmla="*/ 0 w 1033200"/>
              <a:gd name="textAreaRight" fmla="*/ 1033560 w 1033200"/>
              <a:gd name="textAreaTop" fmla="*/ 0 h 1068480"/>
              <a:gd name="textAreaBottom" fmla="*/ 1068840 h 1068480"/>
            </a:gdLst>
            <a:ahLst/>
            <a:rect l="textAreaLeft" t="textAreaTop" r="textAreaRight" b="textAreaBottom"/>
            <a:pathLst>
              <a:path w="1315" h="1458">
                <a:moveTo>
                  <a:pt x="15" y="5"/>
                </a:moveTo>
                <a:lnTo>
                  <a:pt x="293" y="1"/>
                </a:lnTo>
                <a:lnTo>
                  <a:pt x="384" y="0"/>
                </a:lnTo>
                <a:lnTo>
                  <a:pt x="408" y="12"/>
                </a:lnTo>
                <a:lnTo>
                  <a:pt x="408" y="23"/>
                </a:lnTo>
                <a:lnTo>
                  <a:pt x="416" y="41"/>
                </a:lnTo>
                <a:lnTo>
                  <a:pt x="442" y="49"/>
                </a:lnTo>
                <a:lnTo>
                  <a:pt x="471" y="48"/>
                </a:lnTo>
                <a:lnTo>
                  <a:pt x="516" y="48"/>
                </a:lnTo>
                <a:lnTo>
                  <a:pt x="539" y="43"/>
                </a:lnTo>
                <a:lnTo>
                  <a:pt x="553" y="43"/>
                </a:lnTo>
                <a:lnTo>
                  <a:pt x="579" y="56"/>
                </a:lnTo>
                <a:lnTo>
                  <a:pt x="583" y="72"/>
                </a:lnTo>
                <a:lnTo>
                  <a:pt x="595" y="85"/>
                </a:lnTo>
                <a:lnTo>
                  <a:pt x="612" y="88"/>
                </a:lnTo>
                <a:lnTo>
                  <a:pt x="635" y="88"/>
                </a:lnTo>
                <a:lnTo>
                  <a:pt x="666" y="79"/>
                </a:lnTo>
                <a:lnTo>
                  <a:pt x="699" y="75"/>
                </a:lnTo>
                <a:lnTo>
                  <a:pt x="720" y="75"/>
                </a:lnTo>
                <a:lnTo>
                  <a:pt x="760" y="86"/>
                </a:lnTo>
                <a:lnTo>
                  <a:pt x="788" y="99"/>
                </a:lnTo>
                <a:lnTo>
                  <a:pt x="792" y="115"/>
                </a:lnTo>
                <a:lnTo>
                  <a:pt x="794" y="136"/>
                </a:lnTo>
                <a:lnTo>
                  <a:pt x="804" y="151"/>
                </a:lnTo>
                <a:lnTo>
                  <a:pt x="825" y="144"/>
                </a:lnTo>
                <a:lnTo>
                  <a:pt x="837" y="140"/>
                </a:lnTo>
                <a:lnTo>
                  <a:pt x="841" y="151"/>
                </a:lnTo>
                <a:lnTo>
                  <a:pt x="863" y="156"/>
                </a:lnTo>
                <a:lnTo>
                  <a:pt x="875" y="136"/>
                </a:lnTo>
                <a:lnTo>
                  <a:pt x="895" y="136"/>
                </a:lnTo>
                <a:lnTo>
                  <a:pt x="912" y="149"/>
                </a:lnTo>
                <a:lnTo>
                  <a:pt x="951" y="172"/>
                </a:lnTo>
                <a:lnTo>
                  <a:pt x="966" y="185"/>
                </a:lnTo>
                <a:lnTo>
                  <a:pt x="999" y="189"/>
                </a:lnTo>
                <a:lnTo>
                  <a:pt x="1017" y="184"/>
                </a:lnTo>
                <a:lnTo>
                  <a:pt x="1031" y="179"/>
                </a:lnTo>
                <a:lnTo>
                  <a:pt x="1048" y="179"/>
                </a:lnTo>
                <a:lnTo>
                  <a:pt x="1062" y="191"/>
                </a:lnTo>
                <a:lnTo>
                  <a:pt x="1086" y="183"/>
                </a:lnTo>
                <a:lnTo>
                  <a:pt x="1115" y="169"/>
                </a:lnTo>
                <a:lnTo>
                  <a:pt x="1129" y="161"/>
                </a:lnTo>
                <a:lnTo>
                  <a:pt x="1148" y="161"/>
                </a:lnTo>
                <a:lnTo>
                  <a:pt x="1167" y="176"/>
                </a:lnTo>
                <a:lnTo>
                  <a:pt x="1167" y="181"/>
                </a:lnTo>
                <a:lnTo>
                  <a:pt x="1184" y="185"/>
                </a:lnTo>
                <a:lnTo>
                  <a:pt x="1224" y="185"/>
                </a:lnTo>
                <a:lnTo>
                  <a:pt x="1244" y="179"/>
                </a:lnTo>
                <a:lnTo>
                  <a:pt x="1265" y="171"/>
                </a:lnTo>
                <a:lnTo>
                  <a:pt x="1299" y="171"/>
                </a:lnTo>
                <a:lnTo>
                  <a:pt x="1315" y="178"/>
                </a:lnTo>
                <a:lnTo>
                  <a:pt x="1262" y="219"/>
                </a:lnTo>
                <a:lnTo>
                  <a:pt x="1185" y="260"/>
                </a:lnTo>
                <a:lnTo>
                  <a:pt x="1106" y="319"/>
                </a:lnTo>
                <a:lnTo>
                  <a:pt x="1042" y="372"/>
                </a:lnTo>
                <a:lnTo>
                  <a:pt x="976" y="432"/>
                </a:lnTo>
                <a:lnTo>
                  <a:pt x="971" y="445"/>
                </a:lnTo>
                <a:lnTo>
                  <a:pt x="965" y="483"/>
                </a:lnTo>
                <a:lnTo>
                  <a:pt x="935" y="523"/>
                </a:lnTo>
                <a:lnTo>
                  <a:pt x="913" y="540"/>
                </a:lnTo>
                <a:lnTo>
                  <a:pt x="904" y="561"/>
                </a:lnTo>
                <a:lnTo>
                  <a:pt x="902" y="587"/>
                </a:lnTo>
                <a:lnTo>
                  <a:pt x="904" y="732"/>
                </a:lnTo>
                <a:lnTo>
                  <a:pt x="885" y="768"/>
                </a:lnTo>
                <a:lnTo>
                  <a:pt x="867" y="790"/>
                </a:lnTo>
                <a:lnTo>
                  <a:pt x="842" y="803"/>
                </a:lnTo>
                <a:lnTo>
                  <a:pt x="824" y="815"/>
                </a:lnTo>
                <a:lnTo>
                  <a:pt x="802" y="842"/>
                </a:lnTo>
                <a:lnTo>
                  <a:pt x="794" y="868"/>
                </a:lnTo>
                <a:lnTo>
                  <a:pt x="794" y="901"/>
                </a:lnTo>
                <a:lnTo>
                  <a:pt x="795" y="927"/>
                </a:lnTo>
                <a:lnTo>
                  <a:pt x="804" y="936"/>
                </a:lnTo>
                <a:lnTo>
                  <a:pt x="817" y="936"/>
                </a:lnTo>
                <a:lnTo>
                  <a:pt x="837" y="951"/>
                </a:lnTo>
                <a:lnTo>
                  <a:pt x="837" y="963"/>
                </a:lnTo>
                <a:lnTo>
                  <a:pt x="833" y="1028"/>
                </a:lnTo>
                <a:lnTo>
                  <a:pt x="842" y="1104"/>
                </a:lnTo>
                <a:lnTo>
                  <a:pt x="851" y="1155"/>
                </a:lnTo>
                <a:lnTo>
                  <a:pt x="865" y="1166"/>
                </a:lnTo>
                <a:lnTo>
                  <a:pt x="898" y="1170"/>
                </a:lnTo>
                <a:lnTo>
                  <a:pt x="925" y="1185"/>
                </a:lnTo>
                <a:lnTo>
                  <a:pt x="935" y="1187"/>
                </a:lnTo>
                <a:lnTo>
                  <a:pt x="947" y="1205"/>
                </a:lnTo>
                <a:lnTo>
                  <a:pt x="958" y="1228"/>
                </a:lnTo>
                <a:lnTo>
                  <a:pt x="966" y="1239"/>
                </a:lnTo>
                <a:lnTo>
                  <a:pt x="980" y="1243"/>
                </a:lnTo>
                <a:lnTo>
                  <a:pt x="1000" y="1257"/>
                </a:lnTo>
                <a:lnTo>
                  <a:pt x="1007" y="1259"/>
                </a:lnTo>
                <a:lnTo>
                  <a:pt x="1040" y="1305"/>
                </a:lnTo>
                <a:lnTo>
                  <a:pt x="1060" y="1335"/>
                </a:lnTo>
                <a:lnTo>
                  <a:pt x="1072" y="1372"/>
                </a:lnTo>
                <a:lnTo>
                  <a:pt x="1079" y="1412"/>
                </a:lnTo>
                <a:lnTo>
                  <a:pt x="1079" y="1433"/>
                </a:lnTo>
                <a:lnTo>
                  <a:pt x="165" y="1458"/>
                </a:lnTo>
                <a:lnTo>
                  <a:pt x="158" y="1043"/>
                </a:lnTo>
                <a:lnTo>
                  <a:pt x="152" y="1031"/>
                </a:lnTo>
                <a:lnTo>
                  <a:pt x="147" y="1024"/>
                </a:lnTo>
                <a:lnTo>
                  <a:pt x="142" y="1015"/>
                </a:lnTo>
                <a:lnTo>
                  <a:pt x="130" y="1009"/>
                </a:lnTo>
                <a:lnTo>
                  <a:pt x="120" y="998"/>
                </a:lnTo>
                <a:lnTo>
                  <a:pt x="109" y="992"/>
                </a:lnTo>
                <a:lnTo>
                  <a:pt x="106" y="978"/>
                </a:lnTo>
                <a:lnTo>
                  <a:pt x="106" y="945"/>
                </a:lnTo>
                <a:lnTo>
                  <a:pt x="101" y="930"/>
                </a:lnTo>
                <a:lnTo>
                  <a:pt x="101" y="911"/>
                </a:lnTo>
                <a:lnTo>
                  <a:pt x="101" y="897"/>
                </a:lnTo>
                <a:lnTo>
                  <a:pt x="100" y="851"/>
                </a:lnTo>
                <a:lnTo>
                  <a:pt x="90" y="813"/>
                </a:lnTo>
                <a:lnTo>
                  <a:pt x="84" y="767"/>
                </a:lnTo>
                <a:lnTo>
                  <a:pt x="82" y="715"/>
                </a:lnTo>
                <a:lnTo>
                  <a:pt x="89" y="689"/>
                </a:lnTo>
                <a:lnTo>
                  <a:pt x="84" y="678"/>
                </a:lnTo>
                <a:lnTo>
                  <a:pt x="78" y="647"/>
                </a:lnTo>
                <a:lnTo>
                  <a:pt x="67" y="614"/>
                </a:lnTo>
                <a:lnTo>
                  <a:pt x="58" y="577"/>
                </a:lnTo>
                <a:lnTo>
                  <a:pt x="58" y="561"/>
                </a:lnTo>
                <a:lnTo>
                  <a:pt x="61" y="533"/>
                </a:lnTo>
                <a:lnTo>
                  <a:pt x="70" y="480"/>
                </a:lnTo>
                <a:lnTo>
                  <a:pt x="74" y="432"/>
                </a:lnTo>
                <a:lnTo>
                  <a:pt x="74" y="412"/>
                </a:lnTo>
                <a:lnTo>
                  <a:pt x="67" y="387"/>
                </a:lnTo>
                <a:lnTo>
                  <a:pt x="67" y="365"/>
                </a:lnTo>
                <a:lnTo>
                  <a:pt x="63" y="349"/>
                </a:lnTo>
                <a:lnTo>
                  <a:pt x="44" y="325"/>
                </a:lnTo>
                <a:lnTo>
                  <a:pt x="39" y="318"/>
                </a:lnTo>
                <a:lnTo>
                  <a:pt x="21" y="308"/>
                </a:lnTo>
                <a:lnTo>
                  <a:pt x="10" y="295"/>
                </a:lnTo>
                <a:lnTo>
                  <a:pt x="5" y="283"/>
                </a:lnTo>
                <a:lnTo>
                  <a:pt x="0" y="269"/>
                </a:lnTo>
                <a:lnTo>
                  <a:pt x="0" y="257"/>
                </a:lnTo>
                <a:lnTo>
                  <a:pt x="3" y="235"/>
                </a:lnTo>
                <a:lnTo>
                  <a:pt x="7" y="208"/>
                </a:lnTo>
                <a:lnTo>
                  <a:pt x="15" y="184"/>
                </a:lnTo>
                <a:lnTo>
                  <a:pt x="21" y="140"/>
                </a:lnTo>
                <a:lnTo>
                  <a:pt x="17" y="33"/>
                </a:lnTo>
                <a:lnTo>
                  <a:pt x="15" y="5"/>
                </a:lnTo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Freeform 23"/>
          <p:cNvSpPr/>
          <p:nvPr/>
        </p:nvSpPr>
        <p:spPr>
          <a:xfrm>
            <a:off x="4754520" y="2616120"/>
            <a:ext cx="947880" cy="641520"/>
          </a:xfrm>
          <a:custGeom>
            <a:avLst/>
            <a:gdLst>
              <a:gd name="textAreaLeft" fmla="*/ 0 w 947880"/>
              <a:gd name="textAreaRight" fmla="*/ 948240 w 947880"/>
              <a:gd name="textAreaTop" fmla="*/ 0 h 641520"/>
              <a:gd name="textAreaBottom" fmla="*/ 641520 h 641520"/>
            </a:gdLst>
            <a:ahLst/>
            <a:rect l="textAreaLeft" t="textAreaTop" r="textAreaRight" b="textAreaBottom"/>
            <a:pathLst>
              <a:path w="1210" h="873">
                <a:moveTo>
                  <a:pt x="15" y="27"/>
                </a:moveTo>
                <a:lnTo>
                  <a:pt x="763" y="3"/>
                </a:lnTo>
                <a:lnTo>
                  <a:pt x="965" y="0"/>
                </a:lnTo>
                <a:lnTo>
                  <a:pt x="972" y="23"/>
                </a:lnTo>
                <a:lnTo>
                  <a:pt x="972" y="33"/>
                </a:lnTo>
                <a:lnTo>
                  <a:pt x="973" y="39"/>
                </a:lnTo>
                <a:lnTo>
                  <a:pt x="985" y="46"/>
                </a:lnTo>
                <a:lnTo>
                  <a:pt x="997" y="57"/>
                </a:lnTo>
                <a:lnTo>
                  <a:pt x="998" y="70"/>
                </a:lnTo>
                <a:lnTo>
                  <a:pt x="988" y="87"/>
                </a:lnTo>
                <a:lnTo>
                  <a:pt x="986" y="92"/>
                </a:lnTo>
                <a:lnTo>
                  <a:pt x="986" y="112"/>
                </a:lnTo>
                <a:lnTo>
                  <a:pt x="999" y="132"/>
                </a:lnTo>
                <a:lnTo>
                  <a:pt x="1009" y="148"/>
                </a:lnTo>
                <a:lnTo>
                  <a:pt x="1023" y="166"/>
                </a:lnTo>
                <a:lnTo>
                  <a:pt x="1023" y="192"/>
                </a:lnTo>
                <a:lnTo>
                  <a:pt x="1040" y="207"/>
                </a:lnTo>
                <a:lnTo>
                  <a:pt x="1052" y="208"/>
                </a:lnTo>
                <a:lnTo>
                  <a:pt x="1066" y="216"/>
                </a:lnTo>
                <a:lnTo>
                  <a:pt x="1075" y="233"/>
                </a:lnTo>
                <a:lnTo>
                  <a:pt x="1088" y="246"/>
                </a:lnTo>
                <a:lnTo>
                  <a:pt x="1104" y="264"/>
                </a:lnTo>
                <a:lnTo>
                  <a:pt x="1127" y="279"/>
                </a:lnTo>
                <a:lnTo>
                  <a:pt x="1143" y="290"/>
                </a:lnTo>
                <a:lnTo>
                  <a:pt x="1159" y="318"/>
                </a:lnTo>
                <a:lnTo>
                  <a:pt x="1161" y="338"/>
                </a:lnTo>
                <a:lnTo>
                  <a:pt x="1173" y="349"/>
                </a:lnTo>
                <a:lnTo>
                  <a:pt x="1182" y="360"/>
                </a:lnTo>
                <a:lnTo>
                  <a:pt x="1191" y="378"/>
                </a:lnTo>
                <a:lnTo>
                  <a:pt x="1202" y="405"/>
                </a:lnTo>
                <a:lnTo>
                  <a:pt x="1202" y="417"/>
                </a:lnTo>
                <a:lnTo>
                  <a:pt x="1210" y="440"/>
                </a:lnTo>
                <a:lnTo>
                  <a:pt x="1204" y="463"/>
                </a:lnTo>
                <a:lnTo>
                  <a:pt x="1195" y="473"/>
                </a:lnTo>
                <a:lnTo>
                  <a:pt x="1191" y="484"/>
                </a:lnTo>
                <a:lnTo>
                  <a:pt x="1191" y="507"/>
                </a:lnTo>
                <a:lnTo>
                  <a:pt x="1177" y="521"/>
                </a:lnTo>
                <a:lnTo>
                  <a:pt x="1159" y="530"/>
                </a:lnTo>
                <a:lnTo>
                  <a:pt x="1141" y="537"/>
                </a:lnTo>
                <a:lnTo>
                  <a:pt x="1119" y="549"/>
                </a:lnTo>
                <a:lnTo>
                  <a:pt x="1098" y="561"/>
                </a:lnTo>
                <a:lnTo>
                  <a:pt x="1079" y="567"/>
                </a:lnTo>
                <a:lnTo>
                  <a:pt x="1069" y="572"/>
                </a:lnTo>
                <a:lnTo>
                  <a:pt x="1058" y="590"/>
                </a:lnTo>
                <a:lnTo>
                  <a:pt x="1058" y="609"/>
                </a:lnTo>
                <a:lnTo>
                  <a:pt x="1052" y="621"/>
                </a:lnTo>
                <a:lnTo>
                  <a:pt x="1052" y="631"/>
                </a:lnTo>
                <a:lnTo>
                  <a:pt x="1066" y="645"/>
                </a:lnTo>
                <a:lnTo>
                  <a:pt x="1078" y="676"/>
                </a:lnTo>
                <a:lnTo>
                  <a:pt x="1083" y="689"/>
                </a:lnTo>
                <a:lnTo>
                  <a:pt x="1082" y="715"/>
                </a:lnTo>
                <a:lnTo>
                  <a:pt x="1067" y="727"/>
                </a:lnTo>
                <a:lnTo>
                  <a:pt x="1066" y="739"/>
                </a:lnTo>
                <a:lnTo>
                  <a:pt x="1063" y="751"/>
                </a:lnTo>
                <a:lnTo>
                  <a:pt x="1058" y="766"/>
                </a:lnTo>
                <a:lnTo>
                  <a:pt x="1038" y="779"/>
                </a:lnTo>
                <a:lnTo>
                  <a:pt x="1023" y="795"/>
                </a:lnTo>
                <a:lnTo>
                  <a:pt x="1011" y="806"/>
                </a:lnTo>
                <a:lnTo>
                  <a:pt x="1005" y="820"/>
                </a:lnTo>
                <a:lnTo>
                  <a:pt x="1005" y="837"/>
                </a:lnTo>
                <a:lnTo>
                  <a:pt x="1005" y="856"/>
                </a:lnTo>
                <a:lnTo>
                  <a:pt x="995" y="868"/>
                </a:lnTo>
                <a:lnTo>
                  <a:pt x="995" y="873"/>
                </a:lnTo>
                <a:lnTo>
                  <a:pt x="991" y="873"/>
                </a:lnTo>
                <a:lnTo>
                  <a:pt x="980" y="859"/>
                </a:lnTo>
                <a:lnTo>
                  <a:pt x="964" y="838"/>
                </a:lnTo>
                <a:lnTo>
                  <a:pt x="954" y="821"/>
                </a:lnTo>
                <a:lnTo>
                  <a:pt x="945" y="811"/>
                </a:lnTo>
                <a:lnTo>
                  <a:pt x="937" y="807"/>
                </a:lnTo>
                <a:lnTo>
                  <a:pt x="927" y="803"/>
                </a:lnTo>
                <a:lnTo>
                  <a:pt x="750" y="806"/>
                </a:lnTo>
                <a:lnTo>
                  <a:pt x="445" y="806"/>
                </a:lnTo>
                <a:lnTo>
                  <a:pt x="256" y="806"/>
                </a:lnTo>
                <a:lnTo>
                  <a:pt x="211" y="806"/>
                </a:lnTo>
                <a:lnTo>
                  <a:pt x="201" y="794"/>
                </a:lnTo>
                <a:lnTo>
                  <a:pt x="191" y="780"/>
                </a:lnTo>
                <a:lnTo>
                  <a:pt x="187" y="775"/>
                </a:lnTo>
                <a:lnTo>
                  <a:pt x="182" y="767"/>
                </a:lnTo>
                <a:lnTo>
                  <a:pt x="182" y="745"/>
                </a:lnTo>
                <a:lnTo>
                  <a:pt x="182" y="739"/>
                </a:lnTo>
                <a:lnTo>
                  <a:pt x="187" y="728"/>
                </a:lnTo>
                <a:lnTo>
                  <a:pt x="194" y="711"/>
                </a:lnTo>
                <a:lnTo>
                  <a:pt x="194" y="707"/>
                </a:lnTo>
                <a:lnTo>
                  <a:pt x="194" y="699"/>
                </a:lnTo>
                <a:lnTo>
                  <a:pt x="190" y="685"/>
                </a:lnTo>
                <a:lnTo>
                  <a:pt x="181" y="679"/>
                </a:lnTo>
                <a:lnTo>
                  <a:pt x="172" y="660"/>
                </a:lnTo>
                <a:lnTo>
                  <a:pt x="154" y="641"/>
                </a:lnTo>
                <a:lnTo>
                  <a:pt x="149" y="620"/>
                </a:lnTo>
                <a:lnTo>
                  <a:pt x="146" y="605"/>
                </a:lnTo>
                <a:lnTo>
                  <a:pt x="143" y="590"/>
                </a:lnTo>
                <a:lnTo>
                  <a:pt x="142" y="579"/>
                </a:lnTo>
                <a:lnTo>
                  <a:pt x="134" y="561"/>
                </a:lnTo>
                <a:lnTo>
                  <a:pt x="126" y="538"/>
                </a:lnTo>
                <a:lnTo>
                  <a:pt x="113" y="521"/>
                </a:lnTo>
                <a:lnTo>
                  <a:pt x="100" y="497"/>
                </a:lnTo>
                <a:lnTo>
                  <a:pt x="89" y="481"/>
                </a:lnTo>
                <a:lnTo>
                  <a:pt x="82" y="462"/>
                </a:lnTo>
                <a:lnTo>
                  <a:pt x="73" y="449"/>
                </a:lnTo>
                <a:lnTo>
                  <a:pt x="72" y="435"/>
                </a:lnTo>
                <a:lnTo>
                  <a:pt x="72" y="431"/>
                </a:lnTo>
                <a:lnTo>
                  <a:pt x="67" y="418"/>
                </a:lnTo>
                <a:lnTo>
                  <a:pt x="61" y="408"/>
                </a:lnTo>
                <a:lnTo>
                  <a:pt x="50" y="397"/>
                </a:lnTo>
                <a:lnTo>
                  <a:pt x="44" y="382"/>
                </a:lnTo>
                <a:lnTo>
                  <a:pt x="35" y="375"/>
                </a:lnTo>
                <a:lnTo>
                  <a:pt x="35" y="371"/>
                </a:lnTo>
                <a:lnTo>
                  <a:pt x="40" y="349"/>
                </a:lnTo>
                <a:lnTo>
                  <a:pt x="44" y="320"/>
                </a:lnTo>
                <a:lnTo>
                  <a:pt x="49" y="281"/>
                </a:lnTo>
                <a:lnTo>
                  <a:pt x="49" y="262"/>
                </a:lnTo>
                <a:lnTo>
                  <a:pt x="44" y="246"/>
                </a:lnTo>
                <a:lnTo>
                  <a:pt x="32" y="229"/>
                </a:lnTo>
                <a:lnTo>
                  <a:pt x="32" y="212"/>
                </a:lnTo>
                <a:lnTo>
                  <a:pt x="31" y="206"/>
                </a:lnTo>
                <a:lnTo>
                  <a:pt x="30" y="196"/>
                </a:lnTo>
                <a:lnTo>
                  <a:pt x="37" y="189"/>
                </a:lnTo>
                <a:lnTo>
                  <a:pt x="44" y="178"/>
                </a:lnTo>
                <a:lnTo>
                  <a:pt x="43" y="162"/>
                </a:lnTo>
                <a:lnTo>
                  <a:pt x="40" y="156"/>
                </a:lnTo>
                <a:lnTo>
                  <a:pt x="32" y="140"/>
                </a:lnTo>
                <a:lnTo>
                  <a:pt x="30" y="131"/>
                </a:lnTo>
                <a:lnTo>
                  <a:pt x="21" y="125"/>
                </a:lnTo>
                <a:lnTo>
                  <a:pt x="10" y="116"/>
                </a:lnTo>
                <a:lnTo>
                  <a:pt x="5" y="113"/>
                </a:lnTo>
                <a:lnTo>
                  <a:pt x="4" y="108"/>
                </a:lnTo>
                <a:lnTo>
                  <a:pt x="2" y="99"/>
                </a:lnTo>
                <a:lnTo>
                  <a:pt x="0" y="95"/>
                </a:lnTo>
                <a:lnTo>
                  <a:pt x="9" y="88"/>
                </a:lnTo>
                <a:lnTo>
                  <a:pt x="23" y="82"/>
                </a:lnTo>
                <a:lnTo>
                  <a:pt x="23" y="77"/>
                </a:lnTo>
                <a:lnTo>
                  <a:pt x="21" y="74"/>
                </a:lnTo>
                <a:lnTo>
                  <a:pt x="21" y="71"/>
                </a:lnTo>
                <a:lnTo>
                  <a:pt x="21" y="65"/>
                </a:lnTo>
                <a:lnTo>
                  <a:pt x="23" y="61"/>
                </a:lnTo>
                <a:lnTo>
                  <a:pt x="23" y="59"/>
                </a:lnTo>
                <a:lnTo>
                  <a:pt x="22" y="56"/>
                </a:lnTo>
                <a:lnTo>
                  <a:pt x="20" y="53"/>
                </a:lnTo>
                <a:lnTo>
                  <a:pt x="16" y="48"/>
                </a:lnTo>
                <a:lnTo>
                  <a:pt x="16" y="39"/>
                </a:lnTo>
                <a:lnTo>
                  <a:pt x="15" y="27"/>
                </a:lnTo>
              </a:path>
            </a:pathLst>
          </a:custGeom>
          <a:solidFill>
            <a:srgbClr val="ff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Freeform 24"/>
          <p:cNvSpPr/>
          <p:nvPr/>
        </p:nvSpPr>
        <p:spPr>
          <a:xfrm>
            <a:off x="4919760" y="3203640"/>
            <a:ext cx="1050840" cy="898560"/>
          </a:xfrm>
          <a:custGeom>
            <a:avLst/>
            <a:gdLst>
              <a:gd name="textAreaLeft" fmla="*/ 0 w 1050840"/>
              <a:gd name="textAreaRight" fmla="*/ 1051200 w 1050840"/>
              <a:gd name="textAreaTop" fmla="*/ 0 h 898560"/>
              <a:gd name="textAreaBottom" fmla="*/ 898920 h 898560"/>
            </a:gdLst>
            <a:ahLst/>
            <a:rect l="textAreaLeft" t="textAreaTop" r="textAreaRight" b="textAreaBottom"/>
            <a:pathLst>
              <a:path w="1341" h="1224">
                <a:moveTo>
                  <a:pt x="173" y="996"/>
                </a:moveTo>
                <a:lnTo>
                  <a:pt x="155" y="427"/>
                </a:lnTo>
                <a:lnTo>
                  <a:pt x="161" y="420"/>
                </a:lnTo>
                <a:lnTo>
                  <a:pt x="165" y="413"/>
                </a:lnTo>
                <a:lnTo>
                  <a:pt x="166" y="406"/>
                </a:lnTo>
                <a:lnTo>
                  <a:pt x="166" y="403"/>
                </a:lnTo>
                <a:lnTo>
                  <a:pt x="166" y="400"/>
                </a:lnTo>
                <a:lnTo>
                  <a:pt x="154" y="391"/>
                </a:lnTo>
                <a:lnTo>
                  <a:pt x="144" y="388"/>
                </a:lnTo>
                <a:lnTo>
                  <a:pt x="132" y="386"/>
                </a:lnTo>
                <a:lnTo>
                  <a:pt x="125" y="382"/>
                </a:lnTo>
                <a:lnTo>
                  <a:pt x="115" y="374"/>
                </a:lnTo>
                <a:lnTo>
                  <a:pt x="113" y="360"/>
                </a:lnTo>
                <a:lnTo>
                  <a:pt x="115" y="351"/>
                </a:lnTo>
                <a:lnTo>
                  <a:pt x="116" y="343"/>
                </a:lnTo>
                <a:lnTo>
                  <a:pt x="114" y="334"/>
                </a:lnTo>
                <a:lnTo>
                  <a:pt x="114" y="330"/>
                </a:lnTo>
                <a:lnTo>
                  <a:pt x="98" y="328"/>
                </a:lnTo>
                <a:lnTo>
                  <a:pt x="86" y="318"/>
                </a:lnTo>
                <a:lnTo>
                  <a:pt x="81" y="313"/>
                </a:lnTo>
                <a:lnTo>
                  <a:pt x="63" y="306"/>
                </a:lnTo>
                <a:lnTo>
                  <a:pt x="63" y="298"/>
                </a:lnTo>
                <a:lnTo>
                  <a:pt x="75" y="294"/>
                </a:lnTo>
                <a:lnTo>
                  <a:pt x="78" y="291"/>
                </a:lnTo>
                <a:lnTo>
                  <a:pt x="83" y="288"/>
                </a:lnTo>
                <a:lnTo>
                  <a:pt x="90" y="282"/>
                </a:lnTo>
                <a:lnTo>
                  <a:pt x="98" y="274"/>
                </a:lnTo>
                <a:lnTo>
                  <a:pt x="100" y="270"/>
                </a:lnTo>
                <a:lnTo>
                  <a:pt x="92" y="264"/>
                </a:lnTo>
                <a:lnTo>
                  <a:pt x="90" y="257"/>
                </a:lnTo>
                <a:lnTo>
                  <a:pt x="90" y="250"/>
                </a:lnTo>
                <a:lnTo>
                  <a:pt x="90" y="245"/>
                </a:lnTo>
                <a:lnTo>
                  <a:pt x="78" y="238"/>
                </a:lnTo>
                <a:lnTo>
                  <a:pt x="60" y="235"/>
                </a:lnTo>
                <a:lnTo>
                  <a:pt x="52" y="230"/>
                </a:lnTo>
                <a:lnTo>
                  <a:pt x="44" y="229"/>
                </a:lnTo>
                <a:lnTo>
                  <a:pt x="40" y="214"/>
                </a:lnTo>
                <a:lnTo>
                  <a:pt x="31" y="184"/>
                </a:lnTo>
                <a:lnTo>
                  <a:pt x="24" y="155"/>
                </a:lnTo>
                <a:lnTo>
                  <a:pt x="20" y="130"/>
                </a:lnTo>
                <a:lnTo>
                  <a:pt x="20" y="117"/>
                </a:lnTo>
                <a:lnTo>
                  <a:pt x="23" y="95"/>
                </a:lnTo>
                <a:lnTo>
                  <a:pt x="18" y="62"/>
                </a:lnTo>
                <a:lnTo>
                  <a:pt x="14" y="40"/>
                </a:lnTo>
                <a:lnTo>
                  <a:pt x="6" y="17"/>
                </a:lnTo>
                <a:lnTo>
                  <a:pt x="5" y="11"/>
                </a:lnTo>
                <a:lnTo>
                  <a:pt x="0" y="3"/>
                </a:lnTo>
                <a:lnTo>
                  <a:pt x="165" y="4"/>
                </a:lnTo>
                <a:lnTo>
                  <a:pt x="701" y="0"/>
                </a:lnTo>
                <a:lnTo>
                  <a:pt x="716" y="0"/>
                </a:lnTo>
                <a:lnTo>
                  <a:pt x="736" y="10"/>
                </a:lnTo>
                <a:lnTo>
                  <a:pt x="743" y="23"/>
                </a:lnTo>
                <a:lnTo>
                  <a:pt x="760" y="44"/>
                </a:lnTo>
                <a:lnTo>
                  <a:pt x="769" y="57"/>
                </a:lnTo>
                <a:lnTo>
                  <a:pt x="781" y="70"/>
                </a:lnTo>
                <a:lnTo>
                  <a:pt x="796" y="97"/>
                </a:lnTo>
                <a:lnTo>
                  <a:pt x="805" y="115"/>
                </a:lnTo>
                <a:lnTo>
                  <a:pt x="804" y="137"/>
                </a:lnTo>
                <a:lnTo>
                  <a:pt x="804" y="146"/>
                </a:lnTo>
                <a:lnTo>
                  <a:pt x="806" y="167"/>
                </a:lnTo>
                <a:lnTo>
                  <a:pt x="815" y="185"/>
                </a:lnTo>
                <a:lnTo>
                  <a:pt x="829" y="191"/>
                </a:lnTo>
                <a:lnTo>
                  <a:pt x="843" y="205"/>
                </a:lnTo>
                <a:lnTo>
                  <a:pt x="847" y="221"/>
                </a:lnTo>
                <a:lnTo>
                  <a:pt x="855" y="239"/>
                </a:lnTo>
                <a:lnTo>
                  <a:pt x="865" y="250"/>
                </a:lnTo>
                <a:lnTo>
                  <a:pt x="885" y="281"/>
                </a:lnTo>
                <a:lnTo>
                  <a:pt x="909" y="290"/>
                </a:lnTo>
                <a:lnTo>
                  <a:pt x="926" y="305"/>
                </a:lnTo>
                <a:lnTo>
                  <a:pt x="939" y="336"/>
                </a:lnTo>
                <a:lnTo>
                  <a:pt x="939" y="368"/>
                </a:lnTo>
                <a:lnTo>
                  <a:pt x="950" y="400"/>
                </a:lnTo>
                <a:lnTo>
                  <a:pt x="971" y="426"/>
                </a:lnTo>
                <a:lnTo>
                  <a:pt x="987" y="434"/>
                </a:lnTo>
                <a:lnTo>
                  <a:pt x="1001" y="423"/>
                </a:lnTo>
                <a:lnTo>
                  <a:pt x="1004" y="405"/>
                </a:lnTo>
                <a:lnTo>
                  <a:pt x="1024" y="402"/>
                </a:lnTo>
                <a:lnTo>
                  <a:pt x="1046" y="403"/>
                </a:lnTo>
                <a:lnTo>
                  <a:pt x="1077" y="450"/>
                </a:lnTo>
                <a:lnTo>
                  <a:pt x="1097" y="480"/>
                </a:lnTo>
                <a:lnTo>
                  <a:pt x="1082" y="501"/>
                </a:lnTo>
                <a:lnTo>
                  <a:pt x="1078" y="518"/>
                </a:lnTo>
                <a:lnTo>
                  <a:pt x="1071" y="547"/>
                </a:lnTo>
                <a:lnTo>
                  <a:pt x="1063" y="575"/>
                </a:lnTo>
                <a:lnTo>
                  <a:pt x="1044" y="591"/>
                </a:lnTo>
                <a:lnTo>
                  <a:pt x="1044" y="623"/>
                </a:lnTo>
                <a:lnTo>
                  <a:pt x="1071" y="645"/>
                </a:lnTo>
                <a:lnTo>
                  <a:pt x="1097" y="661"/>
                </a:lnTo>
                <a:lnTo>
                  <a:pt x="1153" y="698"/>
                </a:lnTo>
                <a:lnTo>
                  <a:pt x="1185" y="720"/>
                </a:lnTo>
                <a:lnTo>
                  <a:pt x="1196" y="741"/>
                </a:lnTo>
                <a:lnTo>
                  <a:pt x="1196" y="766"/>
                </a:lnTo>
                <a:lnTo>
                  <a:pt x="1212" y="783"/>
                </a:lnTo>
                <a:lnTo>
                  <a:pt x="1227" y="792"/>
                </a:lnTo>
                <a:lnTo>
                  <a:pt x="1245" y="812"/>
                </a:lnTo>
                <a:lnTo>
                  <a:pt x="1260" y="842"/>
                </a:lnTo>
                <a:lnTo>
                  <a:pt x="1258" y="855"/>
                </a:lnTo>
                <a:lnTo>
                  <a:pt x="1247" y="873"/>
                </a:lnTo>
                <a:lnTo>
                  <a:pt x="1247" y="882"/>
                </a:lnTo>
                <a:lnTo>
                  <a:pt x="1261" y="898"/>
                </a:lnTo>
                <a:lnTo>
                  <a:pt x="1275" y="912"/>
                </a:lnTo>
                <a:lnTo>
                  <a:pt x="1290" y="925"/>
                </a:lnTo>
                <a:lnTo>
                  <a:pt x="1294" y="932"/>
                </a:lnTo>
                <a:lnTo>
                  <a:pt x="1304" y="927"/>
                </a:lnTo>
                <a:lnTo>
                  <a:pt x="1307" y="913"/>
                </a:lnTo>
                <a:lnTo>
                  <a:pt x="1322" y="916"/>
                </a:lnTo>
                <a:lnTo>
                  <a:pt x="1335" y="948"/>
                </a:lnTo>
                <a:lnTo>
                  <a:pt x="1340" y="969"/>
                </a:lnTo>
                <a:lnTo>
                  <a:pt x="1341" y="980"/>
                </a:lnTo>
                <a:lnTo>
                  <a:pt x="1323" y="996"/>
                </a:lnTo>
                <a:lnTo>
                  <a:pt x="1323" y="1016"/>
                </a:lnTo>
                <a:lnTo>
                  <a:pt x="1321" y="1031"/>
                </a:lnTo>
                <a:lnTo>
                  <a:pt x="1314" y="1034"/>
                </a:lnTo>
                <a:lnTo>
                  <a:pt x="1295" y="1040"/>
                </a:lnTo>
                <a:lnTo>
                  <a:pt x="1274" y="1048"/>
                </a:lnTo>
                <a:lnTo>
                  <a:pt x="1269" y="1054"/>
                </a:lnTo>
                <a:lnTo>
                  <a:pt x="1243" y="1057"/>
                </a:lnTo>
                <a:lnTo>
                  <a:pt x="1241" y="1065"/>
                </a:lnTo>
                <a:lnTo>
                  <a:pt x="1241" y="1088"/>
                </a:lnTo>
                <a:lnTo>
                  <a:pt x="1249" y="1118"/>
                </a:lnTo>
                <a:lnTo>
                  <a:pt x="1249" y="1133"/>
                </a:lnTo>
                <a:lnTo>
                  <a:pt x="1228" y="1146"/>
                </a:lnTo>
                <a:lnTo>
                  <a:pt x="1215" y="1158"/>
                </a:lnTo>
                <a:lnTo>
                  <a:pt x="1211" y="1181"/>
                </a:lnTo>
                <a:lnTo>
                  <a:pt x="1211" y="1196"/>
                </a:lnTo>
                <a:lnTo>
                  <a:pt x="1208" y="1205"/>
                </a:lnTo>
                <a:lnTo>
                  <a:pt x="1208" y="1216"/>
                </a:lnTo>
                <a:lnTo>
                  <a:pt x="1118" y="1221"/>
                </a:lnTo>
                <a:lnTo>
                  <a:pt x="1092" y="1224"/>
                </a:lnTo>
                <a:lnTo>
                  <a:pt x="1099" y="1181"/>
                </a:lnTo>
                <a:lnTo>
                  <a:pt x="1109" y="1152"/>
                </a:lnTo>
                <a:lnTo>
                  <a:pt x="1123" y="1126"/>
                </a:lnTo>
                <a:lnTo>
                  <a:pt x="1132" y="1111"/>
                </a:lnTo>
                <a:lnTo>
                  <a:pt x="1131" y="1094"/>
                </a:lnTo>
                <a:lnTo>
                  <a:pt x="1123" y="1082"/>
                </a:lnTo>
                <a:lnTo>
                  <a:pt x="1123" y="1071"/>
                </a:lnTo>
                <a:lnTo>
                  <a:pt x="178" y="1087"/>
                </a:lnTo>
                <a:lnTo>
                  <a:pt x="174" y="1002"/>
                </a:lnTo>
                <a:lnTo>
                  <a:pt x="173" y="996"/>
                </a:lnTo>
              </a:path>
            </a:pathLst>
          </a:custGeom>
          <a:solidFill>
            <a:srgbClr val="ff66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Freeform 25"/>
          <p:cNvSpPr/>
          <p:nvPr/>
        </p:nvSpPr>
        <p:spPr>
          <a:xfrm>
            <a:off x="3862440" y="3327480"/>
            <a:ext cx="1192320" cy="608040"/>
          </a:xfrm>
          <a:custGeom>
            <a:avLst/>
            <a:gdLst>
              <a:gd name="textAreaLeft" fmla="*/ 0 w 1192320"/>
              <a:gd name="textAreaRight" fmla="*/ 1192680 w 11923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1521" h="829">
                <a:moveTo>
                  <a:pt x="0" y="794"/>
                </a:moveTo>
                <a:lnTo>
                  <a:pt x="39" y="0"/>
                </a:lnTo>
                <a:lnTo>
                  <a:pt x="410" y="9"/>
                </a:lnTo>
                <a:lnTo>
                  <a:pt x="845" y="18"/>
                </a:lnTo>
                <a:lnTo>
                  <a:pt x="1379" y="21"/>
                </a:lnTo>
                <a:lnTo>
                  <a:pt x="1389" y="53"/>
                </a:lnTo>
                <a:lnTo>
                  <a:pt x="1393" y="63"/>
                </a:lnTo>
                <a:lnTo>
                  <a:pt x="1408" y="68"/>
                </a:lnTo>
                <a:lnTo>
                  <a:pt x="1420" y="71"/>
                </a:lnTo>
                <a:lnTo>
                  <a:pt x="1431" y="74"/>
                </a:lnTo>
                <a:lnTo>
                  <a:pt x="1438" y="80"/>
                </a:lnTo>
                <a:lnTo>
                  <a:pt x="1438" y="86"/>
                </a:lnTo>
                <a:lnTo>
                  <a:pt x="1440" y="91"/>
                </a:lnTo>
                <a:lnTo>
                  <a:pt x="1447" y="103"/>
                </a:lnTo>
                <a:lnTo>
                  <a:pt x="1439" y="114"/>
                </a:lnTo>
                <a:lnTo>
                  <a:pt x="1434" y="115"/>
                </a:lnTo>
                <a:lnTo>
                  <a:pt x="1426" y="124"/>
                </a:lnTo>
                <a:lnTo>
                  <a:pt x="1411" y="133"/>
                </a:lnTo>
                <a:lnTo>
                  <a:pt x="1419" y="143"/>
                </a:lnTo>
                <a:lnTo>
                  <a:pt x="1429" y="147"/>
                </a:lnTo>
                <a:lnTo>
                  <a:pt x="1434" y="150"/>
                </a:lnTo>
                <a:lnTo>
                  <a:pt x="1446" y="159"/>
                </a:lnTo>
                <a:lnTo>
                  <a:pt x="1460" y="165"/>
                </a:lnTo>
                <a:lnTo>
                  <a:pt x="1465" y="178"/>
                </a:lnTo>
                <a:lnTo>
                  <a:pt x="1461" y="184"/>
                </a:lnTo>
                <a:lnTo>
                  <a:pt x="1461" y="195"/>
                </a:lnTo>
                <a:lnTo>
                  <a:pt x="1463" y="207"/>
                </a:lnTo>
                <a:lnTo>
                  <a:pt x="1473" y="216"/>
                </a:lnTo>
                <a:lnTo>
                  <a:pt x="1490" y="221"/>
                </a:lnTo>
                <a:lnTo>
                  <a:pt x="1502" y="224"/>
                </a:lnTo>
                <a:lnTo>
                  <a:pt x="1514" y="233"/>
                </a:lnTo>
                <a:lnTo>
                  <a:pt x="1514" y="244"/>
                </a:lnTo>
                <a:lnTo>
                  <a:pt x="1509" y="250"/>
                </a:lnTo>
                <a:lnTo>
                  <a:pt x="1503" y="257"/>
                </a:lnTo>
                <a:lnTo>
                  <a:pt x="1521" y="829"/>
                </a:lnTo>
                <a:lnTo>
                  <a:pt x="901" y="813"/>
                </a:lnTo>
                <a:lnTo>
                  <a:pt x="432" y="800"/>
                </a:lnTo>
                <a:lnTo>
                  <a:pt x="51" y="792"/>
                </a:lnTo>
                <a:lnTo>
                  <a:pt x="0" y="794"/>
                </a:lnTo>
              </a:path>
            </a:pathLst>
          </a:custGeom>
          <a:solidFill>
            <a:srgbClr val="ff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Freeform 26"/>
          <p:cNvSpPr/>
          <p:nvPr/>
        </p:nvSpPr>
        <p:spPr>
          <a:xfrm>
            <a:off x="5059440" y="3989520"/>
            <a:ext cx="819000" cy="718920"/>
          </a:xfrm>
          <a:custGeom>
            <a:avLst/>
            <a:gdLst>
              <a:gd name="textAreaLeft" fmla="*/ 0 w 819000"/>
              <a:gd name="textAreaRight" fmla="*/ 819360 w 819000"/>
              <a:gd name="textAreaTop" fmla="*/ 0 h 718920"/>
              <a:gd name="textAreaBottom" fmla="*/ 719280 h 718920"/>
            </a:gdLst>
            <a:ahLst/>
            <a:rect l="textAreaLeft" t="textAreaTop" r="textAreaRight" b="textAreaBottom"/>
            <a:pathLst>
              <a:path w="1044" h="982">
                <a:moveTo>
                  <a:pt x="0" y="17"/>
                </a:moveTo>
                <a:lnTo>
                  <a:pt x="681" y="2"/>
                </a:lnTo>
                <a:lnTo>
                  <a:pt x="945" y="0"/>
                </a:lnTo>
                <a:lnTo>
                  <a:pt x="945" y="13"/>
                </a:lnTo>
                <a:lnTo>
                  <a:pt x="952" y="21"/>
                </a:lnTo>
                <a:lnTo>
                  <a:pt x="953" y="30"/>
                </a:lnTo>
                <a:lnTo>
                  <a:pt x="954" y="40"/>
                </a:lnTo>
                <a:lnTo>
                  <a:pt x="953" y="50"/>
                </a:lnTo>
                <a:lnTo>
                  <a:pt x="945" y="58"/>
                </a:lnTo>
                <a:lnTo>
                  <a:pt x="934" y="73"/>
                </a:lnTo>
                <a:lnTo>
                  <a:pt x="925" y="93"/>
                </a:lnTo>
                <a:lnTo>
                  <a:pt x="921" y="114"/>
                </a:lnTo>
                <a:lnTo>
                  <a:pt x="916" y="133"/>
                </a:lnTo>
                <a:lnTo>
                  <a:pt x="914" y="150"/>
                </a:lnTo>
                <a:lnTo>
                  <a:pt x="925" y="153"/>
                </a:lnTo>
                <a:lnTo>
                  <a:pt x="945" y="150"/>
                </a:lnTo>
                <a:lnTo>
                  <a:pt x="970" y="150"/>
                </a:lnTo>
                <a:lnTo>
                  <a:pt x="1027" y="145"/>
                </a:lnTo>
                <a:lnTo>
                  <a:pt x="1031" y="150"/>
                </a:lnTo>
                <a:lnTo>
                  <a:pt x="1038" y="160"/>
                </a:lnTo>
                <a:lnTo>
                  <a:pt x="1044" y="168"/>
                </a:lnTo>
                <a:lnTo>
                  <a:pt x="1043" y="179"/>
                </a:lnTo>
                <a:lnTo>
                  <a:pt x="1026" y="182"/>
                </a:lnTo>
                <a:lnTo>
                  <a:pt x="1018" y="186"/>
                </a:lnTo>
                <a:lnTo>
                  <a:pt x="1014" y="190"/>
                </a:lnTo>
                <a:lnTo>
                  <a:pt x="1014" y="209"/>
                </a:lnTo>
                <a:lnTo>
                  <a:pt x="1011" y="224"/>
                </a:lnTo>
                <a:lnTo>
                  <a:pt x="999" y="235"/>
                </a:lnTo>
                <a:lnTo>
                  <a:pt x="986" y="247"/>
                </a:lnTo>
                <a:lnTo>
                  <a:pt x="977" y="255"/>
                </a:lnTo>
                <a:lnTo>
                  <a:pt x="968" y="272"/>
                </a:lnTo>
                <a:lnTo>
                  <a:pt x="953" y="288"/>
                </a:lnTo>
                <a:lnTo>
                  <a:pt x="954" y="308"/>
                </a:lnTo>
                <a:lnTo>
                  <a:pt x="968" y="329"/>
                </a:lnTo>
                <a:lnTo>
                  <a:pt x="974" y="342"/>
                </a:lnTo>
                <a:lnTo>
                  <a:pt x="985" y="360"/>
                </a:lnTo>
                <a:lnTo>
                  <a:pt x="986" y="390"/>
                </a:lnTo>
                <a:lnTo>
                  <a:pt x="970" y="400"/>
                </a:lnTo>
                <a:lnTo>
                  <a:pt x="950" y="409"/>
                </a:lnTo>
                <a:lnTo>
                  <a:pt x="940" y="432"/>
                </a:lnTo>
                <a:lnTo>
                  <a:pt x="921" y="434"/>
                </a:lnTo>
                <a:lnTo>
                  <a:pt x="914" y="454"/>
                </a:lnTo>
                <a:lnTo>
                  <a:pt x="910" y="469"/>
                </a:lnTo>
                <a:lnTo>
                  <a:pt x="906" y="493"/>
                </a:lnTo>
                <a:lnTo>
                  <a:pt x="915" y="513"/>
                </a:lnTo>
                <a:lnTo>
                  <a:pt x="917" y="529"/>
                </a:lnTo>
                <a:lnTo>
                  <a:pt x="900" y="547"/>
                </a:lnTo>
                <a:lnTo>
                  <a:pt x="881" y="557"/>
                </a:lnTo>
                <a:lnTo>
                  <a:pt x="864" y="559"/>
                </a:lnTo>
                <a:lnTo>
                  <a:pt x="863" y="572"/>
                </a:lnTo>
                <a:lnTo>
                  <a:pt x="863" y="584"/>
                </a:lnTo>
                <a:lnTo>
                  <a:pt x="854" y="599"/>
                </a:lnTo>
                <a:lnTo>
                  <a:pt x="837" y="606"/>
                </a:lnTo>
                <a:lnTo>
                  <a:pt x="824" y="618"/>
                </a:lnTo>
                <a:lnTo>
                  <a:pt x="821" y="634"/>
                </a:lnTo>
                <a:lnTo>
                  <a:pt x="847" y="642"/>
                </a:lnTo>
                <a:lnTo>
                  <a:pt x="861" y="663"/>
                </a:lnTo>
                <a:lnTo>
                  <a:pt x="853" y="686"/>
                </a:lnTo>
                <a:lnTo>
                  <a:pt x="825" y="697"/>
                </a:lnTo>
                <a:lnTo>
                  <a:pt x="788" y="706"/>
                </a:lnTo>
                <a:lnTo>
                  <a:pt x="779" y="732"/>
                </a:lnTo>
                <a:lnTo>
                  <a:pt x="788" y="744"/>
                </a:lnTo>
                <a:lnTo>
                  <a:pt x="787" y="778"/>
                </a:lnTo>
                <a:lnTo>
                  <a:pt x="772" y="789"/>
                </a:lnTo>
                <a:lnTo>
                  <a:pt x="750" y="794"/>
                </a:lnTo>
                <a:lnTo>
                  <a:pt x="742" y="812"/>
                </a:lnTo>
                <a:lnTo>
                  <a:pt x="742" y="828"/>
                </a:lnTo>
                <a:lnTo>
                  <a:pt x="755" y="833"/>
                </a:lnTo>
                <a:lnTo>
                  <a:pt x="778" y="825"/>
                </a:lnTo>
                <a:lnTo>
                  <a:pt x="800" y="819"/>
                </a:lnTo>
                <a:lnTo>
                  <a:pt x="798" y="845"/>
                </a:lnTo>
                <a:lnTo>
                  <a:pt x="773" y="857"/>
                </a:lnTo>
                <a:lnTo>
                  <a:pt x="758" y="868"/>
                </a:lnTo>
                <a:lnTo>
                  <a:pt x="758" y="878"/>
                </a:lnTo>
                <a:lnTo>
                  <a:pt x="776" y="878"/>
                </a:lnTo>
                <a:lnTo>
                  <a:pt x="785" y="878"/>
                </a:lnTo>
                <a:lnTo>
                  <a:pt x="788" y="893"/>
                </a:lnTo>
                <a:lnTo>
                  <a:pt x="779" y="905"/>
                </a:lnTo>
                <a:lnTo>
                  <a:pt x="768" y="913"/>
                </a:lnTo>
                <a:lnTo>
                  <a:pt x="765" y="925"/>
                </a:lnTo>
                <a:lnTo>
                  <a:pt x="778" y="934"/>
                </a:lnTo>
                <a:lnTo>
                  <a:pt x="778" y="947"/>
                </a:lnTo>
                <a:lnTo>
                  <a:pt x="768" y="949"/>
                </a:lnTo>
                <a:lnTo>
                  <a:pt x="760" y="949"/>
                </a:lnTo>
                <a:lnTo>
                  <a:pt x="757" y="949"/>
                </a:lnTo>
                <a:lnTo>
                  <a:pt x="754" y="951"/>
                </a:lnTo>
                <a:lnTo>
                  <a:pt x="754" y="962"/>
                </a:lnTo>
                <a:lnTo>
                  <a:pt x="752" y="968"/>
                </a:lnTo>
                <a:lnTo>
                  <a:pt x="155" y="982"/>
                </a:lnTo>
                <a:lnTo>
                  <a:pt x="148" y="826"/>
                </a:lnTo>
                <a:lnTo>
                  <a:pt x="142" y="825"/>
                </a:lnTo>
                <a:lnTo>
                  <a:pt x="129" y="826"/>
                </a:lnTo>
                <a:lnTo>
                  <a:pt x="121" y="826"/>
                </a:lnTo>
                <a:lnTo>
                  <a:pt x="108" y="825"/>
                </a:lnTo>
                <a:lnTo>
                  <a:pt x="102" y="823"/>
                </a:lnTo>
                <a:lnTo>
                  <a:pt x="87" y="819"/>
                </a:lnTo>
                <a:lnTo>
                  <a:pt x="70" y="210"/>
                </a:lnTo>
                <a:lnTo>
                  <a:pt x="0" y="17"/>
                </a:lnTo>
              </a:path>
            </a:pathLst>
          </a:custGeom>
          <a:solidFill>
            <a:srgbClr val="ffcc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Freeform 27"/>
          <p:cNvSpPr/>
          <p:nvPr/>
        </p:nvSpPr>
        <p:spPr>
          <a:xfrm>
            <a:off x="5180040" y="4699080"/>
            <a:ext cx="936720" cy="750960"/>
          </a:xfrm>
          <a:custGeom>
            <a:avLst/>
            <a:gdLst>
              <a:gd name="textAreaLeft" fmla="*/ 0 w 936720"/>
              <a:gd name="textAreaRight" fmla="*/ 937080 w 936720"/>
              <a:gd name="textAreaTop" fmla="*/ 0 h 750960"/>
              <a:gd name="textAreaBottom" fmla="*/ 751320 h 750960"/>
            </a:gdLst>
            <a:ahLst/>
            <a:rect l="textAreaLeft" t="textAreaTop" r="textAreaRight" b="textAreaBottom"/>
            <a:pathLst>
              <a:path w="1193" h="1025">
                <a:moveTo>
                  <a:pt x="69" y="852"/>
                </a:moveTo>
                <a:lnTo>
                  <a:pt x="77" y="834"/>
                </a:lnTo>
                <a:lnTo>
                  <a:pt x="83" y="824"/>
                </a:lnTo>
                <a:lnTo>
                  <a:pt x="83" y="820"/>
                </a:lnTo>
                <a:lnTo>
                  <a:pt x="73" y="797"/>
                </a:lnTo>
                <a:lnTo>
                  <a:pt x="73" y="786"/>
                </a:lnTo>
                <a:lnTo>
                  <a:pt x="73" y="773"/>
                </a:lnTo>
                <a:lnTo>
                  <a:pt x="73" y="756"/>
                </a:lnTo>
                <a:lnTo>
                  <a:pt x="81" y="740"/>
                </a:lnTo>
                <a:lnTo>
                  <a:pt x="86" y="722"/>
                </a:lnTo>
                <a:lnTo>
                  <a:pt x="87" y="708"/>
                </a:lnTo>
                <a:lnTo>
                  <a:pt x="88" y="703"/>
                </a:lnTo>
                <a:lnTo>
                  <a:pt x="81" y="683"/>
                </a:lnTo>
                <a:lnTo>
                  <a:pt x="72" y="668"/>
                </a:lnTo>
                <a:lnTo>
                  <a:pt x="71" y="653"/>
                </a:lnTo>
                <a:lnTo>
                  <a:pt x="71" y="638"/>
                </a:lnTo>
                <a:lnTo>
                  <a:pt x="71" y="632"/>
                </a:lnTo>
                <a:lnTo>
                  <a:pt x="77" y="617"/>
                </a:lnTo>
                <a:lnTo>
                  <a:pt x="87" y="605"/>
                </a:lnTo>
                <a:lnTo>
                  <a:pt x="90" y="587"/>
                </a:lnTo>
                <a:lnTo>
                  <a:pt x="100" y="567"/>
                </a:lnTo>
                <a:lnTo>
                  <a:pt x="102" y="552"/>
                </a:lnTo>
                <a:lnTo>
                  <a:pt x="102" y="536"/>
                </a:lnTo>
                <a:lnTo>
                  <a:pt x="101" y="530"/>
                </a:lnTo>
                <a:lnTo>
                  <a:pt x="96" y="521"/>
                </a:lnTo>
                <a:lnTo>
                  <a:pt x="85" y="507"/>
                </a:lnTo>
                <a:lnTo>
                  <a:pt x="81" y="495"/>
                </a:lnTo>
                <a:lnTo>
                  <a:pt x="77" y="490"/>
                </a:lnTo>
                <a:lnTo>
                  <a:pt x="83" y="486"/>
                </a:lnTo>
                <a:lnTo>
                  <a:pt x="86" y="476"/>
                </a:lnTo>
                <a:lnTo>
                  <a:pt x="91" y="472"/>
                </a:lnTo>
                <a:lnTo>
                  <a:pt x="90" y="463"/>
                </a:lnTo>
                <a:lnTo>
                  <a:pt x="84" y="442"/>
                </a:lnTo>
                <a:lnTo>
                  <a:pt x="64" y="420"/>
                </a:lnTo>
                <a:lnTo>
                  <a:pt x="49" y="407"/>
                </a:lnTo>
                <a:lnTo>
                  <a:pt x="18" y="377"/>
                </a:lnTo>
                <a:lnTo>
                  <a:pt x="0" y="15"/>
                </a:lnTo>
                <a:lnTo>
                  <a:pt x="526" y="1"/>
                </a:lnTo>
                <a:lnTo>
                  <a:pt x="600" y="0"/>
                </a:lnTo>
                <a:lnTo>
                  <a:pt x="600" y="9"/>
                </a:lnTo>
                <a:lnTo>
                  <a:pt x="608" y="18"/>
                </a:lnTo>
                <a:lnTo>
                  <a:pt x="616" y="31"/>
                </a:lnTo>
                <a:lnTo>
                  <a:pt x="619" y="41"/>
                </a:lnTo>
                <a:lnTo>
                  <a:pt x="608" y="53"/>
                </a:lnTo>
                <a:lnTo>
                  <a:pt x="603" y="62"/>
                </a:lnTo>
                <a:lnTo>
                  <a:pt x="610" y="75"/>
                </a:lnTo>
                <a:lnTo>
                  <a:pt x="641" y="78"/>
                </a:lnTo>
                <a:lnTo>
                  <a:pt x="641" y="92"/>
                </a:lnTo>
                <a:lnTo>
                  <a:pt x="626" y="101"/>
                </a:lnTo>
                <a:lnTo>
                  <a:pt x="612" y="120"/>
                </a:lnTo>
                <a:lnTo>
                  <a:pt x="614" y="140"/>
                </a:lnTo>
                <a:lnTo>
                  <a:pt x="639" y="169"/>
                </a:lnTo>
                <a:lnTo>
                  <a:pt x="686" y="181"/>
                </a:lnTo>
                <a:lnTo>
                  <a:pt x="686" y="193"/>
                </a:lnTo>
                <a:lnTo>
                  <a:pt x="670" y="218"/>
                </a:lnTo>
                <a:lnTo>
                  <a:pt x="644" y="245"/>
                </a:lnTo>
                <a:lnTo>
                  <a:pt x="608" y="242"/>
                </a:lnTo>
                <a:lnTo>
                  <a:pt x="600" y="257"/>
                </a:lnTo>
                <a:lnTo>
                  <a:pt x="630" y="271"/>
                </a:lnTo>
                <a:lnTo>
                  <a:pt x="650" y="291"/>
                </a:lnTo>
                <a:lnTo>
                  <a:pt x="645" y="305"/>
                </a:lnTo>
                <a:lnTo>
                  <a:pt x="639" y="314"/>
                </a:lnTo>
                <a:lnTo>
                  <a:pt x="642" y="333"/>
                </a:lnTo>
                <a:lnTo>
                  <a:pt x="639" y="346"/>
                </a:lnTo>
                <a:lnTo>
                  <a:pt x="617" y="359"/>
                </a:lnTo>
                <a:lnTo>
                  <a:pt x="614" y="384"/>
                </a:lnTo>
                <a:lnTo>
                  <a:pt x="607" y="403"/>
                </a:lnTo>
                <a:lnTo>
                  <a:pt x="616" y="420"/>
                </a:lnTo>
                <a:lnTo>
                  <a:pt x="593" y="443"/>
                </a:lnTo>
                <a:lnTo>
                  <a:pt x="601" y="462"/>
                </a:lnTo>
                <a:lnTo>
                  <a:pt x="604" y="476"/>
                </a:lnTo>
                <a:lnTo>
                  <a:pt x="612" y="487"/>
                </a:lnTo>
                <a:lnTo>
                  <a:pt x="611" y="502"/>
                </a:lnTo>
                <a:lnTo>
                  <a:pt x="604" y="517"/>
                </a:lnTo>
                <a:lnTo>
                  <a:pt x="592" y="521"/>
                </a:lnTo>
                <a:lnTo>
                  <a:pt x="589" y="538"/>
                </a:lnTo>
                <a:lnTo>
                  <a:pt x="595" y="549"/>
                </a:lnTo>
                <a:lnTo>
                  <a:pt x="581" y="559"/>
                </a:lnTo>
                <a:lnTo>
                  <a:pt x="564" y="574"/>
                </a:lnTo>
                <a:lnTo>
                  <a:pt x="940" y="564"/>
                </a:lnTo>
                <a:lnTo>
                  <a:pt x="940" y="577"/>
                </a:lnTo>
                <a:lnTo>
                  <a:pt x="944" y="600"/>
                </a:lnTo>
                <a:lnTo>
                  <a:pt x="959" y="614"/>
                </a:lnTo>
                <a:lnTo>
                  <a:pt x="985" y="638"/>
                </a:lnTo>
                <a:lnTo>
                  <a:pt x="1009" y="651"/>
                </a:lnTo>
                <a:lnTo>
                  <a:pt x="1035" y="663"/>
                </a:lnTo>
                <a:lnTo>
                  <a:pt x="982" y="675"/>
                </a:lnTo>
                <a:lnTo>
                  <a:pt x="950" y="689"/>
                </a:lnTo>
                <a:lnTo>
                  <a:pt x="919" y="680"/>
                </a:lnTo>
                <a:lnTo>
                  <a:pt x="921" y="663"/>
                </a:lnTo>
                <a:lnTo>
                  <a:pt x="960" y="652"/>
                </a:lnTo>
                <a:lnTo>
                  <a:pt x="911" y="639"/>
                </a:lnTo>
                <a:lnTo>
                  <a:pt x="872" y="636"/>
                </a:lnTo>
                <a:lnTo>
                  <a:pt x="831" y="616"/>
                </a:lnTo>
                <a:lnTo>
                  <a:pt x="799" y="614"/>
                </a:lnTo>
                <a:lnTo>
                  <a:pt x="782" y="638"/>
                </a:lnTo>
                <a:lnTo>
                  <a:pt x="775" y="668"/>
                </a:lnTo>
                <a:lnTo>
                  <a:pt x="798" y="689"/>
                </a:lnTo>
                <a:lnTo>
                  <a:pt x="871" y="674"/>
                </a:lnTo>
                <a:lnTo>
                  <a:pt x="905" y="669"/>
                </a:lnTo>
                <a:lnTo>
                  <a:pt x="915" y="680"/>
                </a:lnTo>
                <a:lnTo>
                  <a:pt x="915" y="690"/>
                </a:lnTo>
                <a:lnTo>
                  <a:pt x="887" y="703"/>
                </a:lnTo>
                <a:lnTo>
                  <a:pt x="880" y="714"/>
                </a:lnTo>
                <a:lnTo>
                  <a:pt x="884" y="733"/>
                </a:lnTo>
                <a:lnTo>
                  <a:pt x="948" y="737"/>
                </a:lnTo>
                <a:lnTo>
                  <a:pt x="957" y="746"/>
                </a:lnTo>
                <a:lnTo>
                  <a:pt x="989" y="746"/>
                </a:lnTo>
                <a:lnTo>
                  <a:pt x="1012" y="719"/>
                </a:lnTo>
                <a:lnTo>
                  <a:pt x="1025" y="712"/>
                </a:lnTo>
                <a:lnTo>
                  <a:pt x="1039" y="705"/>
                </a:lnTo>
                <a:lnTo>
                  <a:pt x="1044" y="697"/>
                </a:lnTo>
                <a:lnTo>
                  <a:pt x="1059" y="714"/>
                </a:lnTo>
                <a:lnTo>
                  <a:pt x="1043" y="738"/>
                </a:lnTo>
                <a:lnTo>
                  <a:pt x="1046" y="756"/>
                </a:lnTo>
                <a:lnTo>
                  <a:pt x="1067" y="772"/>
                </a:lnTo>
                <a:lnTo>
                  <a:pt x="1067" y="787"/>
                </a:lnTo>
                <a:lnTo>
                  <a:pt x="1073" y="814"/>
                </a:lnTo>
                <a:lnTo>
                  <a:pt x="1096" y="826"/>
                </a:lnTo>
                <a:lnTo>
                  <a:pt x="1122" y="842"/>
                </a:lnTo>
                <a:lnTo>
                  <a:pt x="1079" y="847"/>
                </a:lnTo>
                <a:lnTo>
                  <a:pt x="1038" y="846"/>
                </a:lnTo>
                <a:lnTo>
                  <a:pt x="993" y="848"/>
                </a:lnTo>
                <a:lnTo>
                  <a:pt x="1044" y="881"/>
                </a:lnTo>
                <a:lnTo>
                  <a:pt x="1085" y="888"/>
                </a:lnTo>
                <a:lnTo>
                  <a:pt x="1131" y="910"/>
                </a:lnTo>
                <a:lnTo>
                  <a:pt x="1154" y="927"/>
                </a:lnTo>
                <a:lnTo>
                  <a:pt x="1193" y="931"/>
                </a:lnTo>
                <a:lnTo>
                  <a:pt x="1168" y="965"/>
                </a:lnTo>
                <a:lnTo>
                  <a:pt x="1148" y="979"/>
                </a:lnTo>
                <a:lnTo>
                  <a:pt x="1094" y="1003"/>
                </a:lnTo>
                <a:lnTo>
                  <a:pt x="1073" y="980"/>
                </a:lnTo>
                <a:lnTo>
                  <a:pt x="1034" y="1023"/>
                </a:lnTo>
                <a:lnTo>
                  <a:pt x="1031" y="1011"/>
                </a:lnTo>
                <a:lnTo>
                  <a:pt x="1039" y="970"/>
                </a:lnTo>
                <a:lnTo>
                  <a:pt x="1029" y="955"/>
                </a:lnTo>
                <a:lnTo>
                  <a:pt x="987" y="948"/>
                </a:lnTo>
                <a:lnTo>
                  <a:pt x="963" y="920"/>
                </a:lnTo>
                <a:lnTo>
                  <a:pt x="945" y="893"/>
                </a:lnTo>
                <a:lnTo>
                  <a:pt x="919" y="877"/>
                </a:lnTo>
                <a:lnTo>
                  <a:pt x="897" y="867"/>
                </a:lnTo>
                <a:lnTo>
                  <a:pt x="869" y="848"/>
                </a:lnTo>
                <a:lnTo>
                  <a:pt x="820" y="790"/>
                </a:lnTo>
                <a:lnTo>
                  <a:pt x="797" y="806"/>
                </a:lnTo>
                <a:lnTo>
                  <a:pt x="771" y="805"/>
                </a:lnTo>
                <a:lnTo>
                  <a:pt x="700" y="768"/>
                </a:lnTo>
                <a:lnTo>
                  <a:pt x="710" y="794"/>
                </a:lnTo>
                <a:lnTo>
                  <a:pt x="767" y="821"/>
                </a:lnTo>
                <a:lnTo>
                  <a:pt x="805" y="824"/>
                </a:lnTo>
                <a:lnTo>
                  <a:pt x="877" y="867"/>
                </a:lnTo>
                <a:lnTo>
                  <a:pt x="897" y="902"/>
                </a:lnTo>
                <a:lnTo>
                  <a:pt x="936" y="970"/>
                </a:lnTo>
                <a:lnTo>
                  <a:pt x="906" y="973"/>
                </a:lnTo>
                <a:lnTo>
                  <a:pt x="891" y="960"/>
                </a:lnTo>
                <a:lnTo>
                  <a:pt x="889" y="1011"/>
                </a:lnTo>
                <a:lnTo>
                  <a:pt x="854" y="1025"/>
                </a:lnTo>
                <a:lnTo>
                  <a:pt x="826" y="1009"/>
                </a:lnTo>
                <a:lnTo>
                  <a:pt x="820" y="976"/>
                </a:lnTo>
                <a:lnTo>
                  <a:pt x="785" y="956"/>
                </a:lnTo>
                <a:lnTo>
                  <a:pt x="760" y="954"/>
                </a:lnTo>
                <a:lnTo>
                  <a:pt x="736" y="972"/>
                </a:lnTo>
                <a:lnTo>
                  <a:pt x="707" y="1003"/>
                </a:lnTo>
                <a:lnTo>
                  <a:pt x="657" y="993"/>
                </a:lnTo>
                <a:lnTo>
                  <a:pt x="631" y="976"/>
                </a:lnTo>
                <a:lnTo>
                  <a:pt x="608" y="943"/>
                </a:lnTo>
                <a:lnTo>
                  <a:pt x="574" y="924"/>
                </a:lnTo>
                <a:lnTo>
                  <a:pt x="532" y="916"/>
                </a:lnTo>
                <a:lnTo>
                  <a:pt x="515" y="875"/>
                </a:lnTo>
                <a:lnTo>
                  <a:pt x="493" y="847"/>
                </a:lnTo>
                <a:lnTo>
                  <a:pt x="473" y="826"/>
                </a:lnTo>
                <a:lnTo>
                  <a:pt x="467" y="794"/>
                </a:lnTo>
                <a:lnTo>
                  <a:pt x="472" y="786"/>
                </a:lnTo>
                <a:lnTo>
                  <a:pt x="480" y="772"/>
                </a:lnTo>
                <a:lnTo>
                  <a:pt x="434" y="728"/>
                </a:lnTo>
                <a:lnTo>
                  <a:pt x="401" y="682"/>
                </a:lnTo>
                <a:lnTo>
                  <a:pt x="381" y="682"/>
                </a:lnTo>
                <a:lnTo>
                  <a:pt x="351" y="655"/>
                </a:lnTo>
                <a:lnTo>
                  <a:pt x="352" y="682"/>
                </a:lnTo>
                <a:lnTo>
                  <a:pt x="384" y="703"/>
                </a:lnTo>
                <a:lnTo>
                  <a:pt x="411" y="723"/>
                </a:lnTo>
                <a:lnTo>
                  <a:pt x="427" y="759"/>
                </a:lnTo>
                <a:lnTo>
                  <a:pt x="450" y="778"/>
                </a:lnTo>
                <a:lnTo>
                  <a:pt x="454" y="797"/>
                </a:lnTo>
                <a:lnTo>
                  <a:pt x="467" y="834"/>
                </a:lnTo>
                <a:lnTo>
                  <a:pt x="467" y="847"/>
                </a:lnTo>
                <a:lnTo>
                  <a:pt x="481" y="870"/>
                </a:lnTo>
                <a:lnTo>
                  <a:pt x="468" y="887"/>
                </a:lnTo>
                <a:lnTo>
                  <a:pt x="444" y="898"/>
                </a:lnTo>
                <a:lnTo>
                  <a:pt x="416" y="865"/>
                </a:lnTo>
                <a:lnTo>
                  <a:pt x="399" y="851"/>
                </a:lnTo>
                <a:lnTo>
                  <a:pt x="376" y="835"/>
                </a:lnTo>
                <a:lnTo>
                  <a:pt x="369" y="821"/>
                </a:lnTo>
                <a:lnTo>
                  <a:pt x="369" y="806"/>
                </a:lnTo>
                <a:lnTo>
                  <a:pt x="342" y="825"/>
                </a:lnTo>
                <a:lnTo>
                  <a:pt x="322" y="806"/>
                </a:lnTo>
                <a:lnTo>
                  <a:pt x="307" y="807"/>
                </a:lnTo>
                <a:lnTo>
                  <a:pt x="313" y="835"/>
                </a:lnTo>
                <a:lnTo>
                  <a:pt x="342" y="852"/>
                </a:lnTo>
                <a:lnTo>
                  <a:pt x="344" y="863"/>
                </a:lnTo>
                <a:lnTo>
                  <a:pt x="348" y="880"/>
                </a:lnTo>
                <a:lnTo>
                  <a:pt x="293" y="878"/>
                </a:lnTo>
                <a:lnTo>
                  <a:pt x="222" y="864"/>
                </a:lnTo>
                <a:lnTo>
                  <a:pt x="183" y="839"/>
                </a:lnTo>
                <a:lnTo>
                  <a:pt x="134" y="833"/>
                </a:lnTo>
                <a:lnTo>
                  <a:pt x="101" y="840"/>
                </a:lnTo>
                <a:lnTo>
                  <a:pt x="83" y="849"/>
                </a:lnTo>
                <a:lnTo>
                  <a:pt x="69" y="852"/>
                </a:lnTo>
              </a:path>
            </a:pathLst>
          </a:custGeom>
          <a:solidFill>
            <a:srgbClr val="ff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Freeform 28"/>
          <p:cNvSpPr/>
          <p:nvPr/>
        </p:nvSpPr>
        <p:spPr>
          <a:xfrm>
            <a:off x="5457960" y="534348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54" h="54">
                <a:moveTo>
                  <a:pt x="3" y="7"/>
                </a:moveTo>
                <a:lnTo>
                  <a:pt x="0" y="12"/>
                </a:lnTo>
                <a:lnTo>
                  <a:pt x="0" y="30"/>
                </a:lnTo>
                <a:lnTo>
                  <a:pt x="10" y="38"/>
                </a:lnTo>
                <a:lnTo>
                  <a:pt x="22" y="51"/>
                </a:lnTo>
                <a:lnTo>
                  <a:pt x="35" y="54"/>
                </a:lnTo>
                <a:lnTo>
                  <a:pt x="40" y="38"/>
                </a:lnTo>
                <a:lnTo>
                  <a:pt x="44" y="30"/>
                </a:lnTo>
                <a:lnTo>
                  <a:pt x="54" y="30"/>
                </a:lnTo>
                <a:lnTo>
                  <a:pt x="54" y="18"/>
                </a:lnTo>
                <a:lnTo>
                  <a:pt x="40" y="7"/>
                </a:lnTo>
                <a:lnTo>
                  <a:pt x="24" y="0"/>
                </a:lnTo>
                <a:lnTo>
                  <a:pt x="10" y="0"/>
                </a:lnTo>
                <a:lnTo>
                  <a:pt x="3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Freeform 29"/>
          <p:cNvSpPr/>
          <p:nvPr/>
        </p:nvSpPr>
        <p:spPr>
          <a:xfrm>
            <a:off x="5286240" y="1930320"/>
            <a:ext cx="812880" cy="906480"/>
          </a:xfrm>
          <a:custGeom>
            <a:avLst/>
            <a:gdLst>
              <a:gd name="textAreaLeft" fmla="*/ 0 w 812880"/>
              <a:gd name="textAreaRight" fmla="*/ 813240 w 81288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1036" h="1236">
                <a:moveTo>
                  <a:pt x="923" y="583"/>
                </a:moveTo>
                <a:lnTo>
                  <a:pt x="919" y="558"/>
                </a:lnTo>
                <a:lnTo>
                  <a:pt x="927" y="520"/>
                </a:lnTo>
                <a:lnTo>
                  <a:pt x="930" y="483"/>
                </a:lnTo>
                <a:lnTo>
                  <a:pt x="931" y="463"/>
                </a:lnTo>
                <a:lnTo>
                  <a:pt x="937" y="451"/>
                </a:lnTo>
                <a:lnTo>
                  <a:pt x="941" y="444"/>
                </a:lnTo>
                <a:lnTo>
                  <a:pt x="943" y="438"/>
                </a:lnTo>
                <a:lnTo>
                  <a:pt x="943" y="430"/>
                </a:lnTo>
                <a:lnTo>
                  <a:pt x="926" y="425"/>
                </a:lnTo>
                <a:lnTo>
                  <a:pt x="898" y="413"/>
                </a:lnTo>
                <a:lnTo>
                  <a:pt x="897" y="397"/>
                </a:lnTo>
                <a:lnTo>
                  <a:pt x="908" y="377"/>
                </a:lnTo>
                <a:lnTo>
                  <a:pt x="919" y="368"/>
                </a:lnTo>
                <a:lnTo>
                  <a:pt x="903" y="345"/>
                </a:lnTo>
                <a:lnTo>
                  <a:pt x="880" y="346"/>
                </a:lnTo>
                <a:lnTo>
                  <a:pt x="862" y="362"/>
                </a:lnTo>
                <a:lnTo>
                  <a:pt x="857" y="364"/>
                </a:lnTo>
                <a:lnTo>
                  <a:pt x="853" y="352"/>
                </a:lnTo>
                <a:lnTo>
                  <a:pt x="852" y="338"/>
                </a:lnTo>
                <a:lnTo>
                  <a:pt x="857" y="323"/>
                </a:lnTo>
                <a:lnTo>
                  <a:pt x="857" y="311"/>
                </a:lnTo>
                <a:lnTo>
                  <a:pt x="851" y="299"/>
                </a:lnTo>
                <a:lnTo>
                  <a:pt x="835" y="283"/>
                </a:lnTo>
                <a:lnTo>
                  <a:pt x="830" y="270"/>
                </a:lnTo>
                <a:lnTo>
                  <a:pt x="814" y="253"/>
                </a:lnTo>
                <a:lnTo>
                  <a:pt x="802" y="243"/>
                </a:lnTo>
                <a:lnTo>
                  <a:pt x="776" y="241"/>
                </a:lnTo>
                <a:lnTo>
                  <a:pt x="753" y="241"/>
                </a:lnTo>
                <a:lnTo>
                  <a:pt x="740" y="230"/>
                </a:lnTo>
                <a:lnTo>
                  <a:pt x="748" y="222"/>
                </a:lnTo>
                <a:lnTo>
                  <a:pt x="741" y="211"/>
                </a:lnTo>
                <a:lnTo>
                  <a:pt x="728" y="211"/>
                </a:lnTo>
                <a:lnTo>
                  <a:pt x="690" y="212"/>
                </a:lnTo>
                <a:lnTo>
                  <a:pt x="655" y="224"/>
                </a:lnTo>
                <a:lnTo>
                  <a:pt x="642" y="227"/>
                </a:lnTo>
                <a:lnTo>
                  <a:pt x="468" y="160"/>
                </a:lnTo>
                <a:lnTo>
                  <a:pt x="440" y="131"/>
                </a:lnTo>
                <a:lnTo>
                  <a:pt x="419" y="107"/>
                </a:lnTo>
                <a:lnTo>
                  <a:pt x="413" y="96"/>
                </a:lnTo>
                <a:lnTo>
                  <a:pt x="404" y="95"/>
                </a:lnTo>
                <a:lnTo>
                  <a:pt x="379" y="92"/>
                </a:lnTo>
                <a:lnTo>
                  <a:pt x="362" y="59"/>
                </a:lnTo>
                <a:lnTo>
                  <a:pt x="350" y="54"/>
                </a:lnTo>
                <a:lnTo>
                  <a:pt x="350" y="71"/>
                </a:lnTo>
                <a:lnTo>
                  <a:pt x="357" y="86"/>
                </a:lnTo>
                <a:lnTo>
                  <a:pt x="350" y="89"/>
                </a:lnTo>
                <a:lnTo>
                  <a:pt x="331" y="89"/>
                </a:lnTo>
                <a:lnTo>
                  <a:pt x="307" y="97"/>
                </a:lnTo>
                <a:lnTo>
                  <a:pt x="304" y="97"/>
                </a:lnTo>
                <a:lnTo>
                  <a:pt x="303" y="86"/>
                </a:lnTo>
                <a:lnTo>
                  <a:pt x="315" y="71"/>
                </a:lnTo>
                <a:lnTo>
                  <a:pt x="315" y="56"/>
                </a:lnTo>
                <a:lnTo>
                  <a:pt x="324" y="45"/>
                </a:lnTo>
                <a:lnTo>
                  <a:pt x="336" y="34"/>
                </a:lnTo>
                <a:lnTo>
                  <a:pt x="345" y="25"/>
                </a:lnTo>
                <a:lnTo>
                  <a:pt x="345" y="12"/>
                </a:lnTo>
                <a:lnTo>
                  <a:pt x="337" y="3"/>
                </a:lnTo>
                <a:lnTo>
                  <a:pt x="320" y="0"/>
                </a:lnTo>
                <a:lnTo>
                  <a:pt x="294" y="14"/>
                </a:lnTo>
                <a:lnTo>
                  <a:pt x="274" y="31"/>
                </a:lnTo>
                <a:lnTo>
                  <a:pt x="255" y="39"/>
                </a:lnTo>
                <a:lnTo>
                  <a:pt x="240" y="50"/>
                </a:lnTo>
                <a:lnTo>
                  <a:pt x="218" y="57"/>
                </a:lnTo>
                <a:lnTo>
                  <a:pt x="200" y="69"/>
                </a:lnTo>
                <a:lnTo>
                  <a:pt x="183" y="74"/>
                </a:lnTo>
                <a:lnTo>
                  <a:pt x="176" y="68"/>
                </a:lnTo>
                <a:lnTo>
                  <a:pt x="176" y="57"/>
                </a:lnTo>
                <a:lnTo>
                  <a:pt x="176" y="44"/>
                </a:lnTo>
                <a:lnTo>
                  <a:pt x="150" y="51"/>
                </a:lnTo>
                <a:lnTo>
                  <a:pt x="142" y="63"/>
                </a:lnTo>
                <a:lnTo>
                  <a:pt x="132" y="74"/>
                </a:lnTo>
                <a:lnTo>
                  <a:pt x="124" y="84"/>
                </a:lnTo>
                <a:lnTo>
                  <a:pt x="119" y="84"/>
                </a:lnTo>
                <a:lnTo>
                  <a:pt x="108" y="84"/>
                </a:lnTo>
                <a:lnTo>
                  <a:pt x="110" y="236"/>
                </a:lnTo>
                <a:lnTo>
                  <a:pt x="96" y="265"/>
                </a:lnTo>
                <a:lnTo>
                  <a:pt x="83" y="283"/>
                </a:lnTo>
                <a:lnTo>
                  <a:pt x="71" y="298"/>
                </a:lnTo>
                <a:lnTo>
                  <a:pt x="50" y="304"/>
                </a:lnTo>
                <a:lnTo>
                  <a:pt x="27" y="321"/>
                </a:lnTo>
                <a:lnTo>
                  <a:pt x="13" y="339"/>
                </a:lnTo>
                <a:lnTo>
                  <a:pt x="4" y="349"/>
                </a:lnTo>
                <a:lnTo>
                  <a:pt x="0" y="371"/>
                </a:lnTo>
                <a:lnTo>
                  <a:pt x="0" y="412"/>
                </a:lnTo>
                <a:lnTo>
                  <a:pt x="0" y="425"/>
                </a:lnTo>
                <a:lnTo>
                  <a:pt x="4" y="438"/>
                </a:lnTo>
                <a:lnTo>
                  <a:pt x="16" y="442"/>
                </a:lnTo>
                <a:lnTo>
                  <a:pt x="30" y="447"/>
                </a:lnTo>
                <a:lnTo>
                  <a:pt x="43" y="453"/>
                </a:lnTo>
                <a:lnTo>
                  <a:pt x="40" y="468"/>
                </a:lnTo>
                <a:lnTo>
                  <a:pt x="40" y="535"/>
                </a:lnTo>
                <a:lnTo>
                  <a:pt x="45" y="569"/>
                </a:lnTo>
                <a:lnTo>
                  <a:pt x="47" y="601"/>
                </a:lnTo>
                <a:lnTo>
                  <a:pt x="55" y="641"/>
                </a:lnTo>
                <a:lnTo>
                  <a:pt x="61" y="662"/>
                </a:lnTo>
                <a:lnTo>
                  <a:pt x="80" y="670"/>
                </a:lnTo>
                <a:lnTo>
                  <a:pt x="108" y="677"/>
                </a:lnTo>
                <a:lnTo>
                  <a:pt x="131" y="688"/>
                </a:lnTo>
                <a:lnTo>
                  <a:pt x="150" y="704"/>
                </a:lnTo>
                <a:lnTo>
                  <a:pt x="153" y="716"/>
                </a:lnTo>
                <a:lnTo>
                  <a:pt x="167" y="728"/>
                </a:lnTo>
                <a:lnTo>
                  <a:pt x="172" y="742"/>
                </a:lnTo>
                <a:lnTo>
                  <a:pt x="205" y="757"/>
                </a:lnTo>
                <a:lnTo>
                  <a:pt x="215" y="763"/>
                </a:lnTo>
                <a:lnTo>
                  <a:pt x="231" y="786"/>
                </a:lnTo>
                <a:lnTo>
                  <a:pt x="261" y="830"/>
                </a:lnTo>
                <a:lnTo>
                  <a:pt x="275" y="863"/>
                </a:lnTo>
                <a:lnTo>
                  <a:pt x="280" y="893"/>
                </a:lnTo>
                <a:lnTo>
                  <a:pt x="285" y="917"/>
                </a:lnTo>
                <a:lnTo>
                  <a:pt x="285" y="932"/>
                </a:lnTo>
                <a:lnTo>
                  <a:pt x="292" y="952"/>
                </a:lnTo>
                <a:lnTo>
                  <a:pt x="294" y="974"/>
                </a:lnTo>
                <a:lnTo>
                  <a:pt x="306" y="984"/>
                </a:lnTo>
                <a:lnTo>
                  <a:pt x="318" y="993"/>
                </a:lnTo>
                <a:lnTo>
                  <a:pt x="319" y="1001"/>
                </a:lnTo>
                <a:lnTo>
                  <a:pt x="318" y="1008"/>
                </a:lnTo>
                <a:lnTo>
                  <a:pt x="309" y="1024"/>
                </a:lnTo>
                <a:lnTo>
                  <a:pt x="307" y="1034"/>
                </a:lnTo>
                <a:lnTo>
                  <a:pt x="307" y="1048"/>
                </a:lnTo>
                <a:lnTo>
                  <a:pt x="316" y="1064"/>
                </a:lnTo>
                <a:lnTo>
                  <a:pt x="332" y="1091"/>
                </a:lnTo>
                <a:lnTo>
                  <a:pt x="344" y="1105"/>
                </a:lnTo>
                <a:lnTo>
                  <a:pt x="344" y="1122"/>
                </a:lnTo>
                <a:lnTo>
                  <a:pt x="346" y="1130"/>
                </a:lnTo>
                <a:lnTo>
                  <a:pt x="357" y="1143"/>
                </a:lnTo>
                <a:lnTo>
                  <a:pt x="372" y="1144"/>
                </a:lnTo>
                <a:lnTo>
                  <a:pt x="379" y="1145"/>
                </a:lnTo>
                <a:lnTo>
                  <a:pt x="388" y="1154"/>
                </a:lnTo>
                <a:lnTo>
                  <a:pt x="391" y="1166"/>
                </a:lnTo>
                <a:lnTo>
                  <a:pt x="398" y="1172"/>
                </a:lnTo>
                <a:lnTo>
                  <a:pt x="407" y="1182"/>
                </a:lnTo>
                <a:lnTo>
                  <a:pt x="413" y="1185"/>
                </a:lnTo>
                <a:lnTo>
                  <a:pt x="419" y="1193"/>
                </a:lnTo>
                <a:lnTo>
                  <a:pt x="450" y="1219"/>
                </a:lnTo>
                <a:lnTo>
                  <a:pt x="458" y="1221"/>
                </a:lnTo>
                <a:lnTo>
                  <a:pt x="465" y="1228"/>
                </a:lnTo>
                <a:lnTo>
                  <a:pt x="468" y="1236"/>
                </a:lnTo>
                <a:lnTo>
                  <a:pt x="1004" y="1226"/>
                </a:lnTo>
                <a:lnTo>
                  <a:pt x="996" y="1204"/>
                </a:lnTo>
                <a:lnTo>
                  <a:pt x="984" y="1198"/>
                </a:lnTo>
                <a:lnTo>
                  <a:pt x="973" y="1183"/>
                </a:lnTo>
                <a:lnTo>
                  <a:pt x="960" y="1125"/>
                </a:lnTo>
                <a:lnTo>
                  <a:pt x="956" y="1050"/>
                </a:lnTo>
                <a:lnTo>
                  <a:pt x="961" y="958"/>
                </a:lnTo>
                <a:lnTo>
                  <a:pt x="958" y="921"/>
                </a:lnTo>
                <a:lnTo>
                  <a:pt x="958" y="876"/>
                </a:lnTo>
                <a:lnTo>
                  <a:pt x="945" y="849"/>
                </a:lnTo>
                <a:lnTo>
                  <a:pt x="945" y="823"/>
                </a:lnTo>
                <a:lnTo>
                  <a:pt x="961" y="780"/>
                </a:lnTo>
                <a:lnTo>
                  <a:pt x="978" y="746"/>
                </a:lnTo>
                <a:lnTo>
                  <a:pt x="976" y="727"/>
                </a:lnTo>
                <a:lnTo>
                  <a:pt x="987" y="709"/>
                </a:lnTo>
                <a:lnTo>
                  <a:pt x="1004" y="667"/>
                </a:lnTo>
                <a:lnTo>
                  <a:pt x="1024" y="588"/>
                </a:lnTo>
                <a:lnTo>
                  <a:pt x="1027" y="560"/>
                </a:lnTo>
                <a:lnTo>
                  <a:pt x="1032" y="544"/>
                </a:lnTo>
                <a:lnTo>
                  <a:pt x="1036" y="522"/>
                </a:lnTo>
                <a:lnTo>
                  <a:pt x="1036" y="513"/>
                </a:lnTo>
                <a:lnTo>
                  <a:pt x="1019" y="505"/>
                </a:lnTo>
                <a:lnTo>
                  <a:pt x="998" y="505"/>
                </a:lnTo>
                <a:lnTo>
                  <a:pt x="994" y="510"/>
                </a:lnTo>
                <a:lnTo>
                  <a:pt x="976" y="534"/>
                </a:lnTo>
                <a:lnTo>
                  <a:pt x="966" y="554"/>
                </a:lnTo>
                <a:lnTo>
                  <a:pt x="959" y="569"/>
                </a:lnTo>
                <a:lnTo>
                  <a:pt x="949" y="576"/>
                </a:lnTo>
                <a:lnTo>
                  <a:pt x="937" y="586"/>
                </a:lnTo>
                <a:lnTo>
                  <a:pt x="923" y="587"/>
                </a:lnTo>
                <a:lnTo>
                  <a:pt x="923" y="583"/>
                </a:lnTo>
              </a:path>
            </a:pathLst>
          </a:custGeom>
          <a:solidFill>
            <a:srgbClr val="ff66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Freeform 30"/>
          <p:cNvSpPr/>
          <p:nvPr/>
        </p:nvSpPr>
        <p:spPr>
          <a:xfrm>
            <a:off x="6076800" y="2208240"/>
            <a:ext cx="52560" cy="87120"/>
          </a:xfrm>
          <a:custGeom>
            <a:avLst/>
            <a:gdLst>
              <a:gd name="textAreaLeft" fmla="*/ 0 w 52560"/>
              <a:gd name="textAreaRight" fmla="*/ 52920 w 5256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66" h="121">
                <a:moveTo>
                  <a:pt x="27" y="121"/>
                </a:moveTo>
                <a:lnTo>
                  <a:pt x="32" y="121"/>
                </a:lnTo>
                <a:lnTo>
                  <a:pt x="44" y="111"/>
                </a:lnTo>
                <a:lnTo>
                  <a:pt x="48" y="85"/>
                </a:lnTo>
                <a:lnTo>
                  <a:pt x="58" y="59"/>
                </a:lnTo>
                <a:lnTo>
                  <a:pt x="66" y="43"/>
                </a:lnTo>
                <a:lnTo>
                  <a:pt x="64" y="17"/>
                </a:lnTo>
                <a:lnTo>
                  <a:pt x="64" y="0"/>
                </a:lnTo>
                <a:lnTo>
                  <a:pt x="47" y="3"/>
                </a:lnTo>
                <a:lnTo>
                  <a:pt x="25" y="29"/>
                </a:lnTo>
                <a:lnTo>
                  <a:pt x="21" y="47"/>
                </a:lnTo>
                <a:lnTo>
                  <a:pt x="9" y="70"/>
                </a:lnTo>
                <a:lnTo>
                  <a:pt x="4" y="97"/>
                </a:lnTo>
                <a:lnTo>
                  <a:pt x="0" y="111"/>
                </a:lnTo>
                <a:lnTo>
                  <a:pt x="5" y="115"/>
                </a:lnTo>
                <a:lnTo>
                  <a:pt x="16" y="118"/>
                </a:lnTo>
                <a:lnTo>
                  <a:pt x="27" y="12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Freeform 31"/>
          <p:cNvSpPr/>
          <p:nvPr/>
        </p:nvSpPr>
        <p:spPr>
          <a:xfrm>
            <a:off x="6113520" y="216072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36" h="31">
                <a:moveTo>
                  <a:pt x="15" y="31"/>
                </a:moveTo>
                <a:lnTo>
                  <a:pt x="28" y="21"/>
                </a:lnTo>
                <a:lnTo>
                  <a:pt x="36" y="7"/>
                </a:lnTo>
                <a:lnTo>
                  <a:pt x="23" y="0"/>
                </a:lnTo>
                <a:lnTo>
                  <a:pt x="14" y="0"/>
                </a:lnTo>
                <a:lnTo>
                  <a:pt x="5" y="11"/>
                </a:lnTo>
                <a:lnTo>
                  <a:pt x="0" y="23"/>
                </a:lnTo>
                <a:lnTo>
                  <a:pt x="9" y="31"/>
                </a:lnTo>
                <a:lnTo>
                  <a:pt x="15" y="3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Freeform 32"/>
          <p:cNvSpPr/>
          <p:nvPr/>
        </p:nvSpPr>
        <p:spPr>
          <a:xfrm>
            <a:off x="5597640" y="1784520"/>
            <a:ext cx="985680" cy="460080"/>
          </a:xfrm>
          <a:custGeom>
            <a:avLst/>
            <a:gdLst>
              <a:gd name="textAreaLeft" fmla="*/ 0 w 985680"/>
              <a:gd name="textAreaRight" fmla="*/ 986040 w 985680"/>
              <a:gd name="textAreaTop" fmla="*/ 0 h 460080"/>
              <a:gd name="textAreaBottom" fmla="*/ 460440 h 460080"/>
            </a:gdLst>
            <a:ahLst/>
            <a:rect l="textAreaLeft" t="textAreaTop" r="textAreaRight" b="textAreaBottom"/>
            <a:pathLst>
              <a:path w="1255" h="629">
                <a:moveTo>
                  <a:pt x="0" y="292"/>
                </a:moveTo>
                <a:lnTo>
                  <a:pt x="21" y="281"/>
                </a:lnTo>
                <a:lnTo>
                  <a:pt x="37" y="269"/>
                </a:lnTo>
                <a:lnTo>
                  <a:pt x="92" y="227"/>
                </a:lnTo>
                <a:lnTo>
                  <a:pt x="120" y="210"/>
                </a:lnTo>
                <a:lnTo>
                  <a:pt x="136" y="210"/>
                </a:lnTo>
                <a:lnTo>
                  <a:pt x="158" y="210"/>
                </a:lnTo>
                <a:lnTo>
                  <a:pt x="178" y="200"/>
                </a:lnTo>
                <a:lnTo>
                  <a:pt x="213" y="176"/>
                </a:lnTo>
                <a:lnTo>
                  <a:pt x="246" y="152"/>
                </a:lnTo>
                <a:lnTo>
                  <a:pt x="271" y="127"/>
                </a:lnTo>
                <a:lnTo>
                  <a:pt x="299" y="83"/>
                </a:lnTo>
                <a:lnTo>
                  <a:pt x="334" y="54"/>
                </a:lnTo>
                <a:lnTo>
                  <a:pt x="368" y="26"/>
                </a:lnTo>
                <a:lnTo>
                  <a:pt x="409" y="0"/>
                </a:lnTo>
                <a:lnTo>
                  <a:pt x="427" y="0"/>
                </a:lnTo>
                <a:lnTo>
                  <a:pt x="450" y="0"/>
                </a:lnTo>
                <a:lnTo>
                  <a:pt x="453" y="15"/>
                </a:lnTo>
                <a:lnTo>
                  <a:pt x="440" y="25"/>
                </a:lnTo>
                <a:lnTo>
                  <a:pt x="415" y="30"/>
                </a:lnTo>
                <a:lnTo>
                  <a:pt x="396" y="45"/>
                </a:lnTo>
                <a:lnTo>
                  <a:pt x="365" y="84"/>
                </a:lnTo>
                <a:lnTo>
                  <a:pt x="353" y="110"/>
                </a:lnTo>
                <a:lnTo>
                  <a:pt x="340" y="152"/>
                </a:lnTo>
                <a:lnTo>
                  <a:pt x="335" y="182"/>
                </a:lnTo>
                <a:lnTo>
                  <a:pt x="340" y="198"/>
                </a:lnTo>
                <a:lnTo>
                  <a:pt x="357" y="189"/>
                </a:lnTo>
                <a:lnTo>
                  <a:pt x="378" y="167"/>
                </a:lnTo>
                <a:lnTo>
                  <a:pt x="397" y="144"/>
                </a:lnTo>
                <a:lnTo>
                  <a:pt x="415" y="135"/>
                </a:lnTo>
                <a:lnTo>
                  <a:pt x="406" y="151"/>
                </a:lnTo>
                <a:lnTo>
                  <a:pt x="401" y="166"/>
                </a:lnTo>
                <a:lnTo>
                  <a:pt x="416" y="165"/>
                </a:lnTo>
                <a:lnTo>
                  <a:pt x="439" y="158"/>
                </a:lnTo>
                <a:lnTo>
                  <a:pt x="476" y="153"/>
                </a:lnTo>
                <a:lnTo>
                  <a:pt x="493" y="167"/>
                </a:lnTo>
                <a:lnTo>
                  <a:pt x="507" y="180"/>
                </a:lnTo>
                <a:lnTo>
                  <a:pt x="518" y="188"/>
                </a:lnTo>
                <a:lnTo>
                  <a:pt x="539" y="198"/>
                </a:lnTo>
                <a:lnTo>
                  <a:pt x="559" y="211"/>
                </a:lnTo>
                <a:lnTo>
                  <a:pt x="591" y="236"/>
                </a:lnTo>
                <a:lnTo>
                  <a:pt x="612" y="250"/>
                </a:lnTo>
                <a:lnTo>
                  <a:pt x="635" y="251"/>
                </a:lnTo>
                <a:lnTo>
                  <a:pt x="658" y="245"/>
                </a:lnTo>
                <a:lnTo>
                  <a:pt x="678" y="231"/>
                </a:lnTo>
                <a:lnTo>
                  <a:pt x="689" y="231"/>
                </a:lnTo>
                <a:lnTo>
                  <a:pt x="701" y="245"/>
                </a:lnTo>
                <a:lnTo>
                  <a:pt x="719" y="257"/>
                </a:lnTo>
                <a:lnTo>
                  <a:pt x="729" y="245"/>
                </a:lnTo>
                <a:lnTo>
                  <a:pt x="739" y="229"/>
                </a:lnTo>
                <a:lnTo>
                  <a:pt x="758" y="214"/>
                </a:lnTo>
                <a:lnTo>
                  <a:pt x="783" y="199"/>
                </a:lnTo>
                <a:lnTo>
                  <a:pt x="810" y="184"/>
                </a:lnTo>
                <a:lnTo>
                  <a:pt x="830" y="165"/>
                </a:lnTo>
                <a:lnTo>
                  <a:pt x="844" y="157"/>
                </a:lnTo>
                <a:lnTo>
                  <a:pt x="867" y="158"/>
                </a:lnTo>
                <a:lnTo>
                  <a:pt x="898" y="161"/>
                </a:lnTo>
                <a:lnTo>
                  <a:pt x="939" y="153"/>
                </a:lnTo>
                <a:lnTo>
                  <a:pt x="977" y="139"/>
                </a:lnTo>
                <a:lnTo>
                  <a:pt x="1017" y="127"/>
                </a:lnTo>
                <a:lnTo>
                  <a:pt x="1018" y="153"/>
                </a:lnTo>
                <a:lnTo>
                  <a:pt x="1026" y="190"/>
                </a:lnTo>
                <a:lnTo>
                  <a:pt x="1032" y="204"/>
                </a:lnTo>
                <a:lnTo>
                  <a:pt x="1055" y="210"/>
                </a:lnTo>
                <a:lnTo>
                  <a:pt x="1075" y="203"/>
                </a:lnTo>
                <a:lnTo>
                  <a:pt x="1093" y="200"/>
                </a:lnTo>
                <a:lnTo>
                  <a:pt x="1100" y="210"/>
                </a:lnTo>
                <a:lnTo>
                  <a:pt x="1126" y="210"/>
                </a:lnTo>
                <a:lnTo>
                  <a:pt x="1144" y="193"/>
                </a:lnTo>
                <a:lnTo>
                  <a:pt x="1159" y="193"/>
                </a:lnTo>
                <a:lnTo>
                  <a:pt x="1171" y="214"/>
                </a:lnTo>
                <a:lnTo>
                  <a:pt x="1171" y="239"/>
                </a:lnTo>
                <a:lnTo>
                  <a:pt x="1187" y="251"/>
                </a:lnTo>
                <a:lnTo>
                  <a:pt x="1202" y="257"/>
                </a:lnTo>
                <a:lnTo>
                  <a:pt x="1221" y="279"/>
                </a:lnTo>
                <a:lnTo>
                  <a:pt x="1238" y="291"/>
                </a:lnTo>
                <a:lnTo>
                  <a:pt x="1247" y="305"/>
                </a:lnTo>
                <a:lnTo>
                  <a:pt x="1255" y="320"/>
                </a:lnTo>
                <a:lnTo>
                  <a:pt x="1237" y="331"/>
                </a:lnTo>
                <a:lnTo>
                  <a:pt x="1201" y="344"/>
                </a:lnTo>
                <a:lnTo>
                  <a:pt x="1171" y="349"/>
                </a:lnTo>
                <a:lnTo>
                  <a:pt x="1129" y="352"/>
                </a:lnTo>
                <a:lnTo>
                  <a:pt x="1087" y="355"/>
                </a:lnTo>
                <a:lnTo>
                  <a:pt x="1087" y="360"/>
                </a:lnTo>
                <a:lnTo>
                  <a:pt x="1070" y="365"/>
                </a:lnTo>
                <a:lnTo>
                  <a:pt x="1035" y="351"/>
                </a:lnTo>
                <a:lnTo>
                  <a:pt x="1004" y="340"/>
                </a:lnTo>
                <a:lnTo>
                  <a:pt x="994" y="336"/>
                </a:lnTo>
                <a:lnTo>
                  <a:pt x="980" y="343"/>
                </a:lnTo>
                <a:lnTo>
                  <a:pt x="977" y="352"/>
                </a:lnTo>
                <a:lnTo>
                  <a:pt x="990" y="366"/>
                </a:lnTo>
                <a:lnTo>
                  <a:pt x="1002" y="381"/>
                </a:lnTo>
                <a:lnTo>
                  <a:pt x="990" y="390"/>
                </a:lnTo>
                <a:lnTo>
                  <a:pt x="962" y="385"/>
                </a:lnTo>
                <a:lnTo>
                  <a:pt x="939" y="366"/>
                </a:lnTo>
                <a:lnTo>
                  <a:pt x="921" y="354"/>
                </a:lnTo>
                <a:lnTo>
                  <a:pt x="894" y="349"/>
                </a:lnTo>
                <a:lnTo>
                  <a:pt x="872" y="349"/>
                </a:lnTo>
                <a:lnTo>
                  <a:pt x="852" y="352"/>
                </a:lnTo>
                <a:lnTo>
                  <a:pt x="836" y="374"/>
                </a:lnTo>
                <a:lnTo>
                  <a:pt x="815" y="387"/>
                </a:lnTo>
                <a:lnTo>
                  <a:pt x="777" y="396"/>
                </a:lnTo>
                <a:lnTo>
                  <a:pt x="762" y="398"/>
                </a:lnTo>
                <a:lnTo>
                  <a:pt x="754" y="418"/>
                </a:lnTo>
                <a:lnTo>
                  <a:pt x="750" y="425"/>
                </a:lnTo>
                <a:lnTo>
                  <a:pt x="744" y="432"/>
                </a:lnTo>
                <a:lnTo>
                  <a:pt x="724" y="443"/>
                </a:lnTo>
                <a:lnTo>
                  <a:pt x="707" y="447"/>
                </a:lnTo>
                <a:lnTo>
                  <a:pt x="689" y="468"/>
                </a:lnTo>
                <a:lnTo>
                  <a:pt x="674" y="499"/>
                </a:lnTo>
                <a:lnTo>
                  <a:pt x="656" y="521"/>
                </a:lnTo>
                <a:lnTo>
                  <a:pt x="643" y="506"/>
                </a:lnTo>
                <a:lnTo>
                  <a:pt x="651" y="480"/>
                </a:lnTo>
                <a:lnTo>
                  <a:pt x="656" y="455"/>
                </a:lnTo>
                <a:lnTo>
                  <a:pt x="655" y="445"/>
                </a:lnTo>
                <a:lnTo>
                  <a:pt x="640" y="463"/>
                </a:lnTo>
                <a:lnTo>
                  <a:pt x="628" y="469"/>
                </a:lnTo>
                <a:lnTo>
                  <a:pt x="626" y="455"/>
                </a:lnTo>
                <a:lnTo>
                  <a:pt x="618" y="455"/>
                </a:lnTo>
                <a:lnTo>
                  <a:pt x="610" y="465"/>
                </a:lnTo>
                <a:lnTo>
                  <a:pt x="580" y="547"/>
                </a:lnTo>
                <a:lnTo>
                  <a:pt x="559" y="590"/>
                </a:lnTo>
                <a:lnTo>
                  <a:pt x="547" y="629"/>
                </a:lnTo>
                <a:lnTo>
                  <a:pt x="530" y="625"/>
                </a:lnTo>
                <a:lnTo>
                  <a:pt x="517" y="622"/>
                </a:lnTo>
                <a:lnTo>
                  <a:pt x="507" y="614"/>
                </a:lnTo>
                <a:lnTo>
                  <a:pt x="500" y="614"/>
                </a:lnTo>
                <a:lnTo>
                  <a:pt x="500" y="602"/>
                </a:lnTo>
                <a:lnTo>
                  <a:pt x="500" y="597"/>
                </a:lnTo>
                <a:lnTo>
                  <a:pt x="506" y="589"/>
                </a:lnTo>
                <a:lnTo>
                  <a:pt x="515" y="574"/>
                </a:lnTo>
                <a:lnTo>
                  <a:pt x="518" y="570"/>
                </a:lnTo>
                <a:lnTo>
                  <a:pt x="518" y="557"/>
                </a:lnTo>
                <a:lnTo>
                  <a:pt x="509" y="546"/>
                </a:lnTo>
                <a:lnTo>
                  <a:pt x="504" y="545"/>
                </a:lnTo>
                <a:lnTo>
                  <a:pt x="489" y="545"/>
                </a:lnTo>
                <a:lnTo>
                  <a:pt x="481" y="549"/>
                </a:lnTo>
                <a:lnTo>
                  <a:pt x="471" y="557"/>
                </a:lnTo>
                <a:lnTo>
                  <a:pt x="466" y="562"/>
                </a:lnTo>
                <a:lnTo>
                  <a:pt x="461" y="564"/>
                </a:lnTo>
                <a:lnTo>
                  <a:pt x="457" y="556"/>
                </a:lnTo>
                <a:lnTo>
                  <a:pt x="457" y="547"/>
                </a:lnTo>
                <a:lnTo>
                  <a:pt x="456" y="539"/>
                </a:lnTo>
                <a:lnTo>
                  <a:pt x="458" y="529"/>
                </a:lnTo>
                <a:lnTo>
                  <a:pt x="461" y="523"/>
                </a:lnTo>
                <a:lnTo>
                  <a:pt x="461" y="516"/>
                </a:lnTo>
                <a:lnTo>
                  <a:pt x="461" y="509"/>
                </a:lnTo>
                <a:lnTo>
                  <a:pt x="456" y="502"/>
                </a:lnTo>
                <a:lnTo>
                  <a:pt x="448" y="493"/>
                </a:lnTo>
                <a:lnTo>
                  <a:pt x="439" y="483"/>
                </a:lnTo>
                <a:lnTo>
                  <a:pt x="431" y="469"/>
                </a:lnTo>
                <a:lnTo>
                  <a:pt x="418" y="453"/>
                </a:lnTo>
                <a:lnTo>
                  <a:pt x="415" y="448"/>
                </a:lnTo>
                <a:lnTo>
                  <a:pt x="404" y="443"/>
                </a:lnTo>
                <a:lnTo>
                  <a:pt x="381" y="443"/>
                </a:lnTo>
                <a:lnTo>
                  <a:pt x="364" y="443"/>
                </a:lnTo>
                <a:lnTo>
                  <a:pt x="357" y="441"/>
                </a:lnTo>
                <a:lnTo>
                  <a:pt x="349" y="440"/>
                </a:lnTo>
                <a:lnTo>
                  <a:pt x="345" y="435"/>
                </a:lnTo>
                <a:lnTo>
                  <a:pt x="344" y="431"/>
                </a:lnTo>
                <a:lnTo>
                  <a:pt x="344" y="428"/>
                </a:lnTo>
                <a:lnTo>
                  <a:pt x="349" y="423"/>
                </a:lnTo>
                <a:lnTo>
                  <a:pt x="352" y="418"/>
                </a:lnTo>
                <a:lnTo>
                  <a:pt x="351" y="417"/>
                </a:lnTo>
                <a:lnTo>
                  <a:pt x="345" y="415"/>
                </a:lnTo>
                <a:lnTo>
                  <a:pt x="336" y="412"/>
                </a:lnTo>
                <a:lnTo>
                  <a:pt x="294" y="412"/>
                </a:lnTo>
                <a:lnTo>
                  <a:pt x="288" y="415"/>
                </a:lnTo>
                <a:lnTo>
                  <a:pt x="258" y="426"/>
                </a:lnTo>
                <a:lnTo>
                  <a:pt x="246" y="427"/>
                </a:lnTo>
                <a:lnTo>
                  <a:pt x="71" y="360"/>
                </a:lnTo>
                <a:lnTo>
                  <a:pt x="48" y="336"/>
                </a:lnTo>
                <a:lnTo>
                  <a:pt x="32" y="322"/>
                </a:lnTo>
                <a:lnTo>
                  <a:pt x="23" y="307"/>
                </a:lnTo>
                <a:lnTo>
                  <a:pt x="18" y="296"/>
                </a:lnTo>
                <a:lnTo>
                  <a:pt x="7" y="296"/>
                </a:lnTo>
                <a:lnTo>
                  <a:pt x="0" y="292"/>
                </a:lnTo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Freeform 33"/>
          <p:cNvSpPr/>
          <p:nvPr/>
        </p:nvSpPr>
        <p:spPr>
          <a:xfrm>
            <a:off x="6602400" y="1971720"/>
            <a:ext cx="90360" cy="60120"/>
          </a:xfrm>
          <a:custGeom>
            <a:avLst/>
            <a:gdLst>
              <a:gd name="textAreaLeft" fmla="*/ 0 w 90360"/>
              <a:gd name="textAreaRight" fmla="*/ 90720 w 90360"/>
              <a:gd name="textAreaTop" fmla="*/ 0 h 60120"/>
              <a:gd name="textAreaBottom" fmla="*/ 60480 h 60120"/>
            </a:gdLst>
            <a:ahLst/>
            <a:rect l="textAreaLeft" t="textAreaTop" r="textAreaRight" b="textAreaBottom"/>
            <a:pathLst>
              <a:path w="116" h="80">
                <a:moveTo>
                  <a:pt x="0" y="64"/>
                </a:moveTo>
                <a:lnTo>
                  <a:pt x="5" y="42"/>
                </a:lnTo>
                <a:lnTo>
                  <a:pt x="16" y="37"/>
                </a:lnTo>
                <a:lnTo>
                  <a:pt x="26" y="38"/>
                </a:lnTo>
                <a:lnTo>
                  <a:pt x="32" y="42"/>
                </a:lnTo>
                <a:lnTo>
                  <a:pt x="47" y="41"/>
                </a:lnTo>
                <a:lnTo>
                  <a:pt x="56" y="37"/>
                </a:lnTo>
                <a:lnTo>
                  <a:pt x="64" y="32"/>
                </a:lnTo>
                <a:lnTo>
                  <a:pt x="49" y="15"/>
                </a:lnTo>
                <a:lnTo>
                  <a:pt x="60" y="0"/>
                </a:lnTo>
                <a:lnTo>
                  <a:pt x="83" y="12"/>
                </a:lnTo>
                <a:lnTo>
                  <a:pt x="87" y="25"/>
                </a:lnTo>
                <a:lnTo>
                  <a:pt x="99" y="46"/>
                </a:lnTo>
                <a:lnTo>
                  <a:pt x="116" y="52"/>
                </a:lnTo>
                <a:lnTo>
                  <a:pt x="116" y="69"/>
                </a:lnTo>
                <a:lnTo>
                  <a:pt x="101" y="75"/>
                </a:lnTo>
                <a:lnTo>
                  <a:pt x="88" y="76"/>
                </a:lnTo>
                <a:lnTo>
                  <a:pt x="81" y="71"/>
                </a:lnTo>
                <a:lnTo>
                  <a:pt x="65" y="71"/>
                </a:lnTo>
                <a:lnTo>
                  <a:pt x="54" y="75"/>
                </a:lnTo>
                <a:lnTo>
                  <a:pt x="41" y="79"/>
                </a:lnTo>
                <a:lnTo>
                  <a:pt x="28" y="80"/>
                </a:lnTo>
                <a:lnTo>
                  <a:pt x="18" y="75"/>
                </a:lnTo>
                <a:lnTo>
                  <a:pt x="1" y="72"/>
                </a:lnTo>
                <a:lnTo>
                  <a:pt x="1" y="69"/>
                </a:lnTo>
                <a:lnTo>
                  <a:pt x="0" y="6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9080" bIns="19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Freeform 34"/>
          <p:cNvSpPr/>
          <p:nvPr/>
        </p:nvSpPr>
        <p:spPr>
          <a:xfrm>
            <a:off x="6203880" y="2073240"/>
            <a:ext cx="669960" cy="828720"/>
          </a:xfrm>
          <a:custGeom>
            <a:avLst/>
            <a:gdLst>
              <a:gd name="textAreaLeft" fmla="*/ 0 w 669960"/>
              <a:gd name="textAreaRight" fmla="*/ 669960 w 669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51" h="1132">
                <a:moveTo>
                  <a:pt x="0" y="1132"/>
                </a:moveTo>
                <a:lnTo>
                  <a:pt x="17" y="1094"/>
                </a:lnTo>
                <a:lnTo>
                  <a:pt x="90" y="998"/>
                </a:lnTo>
                <a:lnTo>
                  <a:pt x="119" y="910"/>
                </a:lnTo>
                <a:lnTo>
                  <a:pt x="121" y="857"/>
                </a:lnTo>
                <a:lnTo>
                  <a:pt x="107" y="812"/>
                </a:lnTo>
                <a:lnTo>
                  <a:pt x="93" y="790"/>
                </a:lnTo>
                <a:lnTo>
                  <a:pt x="78" y="765"/>
                </a:lnTo>
                <a:lnTo>
                  <a:pt x="96" y="744"/>
                </a:lnTo>
                <a:lnTo>
                  <a:pt x="101" y="730"/>
                </a:lnTo>
                <a:lnTo>
                  <a:pt x="101" y="716"/>
                </a:lnTo>
                <a:lnTo>
                  <a:pt x="83" y="681"/>
                </a:lnTo>
                <a:lnTo>
                  <a:pt x="37" y="621"/>
                </a:lnTo>
                <a:lnTo>
                  <a:pt x="37" y="615"/>
                </a:lnTo>
                <a:lnTo>
                  <a:pt x="47" y="606"/>
                </a:lnTo>
                <a:lnTo>
                  <a:pt x="44" y="595"/>
                </a:lnTo>
                <a:lnTo>
                  <a:pt x="26" y="597"/>
                </a:lnTo>
                <a:lnTo>
                  <a:pt x="22" y="572"/>
                </a:lnTo>
                <a:lnTo>
                  <a:pt x="43" y="515"/>
                </a:lnTo>
                <a:lnTo>
                  <a:pt x="48" y="458"/>
                </a:lnTo>
                <a:lnTo>
                  <a:pt x="44" y="428"/>
                </a:lnTo>
                <a:lnTo>
                  <a:pt x="26" y="410"/>
                </a:lnTo>
                <a:lnTo>
                  <a:pt x="40" y="395"/>
                </a:lnTo>
                <a:lnTo>
                  <a:pt x="56" y="389"/>
                </a:lnTo>
                <a:lnTo>
                  <a:pt x="61" y="367"/>
                </a:lnTo>
                <a:lnTo>
                  <a:pt x="56" y="352"/>
                </a:lnTo>
                <a:lnTo>
                  <a:pt x="55" y="329"/>
                </a:lnTo>
                <a:lnTo>
                  <a:pt x="67" y="314"/>
                </a:lnTo>
                <a:lnTo>
                  <a:pt x="79" y="298"/>
                </a:lnTo>
                <a:lnTo>
                  <a:pt x="96" y="297"/>
                </a:lnTo>
                <a:lnTo>
                  <a:pt x="96" y="269"/>
                </a:lnTo>
                <a:lnTo>
                  <a:pt x="114" y="226"/>
                </a:lnTo>
                <a:lnTo>
                  <a:pt x="128" y="185"/>
                </a:lnTo>
                <a:lnTo>
                  <a:pt x="136" y="185"/>
                </a:lnTo>
                <a:lnTo>
                  <a:pt x="142" y="204"/>
                </a:lnTo>
                <a:lnTo>
                  <a:pt x="131" y="214"/>
                </a:lnTo>
                <a:lnTo>
                  <a:pt x="131" y="226"/>
                </a:lnTo>
                <a:lnTo>
                  <a:pt x="137" y="244"/>
                </a:lnTo>
                <a:lnTo>
                  <a:pt x="137" y="272"/>
                </a:lnTo>
                <a:lnTo>
                  <a:pt x="149" y="282"/>
                </a:lnTo>
                <a:lnTo>
                  <a:pt x="151" y="259"/>
                </a:lnTo>
                <a:lnTo>
                  <a:pt x="153" y="231"/>
                </a:lnTo>
                <a:lnTo>
                  <a:pt x="159" y="248"/>
                </a:lnTo>
                <a:lnTo>
                  <a:pt x="165" y="268"/>
                </a:lnTo>
                <a:lnTo>
                  <a:pt x="169" y="286"/>
                </a:lnTo>
                <a:lnTo>
                  <a:pt x="173" y="274"/>
                </a:lnTo>
                <a:lnTo>
                  <a:pt x="176" y="235"/>
                </a:lnTo>
                <a:lnTo>
                  <a:pt x="181" y="206"/>
                </a:lnTo>
                <a:lnTo>
                  <a:pt x="183" y="185"/>
                </a:lnTo>
                <a:lnTo>
                  <a:pt x="195" y="177"/>
                </a:lnTo>
                <a:lnTo>
                  <a:pt x="213" y="180"/>
                </a:lnTo>
                <a:lnTo>
                  <a:pt x="233" y="181"/>
                </a:lnTo>
                <a:lnTo>
                  <a:pt x="260" y="178"/>
                </a:lnTo>
                <a:lnTo>
                  <a:pt x="260" y="173"/>
                </a:lnTo>
                <a:lnTo>
                  <a:pt x="240" y="155"/>
                </a:lnTo>
                <a:lnTo>
                  <a:pt x="230" y="135"/>
                </a:lnTo>
                <a:lnTo>
                  <a:pt x="230" y="107"/>
                </a:lnTo>
                <a:lnTo>
                  <a:pt x="244" y="56"/>
                </a:lnTo>
                <a:lnTo>
                  <a:pt x="273" y="16"/>
                </a:lnTo>
                <a:lnTo>
                  <a:pt x="295" y="0"/>
                </a:lnTo>
                <a:lnTo>
                  <a:pt x="327" y="15"/>
                </a:lnTo>
                <a:lnTo>
                  <a:pt x="382" y="45"/>
                </a:lnTo>
                <a:lnTo>
                  <a:pt x="398" y="71"/>
                </a:lnTo>
                <a:lnTo>
                  <a:pt x="413" y="76"/>
                </a:lnTo>
                <a:lnTo>
                  <a:pt x="425" y="70"/>
                </a:lnTo>
                <a:lnTo>
                  <a:pt x="432" y="68"/>
                </a:lnTo>
                <a:lnTo>
                  <a:pt x="460" y="89"/>
                </a:lnTo>
                <a:lnTo>
                  <a:pt x="476" y="105"/>
                </a:lnTo>
                <a:lnTo>
                  <a:pt x="496" y="114"/>
                </a:lnTo>
                <a:lnTo>
                  <a:pt x="533" y="128"/>
                </a:lnTo>
                <a:lnTo>
                  <a:pt x="561" y="144"/>
                </a:lnTo>
                <a:lnTo>
                  <a:pt x="584" y="169"/>
                </a:lnTo>
                <a:lnTo>
                  <a:pt x="586" y="173"/>
                </a:lnTo>
                <a:lnTo>
                  <a:pt x="571" y="180"/>
                </a:lnTo>
                <a:lnTo>
                  <a:pt x="601" y="203"/>
                </a:lnTo>
                <a:lnTo>
                  <a:pt x="622" y="234"/>
                </a:lnTo>
                <a:lnTo>
                  <a:pt x="625" y="249"/>
                </a:lnTo>
                <a:lnTo>
                  <a:pt x="591" y="250"/>
                </a:lnTo>
                <a:lnTo>
                  <a:pt x="572" y="260"/>
                </a:lnTo>
                <a:lnTo>
                  <a:pt x="574" y="272"/>
                </a:lnTo>
                <a:lnTo>
                  <a:pt x="570" y="304"/>
                </a:lnTo>
                <a:lnTo>
                  <a:pt x="566" y="336"/>
                </a:lnTo>
                <a:lnTo>
                  <a:pt x="547" y="372"/>
                </a:lnTo>
                <a:lnTo>
                  <a:pt x="526" y="382"/>
                </a:lnTo>
                <a:lnTo>
                  <a:pt x="522" y="395"/>
                </a:lnTo>
                <a:lnTo>
                  <a:pt x="521" y="416"/>
                </a:lnTo>
                <a:lnTo>
                  <a:pt x="521" y="441"/>
                </a:lnTo>
                <a:lnTo>
                  <a:pt x="506" y="450"/>
                </a:lnTo>
                <a:lnTo>
                  <a:pt x="506" y="464"/>
                </a:lnTo>
                <a:lnTo>
                  <a:pt x="489" y="476"/>
                </a:lnTo>
                <a:lnTo>
                  <a:pt x="481" y="504"/>
                </a:lnTo>
                <a:lnTo>
                  <a:pt x="484" y="530"/>
                </a:lnTo>
                <a:lnTo>
                  <a:pt x="502" y="560"/>
                </a:lnTo>
                <a:lnTo>
                  <a:pt x="508" y="576"/>
                </a:lnTo>
                <a:lnTo>
                  <a:pt x="530" y="579"/>
                </a:lnTo>
                <a:lnTo>
                  <a:pt x="566" y="563"/>
                </a:lnTo>
                <a:lnTo>
                  <a:pt x="575" y="546"/>
                </a:lnTo>
                <a:lnTo>
                  <a:pt x="591" y="516"/>
                </a:lnTo>
                <a:lnTo>
                  <a:pt x="605" y="502"/>
                </a:lnTo>
                <a:lnTo>
                  <a:pt x="612" y="502"/>
                </a:lnTo>
                <a:lnTo>
                  <a:pt x="618" y="493"/>
                </a:lnTo>
                <a:lnTo>
                  <a:pt x="627" y="475"/>
                </a:lnTo>
                <a:lnTo>
                  <a:pt x="625" y="464"/>
                </a:lnTo>
                <a:lnTo>
                  <a:pt x="616" y="460"/>
                </a:lnTo>
                <a:lnTo>
                  <a:pt x="620" y="455"/>
                </a:lnTo>
                <a:lnTo>
                  <a:pt x="640" y="448"/>
                </a:lnTo>
                <a:lnTo>
                  <a:pt x="658" y="426"/>
                </a:lnTo>
                <a:lnTo>
                  <a:pt x="661" y="410"/>
                </a:lnTo>
                <a:lnTo>
                  <a:pt x="684" y="393"/>
                </a:lnTo>
                <a:lnTo>
                  <a:pt x="695" y="393"/>
                </a:lnTo>
                <a:lnTo>
                  <a:pt x="712" y="413"/>
                </a:lnTo>
                <a:lnTo>
                  <a:pt x="737" y="447"/>
                </a:lnTo>
                <a:lnTo>
                  <a:pt x="796" y="547"/>
                </a:lnTo>
                <a:lnTo>
                  <a:pt x="839" y="681"/>
                </a:lnTo>
                <a:lnTo>
                  <a:pt x="851" y="727"/>
                </a:lnTo>
                <a:lnTo>
                  <a:pt x="850" y="744"/>
                </a:lnTo>
                <a:lnTo>
                  <a:pt x="837" y="761"/>
                </a:lnTo>
                <a:lnTo>
                  <a:pt x="837" y="784"/>
                </a:lnTo>
                <a:lnTo>
                  <a:pt x="835" y="791"/>
                </a:lnTo>
                <a:lnTo>
                  <a:pt x="821" y="801"/>
                </a:lnTo>
                <a:lnTo>
                  <a:pt x="807" y="801"/>
                </a:lnTo>
                <a:lnTo>
                  <a:pt x="792" y="790"/>
                </a:lnTo>
                <a:lnTo>
                  <a:pt x="772" y="801"/>
                </a:lnTo>
                <a:lnTo>
                  <a:pt x="759" y="813"/>
                </a:lnTo>
                <a:lnTo>
                  <a:pt x="764" y="829"/>
                </a:lnTo>
                <a:lnTo>
                  <a:pt x="759" y="840"/>
                </a:lnTo>
                <a:lnTo>
                  <a:pt x="735" y="867"/>
                </a:lnTo>
                <a:lnTo>
                  <a:pt x="720" y="893"/>
                </a:lnTo>
                <a:lnTo>
                  <a:pt x="708" y="922"/>
                </a:lnTo>
                <a:lnTo>
                  <a:pt x="706" y="946"/>
                </a:lnTo>
                <a:lnTo>
                  <a:pt x="704" y="949"/>
                </a:lnTo>
                <a:lnTo>
                  <a:pt x="692" y="962"/>
                </a:lnTo>
                <a:lnTo>
                  <a:pt x="684" y="975"/>
                </a:lnTo>
                <a:lnTo>
                  <a:pt x="684" y="991"/>
                </a:lnTo>
                <a:lnTo>
                  <a:pt x="686" y="1003"/>
                </a:lnTo>
                <a:lnTo>
                  <a:pt x="692" y="1014"/>
                </a:lnTo>
                <a:lnTo>
                  <a:pt x="695" y="1032"/>
                </a:lnTo>
                <a:lnTo>
                  <a:pt x="0" y="1132"/>
                </a:lnTo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Freeform 35"/>
          <p:cNvSpPr/>
          <p:nvPr/>
        </p:nvSpPr>
        <p:spPr>
          <a:xfrm>
            <a:off x="5535720" y="2828880"/>
            <a:ext cx="645840" cy="1093680"/>
          </a:xfrm>
          <a:custGeom>
            <a:avLst/>
            <a:gdLst>
              <a:gd name="textAreaLeft" fmla="*/ 0 w 645840"/>
              <a:gd name="textAreaRight" fmla="*/ 646200 w 645840"/>
              <a:gd name="textAreaTop" fmla="*/ 0 h 1093680"/>
              <a:gd name="textAreaBottom" fmla="*/ 1093680 h 1093680"/>
            </a:gdLst>
            <a:ahLst/>
            <a:rect l="textAreaLeft" t="textAreaTop" r="textAreaRight" b="textAreaBottom"/>
            <a:pathLst>
              <a:path w="827" h="1493">
                <a:moveTo>
                  <a:pt x="155" y="12"/>
                </a:moveTo>
                <a:lnTo>
                  <a:pt x="686" y="0"/>
                </a:lnTo>
                <a:lnTo>
                  <a:pt x="686" y="21"/>
                </a:lnTo>
                <a:lnTo>
                  <a:pt x="691" y="55"/>
                </a:lnTo>
                <a:lnTo>
                  <a:pt x="697" y="63"/>
                </a:lnTo>
                <a:lnTo>
                  <a:pt x="705" y="76"/>
                </a:lnTo>
                <a:lnTo>
                  <a:pt x="718" y="91"/>
                </a:lnTo>
                <a:lnTo>
                  <a:pt x="733" y="103"/>
                </a:lnTo>
                <a:lnTo>
                  <a:pt x="743" y="113"/>
                </a:lnTo>
                <a:lnTo>
                  <a:pt x="827" y="946"/>
                </a:lnTo>
                <a:lnTo>
                  <a:pt x="817" y="949"/>
                </a:lnTo>
                <a:lnTo>
                  <a:pt x="805" y="952"/>
                </a:lnTo>
                <a:lnTo>
                  <a:pt x="793" y="969"/>
                </a:lnTo>
                <a:lnTo>
                  <a:pt x="789" y="977"/>
                </a:lnTo>
                <a:lnTo>
                  <a:pt x="789" y="985"/>
                </a:lnTo>
                <a:lnTo>
                  <a:pt x="800" y="993"/>
                </a:lnTo>
                <a:lnTo>
                  <a:pt x="800" y="1005"/>
                </a:lnTo>
                <a:lnTo>
                  <a:pt x="800" y="1017"/>
                </a:lnTo>
                <a:lnTo>
                  <a:pt x="800" y="1022"/>
                </a:lnTo>
                <a:lnTo>
                  <a:pt x="801" y="1028"/>
                </a:lnTo>
                <a:lnTo>
                  <a:pt x="807" y="1045"/>
                </a:lnTo>
                <a:lnTo>
                  <a:pt x="790" y="1062"/>
                </a:lnTo>
                <a:lnTo>
                  <a:pt x="782" y="1077"/>
                </a:lnTo>
                <a:lnTo>
                  <a:pt x="784" y="1091"/>
                </a:lnTo>
                <a:lnTo>
                  <a:pt x="775" y="1105"/>
                </a:lnTo>
                <a:lnTo>
                  <a:pt x="765" y="1123"/>
                </a:lnTo>
                <a:lnTo>
                  <a:pt x="765" y="1153"/>
                </a:lnTo>
                <a:lnTo>
                  <a:pt x="759" y="1183"/>
                </a:lnTo>
                <a:lnTo>
                  <a:pt x="755" y="1192"/>
                </a:lnTo>
                <a:lnTo>
                  <a:pt x="739" y="1233"/>
                </a:lnTo>
                <a:lnTo>
                  <a:pt x="732" y="1251"/>
                </a:lnTo>
                <a:lnTo>
                  <a:pt x="732" y="1285"/>
                </a:lnTo>
                <a:lnTo>
                  <a:pt x="721" y="1300"/>
                </a:lnTo>
                <a:lnTo>
                  <a:pt x="737" y="1325"/>
                </a:lnTo>
                <a:lnTo>
                  <a:pt x="721" y="1342"/>
                </a:lnTo>
                <a:lnTo>
                  <a:pt x="689" y="1340"/>
                </a:lnTo>
                <a:lnTo>
                  <a:pt x="672" y="1340"/>
                </a:lnTo>
                <a:lnTo>
                  <a:pt x="659" y="1358"/>
                </a:lnTo>
                <a:lnTo>
                  <a:pt x="668" y="1377"/>
                </a:lnTo>
                <a:lnTo>
                  <a:pt x="690" y="1399"/>
                </a:lnTo>
                <a:lnTo>
                  <a:pt x="694" y="1418"/>
                </a:lnTo>
                <a:lnTo>
                  <a:pt x="680" y="1429"/>
                </a:lnTo>
                <a:lnTo>
                  <a:pt x="644" y="1436"/>
                </a:lnTo>
                <a:lnTo>
                  <a:pt x="619" y="1446"/>
                </a:lnTo>
                <a:lnTo>
                  <a:pt x="598" y="1462"/>
                </a:lnTo>
                <a:lnTo>
                  <a:pt x="577" y="1493"/>
                </a:lnTo>
                <a:lnTo>
                  <a:pt x="570" y="1490"/>
                </a:lnTo>
                <a:lnTo>
                  <a:pt x="565" y="1476"/>
                </a:lnTo>
                <a:lnTo>
                  <a:pt x="557" y="1483"/>
                </a:lnTo>
                <a:lnTo>
                  <a:pt x="546" y="1452"/>
                </a:lnTo>
                <a:lnTo>
                  <a:pt x="540" y="1437"/>
                </a:lnTo>
                <a:lnTo>
                  <a:pt x="538" y="1431"/>
                </a:lnTo>
                <a:lnTo>
                  <a:pt x="535" y="1427"/>
                </a:lnTo>
                <a:lnTo>
                  <a:pt x="524" y="1426"/>
                </a:lnTo>
                <a:lnTo>
                  <a:pt x="522" y="1437"/>
                </a:lnTo>
                <a:lnTo>
                  <a:pt x="517" y="1446"/>
                </a:lnTo>
                <a:lnTo>
                  <a:pt x="514" y="1448"/>
                </a:lnTo>
                <a:lnTo>
                  <a:pt x="507" y="1440"/>
                </a:lnTo>
                <a:lnTo>
                  <a:pt x="499" y="1434"/>
                </a:lnTo>
                <a:lnTo>
                  <a:pt x="487" y="1423"/>
                </a:lnTo>
                <a:lnTo>
                  <a:pt x="472" y="1408"/>
                </a:lnTo>
                <a:lnTo>
                  <a:pt x="464" y="1398"/>
                </a:lnTo>
                <a:lnTo>
                  <a:pt x="464" y="1389"/>
                </a:lnTo>
                <a:lnTo>
                  <a:pt x="464" y="1386"/>
                </a:lnTo>
                <a:lnTo>
                  <a:pt x="472" y="1373"/>
                </a:lnTo>
                <a:lnTo>
                  <a:pt x="475" y="1360"/>
                </a:lnTo>
                <a:lnTo>
                  <a:pt x="475" y="1353"/>
                </a:lnTo>
                <a:lnTo>
                  <a:pt x="472" y="1340"/>
                </a:lnTo>
                <a:lnTo>
                  <a:pt x="459" y="1319"/>
                </a:lnTo>
                <a:lnTo>
                  <a:pt x="444" y="1305"/>
                </a:lnTo>
                <a:lnTo>
                  <a:pt x="425" y="1290"/>
                </a:lnTo>
                <a:lnTo>
                  <a:pt x="413" y="1278"/>
                </a:lnTo>
                <a:lnTo>
                  <a:pt x="413" y="1270"/>
                </a:lnTo>
                <a:lnTo>
                  <a:pt x="413" y="1254"/>
                </a:lnTo>
                <a:lnTo>
                  <a:pt x="403" y="1232"/>
                </a:lnTo>
                <a:lnTo>
                  <a:pt x="390" y="1221"/>
                </a:lnTo>
                <a:lnTo>
                  <a:pt x="369" y="1211"/>
                </a:lnTo>
                <a:lnTo>
                  <a:pt x="346" y="1194"/>
                </a:lnTo>
                <a:lnTo>
                  <a:pt x="301" y="1164"/>
                </a:lnTo>
                <a:lnTo>
                  <a:pt x="282" y="1153"/>
                </a:lnTo>
                <a:lnTo>
                  <a:pt x="265" y="1141"/>
                </a:lnTo>
                <a:lnTo>
                  <a:pt x="261" y="1131"/>
                </a:lnTo>
                <a:lnTo>
                  <a:pt x="261" y="1123"/>
                </a:lnTo>
                <a:lnTo>
                  <a:pt x="261" y="1107"/>
                </a:lnTo>
                <a:lnTo>
                  <a:pt x="261" y="1105"/>
                </a:lnTo>
                <a:lnTo>
                  <a:pt x="271" y="1089"/>
                </a:lnTo>
                <a:lnTo>
                  <a:pt x="279" y="1086"/>
                </a:lnTo>
                <a:lnTo>
                  <a:pt x="288" y="1059"/>
                </a:lnTo>
                <a:lnTo>
                  <a:pt x="293" y="1039"/>
                </a:lnTo>
                <a:lnTo>
                  <a:pt x="300" y="1015"/>
                </a:lnTo>
                <a:lnTo>
                  <a:pt x="300" y="1009"/>
                </a:lnTo>
                <a:lnTo>
                  <a:pt x="309" y="1002"/>
                </a:lnTo>
                <a:lnTo>
                  <a:pt x="314" y="993"/>
                </a:lnTo>
                <a:lnTo>
                  <a:pt x="294" y="963"/>
                </a:lnTo>
                <a:lnTo>
                  <a:pt x="279" y="942"/>
                </a:lnTo>
                <a:lnTo>
                  <a:pt x="266" y="923"/>
                </a:lnTo>
                <a:lnTo>
                  <a:pt x="254" y="918"/>
                </a:lnTo>
                <a:lnTo>
                  <a:pt x="242" y="916"/>
                </a:lnTo>
                <a:lnTo>
                  <a:pt x="224" y="919"/>
                </a:lnTo>
                <a:lnTo>
                  <a:pt x="219" y="932"/>
                </a:lnTo>
                <a:lnTo>
                  <a:pt x="214" y="940"/>
                </a:lnTo>
                <a:lnTo>
                  <a:pt x="202" y="947"/>
                </a:lnTo>
                <a:lnTo>
                  <a:pt x="194" y="944"/>
                </a:lnTo>
                <a:lnTo>
                  <a:pt x="183" y="936"/>
                </a:lnTo>
                <a:lnTo>
                  <a:pt x="174" y="923"/>
                </a:lnTo>
                <a:lnTo>
                  <a:pt x="166" y="908"/>
                </a:lnTo>
                <a:lnTo>
                  <a:pt x="160" y="894"/>
                </a:lnTo>
                <a:lnTo>
                  <a:pt x="156" y="880"/>
                </a:lnTo>
                <a:lnTo>
                  <a:pt x="156" y="863"/>
                </a:lnTo>
                <a:lnTo>
                  <a:pt x="156" y="854"/>
                </a:lnTo>
                <a:lnTo>
                  <a:pt x="152" y="846"/>
                </a:lnTo>
                <a:lnTo>
                  <a:pt x="149" y="833"/>
                </a:lnTo>
                <a:lnTo>
                  <a:pt x="144" y="822"/>
                </a:lnTo>
                <a:lnTo>
                  <a:pt x="136" y="813"/>
                </a:lnTo>
                <a:lnTo>
                  <a:pt x="123" y="801"/>
                </a:lnTo>
                <a:lnTo>
                  <a:pt x="102" y="794"/>
                </a:lnTo>
                <a:lnTo>
                  <a:pt x="98" y="794"/>
                </a:lnTo>
                <a:lnTo>
                  <a:pt x="83" y="763"/>
                </a:lnTo>
                <a:lnTo>
                  <a:pt x="70" y="750"/>
                </a:lnTo>
                <a:lnTo>
                  <a:pt x="66" y="735"/>
                </a:lnTo>
                <a:lnTo>
                  <a:pt x="62" y="722"/>
                </a:lnTo>
                <a:lnTo>
                  <a:pt x="53" y="711"/>
                </a:lnTo>
                <a:lnTo>
                  <a:pt x="37" y="701"/>
                </a:lnTo>
                <a:lnTo>
                  <a:pt x="35" y="701"/>
                </a:lnTo>
                <a:lnTo>
                  <a:pt x="31" y="695"/>
                </a:lnTo>
                <a:lnTo>
                  <a:pt x="23" y="680"/>
                </a:lnTo>
                <a:lnTo>
                  <a:pt x="21" y="663"/>
                </a:lnTo>
                <a:lnTo>
                  <a:pt x="21" y="651"/>
                </a:lnTo>
                <a:lnTo>
                  <a:pt x="21" y="644"/>
                </a:lnTo>
                <a:lnTo>
                  <a:pt x="21" y="635"/>
                </a:lnTo>
                <a:lnTo>
                  <a:pt x="23" y="631"/>
                </a:lnTo>
                <a:lnTo>
                  <a:pt x="17" y="616"/>
                </a:lnTo>
                <a:lnTo>
                  <a:pt x="7" y="599"/>
                </a:lnTo>
                <a:lnTo>
                  <a:pt x="0" y="588"/>
                </a:lnTo>
                <a:lnTo>
                  <a:pt x="0" y="583"/>
                </a:lnTo>
                <a:lnTo>
                  <a:pt x="6" y="573"/>
                </a:lnTo>
                <a:lnTo>
                  <a:pt x="12" y="559"/>
                </a:lnTo>
                <a:lnTo>
                  <a:pt x="12" y="530"/>
                </a:lnTo>
                <a:lnTo>
                  <a:pt x="16" y="519"/>
                </a:lnTo>
                <a:lnTo>
                  <a:pt x="29" y="505"/>
                </a:lnTo>
                <a:lnTo>
                  <a:pt x="47" y="484"/>
                </a:lnTo>
                <a:lnTo>
                  <a:pt x="57" y="478"/>
                </a:lnTo>
                <a:lnTo>
                  <a:pt x="64" y="474"/>
                </a:lnTo>
                <a:lnTo>
                  <a:pt x="70" y="457"/>
                </a:lnTo>
                <a:lnTo>
                  <a:pt x="72" y="438"/>
                </a:lnTo>
                <a:lnTo>
                  <a:pt x="75" y="433"/>
                </a:lnTo>
                <a:lnTo>
                  <a:pt x="81" y="432"/>
                </a:lnTo>
                <a:lnTo>
                  <a:pt x="87" y="426"/>
                </a:lnTo>
                <a:lnTo>
                  <a:pt x="89" y="414"/>
                </a:lnTo>
                <a:lnTo>
                  <a:pt x="89" y="398"/>
                </a:lnTo>
                <a:lnTo>
                  <a:pt x="84" y="386"/>
                </a:lnTo>
                <a:lnTo>
                  <a:pt x="75" y="368"/>
                </a:lnTo>
                <a:lnTo>
                  <a:pt x="69" y="351"/>
                </a:lnTo>
                <a:lnTo>
                  <a:pt x="59" y="342"/>
                </a:lnTo>
                <a:lnTo>
                  <a:pt x="59" y="335"/>
                </a:lnTo>
                <a:lnTo>
                  <a:pt x="68" y="300"/>
                </a:lnTo>
                <a:lnTo>
                  <a:pt x="75" y="282"/>
                </a:lnTo>
                <a:lnTo>
                  <a:pt x="83" y="278"/>
                </a:lnTo>
                <a:lnTo>
                  <a:pt x="108" y="265"/>
                </a:lnTo>
                <a:lnTo>
                  <a:pt x="134" y="254"/>
                </a:lnTo>
                <a:lnTo>
                  <a:pt x="150" y="245"/>
                </a:lnTo>
                <a:lnTo>
                  <a:pt x="170" y="236"/>
                </a:lnTo>
                <a:lnTo>
                  <a:pt x="190" y="225"/>
                </a:lnTo>
                <a:lnTo>
                  <a:pt x="196" y="218"/>
                </a:lnTo>
                <a:lnTo>
                  <a:pt x="196" y="206"/>
                </a:lnTo>
                <a:lnTo>
                  <a:pt x="196" y="195"/>
                </a:lnTo>
                <a:lnTo>
                  <a:pt x="201" y="182"/>
                </a:lnTo>
                <a:lnTo>
                  <a:pt x="214" y="159"/>
                </a:lnTo>
                <a:lnTo>
                  <a:pt x="216" y="150"/>
                </a:lnTo>
                <a:lnTo>
                  <a:pt x="208" y="138"/>
                </a:lnTo>
                <a:lnTo>
                  <a:pt x="206" y="125"/>
                </a:lnTo>
                <a:lnTo>
                  <a:pt x="208" y="118"/>
                </a:lnTo>
                <a:lnTo>
                  <a:pt x="204" y="107"/>
                </a:lnTo>
                <a:lnTo>
                  <a:pt x="202" y="98"/>
                </a:lnTo>
                <a:lnTo>
                  <a:pt x="191" y="81"/>
                </a:lnTo>
                <a:lnTo>
                  <a:pt x="173" y="58"/>
                </a:lnTo>
                <a:lnTo>
                  <a:pt x="168" y="48"/>
                </a:lnTo>
                <a:lnTo>
                  <a:pt x="155" y="12"/>
                </a:lnTo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Freeform 36"/>
          <p:cNvSpPr/>
          <p:nvPr/>
        </p:nvSpPr>
        <p:spPr>
          <a:xfrm>
            <a:off x="6116760" y="2865600"/>
            <a:ext cx="492120" cy="831600"/>
          </a:xfrm>
          <a:custGeom>
            <a:avLst/>
            <a:gdLst>
              <a:gd name="textAreaLeft" fmla="*/ 0 w 492120"/>
              <a:gd name="textAreaRight" fmla="*/ 492480 w 492120"/>
              <a:gd name="textAreaTop" fmla="*/ 0 h 831600"/>
              <a:gd name="textAreaBottom" fmla="*/ 831960 h 831600"/>
            </a:gdLst>
            <a:ahLst/>
            <a:rect l="textAreaLeft" t="textAreaTop" r="textAreaRight" b="textAreaBottom"/>
            <a:pathLst>
              <a:path w="628" h="1137">
                <a:moveTo>
                  <a:pt x="0" y="62"/>
                </a:moveTo>
                <a:lnTo>
                  <a:pt x="14" y="75"/>
                </a:lnTo>
                <a:lnTo>
                  <a:pt x="27" y="83"/>
                </a:lnTo>
                <a:lnTo>
                  <a:pt x="44" y="84"/>
                </a:lnTo>
                <a:lnTo>
                  <a:pt x="57" y="84"/>
                </a:lnTo>
                <a:lnTo>
                  <a:pt x="79" y="81"/>
                </a:lnTo>
                <a:lnTo>
                  <a:pt x="97" y="70"/>
                </a:lnTo>
                <a:lnTo>
                  <a:pt x="107" y="65"/>
                </a:lnTo>
                <a:lnTo>
                  <a:pt x="112" y="50"/>
                </a:lnTo>
                <a:lnTo>
                  <a:pt x="475" y="0"/>
                </a:lnTo>
                <a:lnTo>
                  <a:pt x="622" y="785"/>
                </a:lnTo>
                <a:lnTo>
                  <a:pt x="616" y="795"/>
                </a:lnTo>
                <a:lnTo>
                  <a:pt x="606" y="803"/>
                </a:lnTo>
                <a:lnTo>
                  <a:pt x="606" y="813"/>
                </a:lnTo>
                <a:lnTo>
                  <a:pt x="616" y="819"/>
                </a:lnTo>
                <a:lnTo>
                  <a:pt x="622" y="816"/>
                </a:lnTo>
                <a:lnTo>
                  <a:pt x="618" y="826"/>
                </a:lnTo>
                <a:lnTo>
                  <a:pt x="619" y="834"/>
                </a:lnTo>
                <a:lnTo>
                  <a:pt x="627" y="837"/>
                </a:lnTo>
                <a:lnTo>
                  <a:pt x="628" y="849"/>
                </a:lnTo>
                <a:lnTo>
                  <a:pt x="623" y="849"/>
                </a:lnTo>
                <a:lnTo>
                  <a:pt x="601" y="861"/>
                </a:lnTo>
                <a:lnTo>
                  <a:pt x="593" y="866"/>
                </a:lnTo>
                <a:lnTo>
                  <a:pt x="576" y="873"/>
                </a:lnTo>
                <a:lnTo>
                  <a:pt x="560" y="866"/>
                </a:lnTo>
                <a:lnTo>
                  <a:pt x="537" y="846"/>
                </a:lnTo>
                <a:lnTo>
                  <a:pt x="513" y="858"/>
                </a:lnTo>
                <a:lnTo>
                  <a:pt x="496" y="878"/>
                </a:lnTo>
                <a:lnTo>
                  <a:pt x="497" y="912"/>
                </a:lnTo>
                <a:lnTo>
                  <a:pt x="484" y="930"/>
                </a:lnTo>
                <a:lnTo>
                  <a:pt x="467" y="948"/>
                </a:lnTo>
                <a:lnTo>
                  <a:pt x="464" y="970"/>
                </a:lnTo>
                <a:lnTo>
                  <a:pt x="439" y="982"/>
                </a:lnTo>
                <a:lnTo>
                  <a:pt x="422" y="1008"/>
                </a:lnTo>
                <a:lnTo>
                  <a:pt x="408" y="1034"/>
                </a:lnTo>
                <a:lnTo>
                  <a:pt x="378" y="1042"/>
                </a:lnTo>
                <a:lnTo>
                  <a:pt x="361" y="1035"/>
                </a:lnTo>
                <a:lnTo>
                  <a:pt x="354" y="1009"/>
                </a:lnTo>
                <a:lnTo>
                  <a:pt x="342" y="998"/>
                </a:lnTo>
                <a:lnTo>
                  <a:pt x="334" y="998"/>
                </a:lnTo>
                <a:lnTo>
                  <a:pt x="330" y="1018"/>
                </a:lnTo>
                <a:lnTo>
                  <a:pt x="324" y="1033"/>
                </a:lnTo>
                <a:lnTo>
                  <a:pt x="311" y="1033"/>
                </a:lnTo>
                <a:lnTo>
                  <a:pt x="294" y="1051"/>
                </a:lnTo>
                <a:lnTo>
                  <a:pt x="286" y="1065"/>
                </a:lnTo>
                <a:lnTo>
                  <a:pt x="266" y="1062"/>
                </a:lnTo>
                <a:lnTo>
                  <a:pt x="247" y="1051"/>
                </a:lnTo>
                <a:lnTo>
                  <a:pt x="235" y="1051"/>
                </a:lnTo>
                <a:lnTo>
                  <a:pt x="210" y="1071"/>
                </a:lnTo>
                <a:lnTo>
                  <a:pt x="208" y="1091"/>
                </a:lnTo>
                <a:lnTo>
                  <a:pt x="193" y="1094"/>
                </a:lnTo>
                <a:lnTo>
                  <a:pt x="173" y="1087"/>
                </a:lnTo>
                <a:lnTo>
                  <a:pt x="165" y="1072"/>
                </a:lnTo>
                <a:lnTo>
                  <a:pt x="152" y="1062"/>
                </a:lnTo>
                <a:lnTo>
                  <a:pt x="138" y="1070"/>
                </a:lnTo>
                <a:lnTo>
                  <a:pt x="127" y="1079"/>
                </a:lnTo>
                <a:lnTo>
                  <a:pt x="117" y="1099"/>
                </a:lnTo>
                <a:lnTo>
                  <a:pt x="102" y="1113"/>
                </a:lnTo>
                <a:lnTo>
                  <a:pt x="84" y="1121"/>
                </a:lnTo>
                <a:lnTo>
                  <a:pt x="67" y="1124"/>
                </a:lnTo>
                <a:lnTo>
                  <a:pt x="49" y="1129"/>
                </a:lnTo>
                <a:lnTo>
                  <a:pt x="29" y="1137"/>
                </a:lnTo>
                <a:lnTo>
                  <a:pt x="14" y="1130"/>
                </a:lnTo>
                <a:lnTo>
                  <a:pt x="21" y="1114"/>
                </a:lnTo>
                <a:lnTo>
                  <a:pt x="22" y="1101"/>
                </a:lnTo>
                <a:lnTo>
                  <a:pt x="22" y="1073"/>
                </a:lnTo>
                <a:lnTo>
                  <a:pt x="28" y="1062"/>
                </a:lnTo>
                <a:lnTo>
                  <a:pt x="34" y="1049"/>
                </a:lnTo>
                <a:lnTo>
                  <a:pt x="39" y="1040"/>
                </a:lnTo>
                <a:lnTo>
                  <a:pt x="39" y="1031"/>
                </a:lnTo>
                <a:lnTo>
                  <a:pt x="41" y="1027"/>
                </a:lnTo>
                <a:lnTo>
                  <a:pt x="43" y="1019"/>
                </a:lnTo>
                <a:lnTo>
                  <a:pt x="50" y="1010"/>
                </a:lnTo>
                <a:lnTo>
                  <a:pt x="59" y="1003"/>
                </a:lnTo>
                <a:lnTo>
                  <a:pt x="62" y="998"/>
                </a:lnTo>
                <a:lnTo>
                  <a:pt x="62" y="993"/>
                </a:lnTo>
                <a:lnTo>
                  <a:pt x="62" y="990"/>
                </a:lnTo>
                <a:lnTo>
                  <a:pt x="58" y="978"/>
                </a:lnTo>
                <a:lnTo>
                  <a:pt x="57" y="959"/>
                </a:lnTo>
                <a:lnTo>
                  <a:pt x="57" y="947"/>
                </a:lnTo>
                <a:lnTo>
                  <a:pt x="58" y="943"/>
                </a:lnTo>
                <a:lnTo>
                  <a:pt x="52" y="941"/>
                </a:lnTo>
                <a:lnTo>
                  <a:pt x="49" y="940"/>
                </a:lnTo>
                <a:lnTo>
                  <a:pt x="45" y="935"/>
                </a:lnTo>
                <a:lnTo>
                  <a:pt x="45" y="928"/>
                </a:lnTo>
                <a:lnTo>
                  <a:pt x="49" y="922"/>
                </a:lnTo>
                <a:lnTo>
                  <a:pt x="61" y="905"/>
                </a:lnTo>
                <a:lnTo>
                  <a:pt x="64" y="902"/>
                </a:lnTo>
                <a:lnTo>
                  <a:pt x="70" y="899"/>
                </a:lnTo>
                <a:lnTo>
                  <a:pt x="81" y="897"/>
                </a:lnTo>
                <a:lnTo>
                  <a:pt x="83" y="896"/>
                </a:lnTo>
                <a:lnTo>
                  <a:pt x="83" y="892"/>
                </a:lnTo>
                <a:lnTo>
                  <a:pt x="1" y="77"/>
                </a:lnTo>
                <a:lnTo>
                  <a:pt x="0" y="62"/>
                </a:lnTo>
              </a:path>
            </a:pathLst>
          </a:custGeom>
          <a:solidFill>
            <a:srgbClr val="00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Freeform 37"/>
          <p:cNvSpPr/>
          <p:nvPr/>
        </p:nvSpPr>
        <p:spPr>
          <a:xfrm>
            <a:off x="6477120" y="2652840"/>
            <a:ext cx="761760" cy="838080"/>
          </a:xfrm>
          <a:custGeom>
            <a:avLst/>
            <a:gdLst>
              <a:gd name="textAreaLeft" fmla="*/ 0 w 761760"/>
              <a:gd name="textAreaRight" fmla="*/ 762120 w 7617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24" h="1049">
                <a:moveTo>
                  <a:pt x="0" y="221"/>
                </a:moveTo>
                <a:lnTo>
                  <a:pt x="337" y="172"/>
                </a:lnTo>
                <a:lnTo>
                  <a:pt x="326" y="190"/>
                </a:lnTo>
                <a:lnTo>
                  <a:pt x="355" y="185"/>
                </a:lnTo>
                <a:lnTo>
                  <a:pt x="370" y="185"/>
                </a:lnTo>
                <a:lnTo>
                  <a:pt x="373" y="183"/>
                </a:lnTo>
                <a:lnTo>
                  <a:pt x="380" y="172"/>
                </a:lnTo>
                <a:lnTo>
                  <a:pt x="390" y="173"/>
                </a:lnTo>
                <a:lnTo>
                  <a:pt x="396" y="185"/>
                </a:lnTo>
                <a:lnTo>
                  <a:pt x="414" y="188"/>
                </a:lnTo>
                <a:lnTo>
                  <a:pt x="450" y="190"/>
                </a:lnTo>
                <a:lnTo>
                  <a:pt x="467" y="180"/>
                </a:lnTo>
                <a:lnTo>
                  <a:pt x="470" y="166"/>
                </a:lnTo>
                <a:lnTo>
                  <a:pt x="474" y="166"/>
                </a:lnTo>
                <a:lnTo>
                  <a:pt x="488" y="173"/>
                </a:lnTo>
                <a:lnTo>
                  <a:pt x="496" y="180"/>
                </a:lnTo>
                <a:lnTo>
                  <a:pt x="482" y="193"/>
                </a:lnTo>
                <a:lnTo>
                  <a:pt x="462" y="198"/>
                </a:lnTo>
                <a:lnTo>
                  <a:pt x="444" y="208"/>
                </a:lnTo>
                <a:lnTo>
                  <a:pt x="433" y="213"/>
                </a:lnTo>
                <a:lnTo>
                  <a:pt x="423" y="221"/>
                </a:lnTo>
                <a:lnTo>
                  <a:pt x="441" y="224"/>
                </a:lnTo>
                <a:lnTo>
                  <a:pt x="489" y="213"/>
                </a:lnTo>
                <a:lnTo>
                  <a:pt x="520" y="197"/>
                </a:lnTo>
                <a:lnTo>
                  <a:pt x="538" y="179"/>
                </a:lnTo>
                <a:lnTo>
                  <a:pt x="548" y="175"/>
                </a:lnTo>
                <a:lnTo>
                  <a:pt x="556" y="175"/>
                </a:lnTo>
                <a:lnTo>
                  <a:pt x="573" y="175"/>
                </a:lnTo>
                <a:lnTo>
                  <a:pt x="596" y="168"/>
                </a:lnTo>
                <a:lnTo>
                  <a:pt x="614" y="154"/>
                </a:lnTo>
                <a:lnTo>
                  <a:pt x="631" y="143"/>
                </a:lnTo>
                <a:lnTo>
                  <a:pt x="660" y="134"/>
                </a:lnTo>
                <a:lnTo>
                  <a:pt x="707" y="112"/>
                </a:lnTo>
                <a:lnTo>
                  <a:pt x="752" y="75"/>
                </a:lnTo>
                <a:lnTo>
                  <a:pt x="821" y="23"/>
                </a:lnTo>
                <a:lnTo>
                  <a:pt x="843" y="8"/>
                </a:lnTo>
                <a:lnTo>
                  <a:pt x="856" y="0"/>
                </a:lnTo>
                <a:lnTo>
                  <a:pt x="924" y="364"/>
                </a:lnTo>
                <a:lnTo>
                  <a:pt x="905" y="380"/>
                </a:lnTo>
                <a:lnTo>
                  <a:pt x="893" y="386"/>
                </a:lnTo>
                <a:lnTo>
                  <a:pt x="884" y="400"/>
                </a:lnTo>
                <a:lnTo>
                  <a:pt x="884" y="413"/>
                </a:lnTo>
                <a:lnTo>
                  <a:pt x="894" y="418"/>
                </a:lnTo>
                <a:lnTo>
                  <a:pt x="906" y="438"/>
                </a:lnTo>
                <a:lnTo>
                  <a:pt x="906" y="455"/>
                </a:lnTo>
                <a:lnTo>
                  <a:pt x="902" y="473"/>
                </a:lnTo>
                <a:lnTo>
                  <a:pt x="898" y="490"/>
                </a:lnTo>
                <a:lnTo>
                  <a:pt x="902" y="506"/>
                </a:lnTo>
                <a:lnTo>
                  <a:pt x="893" y="534"/>
                </a:lnTo>
                <a:lnTo>
                  <a:pt x="865" y="611"/>
                </a:lnTo>
                <a:lnTo>
                  <a:pt x="840" y="685"/>
                </a:lnTo>
                <a:lnTo>
                  <a:pt x="829" y="696"/>
                </a:lnTo>
                <a:lnTo>
                  <a:pt x="820" y="701"/>
                </a:lnTo>
                <a:lnTo>
                  <a:pt x="821" y="719"/>
                </a:lnTo>
                <a:lnTo>
                  <a:pt x="826" y="730"/>
                </a:lnTo>
                <a:lnTo>
                  <a:pt x="826" y="743"/>
                </a:lnTo>
                <a:lnTo>
                  <a:pt x="826" y="753"/>
                </a:lnTo>
                <a:lnTo>
                  <a:pt x="819" y="773"/>
                </a:lnTo>
                <a:lnTo>
                  <a:pt x="806" y="778"/>
                </a:lnTo>
                <a:lnTo>
                  <a:pt x="793" y="778"/>
                </a:lnTo>
                <a:lnTo>
                  <a:pt x="781" y="778"/>
                </a:lnTo>
                <a:lnTo>
                  <a:pt x="757" y="789"/>
                </a:lnTo>
                <a:lnTo>
                  <a:pt x="716" y="842"/>
                </a:lnTo>
                <a:lnTo>
                  <a:pt x="714" y="859"/>
                </a:lnTo>
                <a:lnTo>
                  <a:pt x="720" y="876"/>
                </a:lnTo>
                <a:lnTo>
                  <a:pt x="723" y="891"/>
                </a:lnTo>
                <a:lnTo>
                  <a:pt x="714" y="895"/>
                </a:lnTo>
                <a:lnTo>
                  <a:pt x="700" y="898"/>
                </a:lnTo>
                <a:lnTo>
                  <a:pt x="689" y="898"/>
                </a:lnTo>
                <a:lnTo>
                  <a:pt x="678" y="910"/>
                </a:lnTo>
                <a:lnTo>
                  <a:pt x="691" y="931"/>
                </a:lnTo>
                <a:lnTo>
                  <a:pt x="700" y="939"/>
                </a:lnTo>
                <a:lnTo>
                  <a:pt x="707" y="955"/>
                </a:lnTo>
                <a:lnTo>
                  <a:pt x="700" y="959"/>
                </a:lnTo>
                <a:lnTo>
                  <a:pt x="685" y="959"/>
                </a:lnTo>
                <a:lnTo>
                  <a:pt x="683" y="962"/>
                </a:lnTo>
                <a:lnTo>
                  <a:pt x="683" y="974"/>
                </a:lnTo>
                <a:lnTo>
                  <a:pt x="671" y="969"/>
                </a:lnTo>
                <a:lnTo>
                  <a:pt x="667" y="951"/>
                </a:lnTo>
                <a:lnTo>
                  <a:pt x="660" y="940"/>
                </a:lnTo>
                <a:lnTo>
                  <a:pt x="654" y="940"/>
                </a:lnTo>
                <a:lnTo>
                  <a:pt x="647" y="946"/>
                </a:lnTo>
                <a:lnTo>
                  <a:pt x="643" y="956"/>
                </a:lnTo>
                <a:lnTo>
                  <a:pt x="643" y="967"/>
                </a:lnTo>
                <a:lnTo>
                  <a:pt x="654" y="976"/>
                </a:lnTo>
                <a:lnTo>
                  <a:pt x="654" y="980"/>
                </a:lnTo>
                <a:lnTo>
                  <a:pt x="646" y="992"/>
                </a:lnTo>
                <a:lnTo>
                  <a:pt x="630" y="998"/>
                </a:lnTo>
                <a:lnTo>
                  <a:pt x="620" y="1030"/>
                </a:lnTo>
                <a:lnTo>
                  <a:pt x="615" y="1037"/>
                </a:lnTo>
                <a:lnTo>
                  <a:pt x="602" y="1044"/>
                </a:lnTo>
                <a:lnTo>
                  <a:pt x="587" y="1046"/>
                </a:lnTo>
                <a:lnTo>
                  <a:pt x="570" y="1049"/>
                </a:lnTo>
                <a:lnTo>
                  <a:pt x="549" y="1046"/>
                </a:lnTo>
                <a:lnTo>
                  <a:pt x="538" y="1043"/>
                </a:lnTo>
                <a:lnTo>
                  <a:pt x="525" y="1031"/>
                </a:lnTo>
                <a:lnTo>
                  <a:pt x="522" y="1026"/>
                </a:lnTo>
                <a:lnTo>
                  <a:pt x="507" y="1020"/>
                </a:lnTo>
                <a:lnTo>
                  <a:pt x="496" y="1020"/>
                </a:lnTo>
                <a:lnTo>
                  <a:pt x="490" y="1014"/>
                </a:lnTo>
                <a:lnTo>
                  <a:pt x="485" y="1007"/>
                </a:lnTo>
                <a:lnTo>
                  <a:pt x="481" y="1003"/>
                </a:lnTo>
                <a:lnTo>
                  <a:pt x="469" y="1008"/>
                </a:lnTo>
                <a:lnTo>
                  <a:pt x="463" y="1015"/>
                </a:lnTo>
                <a:lnTo>
                  <a:pt x="449" y="1026"/>
                </a:lnTo>
                <a:lnTo>
                  <a:pt x="443" y="1031"/>
                </a:lnTo>
                <a:lnTo>
                  <a:pt x="435" y="1037"/>
                </a:lnTo>
                <a:lnTo>
                  <a:pt x="429" y="1037"/>
                </a:lnTo>
                <a:lnTo>
                  <a:pt x="419" y="1033"/>
                </a:lnTo>
                <a:lnTo>
                  <a:pt x="412" y="1031"/>
                </a:lnTo>
                <a:lnTo>
                  <a:pt x="406" y="1035"/>
                </a:lnTo>
                <a:lnTo>
                  <a:pt x="399" y="1037"/>
                </a:lnTo>
                <a:lnTo>
                  <a:pt x="389" y="1037"/>
                </a:lnTo>
                <a:lnTo>
                  <a:pt x="383" y="1031"/>
                </a:lnTo>
                <a:lnTo>
                  <a:pt x="373" y="1020"/>
                </a:lnTo>
                <a:lnTo>
                  <a:pt x="367" y="1016"/>
                </a:lnTo>
                <a:lnTo>
                  <a:pt x="357" y="1014"/>
                </a:lnTo>
                <a:lnTo>
                  <a:pt x="344" y="1018"/>
                </a:lnTo>
                <a:lnTo>
                  <a:pt x="327" y="1026"/>
                </a:lnTo>
                <a:lnTo>
                  <a:pt x="318" y="1028"/>
                </a:lnTo>
                <a:lnTo>
                  <a:pt x="308" y="1031"/>
                </a:lnTo>
                <a:lnTo>
                  <a:pt x="299" y="1021"/>
                </a:lnTo>
                <a:lnTo>
                  <a:pt x="284" y="1012"/>
                </a:lnTo>
                <a:lnTo>
                  <a:pt x="283" y="1006"/>
                </a:lnTo>
                <a:lnTo>
                  <a:pt x="281" y="999"/>
                </a:lnTo>
                <a:lnTo>
                  <a:pt x="274" y="984"/>
                </a:lnTo>
                <a:lnTo>
                  <a:pt x="258" y="974"/>
                </a:lnTo>
                <a:lnTo>
                  <a:pt x="245" y="966"/>
                </a:lnTo>
                <a:lnTo>
                  <a:pt x="232" y="962"/>
                </a:lnTo>
                <a:lnTo>
                  <a:pt x="219" y="960"/>
                </a:lnTo>
                <a:lnTo>
                  <a:pt x="206" y="962"/>
                </a:lnTo>
                <a:lnTo>
                  <a:pt x="194" y="959"/>
                </a:lnTo>
                <a:lnTo>
                  <a:pt x="186" y="963"/>
                </a:lnTo>
                <a:lnTo>
                  <a:pt x="186" y="968"/>
                </a:lnTo>
                <a:lnTo>
                  <a:pt x="176" y="973"/>
                </a:lnTo>
                <a:lnTo>
                  <a:pt x="170" y="973"/>
                </a:lnTo>
                <a:lnTo>
                  <a:pt x="161" y="973"/>
                </a:lnTo>
                <a:lnTo>
                  <a:pt x="153" y="981"/>
                </a:lnTo>
                <a:lnTo>
                  <a:pt x="152" y="993"/>
                </a:lnTo>
                <a:lnTo>
                  <a:pt x="145" y="1012"/>
                </a:lnTo>
                <a:lnTo>
                  <a:pt x="0" y="221"/>
                </a:lnTo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Freeform 38"/>
          <p:cNvSpPr/>
          <p:nvPr/>
        </p:nvSpPr>
        <p:spPr>
          <a:xfrm>
            <a:off x="5899320" y="3405240"/>
            <a:ext cx="1179360" cy="574560"/>
          </a:xfrm>
          <a:custGeom>
            <a:avLst/>
            <a:gdLst>
              <a:gd name="textAreaLeft" fmla="*/ 0 w 1179360"/>
              <a:gd name="textAreaRight" fmla="*/ 1179720 w 117936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1505" h="783">
                <a:moveTo>
                  <a:pt x="0" y="783"/>
                </a:moveTo>
                <a:lnTo>
                  <a:pt x="32" y="774"/>
                </a:lnTo>
                <a:lnTo>
                  <a:pt x="49" y="767"/>
                </a:lnTo>
                <a:lnTo>
                  <a:pt x="70" y="759"/>
                </a:lnTo>
                <a:lnTo>
                  <a:pt x="74" y="757"/>
                </a:lnTo>
                <a:lnTo>
                  <a:pt x="76" y="746"/>
                </a:lnTo>
                <a:lnTo>
                  <a:pt x="76" y="722"/>
                </a:lnTo>
                <a:lnTo>
                  <a:pt x="87" y="713"/>
                </a:lnTo>
                <a:lnTo>
                  <a:pt x="93" y="709"/>
                </a:lnTo>
                <a:lnTo>
                  <a:pt x="93" y="705"/>
                </a:lnTo>
                <a:lnTo>
                  <a:pt x="91" y="697"/>
                </a:lnTo>
                <a:lnTo>
                  <a:pt x="101" y="690"/>
                </a:lnTo>
                <a:lnTo>
                  <a:pt x="106" y="701"/>
                </a:lnTo>
                <a:lnTo>
                  <a:pt x="113" y="706"/>
                </a:lnTo>
                <a:lnTo>
                  <a:pt x="119" y="696"/>
                </a:lnTo>
                <a:lnTo>
                  <a:pt x="132" y="677"/>
                </a:lnTo>
                <a:lnTo>
                  <a:pt x="140" y="671"/>
                </a:lnTo>
                <a:lnTo>
                  <a:pt x="156" y="659"/>
                </a:lnTo>
                <a:lnTo>
                  <a:pt x="193" y="644"/>
                </a:lnTo>
                <a:lnTo>
                  <a:pt x="215" y="639"/>
                </a:lnTo>
                <a:lnTo>
                  <a:pt x="218" y="637"/>
                </a:lnTo>
                <a:lnTo>
                  <a:pt x="226" y="636"/>
                </a:lnTo>
                <a:lnTo>
                  <a:pt x="227" y="624"/>
                </a:lnTo>
                <a:lnTo>
                  <a:pt x="227" y="617"/>
                </a:lnTo>
                <a:lnTo>
                  <a:pt x="226" y="613"/>
                </a:lnTo>
                <a:lnTo>
                  <a:pt x="217" y="601"/>
                </a:lnTo>
                <a:lnTo>
                  <a:pt x="205" y="595"/>
                </a:lnTo>
                <a:lnTo>
                  <a:pt x="200" y="583"/>
                </a:lnTo>
                <a:lnTo>
                  <a:pt x="197" y="571"/>
                </a:lnTo>
                <a:lnTo>
                  <a:pt x="199" y="569"/>
                </a:lnTo>
                <a:lnTo>
                  <a:pt x="204" y="561"/>
                </a:lnTo>
                <a:lnTo>
                  <a:pt x="210" y="554"/>
                </a:lnTo>
                <a:lnTo>
                  <a:pt x="222" y="550"/>
                </a:lnTo>
                <a:lnTo>
                  <a:pt x="242" y="556"/>
                </a:lnTo>
                <a:lnTo>
                  <a:pt x="257" y="556"/>
                </a:lnTo>
                <a:lnTo>
                  <a:pt x="269" y="548"/>
                </a:lnTo>
                <a:lnTo>
                  <a:pt x="272" y="542"/>
                </a:lnTo>
                <a:lnTo>
                  <a:pt x="273" y="537"/>
                </a:lnTo>
                <a:lnTo>
                  <a:pt x="268" y="529"/>
                </a:lnTo>
                <a:lnTo>
                  <a:pt x="257" y="518"/>
                </a:lnTo>
                <a:lnTo>
                  <a:pt x="257" y="511"/>
                </a:lnTo>
                <a:lnTo>
                  <a:pt x="264" y="504"/>
                </a:lnTo>
                <a:lnTo>
                  <a:pt x="269" y="496"/>
                </a:lnTo>
                <a:lnTo>
                  <a:pt x="268" y="483"/>
                </a:lnTo>
                <a:lnTo>
                  <a:pt x="268" y="470"/>
                </a:lnTo>
                <a:lnTo>
                  <a:pt x="270" y="462"/>
                </a:lnTo>
                <a:lnTo>
                  <a:pt x="273" y="453"/>
                </a:lnTo>
                <a:lnTo>
                  <a:pt x="276" y="443"/>
                </a:lnTo>
                <a:lnTo>
                  <a:pt x="279" y="427"/>
                </a:lnTo>
                <a:lnTo>
                  <a:pt x="293" y="402"/>
                </a:lnTo>
                <a:lnTo>
                  <a:pt x="295" y="396"/>
                </a:lnTo>
                <a:lnTo>
                  <a:pt x="300" y="393"/>
                </a:lnTo>
                <a:lnTo>
                  <a:pt x="311" y="397"/>
                </a:lnTo>
                <a:lnTo>
                  <a:pt x="320" y="396"/>
                </a:lnTo>
                <a:lnTo>
                  <a:pt x="326" y="395"/>
                </a:lnTo>
                <a:lnTo>
                  <a:pt x="353" y="386"/>
                </a:lnTo>
                <a:lnTo>
                  <a:pt x="376" y="378"/>
                </a:lnTo>
                <a:lnTo>
                  <a:pt x="391" y="371"/>
                </a:lnTo>
                <a:lnTo>
                  <a:pt x="399" y="358"/>
                </a:lnTo>
                <a:lnTo>
                  <a:pt x="406" y="344"/>
                </a:lnTo>
                <a:lnTo>
                  <a:pt x="414" y="337"/>
                </a:lnTo>
                <a:lnTo>
                  <a:pt x="422" y="330"/>
                </a:lnTo>
                <a:lnTo>
                  <a:pt x="431" y="330"/>
                </a:lnTo>
                <a:lnTo>
                  <a:pt x="435" y="330"/>
                </a:lnTo>
                <a:lnTo>
                  <a:pt x="440" y="334"/>
                </a:lnTo>
                <a:lnTo>
                  <a:pt x="447" y="340"/>
                </a:lnTo>
                <a:lnTo>
                  <a:pt x="447" y="348"/>
                </a:lnTo>
                <a:lnTo>
                  <a:pt x="452" y="351"/>
                </a:lnTo>
                <a:lnTo>
                  <a:pt x="462" y="356"/>
                </a:lnTo>
                <a:lnTo>
                  <a:pt x="474" y="357"/>
                </a:lnTo>
                <a:lnTo>
                  <a:pt x="487" y="351"/>
                </a:lnTo>
                <a:lnTo>
                  <a:pt x="487" y="349"/>
                </a:lnTo>
                <a:lnTo>
                  <a:pt x="488" y="340"/>
                </a:lnTo>
                <a:lnTo>
                  <a:pt x="492" y="333"/>
                </a:lnTo>
                <a:lnTo>
                  <a:pt x="497" y="329"/>
                </a:lnTo>
                <a:lnTo>
                  <a:pt x="512" y="315"/>
                </a:lnTo>
                <a:lnTo>
                  <a:pt x="522" y="315"/>
                </a:lnTo>
                <a:lnTo>
                  <a:pt x="533" y="315"/>
                </a:lnTo>
                <a:lnTo>
                  <a:pt x="541" y="321"/>
                </a:lnTo>
                <a:lnTo>
                  <a:pt x="553" y="326"/>
                </a:lnTo>
                <a:lnTo>
                  <a:pt x="563" y="326"/>
                </a:lnTo>
                <a:lnTo>
                  <a:pt x="567" y="325"/>
                </a:lnTo>
                <a:lnTo>
                  <a:pt x="575" y="310"/>
                </a:lnTo>
                <a:lnTo>
                  <a:pt x="584" y="305"/>
                </a:lnTo>
                <a:lnTo>
                  <a:pt x="590" y="296"/>
                </a:lnTo>
                <a:lnTo>
                  <a:pt x="596" y="297"/>
                </a:lnTo>
                <a:lnTo>
                  <a:pt x="606" y="291"/>
                </a:lnTo>
                <a:lnTo>
                  <a:pt x="613" y="268"/>
                </a:lnTo>
                <a:lnTo>
                  <a:pt x="613" y="262"/>
                </a:lnTo>
                <a:lnTo>
                  <a:pt x="620" y="262"/>
                </a:lnTo>
                <a:lnTo>
                  <a:pt x="627" y="262"/>
                </a:lnTo>
                <a:lnTo>
                  <a:pt x="632" y="272"/>
                </a:lnTo>
                <a:lnTo>
                  <a:pt x="635" y="286"/>
                </a:lnTo>
                <a:lnTo>
                  <a:pt x="641" y="299"/>
                </a:lnTo>
                <a:lnTo>
                  <a:pt x="650" y="304"/>
                </a:lnTo>
                <a:lnTo>
                  <a:pt x="665" y="305"/>
                </a:lnTo>
                <a:lnTo>
                  <a:pt x="677" y="302"/>
                </a:lnTo>
                <a:lnTo>
                  <a:pt x="687" y="298"/>
                </a:lnTo>
                <a:lnTo>
                  <a:pt x="696" y="284"/>
                </a:lnTo>
                <a:lnTo>
                  <a:pt x="717" y="249"/>
                </a:lnTo>
                <a:lnTo>
                  <a:pt x="726" y="241"/>
                </a:lnTo>
                <a:lnTo>
                  <a:pt x="736" y="234"/>
                </a:lnTo>
                <a:lnTo>
                  <a:pt x="740" y="233"/>
                </a:lnTo>
                <a:lnTo>
                  <a:pt x="745" y="223"/>
                </a:lnTo>
                <a:lnTo>
                  <a:pt x="745" y="211"/>
                </a:lnTo>
                <a:lnTo>
                  <a:pt x="755" y="201"/>
                </a:lnTo>
                <a:lnTo>
                  <a:pt x="763" y="193"/>
                </a:lnTo>
                <a:lnTo>
                  <a:pt x="773" y="182"/>
                </a:lnTo>
                <a:lnTo>
                  <a:pt x="775" y="176"/>
                </a:lnTo>
                <a:lnTo>
                  <a:pt x="775" y="154"/>
                </a:lnTo>
                <a:lnTo>
                  <a:pt x="776" y="140"/>
                </a:lnTo>
                <a:lnTo>
                  <a:pt x="788" y="124"/>
                </a:lnTo>
                <a:lnTo>
                  <a:pt x="803" y="116"/>
                </a:lnTo>
                <a:lnTo>
                  <a:pt x="817" y="109"/>
                </a:lnTo>
                <a:lnTo>
                  <a:pt x="825" y="115"/>
                </a:lnTo>
                <a:lnTo>
                  <a:pt x="839" y="129"/>
                </a:lnTo>
                <a:lnTo>
                  <a:pt x="855" y="137"/>
                </a:lnTo>
                <a:lnTo>
                  <a:pt x="878" y="129"/>
                </a:lnTo>
                <a:lnTo>
                  <a:pt x="891" y="118"/>
                </a:lnTo>
                <a:lnTo>
                  <a:pt x="901" y="110"/>
                </a:lnTo>
                <a:lnTo>
                  <a:pt x="908" y="107"/>
                </a:lnTo>
                <a:lnTo>
                  <a:pt x="899" y="100"/>
                </a:lnTo>
                <a:lnTo>
                  <a:pt x="897" y="95"/>
                </a:lnTo>
                <a:lnTo>
                  <a:pt x="897" y="85"/>
                </a:lnTo>
                <a:lnTo>
                  <a:pt x="892" y="78"/>
                </a:lnTo>
                <a:lnTo>
                  <a:pt x="886" y="78"/>
                </a:lnTo>
                <a:lnTo>
                  <a:pt x="880" y="71"/>
                </a:lnTo>
                <a:lnTo>
                  <a:pt x="892" y="60"/>
                </a:lnTo>
                <a:lnTo>
                  <a:pt x="899" y="49"/>
                </a:lnTo>
                <a:lnTo>
                  <a:pt x="904" y="41"/>
                </a:lnTo>
                <a:lnTo>
                  <a:pt x="908" y="21"/>
                </a:lnTo>
                <a:lnTo>
                  <a:pt x="915" y="16"/>
                </a:lnTo>
                <a:lnTo>
                  <a:pt x="923" y="14"/>
                </a:lnTo>
                <a:lnTo>
                  <a:pt x="935" y="9"/>
                </a:lnTo>
                <a:lnTo>
                  <a:pt x="944" y="4"/>
                </a:lnTo>
                <a:lnTo>
                  <a:pt x="947" y="0"/>
                </a:lnTo>
                <a:lnTo>
                  <a:pt x="959" y="0"/>
                </a:lnTo>
                <a:lnTo>
                  <a:pt x="985" y="3"/>
                </a:lnTo>
                <a:lnTo>
                  <a:pt x="1013" y="15"/>
                </a:lnTo>
                <a:lnTo>
                  <a:pt x="1028" y="22"/>
                </a:lnTo>
                <a:lnTo>
                  <a:pt x="1034" y="27"/>
                </a:lnTo>
                <a:lnTo>
                  <a:pt x="1035" y="39"/>
                </a:lnTo>
                <a:lnTo>
                  <a:pt x="1038" y="53"/>
                </a:lnTo>
                <a:lnTo>
                  <a:pt x="1051" y="60"/>
                </a:lnTo>
                <a:lnTo>
                  <a:pt x="1062" y="71"/>
                </a:lnTo>
                <a:lnTo>
                  <a:pt x="1075" y="68"/>
                </a:lnTo>
                <a:lnTo>
                  <a:pt x="1099" y="57"/>
                </a:lnTo>
                <a:lnTo>
                  <a:pt x="1117" y="55"/>
                </a:lnTo>
                <a:lnTo>
                  <a:pt x="1126" y="57"/>
                </a:lnTo>
                <a:lnTo>
                  <a:pt x="1135" y="70"/>
                </a:lnTo>
                <a:lnTo>
                  <a:pt x="1153" y="80"/>
                </a:lnTo>
                <a:lnTo>
                  <a:pt x="1166" y="72"/>
                </a:lnTo>
                <a:lnTo>
                  <a:pt x="1179" y="76"/>
                </a:lnTo>
                <a:lnTo>
                  <a:pt x="1189" y="78"/>
                </a:lnTo>
                <a:lnTo>
                  <a:pt x="1203" y="69"/>
                </a:lnTo>
                <a:lnTo>
                  <a:pt x="1223" y="49"/>
                </a:lnTo>
                <a:lnTo>
                  <a:pt x="1230" y="47"/>
                </a:lnTo>
                <a:lnTo>
                  <a:pt x="1242" y="45"/>
                </a:lnTo>
                <a:lnTo>
                  <a:pt x="1250" y="56"/>
                </a:lnTo>
                <a:lnTo>
                  <a:pt x="1254" y="60"/>
                </a:lnTo>
                <a:lnTo>
                  <a:pt x="1264" y="60"/>
                </a:lnTo>
                <a:lnTo>
                  <a:pt x="1278" y="68"/>
                </a:lnTo>
                <a:lnTo>
                  <a:pt x="1281" y="72"/>
                </a:lnTo>
                <a:lnTo>
                  <a:pt x="1286" y="78"/>
                </a:lnTo>
                <a:lnTo>
                  <a:pt x="1301" y="86"/>
                </a:lnTo>
                <a:lnTo>
                  <a:pt x="1311" y="87"/>
                </a:lnTo>
                <a:lnTo>
                  <a:pt x="1327" y="94"/>
                </a:lnTo>
                <a:lnTo>
                  <a:pt x="1338" y="90"/>
                </a:lnTo>
                <a:lnTo>
                  <a:pt x="1361" y="100"/>
                </a:lnTo>
                <a:lnTo>
                  <a:pt x="1365" y="107"/>
                </a:lnTo>
                <a:lnTo>
                  <a:pt x="1371" y="121"/>
                </a:lnTo>
                <a:lnTo>
                  <a:pt x="1374" y="130"/>
                </a:lnTo>
                <a:lnTo>
                  <a:pt x="1391" y="142"/>
                </a:lnTo>
                <a:lnTo>
                  <a:pt x="1403" y="152"/>
                </a:lnTo>
                <a:lnTo>
                  <a:pt x="1423" y="167"/>
                </a:lnTo>
                <a:lnTo>
                  <a:pt x="1425" y="185"/>
                </a:lnTo>
                <a:lnTo>
                  <a:pt x="1439" y="206"/>
                </a:lnTo>
                <a:lnTo>
                  <a:pt x="1448" y="233"/>
                </a:lnTo>
                <a:lnTo>
                  <a:pt x="1460" y="257"/>
                </a:lnTo>
                <a:lnTo>
                  <a:pt x="1475" y="287"/>
                </a:lnTo>
                <a:lnTo>
                  <a:pt x="1488" y="325"/>
                </a:lnTo>
                <a:lnTo>
                  <a:pt x="1494" y="356"/>
                </a:lnTo>
                <a:lnTo>
                  <a:pt x="1505" y="365"/>
                </a:lnTo>
                <a:lnTo>
                  <a:pt x="1490" y="372"/>
                </a:lnTo>
                <a:lnTo>
                  <a:pt x="1443" y="426"/>
                </a:lnTo>
                <a:lnTo>
                  <a:pt x="1424" y="442"/>
                </a:lnTo>
                <a:lnTo>
                  <a:pt x="1391" y="461"/>
                </a:lnTo>
                <a:lnTo>
                  <a:pt x="1371" y="471"/>
                </a:lnTo>
                <a:lnTo>
                  <a:pt x="1368" y="485"/>
                </a:lnTo>
                <a:lnTo>
                  <a:pt x="1361" y="506"/>
                </a:lnTo>
                <a:lnTo>
                  <a:pt x="1341" y="524"/>
                </a:lnTo>
                <a:lnTo>
                  <a:pt x="1315" y="533"/>
                </a:lnTo>
                <a:lnTo>
                  <a:pt x="1299" y="549"/>
                </a:lnTo>
                <a:lnTo>
                  <a:pt x="1292" y="565"/>
                </a:lnTo>
                <a:lnTo>
                  <a:pt x="1283" y="574"/>
                </a:lnTo>
                <a:lnTo>
                  <a:pt x="1271" y="582"/>
                </a:lnTo>
                <a:lnTo>
                  <a:pt x="1256" y="594"/>
                </a:lnTo>
                <a:lnTo>
                  <a:pt x="1247" y="603"/>
                </a:lnTo>
                <a:lnTo>
                  <a:pt x="1228" y="614"/>
                </a:lnTo>
                <a:lnTo>
                  <a:pt x="664" y="662"/>
                </a:lnTo>
                <a:lnTo>
                  <a:pt x="637" y="677"/>
                </a:lnTo>
                <a:lnTo>
                  <a:pt x="334" y="705"/>
                </a:lnTo>
                <a:lnTo>
                  <a:pt x="332" y="689"/>
                </a:lnTo>
                <a:lnTo>
                  <a:pt x="277" y="693"/>
                </a:lnTo>
                <a:lnTo>
                  <a:pt x="281" y="741"/>
                </a:lnTo>
                <a:lnTo>
                  <a:pt x="281" y="747"/>
                </a:lnTo>
                <a:lnTo>
                  <a:pt x="23" y="783"/>
                </a:lnTo>
                <a:lnTo>
                  <a:pt x="11" y="783"/>
                </a:lnTo>
                <a:lnTo>
                  <a:pt x="0" y="783"/>
                </a:lnTo>
              </a:path>
            </a:pathLst>
          </a:custGeom>
          <a:solidFill>
            <a:srgbClr val="ff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Freeform 39"/>
          <p:cNvSpPr/>
          <p:nvPr/>
        </p:nvSpPr>
        <p:spPr>
          <a:xfrm>
            <a:off x="5805360" y="3811680"/>
            <a:ext cx="1362240" cy="436320"/>
          </a:xfrm>
          <a:custGeom>
            <a:avLst/>
            <a:gdLst>
              <a:gd name="textAreaLeft" fmla="*/ 0 w 1362240"/>
              <a:gd name="textAreaRight" fmla="*/ 1362600 w 1362240"/>
              <a:gd name="textAreaTop" fmla="*/ 0 h 436320"/>
              <a:gd name="textAreaBottom" fmla="*/ 436680 h 436320"/>
            </a:gdLst>
            <a:ahLst/>
            <a:rect l="textAreaLeft" t="textAreaTop" r="textAreaRight" b="textAreaBottom"/>
            <a:pathLst>
              <a:path w="1736" h="596">
                <a:moveTo>
                  <a:pt x="113" y="227"/>
                </a:moveTo>
                <a:lnTo>
                  <a:pt x="400" y="190"/>
                </a:lnTo>
                <a:lnTo>
                  <a:pt x="396" y="162"/>
                </a:lnTo>
                <a:lnTo>
                  <a:pt x="394" y="137"/>
                </a:lnTo>
                <a:lnTo>
                  <a:pt x="451" y="133"/>
                </a:lnTo>
                <a:lnTo>
                  <a:pt x="453" y="149"/>
                </a:lnTo>
                <a:lnTo>
                  <a:pt x="576" y="138"/>
                </a:lnTo>
                <a:lnTo>
                  <a:pt x="756" y="122"/>
                </a:lnTo>
                <a:lnTo>
                  <a:pt x="781" y="106"/>
                </a:lnTo>
                <a:lnTo>
                  <a:pt x="1306" y="60"/>
                </a:lnTo>
                <a:lnTo>
                  <a:pt x="1444" y="43"/>
                </a:lnTo>
                <a:lnTo>
                  <a:pt x="1736" y="0"/>
                </a:lnTo>
                <a:lnTo>
                  <a:pt x="1711" y="24"/>
                </a:lnTo>
                <a:lnTo>
                  <a:pt x="1704" y="38"/>
                </a:lnTo>
                <a:lnTo>
                  <a:pt x="1705" y="57"/>
                </a:lnTo>
                <a:lnTo>
                  <a:pt x="1700" y="64"/>
                </a:lnTo>
                <a:lnTo>
                  <a:pt x="1709" y="92"/>
                </a:lnTo>
                <a:lnTo>
                  <a:pt x="1709" y="105"/>
                </a:lnTo>
                <a:lnTo>
                  <a:pt x="1694" y="105"/>
                </a:lnTo>
                <a:lnTo>
                  <a:pt x="1686" y="99"/>
                </a:lnTo>
                <a:lnTo>
                  <a:pt x="1676" y="106"/>
                </a:lnTo>
                <a:lnTo>
                  <a:pt x="1659" y="124"/>
                </a:lnTo>
                <a:lnTo>
                  <a:pt x="1646" y="144"/>
                </a:lnTo>
                <a:lnTo>
                  <a:pt x="1629" y="163"/>
                </a:lnTo>
                <a:lnTo>
                  <a:pt x="1617" y="181"/>
                </a:lnTo>
                <a:lnTo>
                  <a:pt x="1606" y="194"/>
                </a:lnTo>
                <a:lnTo>
                  <a:pt x="1587" y="190"/>
                </a:lnTo>
                <a:lnTo>
                  <a:pt x="1575" y="181"/>
                </a:lnTo>
                <a:lnTo>
                  <a:pt x="1554" y="185"/>
                </a:lnTo>
                <a:lnTo>
                  <a:pt x="1538" y="202"/>
                </a:lnTo>
                <a:lnTo>
                  <a:pt x="1529" y="215"/>
                </a:lnTo>
                <a:lnTo>
                  <a:pt x="1516" y="234"/>
                </a:lnTo>
                <a:lnTo>
                  <a:pt x="1507" y="251"/>
                </a:lnTo>
                <a:lnTo>
                  <a:pt x="1491" y="259"/>
                </a:lnTo>
                <a:lnTo>
                  <a:pt x="1476" y="242"/>
                </a:lnTo>
                <a:lnTo>
                  <a:pt x="1456" y="242"/>
                </a:lnTo>
                <a:lnTo>
                  <a:pt x="1447" y="263"/>
                </a:lnTo>
                <a:lnTo>
                  <a:pt x="1416" y="318"/>
                </a:lnTo>
                <a:lnTo>
                  <a:pt x="1408" y="331"/>
                </a:lnTo>
                <a:lnTo>
                  <a:pt x="1382" y="347"/>
                </a:lnTo>
                <a:lnTo>
                  <a:pt x="1361" y="347"/>
                </a:lnTo>
                <a:lnTo>
                  <a:pt x="1338" y="356"/>
                </a:lnTo>
                <a:lnTo>
                  <a:pt x="1333" y="371"/>
                </a:lnTo>
                <a:lnTo>
                  <a:pt x="1323" y="391"/>
                </a:lnTo>
                <a:lnTo>
                  <a:pt x="1312" y="398"/>
                </a:lnTo>
                <a:lnTo>
                  <a:pt x="1315" y="410"/>
                </a:lnTo>
                <a:lnTo>
                  <a:pt x="1315" y="427"/>
                </a:lnTo>
                <a:lnTo>
                  <a:pt x="1304" y="431"/>
                </a:lnTo>
                <a:lnTo>
                  <a:pt x="1287" y="436"/>
                </a:lnTo>
                <a:lnTo>
                  <a:pt x="1281" y="490"/>
                </a:lnTo>
                <a:lnTo>
                  <a:pt x="1214" y="500"/>
                </a:lnTo>
                <a:lnTo>
                  <a:pt x="781" y="532"/>
                </a:lnTo>
                <a:lnTo>
                  <a:pt x="423" y="562"/>
                </a:lnTo>
                <a:lnTo>
                  <a:pt x="28" y="596"/>
                </a:lnTo>
                <a:lnTo>
                  <a:pt x="16" y="573"/>
                </a:lnTo>
                <a:lnTo>
                  <a:pt x="7" y="560"/>
                </a:lnTo>
                <a:lnTo>
                  <a:pt x="5" y="554"/>
                </a:lnTo>
                <a:lnTo>
                  <a:pt x="1" y="547"/>
                </a:lnTo>
                <a:lnTo>
                  <a:pt x="0" y="536"/>
                </a:lnTo>
                <a:lnTo>
                  <a:pt x="0" y="531"/>
                </a:lnTo>
                <a:lnTo>
                  <a:pt x="6" y="523"/>
                </a:lnTo>
                <a:lnTo>
                  <a:pt x="16" y="514"/>
                </a:lnTo>
                <a:lnTo>
                  <a:pt x="22" y="507"/>
                </a:lnTo>
                <a:lnTo>
                  <a:pt x="25" y="497"/>
                </a:lnTo>
                <a:lnTo>
                  <a:pt x="30" y="490"/>
                </a:lnTo>
                <a:lnTo>
                  <a:pt x="39" y="486"/>
                </a:lnTo>
                <a:lnTo>
                  <a:pt x="46" y="479"/>
                </a:lnTo>
                <a:lnTo>
                  <a:pt x="55" y="470"/>
                </a:lnTo>
                <a:lnTo>
                  <a:pt x="58" y="462"/>
                </a:lnTo>
                <a:lnTo>
                  <a:pt x="59" y="458"/>
                </a:lnTo>
                <a:lnTo>
                  <a:pt x="62" y="440"/>
                </a:lnTo>
                <a:lnTo>
                  <a:pt x="64" y="431"/>
                </a:lnTo>
                <a:lnTo>
                  <a:pt x="66" y="429"/>
                </a:lnTo>
                <a:lnTo>
                  <a:pt x="69" y="427"/>
                </a:lnTo>
                <a:lnTo>
                  <a:pt x="74" y="427"/>
                </a:lnTo>
                <a:lnTo>
                  <a:pt x="83" y="421"/>
                </a:lnTo>
                <a:lnTo>
                  <a:pt x="91" y="416"/>
                </a:lnTo>
                <a:lnTo>
                  <a:pt x="91" y="410"/>
                </a:lnTo>
                <a:lnTo>
                  <a:pt x="89" y="403"/>
                </a:lnTo>
                <a:lnTo>
                  <a:pt x="82" y="398"/>
                </a:lnTo>
                <a:lnTo>
                  <a:pt x="78" y="387"/>
                </a:lnTo>
                <a:lnTo>
                  <a:pt x="78" y="385"/>
                </a:lnTo>
                <a:lnTo>
                  <a:pt x="78" y="368"/>
                </a:lnTo>
                <a:lnTo>
                  <a:pt x="82" y="356"/>
                </a:lnTo>
                <a:lnTo>
                  <a:pt x="81" y="344"/>
                </a:lnTo>
                <a:lnTo>
                  <a:pt x="85" y="334"/>
                </a:lnTo>
                <a:lnTo>
                  <a:pt x="86" y="326"/>
                </a:lnTo>
                <a:lnTo>
                  <a:pt x="96" y="321"/>
                </a:lnTo>
                <a:lnTo>
                  <a:pt x="105" y="312"/>
                </a:lnTo>
                <a:lnTo>
                  <a:pt x="115" y="306"/>
                </a:lnTo>
                <a:lnTo>
                  <a:pt x="120" y="294"/>
                </a:lnTo>
                <a:lnTo>
                  <a:pt x="120" y="289"/>
                </a:lnTo>
                <a:lnTo>
                  <a:pt x="115" y="280"/>
                </a:lnTo>
                <a:lnTo>
                  <a:pt x="112" y="268"/>
                </a:lnTo>
                <a:lnTo>
                  <a:pt x="111" y="258"/>
                </a:lnTo>
                <a:lnTo>
                  <a:pt x="111" y="243"/>
                </a:lnTo>
                <a:lnTo>
                  <a:pt x="108" y="239"/>
                </a:lnTo>
                <a:lnTo>
                  <a:pt x="113" y="227"/>
                </a:lnTo>
              </a:path>
            </a:pathLst>
          </a:custGeom>
          <a:solidFill>
            <a:srgbClr val="ff66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Freeform 40"/>
          <p:cNvSpPr/>
          <p:nvPr/>
        </p:nvSpPr>
        <p:spPr>
          <a:xfrm>
            <a:off x="5622840" y="4226040"/>
            <a:ext cx="538200" cy="966600"/>
          </a:xfrm>
          <a:custGeom>
            <a:avLst/>
            <a:gdLst>
              <a:gd name="textAreaLeft" fmla="*/ 0 w 538200"/>
              <a:gd name="textAreaRight" fmla="*/ 538560 w 538200"/>
              <a:gd name="textAreaTop" fmla="*/ 0 h 966600"/>
              <a:gd name="textAreaBottom" fmla="*/ 966960 h 966600"/>
            </a:gdLst>
            <a:ahLst/>
            <a:rect l="textAreaLeft" t="textAreaTop" r="textAreaRight" b="textAreaBottom"/>
            <a:pathLst>
              <a:path w="687" h="1319">
                <a:moveTo>
                  <a:pt x="263" y="31"/>
                </a:moveTo>
                <a:lnTo>
                  <a:pt x="621" y="0"/>
                </a:lnTo>
                <a:lnTo>
                  <a:pt x="637" y="9"/>
                </a:lnTo>
                <a:lnTo>
                  <a:pt x="646" y="16"/>
                </a:lnTo>
                <a:lnTo>
                  <a:pt x="649" y="29"/>
                </a:lnTo>
                <a:lnTo>
                  <a:pt x="654" y="40"/>
                </a:lnTo>
                <a:lnTo>
                  <a:pt x="658" y="57"/>
                </a:lnTo>
                <a:lnTo>
                  <a:pt x="651" y="849"/>
                </a:lnTo>
                <a:lnTo>
                  <a:pt x="687" y="1277"/>
                </a:lnTo>
                <a:lnTo>
                  <a:pt x="659" y="1290"/>
                </a:lnTo>
                <a:lnTo>
                  <a:pt x="651" y="1290"/>
                </a:lnTo>
                <a:lnTo>
                  <a:pt x="644" y="1285"/>
                </a:lnTo>
                <a:lnTo>
                  <a:pt x="639" y="1277"/>
                </a:lnTo>
                <a:lnTo>
                  <a:pt x="629" y="1282"/>
                </a:lnTo>
                <a:lnTo>
                  <a:pt x="620" y="1296"/>
                </a:lnTo>
                <a:lnTo>
                  <a:pt x="620" y="1303"/>
                </a:lnTo>
                <a:lnTo>
                  <a:pt x="607" y="1304"/>
                </a:lnTo>
                <a:lnTo>
                  <a:pt x="598" y="1308"/>
                </a:lnTo>
                <a:lnTo>
                  <a:pt x="583" y="1298"/>
                </a:lnTo>
                <a:lnTo>
                  <a:pt x="574" y="1284"/>
                </a:lnTo>
                <a:lnTo>
                  <a:pt x="559" y="1279"/>
                </a:lnTo>
                <a:lnTo>
                  <a:pt x="548" y="1279"/>
                </a:lnTo>
                <a:lnTo>
                  <a:pt x="560" y="1296"/>
                </a:lnTo>
                <a:lnTo>
                  <a:pt x="568" y="1304"/>
                </a:lnTo>
                <a:lnTo>
                  <a:pt x="568" y="1310"/>
                </a:lnTo>
                <a:lnTo>
                  <a:pt x="550" y="1313"/>
                </a:lnTo>
                <a:lnTo>
                  <a:pt x="541" y="1313"/>
                </a:lnTo>
                <a:lnTo>
                  <a:pt x="521" y="1304"/>
                </a:lnTo>
                <a:lnTo>
                  <a:pt x="518" y="1296"/>
                </a:lnTo>
                <a:lnTo>
                  <a:pt x="510" y="1296"/>
                </a:lnTo>
                <a:lnTo>
                  <a:pt x="506" y="1304"/>
                </a:lnTo>
                <a:lnTo>
                  <a:pt x="503" y="1319"/>
                </a:lnTo>
                <a:lnTo>
                  <a:pt x="500" y="1319"/>
                </a:lnTo>
                <a:lnTo>
                  <a:pt x="492" y="1319"/>
                </a:lnTo>
                <a:lnTo>
                  <a:pt x="487" y="1319"/>
                </a:lnTo>
                <a:lnTo>
                  <a:pt x="465" y="1307"/>
                </a:lnTo>
                <a:lnTo>
                  <a:pt x="426" y="1287"/>
                </a:lnTo>
                <a:lnTo>
                  <a:pt x="396" y="1259"/>
                </a:lnTo>
                <a:lnTo>
                  <a:pt x="379" y="1245"/>
                </a:lnTo>
                <a:lnTo>
                  <a:pt x="378" y="1230"/>
                </a:lnTo>
                <a:lnTo>
                  <a:pt x="374" y="1209"/>
                </a:lnTo>
                <a:lnTo>
                  <a:pt x="0" y="1219"/>
                </a:lnTo>
                <a:lnTo>
                  <a:pt x="17" y="1204"/>
                </a:lnTo>
                <a:lnTo>
                  <a:pt x="30" y="1198"/>
                </a:lnTo>
                <a:lnTo>
                  <a:pt x="31" y="1194"/>
                </a:lnTo>
                <a:lnTo>
                  <a:pt x="30" y="1186"/>
                </a:lnTo>
                <a:lnTo>
                  <a:pt x="25" y="1179"/>
                </a:lnTo>
                <a:lnTo>
                  <a:pt x="29" y="1169"/>
                </a:lnTo>
                <a:lnTo>
                  <a:pt x="31" y="1163"/>
                </a:lnTo>
                <a:lnTo>
                  <a:pt x="40" y="1161"/>
                </a:lnTo>
                <a:lnTo>
                  <a:pt x="43" y="1158"/>
                </a:lnTo>
                <a:lnTo>
                  <a:pt x="48" y="1140"/>
                </a:lnTo>
                <a:lnTo>
                  <a:pt x="48" y="1137"/>
                </a:lnTo>
                <a:lnTo>
                  <a:pt x="43" y="1124"/>
                </a:lnTo>
                <a:lnTo>
                  <a:pt x="38" y="1114"/>
                </a:lnTo>
                <a:lnTo>
                  <a:pt x="34" y="1106"/>
                </a:lnTo>
                <a:lnTo>
                  <a:pt x="30" y="1087"/>
                </a:lnTo>
                <a:lnTo>
                  <a:pt x="43" y="1075"/>
                </a:lnTo>
                <a:lnTo>
                  <a:pt x="50" y="1068"/>
                </a:lnTo>
                <a:lnTo>
                  <a:pt x="48" y="1060"/>
                </a:lnTo>
                <a:lnTo>
                  <a:pt x="43" y="1048"/>
                </a:lnTo>
                <a:lnTo>
                  <a:pt x="47" y="1034"/>
                </a:lnTo>
                <a:lnTo>
                  <a:pt x="50" y="1027"/>
                </a:lnTo>
                <a:lnTo>
                  <a:pt x="52" y="1014"/>
                </a:lnTo>
                <a:lnTo>
                  <a:pt x="52" y="1008"/>
                </a:lnTo>
                <a:lnTo>
                  <a:pt x="57" y="1000"/>
                </a:lnTo>
                <a:lnTo>
                  <a:pt x="74" y="991"/>
                </a:lnTo>
                <a:lnTo>
                  <a:pt x="77" y="986"/>
                </a:lnTo>
                <a:lnTo>
                  <a:pt x="80" y="979"/>
                </a:lnTo>
                <a:lnTo>
                  <a:pt x="75" y="972"/>
                </a:lnTo>
                <a:lnTo>
                  <a:pt x="75" y="963"/>
                </a:lnTo>
                <a:lnTo>
                  <a:pt x="75" y="956"/>
                </a:lnTo>
                <a:lnTo>
                  <a:pt x="80" y="950"/>
                </a:lnTo>
                <a:lnTo>
                  <a:pt x="86" y="939"/>
                </a:lnTo>
                <a:lnTo>
                  <a:pt x="84" y="936"/>
                </a:lnTo>
                <a:lnTo>
                  <a:pt x="81" y="928"/>
                </a:lnTo>
                <a:lnTo>
                  <a:pt x="75" y="925"/>
                </a:lnTo>
                <a:lnTo>
                  <a:pt x="70" y="917"/>
                </a:lnTo>
                <a:lnTo>
                  <a:pt x="63" y="914"/>
                </a:lnTo>
                <a:lnTo>
                  <a:pt x="47" y="910"/>
                </a:lnTo>
                <a:lnTo>
                  <a:pt x="36" y="906"/>
                </a:lnTo>
                <a:lnTo>
                  <a:pt x="38" y="896"/>
                </a:lnTo>
                <a:lnTo>
                  <a:pt x="40" y="895"/>
                </a:lnTo>
                <a:lnTo>
                  <a:pt x="47" y="886"/>
                </a:lnTo>
                <a:lnTo>
                  <a:pt x="50" y="886"/>
                </a:lnTo>
                <a:lnTo>
                  <a:pt x="65" y="889"/>
                </a:lnTo>
                <a:lnTo>
                  <a:pt x="69" y="889"/>
                </a:lnTo>
                <a:lnTo>
                  <a:pt x="78" y="889"/>
                </a:lnTo>
                <a:lnTo>
                  <a:pt x="84" y="883"/>
                </a:lnTo>
                <a:lnTo>
                  <a:pt x="108" y="861"/>
                </a:lnTo>
                <a:lnTo>
                  <a:pt x="118" y="847"/>
                </a:lnTo>
                <a:lnTo>
                  <a:pt x="128" y="841"/>
                </a:lnTo>
                <a:lnTo>
                  <a:pt x="126" y="834"/>
                </a:lnTo>
                <a:lnTo>
                  <a:pt x="126" y="828"/>
                </a:lnTo>
                <a:lnTo>
                  <a:pt x="121" y="828"/>
                </a:lnTo>
                <a:lnTo>
                  <a:pt x="106" y="821"/>
                </a:lnTo>
                <a:lnTo>
                  <a:pt x="95" y="820"/>
                </a:lnTo>
                <a:lnTo>
                  <a:pt x="81" y="817"/>
                </a:lnTo>
                <a:lnTo>
                  <a:pt x="68" y="810"/>
                </a:lnTo>
                <a:lnTo>
                  <a:pt x="61" y="800"/>
                </a:lnTo>
                <a:lnTo>
                  <a:pt x="53" y="791"/>
                </a:lnTo>
                <a:lnTo>
                  <a:pt x="48" y="784"/>
                </a:lnTo>
                <a:lnTo>
                  <a:pt x="48" y="773"/>
                </a:lnTo>
                <a:lnTo>
                  <a:pt x="48" y="766"/>
                </a:lnTo>
                <a:lnTo>
                  <a:pt x="48" y="764"/>
                </a:lnTo>
                <a:lnTo>
                  <a:pt x="55" y="755"/>
                </a:lnTo>
                <a:lnTo>
                  <a:pt x="60" y="749"/>
                </a:lnTo>
                <a:lnTo>
                  <a:pt x="67" y="743"/>
                </a:lnTo>
                <a:lnTo>
                  <a:pt x="77" y="736"/>
                </a:lnTo>
                <a:lnTo>
                  <a:pt x="77" y="729"/>
                </a:lnTo>
                <a:lnTo>
                  <a:pt x="77" y="723"/>
                </a:lnTo>
                <a:lnTo>
                  <a:pt x="62" y="723"/>
                </a:lnTo>
                <a:lnTo>
                  <a:pt x="52" y="720"/>
                </a:lnTo>
                <a:lnTo>
                  <a:pt x="48" y="720"/>
                </a:lnTo>
                <a:lnTo>
                  <a:pt x="44" y="716"/>
                </a:lnTo>
                <a:lnTo>
                  <a:pt x="42" y="709"/>
                </a:lnTo>
                <a:lnTo>
                  <a:pt x="40" y="703"/>
                </a:lnTo>
                <a:lnTo>
                  <a:pt x="43" y="699"/>
                </a:lnTo>
                <a:lnTo>
                  <a:pt x="52" y="692"/>
                </a:lnTo>
                <a:lnTo>
                  <a:pt x="54" y="688"/>
                </a:lnTo>
                <a:lnTo>
                  <a:pt x="54" y="685"/>
                </a:lnTo>
                <a:lnTo>
                  <a:pt x="48" y="676"/>
                </a:lnTo>
                <a:lnTo>
                  <a:pt x="47" y="668"/>
                </a:lnTo>
                <a:lnTo>
                  <a:pt x="43" y="663"/>
                </a:lnTo>
                <a:lnTo>
                  <a:pt x="36" y="652"/>
                </a:lnTo>
                <a:lnTo>
                  <a:pt x="37" y="645"/>
                </a:lnTo>
                <a:lnTo>
                  <a:pt x="34" y="630"/>
                </a:lnTo>
                <a:lnTo>
                  <a:pt x="39" y="626"/>
                </a:lnTo>
                <a:lnTo>
                  <a:pt x="52" y="626"/>
                </a:lnTo>
                <a:lnTo>
                  <a:pt x="60" y="624"/>
                </a:lnTo>
                <a:lnTo>
                  <a:pt x="60" y="620"/>
                </a:lnTo>
                <a:lnTo>
                  <a:pt x="58" y="610"/>
                </a:lnTo>
                <a:lnTo>
                  <a:pt x="50" y="605"/>
                </a:lnTo>
                <a:lnTo>
                  <a:pt x="46" y="599"/>
                </a:lnTo>
                <a:lnTo>
                  <a:pt x="50" y="590"/>
                </a:lnTo>
                <a:lnTo>
                  <a:pt x="58" y="586"/>
                </a:lnTo>
                <a:lnTo>
                  <a:pt x="67" y="575"/>
                </a:lnTo>
                <a:lnTo>
                  <a:pt x="74" y="570"/>
                </a:lnTo>
                <a:lnTo>
                  <a:pt x="67" y="561"/>
                </a:lnTo>
                <a:lnTo>
                  <a:pt x="60" y="555"/>
                </a:lnTo>
                <a:lnTo>
                  <a:pt x="42" y="555"/>
                </a:lnTo>
                <a:lnTo>
                  <a:pt x="42" y="550"/>
                </a:lnTo>
                <a:lnTo>
                  <a:pt x="42" y="541"/>
                </a:lnTo>
                <a:lnTo>
                  <a:pt x="67" y="527"/>
                </a:lnTo>
                <a:lnTo>
                  <a:pt x="80" y="518"/>
                </a:lnTo>
                <a:lnTo>
                  <a:pt x="81" y="508"/>
                </a:lnTo>
                <a:lnTo>
                  <a:pt x="78" y="501"/>
                </a:lnTo>
                <a:lnTo>
                  <a:pt x="77" y="497"/>
                </a:lnTo>
                <a:lnTo>
                  <a:pt x="48" y="505"/>
                </a:lnTo>
                <a:lnTo>
                  <a:pt x="37" y="510"/>
                </a:lnTo>
                <a:lnTo>
                  <a:pt x="28" y="508"/>
                </a:lnTo>
                <a:lnTo>
                  <a:pt x="24" y="502"/>
                </a:lnTo>
                <a:lnTo>
                  <a:pt x="25" y="487"/>
                </a:lnTo>
                <a:lnTo>
                  <a:pt x="32" y="471"/>
                </a:lnTo>
                <a:lnTo>
                  <a:pt x="48" y="469"/>
                </a:lnTo>
                <a:lnTo>
                  <a:pt x="62" y="461"/>
                </a:lnTo>
                <a:lnTo>
                  <a:pt x="70" y="455"/>
                </a:lnTo>
                <a:lnTo>
                  <a:pt x="69" y="432"/>
                </a:lnTo>
                <a:lnTo>
                  <a:pt x="69" y="420"/>
                </a:lnTo>
                <a:lnTo>
                  <a:pt x="65" y="414"/>
                </a:lnTo>
                <a:lnTo>
                  <a:pt x="61" y="405"/>
                </a:lnTo>
                <a:lnTo>
                  <a:pt x="65" y="394"/>
                </a:lnTo>
                <a:lnTo>
                  <a:pt x="75" y="382"/>
                </a:lnTo>
                <a:lnTo>
                  <a:pt x="88" y="379"/>
                </a:lnTo>
                <a:lnTo>
                  <a:pt x="111" y="373"/>
                </a:lnTo>
                <a:lnTo>
                  <a:pt x="134" y="363"/>
                </a:lnTo>
                <a:lnTo>
                  <a:pt x="135" y="356"/>
                </a:lnTo>
                <a:lnTo>
                  <a:pt x="139" y="344"/>
                </a:lnTo>
                <a:lnTo>
                  <a:pt x="136" y="338"/>
                </a:lnTo>
                <a:lnTo>
                  <a:pt x="134" y="326"/>
                </a:lnTo>
                <a:lnTo>
                  <a:pt x="120" y="321"/>
                </a:lnTo>
                <a:lnTo>
                  <a:pt x="114" y="314"/>
                </a:lnTo>
                <a:lnTo>
                  <a:pt x="105" y="313"/>
                </a:lnTo>
                <a:lnTo>
                  <a:pt x="99" y="310"/>
                </a:lnTo>
                <a:lnTo>
                  <a:pt x="104" y="297"/>
                </a:lnTo>
                <a:lnTo>
                  <a:pt x="110" y="290"/>
                </a:lnTo>
                <a:lnTo>
                  <a:pt x="119" y="284"/>
                </a:lnTo>
                <a:lnTo>
                  <a:pt x="135" y="276"/>
                </a:lnTo>
                <a:lnTo>
                  <a:pt x="139" y="274"/>
                </a:lnTo>
                <a:lnTo>
                  <a:pt x="144" y="261"/>
                </a:lnTo>
                <a:lnTo>
                  <a:pt x="144" y="251"/>
                </a:lnTo>
                <a:lnTo>
                  <a:pt x="146" y="245"/>
                </a:lnTo>
                <a:lnTo>
                  <a:pt x="146" y="235"/>
                </a:lnTo>
                <a:lnTo>
                  <a:pt x="157" y="235"/>
                </a:lnTo>
                <a:lnTo>
                  <a:pt x="166" y="231"/>
                </a:lnTo>
                <a:lnTo>
                  <a:pt x="181" y="224"/>
                </a:lnTo>
                <a:lnTo>
                  <a:pt x="192" y="214"/>
                </a:lnTo>
                <a:lnTo>
                  <a:pt x="198" y="205"/>
                </a:lnTo>
                <a:lnTo>
                  <a:pt x="197" y="194"/>
                </a:lnTo>
                <a:lnTo>
                  <a:pt x="194" y="183"/>
                </a:lnTo>
                <a:lnTo>
                  <a:pt x="189" y="175"/>
                </a:lnTo>
                <a:lnTo>
                  <a:pt x="187" y="167"/>
                </a:lnTo>
                <a:lnTo>
                  <a:pt x="192" y="156"/>
                </a:lnTo>
                <a:lnTo>
                  <a:pt x="196" y="130"/>
                </a:lnTo>
                <a:lnTo>
                  <a:pt x="201" y="115"/>
                </a:lnTo>
                <a:lnTo>
                  <a:pt x="204" y="111"/>
                </a:lnTo>
                <a:lnTo>
                  <a:pt x="220" y="109"/>
                </a:lnTo>
                <a:lnTo>
                  <a:pt x="222" y="106"/>
                </a:lnTo>
                <a:lnTo>
                  <a:pt x="230" y="91"/>
                </a:lnTo>
                <a:lnTo>
                  <a:pt x="239" y="80"/>
                </a:lnTo>
                <a:lnTo>
                  <a:pt x="254" y="75"/>
                </a:lnTo>
                <a:lnTo>
                  <a:pt x="264" y="69"/>
                </a:lnTo>
                <a:lnTo>
                  <a:pt x="267" y="67"/>
                </a:lnTo>
                <a:lnTo>
                  <a:pt x="267" y="52"/>
                </a:lnTo>
                <a:lnTo>
                  <a:pt x="267" y="40"/>
                </a:lnTo>
                <a:lnTo>
                  <a:pt x="263" y="31"/>
                </a:lnTo>
              </a:path>
            </a:pathLst>
          </a:custGeom>
          <a:solidFill>
            <a:srgbClr val="ff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Freeform 41"/>
          <p:cNvSpPr/>
          <p:nvPr/>
        </p:nvSpPr>
        <p:spPr>
          <a:xfrm>
            <a:off x="6108840" y="4191120"/>
            <a:ext cx="688680" cy="984240"/>
          </a:xfrm>
          <a:custGeom>
            <a:avLst/>
            <a:gdLst>
              <a:gd name="textAreaLeft" fmla="*/ 0 w 688680"/>
              <a:gd name="textAreaRight" fmla="*/ 688680 w 688680"/>
              <a:gd name="textAreaTop" fmla="*/ 0 h 984240"/>
              <a:gd name="textAreaBottom" fmla="*/ 984600 h 984240"/>
            </a:gdLst>
            <a:ahLst/>
            <a:rect l="textAreaLeft" t="textAreaTop" r="textAreaRight" b="textAreaBottom"/>
            <a:pathLst>
              <a:path w="880" h="1341">
                <a:moveTo>
                  <a:pt x="68" y="1325"/>
                </a:moveTo>
                <a:lnTo>
                  <a:pt x="32" y="893"/>
                </a:lnTo>
                <a:lnTo>
                  <a:pt x="39" y="107"/>
                </a:lnTo>
                <a:lnTo>
                  <a:pt x="34" y="85"/>
                </a:lnTo>
                <a:lnTo>
                  <a:pt x="31" y="75"/>
                </a:lnTo>
                <a:lnTo>
                  <a:pt x="23" y="60"/>
                </a:lnTo>
                <a:lnTo>
                  <a:pt x="17" y="54"/>
                </a:lnTo>
                <a:lnTo>
                  <a:pt x="0" y="45"/>
                </a:lnTo>
                <a:lnTo>
                  <a:pt x="398" y="13"/>
                </a:lnTo>
                <a:lnTo>
                  <a:pt x="572" y="0"/>
                </a:lnTo>
                <a:lnTo>
                  <a:pt x="760" y="581"/>
                </a:lnTo>
                <a:lnTo>
                  <a:pt x="775" y="596"/>
                </a:lnTo>
                <a:lnTo>
                  <a:pt x="799" y="616"/>
                </a:lnTo>
                <a:lnTo>
                  <a:pt x="799" y="647"/>
                </a:lnTo>
                <a:lnTo>
                  <a:pt x="816" y="674"/>
                </a:lnTo>
                <a:lnTo>
                  <a:pt x="829" y="693"/>
                </a:lnTo>
                <a:lnTo>
                  <a:pt x="849" y="701"/>
                </a:lnTo>
                <a:lnTo>
                  <a:pt x="829" y="714"/>
                </a:lnTo>
                <a:lnTo>
                  <a:pt x="824" y="725"/>
                </a:lnTo>
                <a:lnTo>
                  <a:pt x="830" y="749"/>
                </a:lnTo>
                <a:lnTo>
                  <a:pt x="835" y="777"/>
                </a:lnTo>
                <a:lnTo>
                  <a:pt x="830" y="787"/>
                </a:lnTo>
                <a:lnTo>
                  <a:pt x="823" y="800"/>
                </a:lnTo>
                <a:lnTo>
                  <a:pt x="820" y="831"/>
                </a:lnTo>
                <a:lnTo>
                  <a:pt x="820" y="853"/>
                </a:lnTo>
                <a:lnTo>
                  <a:pt x="829" y="872"/>
                </a:lnTo>
                <a:lnTo>
                  <a:pt x="847" y="899"/>
                </a:lnTo>
                <a:lnTo>
                  <a:pt x="859" y="920"/>
                </a:lnTo>
                <a:lnTo>
                  <a:pt x="865" y="939"/>
                </a:lnTo>
                <a:lnTo>
                  <a:pt x="865" y="954"/>
                </a:lnTo>
                <a:lnTo>
                  <a:pt x="865" y="973"/>
                </a:lnTo>
                <a:lnTo>
                  <a:pt x="857" y="994"/>
                </a:lnTo>
                <a:lnTo>
                  <a:pt x="857" y="1011"/>
                </a:lnTo>
                <a:lnTo>
                  <a:pt x="868" y="1041"/>
                </a:lnTo>
                <a:lnTo>
                  <a:pt x="880" y="1086"/>
                </a:lnTo>
                <a:lnTo>
                  <a:pt x="263" y="1146"/>
                </a:lnTo>
                <a:lnTo>
                  <a:pt x="259" y="1179"/>
                </a:lnTo>
                <a:lnTo>
                  <a:pt x="259" y="1198"/>
                </a:lnTo>
                <a:lnTo>
                  <a:pt x="288" y="1212"/>
                </a:lnTo>
                <a:lnTo>
                  <a:pt x="299" y="1223"/>
                </a:lnTo>
                <a:lnTo>
                  <a:pt x="312" y="1237"/>
                </a:lnTo>
                <a:lnTo>
                  <a:pt x="316" y="1252"/>
                </a:lnTo>
                <a:lnTo>
                  <a:pt x="305" y="1268"/>
                </a:lnTo>
                <a:lnTo>
                  <a:pt x="297" y="1277"/>
                </a:lnTo>
                <a:lnTo>
                  <a:pt x="285" y="1296"/>
                </a:lnTo>
                <a:lnTo>
                  <a:pt x="278" y="1307"/>
                </a:lnTo>
                <a:lnTo>
                  <a:pt x="253" y="1329"/>
                </a:lnTo>
                <a:lnTo>
                  <a:pt x="213" y="1337"/>
                </a:lnTo>
                <a:lnTo>
                  <a:pt x="179" y="1341"/>
                </a:lnTo>
                <a:lnTo>
                  <a:pt x="167" y="1341"/>
                </a:lnTo>
                <a:lnTo>
                  <a:pt x="161" y="1337"/>
                </a:lnTo>
                <a:lnTo>
                  <a:pt x="176" y="1331"/>
                </a:lnTo>
                <a:lnTo>
                  <a:pt x="199" y="1327"/>
                </a:lnTo>
                <a:lnTo>
                  <a:pt x="212" y="1323"/>
                </a:lnTo>
                <a:lnTo>
                  <a:pt x="212" y="1319"/>
                </a:lnTo>
                <a:lnTo>
                  <a:pt x="199" y="1307"/>
                </a:lnTo>
                <a:lnTo>
                  <a:pt x="185" y="1296"/>
                </a:lnTo>
                <a:lnTo>
                  <a:pt x="178" y="1273"/>
                </a:lnTo>
                <a:lnTo>
                  <a:pt x="154" y="1250"/>
                </a:lnTo>
                <a:lnTo>
                  <a:pt x="151" y="1236"/>
                </a:lnTo>
                <a:lnTo>
                  <a:pt x="138" y="1229"/>
                </a:lnTo>
                <a:lnTo>
                  <a:pt x="122" y="1229"/>
                </a:lnTo>
                <a:lnTo>
                  <a:pt x="109" y="1244"/>
                </a:lnTo>
                <a:lnTo>
                  <a:pt x="115" y="1272"/>
                </a:lnTo>
                <a:lnTo>
                  <a:pt x="115" y="1292"/>
                </a:lnTo>
                <a:lnTo>
                  <a:pt x="115" y="1308"/>
                </a:lnTo>
                <a:lnTo>
                  <a:pt x="110" y="1313"/>
                </a:lnTo>
                <a:lnTo>
                  <a:pt x="99" y="1313"/>
                </a:lnTo>
                <a:lnTo>
                  <a:pt x="93" y="1308"/>
                </a:lnTo>
                <a:lnTo>
                  <a:pt x="80" y="1314"/>
                </a:lnTo>
                <a:lnTo>
                  <a:pt x="69" y="1320"/>
                </a:lnTo>
                <a:lnTo>
                  <a:pt x="68" y="1325"/>
                </a:lnTo>
              </a:path>
            </a:pathLst>
          </a:custGeom>
          <a:solidFill>
            <a:srgbClr val="ff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Freeform 42"/>
          <p:cNvSpPr/>
          <p:nvPr/>
        </p:nvSpPr>
        <p:spPr>
          <a:xfrm>
            <a:off x="6539040" y="4114800"/>
            <a:ext cx="898560" cy="912960"/>
          </a:xfrm>
          <a:custGeom>
            <a:avLst/>
            <a:gdLst/>
            <a:ahLst/>
            <a:rect l="l" t="t" r="r" b="b"/>
            <a:pathLst>
              <a:path w="1144" h="1246">
                <a:moveTo>
                  <a:pt x="0" y="79"/>
                </a:moveTo>
                <a:lnTo>
                  <a:pt x="188" y="660"/>
                </a:lnTo>
                <a:lnTo>
                  <a:pt x="210" y="680"/>
                </a:lnTo>
                <a:lnTo>
                  <a:pt x="227" y="695"/>
                </a:lnTo>
                <a:lnTo>
                  <a:pt x="227" y="707"/>
                </a:lnTo>
                <a:lnTo>
                  <a:pt x="226" y="715"/>
                </a:lnTo>
                <a:lnTo>
                  <a:pt x="227" y="723"/>
                </a:lnTo>
                <a:lnTo>
                  <a:pt x="228" y="728"/>
                </a:lnTo>
                <a:lnTo>
                  <a:pt x="231" y="735"/>
                </a:lnTo>
                <a:lnTo>
                  <a:pt x="244" y="751"/>
                </a:lnTo>
                <a:lnTo>
                  <a:pt x="250" y="763"/>
                </a:lnTo>
                <a:lnTo>
                  <a:pt x="252" y="769"/>
                </a:lnTo>
                <a:lnTo>
                  <a:pt x="252" y="771"/>
                </a:lnTo>
                <a:lnTo>
                  <a:pt x="269" y="777"/>
                </a:lnTo>
                <a:lnTo>
                  <a:pt x="269" y="780"/>
                </a:lnTo>
                <a:lnTo>
                  <a:pt x="263" y="787"/>
                </a:lnTo>
                <a:lnTo>
                  <a:pt x="257" y="793"/>
                </a:lnTo>
                <a:lnTo>
                  <a:pt x="252" y="801"/>
                </a:lnTo>
                <a:lnTo>
                  <a:pt x="255" y="813"/>
                </a:lnTo>
                <a:lnTo>
                  <a:pt x="260" y="836"/>
                </a:lnTo>
                <a:lnTo>
                  <a:pt x="260" y="860"/>
                </a:lnTo>
                <a:lnTo>
                  <a:pt x="251" y="879"/>
                </a:lnTo>
                <a:lnTo>
                  <a:pt x="248" y="900"/>
                </a:lnTo>
                <a:lnTo>
                  <a:pt x="248" y="925"/>
                </a:lnTo>
                <a:lnTo>
                  <a:pt x="248" y="935"/>
                </a:lnTo>
                <a:lnTo>
                  <a:pt x="252" y="943"/>
                </a:lnTo>
                <a:lnTo>
                  <a:pt x="263" y="960"/>
                </a:lnTo>
                <a:lnTo>
                  <a:pt x="271" y="974"/>
                </a:lnTo>
                <a:lnTo>
                  <a:pt x="284" y="992"/>
                </a:lnTo>
                <a:lnTo>
                  <a:pt x="288" y="1006"/>
                </a:lnTo>
                <a:lnTo>
                  <a:pt x="293" y="1021"/>
                </a:lnTo>
                <a:lnTo>
                  <a:pt x="293" y="1034"/>
                </a:lnTo>
                <a:lnTo>
                  <a:pt x="293" y="1046"/>
                </a:lnTo>
                <a:lnTo>
                  <a:pt x="288" y="1064"/>
                </a:lnTo>
                <a:lnTo>
                  <a:pt x="285" y="1073"/>
                </a:lnTo>
                <a:lnTo>
                  <a:pt x="285" y="1084"/>
                </a:lnTo>
                <a:lnTo>
                  <a:pt x="286" y="1098"/>
                </a:lnTo>
                <a:lnTo>
                  <a:pt x="294" y="1109"/>
                </a:lnTo>
                <a:lnTo>
                  <a:pt x="297" y="1120"/>
                </a:lnTo>
                <a:lnTo>
                  <a:pt x="303" y="1142"/>
                </a:lnTo>
                <a:lnTo>
                  <a:pt x="308" y="1164"/>
                </a:lnTo>
                <a:lnTo>
                  <a:pt x="308" y="1167"/>
                </a:lnTo>
                <a:lnTo>
                  <a:pt x="345" y="1203"/>
                </a:lnTo>
                <a:lnTo>
                  <a:pt x="352" y="1215"/>
                </a:lnTo>
                <a:lnTo>
                  <a:pt x="352" y="1228"/>
                </a:lnTo>
                <a:lnTo>
                  <a:pt x="352" y="1235"/>
                </a:lnTo>
                <a:lnTo>
                  <a:pt x="356" y="1239"/>
                </a:lnTo>
                <a:lnTo>
                  <a:pt x="865" y="1178"/>
                </a:lnTo>
                <a:lnTo>
                  <a:pt x="887" y="1175"/>
                </a:lnTo>
                <a:lnTo>
                  <a:pt x="893" y="1195"/>
                </a:lnTo>
                <a:lnTo>
                  <a:pt x="896" y="1205"/>
                </a:lnTo>
                <a:lnTo>
                  <a:pt x="907" y="1208"/>
                </a:lnTo>
                <a:lnTo>
                  <a:pt x="907" y="1230"/>
                </a:lnTo>
                <a:lnTo>
                  <a:pt x="925" y="1246"/>
                </a:lnTo>
                <a:lnTo>
                  <a:pt x="942" y="1246"/>
                </a:lnTo>
                <a:lnTo>
                  <a:pt x="963" y="1242"/>
                </a:lnTo>
                <a:lnTo>
                  <a:pt x="971" y="1231"/>
                </a:lnTo>
                <a:lnTo>
                  <a:pt x="983" y="1210"/>
                </a:lnTo>
                <a:lnTo>
                  <a:pt x="983" y="1190"/>
                </a:lnTo>
                <a:lnTo>
                  <a:pt x="968" y="1152"/>
                </a:lnTo>
                <a:lnTo>
                  <a:pt x="954" y="1128"/>
                </a:lnTo>
                <a:lnTo>
                  <a:pt x="953" y="1109"/>
                </a:lnTo>
                <a:lnTo>
                  <a:pt x="953" y="1098"/>
                </a:lnTo>
                <a:lnTo>
                  <a:pt x="961" y="1089"/>
                </a:lnTo>
                <a:lnTo>
                  <a:pt x="974" y="1097"/>
                </a:lnTo>
                <a:lnTo>
                  <a:pt x="982" y="1086"/>
                </a:lnTo>
                <a:lnTo>
                  <a:pt x="986" y="1086"/>
                </a:lnTo>
                <a:lnTo>
                  <a:pt x="1007" y="1101"/>
                </a:lnTo>
                <a:lnTo>
                  <a:pt x="1035" y="1109"/>
                </a:lnTo>
                <a:lnTo>
                  <a:pt x="1053" y="1109"/>
                </a:lnTo>
                <a:lnTo>
                  <a:pt x="1071" y="1109"/>
                </a:lnTo>
                <a:lnTo>
                  <a:pt x="1097" y="1106"/>
                </a:lnTo>
                <a:lnTo>
                  <a:pt x="1071" y="1061"/>
                </a:lnTo>
                <a:lnTo>
                  <a:pt x="1067" y="1058"/>
                </a:lnTo>
                <a:lnTo>
                  <a:pt x="1060" y="1058"/>
                </a:lnTo>
                <a:lnTo>
                  <a:pt x="1055" y="1053"/>
                </a:lnTo>
                <a:lnTo>
                  <a:pt x="1069" y="1046"/>
                </a:lnTo>
                <a:lnTo>
                  <a:pt x="1081" y="1029"/>
                </a:lnTo>
                <a:lnTo>
                  <a:pt x="1088" y="1019"/>
                </a:lnTo>
                <a:lnTo>
                  <a:pt x="1074" y="1019"/>
                </a:lnTo>
                <a:lnTo>
                  <a:pt x="1063" y="1021"/>
                </a:lnTo>
                <a:lnTo>
                  <a:pt x="1055" y="1018"/>
                </a:lnTo>
                <a:lnTo>
                  <a:pt x="1067" y="1010"/>
                </a:lnTo>
                <a:lnTo>
                  <a:pt x="1081" y="1003"/>
                </a:lnTo>
                <a:lnTo>
                  <a:pt x="1081" y="986"/>
                </a:lnTo>
                <a:lnTo>
                  <a:pt x="1088" y="985"/>
                </a:lnTo>
                <a:lnTo>
                  <a:pt x="1090" y="983"/>
                </a:lnTo>
                <a:lnTo>
                  <a:pt x="1081" y="963"/>
                </a:lnTo>
                <a:lnTo>
                  <a:pt x="1068" y="954"/>
                </a:lnTo>
                <a:lnTo>
                  <a:pt x="1068" y="939"/>
                </a:lnTo>
                <a:lnTo>
                  <a:pt x="1081" y="930"/>
                </a:lnTo>
                <a:lnTo>
                  <a:pt x="1089" y="914"/>
                </a:lnTo>
                <a:lnTo>
                  <a:pt x="1089" y="893"/>
                </a:lnTo>
                <a:lnTo>
                  <a:pt x="1105" y="890"/>
                </a:lnTo>
                <a:lnTo>
                  <a:pt x="1112" y="885"/>
                </a:lnTo>
                <a:lnTo>
                  <a:pt x="1120" y="875"/>
                </a:lnTo>
                <a:lnTo>
                  <a:pt x="1123" y="868"/>
                </a:lnTo>
                <a:lnTo>
                  <a:pt x="1123" y="862"/>
                </a:lnTo>
                <a:lnTo>
                  <a:pt x="1132" y="856"/>
                </a:lnTo>
                <a:lnTo>
                  <a:pt x="1127" y="840"/>
                </a:lnTo>
                <a:lnTo>
                  <a:pt x="1121" y="833"/>
                </a:lnTo>
                <a:lnTo>
                  <a:pt x="1111" y="828"/>
                </a:lnTo>
                <a:lnTo>
                  <a:pt x="1092" y="821"/>
                </a:lnTo>
                <a:lnTo>
                  <a:pt x="1088" y="816"/>
                </a:lnTo>
                <a:lnTo>
                  <a:pt x="1088" y="808"/>
                </a:lnTo>
                <a:lnTo>
                  <a:pt x="1107" y="799"/>
                </a:lnTo>
                <a:lnTo>
                  <a:pt x="1106" y="789"/>
                </a:lnTo>
                <a:lnTo>
                  <a:pt x="1093" y="787"/>
                </a:lnTo>
                <a:lnTo>
                  <a:pt x="1093" y="779"/>
                </a:lnTo>
                <a:lnTo>
                  <a:pt x="1093" y="770"/>
                </a:lnTo>
                <a:lnTo>
                  <a:pt x="1093" y="758"/>
                </a:lnTo>
                <a:lnTo>
                  <a:pt x="1098" y="751"/>
                </a:lnTo>
                <a:lnTo>
                  <a:pt x="1121" y="746"/>
                </a:lnTo>
                <a:lnTo>
                  <a:pt x="1109" y="732"/>
                </a:lnTo>
                <a:lnTo>
                  <a:pt x="1108" y="724"/>
                </a:lnTo>
                <a:lnTo>
                  <a:pt x="1130" y="716"/>
                </a:lnTo>
                <a:lnTo>
                  <a:pt x="1144" y="701"/>
                </a:lnTo>
                <a:lnTo>
                  <a:pt x="1144" y="694"/>
                </a:lnTo>
                <a:lnTo>
                  <a:pt x="1139" y="689"/>
                </a:lnTo>
                <a:lnTo>
                  <a:pt x="1130" y="681"/>
                </a:lnTo>
                <a:lnTo>
                  <a:pt x="1108" y="665"/>
                </a:lnTo>
                <a:lnTo>
                  <a:pt x="1098" y="648"/>
                </a:lnTo>
                <a:lnTo>
                  <a:pt x="1096" y="626"/>
                </a:lnTo>
                <a:lnTo>
                  <a:pt x="1081" y="617"/>
                </a:lnTo>
                <a:lnTo>
                  <a:pt x="1067" y="614"/>
                </a:lnTo>
                <a:lnTo>
                  <a:pt x="1056" y="609"/>
                </a:lnTo>
                <a:lnTo>
                  <a:pt x="1044" y="592"/>
                </a:lnTo>
                <a:lnTo>
                  <a:pt x="1044" y="559"/>
                </a:lnTo>
                <a:lnTo>
                  <a:pt x="1038" y="523"/>
                </a:lnTo>
                <a:lnTo>
                  <a:pt x="1021" y="505"/>
                </a:lnTo>
                <a:lnTo>
                  <a:pt x="1001" y="491"/>
                </a:lnTo>
                <a:lnTo>
                  <a:pt x="1001" y="474"/>
                </a:lnTo>
                <a:lnTo>
                  <a:pt x="986" y="453"/>
                </a:lnTo>
                <a:lnTo>
                  <a:pt x="967" y="438"/>
                </a:lnTo>
                <a:lnTo>
                  <a:pt x="934" y="435"/>
                </a:lnTo>
                <a:lnTo>
                  <a:pt x="912" y="428"/>
                </a:lnTo>
                <a:lnTo>
                  <a:pt x="901" y="417"/>
                </a:lnTo>
                <a:lnTo>
                  <a:pt x="885" y="401"/>
                </a:lnTo>
                <a:lnTo>
                  <a:pt x="862" y="377"/>
                </a:lnTo>
                <a:lnTo>
                  <a:pt x="849" y="370"/>
                </a:lnTo>
                <a:lnTo>
                  <a:pt x="820" y="345"/>
                </a:lnTo>
                <a:lnTo>
                  <a:pt x="795" y="333"/>
                </a:lnTo>
                <a:lnTo>
                  <a:pt x="767" y="308"/>
                </a:lnTo>
                <a:lnTo>
                  <a:pt x="741" y="292"/>
                </a:lnTo>
                <a:lnTo>
                  <a:pt x="726" y="279"/>
                </a:lnTo>
                <a:lnTo>
                  <a:pt x="709" y="248"/>
                </a:lnTo>
                <a:lnTo>
                  <a:pt x="690" y="212"/>
                </a:lnTo>
                <a:lnTo>
                  <a:pt x="660" y="193"/>
                </a:lnTo>
                <a:lnTo>
                  <a:pt x="634" y="165"/>
                </a:lnTo>
                <a:lnTo>
                  <a:pt x="601" y="151"/>
                </a:lnTo>
                <a:lnTo>
                  <a:pt x="568" y="145"/>
                </a:lnTo>
                <a:lnTo>
                  <a:pt x="534" y="132"/>
                </a:lnTo>
                <a:lnTo>
                  <a:pt x="513" y="113"/>
                </a:lnTo>
                <a:lnTo>
                  <a:pt x="494" y="88"/>
                </a:lnTo>
                <a:lnTo>
                  <a:pt x="499" y="65"/>
                </a:lnTo>
                <a:lnTo>
                  <a:pt x="542" y="35"/>
                </a:lnTo>
                <a:lnTo>
                  <a:pt x="551" y="14"/>
                </a:lnTo>
                <a:lnTo>
                  <a:pt x="562" y="0"/>
                </a:lnTo>
                <a:lnTo>
                  <a:pt x="446" y="22"/>
                </a:lnTo>
                <a:lnTo>
                  <a:pt x="438" y="34"/>
                </a:lnTo>
                <a:lnTo>
                  <a:pt x="319" y="50"/>
                </a:lnTo>
                <a:lnTo>
                  <a:pt x="0" y="79"/>
                </a:lnTo>
              </a:path>
            </a:pathLst>
          </a:custGeom>
          <a:solidFill>
            <a:srgbClr val="ff66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Freeform 43"/>
          <p:cNvSpPr/>
          <p:nvPr/>
        </p:nvSpPr>
        <p:spPr>
          <a:xfrm>
            <a:off x="6280200" y="4876920"/>
            <a:ext cx="1547640" cy="1050840"/>
          </a:xfrm>
          <a:custGeom>
            <a:avLst/>
            <a:gdLst>
              <a:gd name="textAreaLeft" fmla="*/ 0 w 1547640"/>
              <a:gd name="textAreaRight" fmla="*/ 1548000 w 1547640"/>
              <a:gd name="textAreaTop" fmla="*/ 0 h 1050840"/>
              <a:gd name="textAreaBottom" fmla="*/ 1051200 h 1050840"/>
            </a:gdLst>
            <a:ahLst/>
            <a:rect l="textAreaLeft" t="textAreaTop" r="textAreaRight" b="textAreaBottom"/>
            <a:pathLst>
              <a:path w="1972" h="1434">
                <a:moveTo>
                  <a:pt x="14" y="311"/>
                </a:moveTo>
                <a:lnTo>
                  <a:pt x="28" y="289"/>
                </a:lnTo>
                <a:lnTo>
                  <a:pt x="47" y="268"/>
                </a:lnTo>
                <a:lnTo>
                  <a:pt x="55" y="251"/>
                </a:lnTo>
                <a:lnTo>
                  <a:pt x="55" y="238"/>
                </a:lnTo>
                <a:lnTo>
                  <a:pt x="52" y="230"/>
                </a:lnTo>
                <a:lnTo>
                  <a:pt x="35" y="217"/>
                </a:lnTo>
                <a:lnTo>
                  <a:pt x="18" y="204"/>
                </a:lnTo>
                <a:lnTo>
                  <a:pt x="7" y="199"/>
                </a:lnTo>
                <a:lnTo>
                  <a:pt x="0" y="193"/>
                </a:lnTo>
                <a:lnTo>
                  <a:pt x="0" y="176"/>
                </a:lnTo>
                <a:lnTo>
                  <a:pt x="0" y="167"/>
                </a:lnTo>
                <a:lnTo>
                  <a:pt x="2" y="154"/>
                </a:lnTo>
                <a:lnTo>
                  <a:pt x="2" y="144"/>
                </a:lnTo>
                <a:lnTo>
                  <a:pt x="580" y="88"/>
                </a:lnTo>
                <a:lnTo>
                  <a:pt x="622" y="84"/>
                </a:lnTo>
                <a:lnTo>
                  <a:pt x="632" y="94"/>
                </a:lnTo>
                <a:lnTo>
                  <a:pt x="644" y="104"/>
                </a:lnTo>
                <a:lnTo>
                  <a:pt x="663" y="127"/>
                </a:lnTo>
                <a:lnTo>
                  <a:pt x="666" y="138"/>
                </a:lnTo>
                <a:lnTo>
                  <a:pt x="669" y="157"/>
                </a:lnTo>
                <a:lnTo>
                  <a:pt x="1197" y="92"/>
                </a:lnTo>
                <a:lnTo>
                  <a:pt x="1213" y="109"/>
                </a:lnTo>
                <a:lnTo>
                  <a:pt x="1214" y="124"/>
                </a:lnTo>
                <a:lnTo>
                  <a:pt x="1222" y="127"/>
                </a:lnTo>
                <a:lnTo>
                  <a:pt x="1221" y="143"/>
                </a:lnTo>
                <a:lnTo>
                  <a:pt x="1222" y="150"/>
                </a:lnTo>
                <a:lnTo>
                  <a:pt x="1239" y="158"/>
                </a:lnTo>
                <a:lnTo>
                  <a:pt x="1253" y="165"/>
                </a:lnTo>
                <a:lnTo>
                  <a:pt x="1277" y="164"/>
                </a:lnTo>
                <a:lnTo>
                  <a:pt x="1279" y="157"/>
                </a:lnTo>
                <a:lnTo>
                  <a:pt x="1291" y="134"/>
                </a:lnTo>
                <a:lnTo>
                  <a:pt x="1298" y="123"/>
                </a:lnTo>
                <a:lnTo>
                  <a:pt x="1296" y="109"/>
                </a:lnTo>
                <a:lnTo>
                  <a:pt x="1284" y="76"/>
                </a:lnTo>
                <a:lnTo>
                  <a:pt x="1279" y="66"/>
                </a:lnTo>
                <a:lnTo>
                  <a:pt x="1266" y="51"/>
                </a:lnTo>
                <a:lnTo>
                  <a:pt x="1264" y="36"/>
                </a:lnTo>
                <a:lnTo>
                  <a:pt x="1264" y="23"/>
                </a:lnTo>
                <a:lnTo>
                  <a:pt x="1264" y="20"/>
                </a:lnTo>
                <a:lnTo>
                  <a:pt x="1268" y="9"/>
                </a:lnTo>
                <a:lnTo>
                  <a:pt x="1278" y="9"/>
                </a:lnTo>
                <a:lnTo>
                  <a:pt x="1286" y="11"/>
                </a:lnTo>
                <a:lnTo>
                  <a:pt x="1286" y="7"/>
                </a:lnTo>
                <a:lnTo>
                  <a:pt x="1299" y="0"/>
                </a:lnTo>
                <a:lnTo>
                  <a:pt x="1308" y="7"/>
                </a:lnTo>
                <a:lnTo>
                  <a:pt x="1320" y="11"/>
                </a:lnTo>
                <a:lnTo>
                  <a:pt x="1343" y="24"/>
                </a:lnTo>
                <a:lnTo>
                  <a:pt x="1354" y="28"/>
                </a:lnTo>
                <a:lnTo>
                  <a:pt x="1377" y="28"/>
                </a:lnTo>
                <a:lnTo>
                  <a:pt x="1400" y="25"/>
                </a:lnTo>
                <a:lnTo>
                  <a:pt x="1411" y="25"/>
                </a:lnTo>
                <a:lnTo>
                  <a:pt x="1435" y="84"/>
                </a:lnTo>
                <a:lnTo>
                  <a:pt x="1464" y="137"/>
                </a:lnTo>
                <a:lnTo>
                  <a:pt x="1549" y="299"/>
                </a:lnTo>
                <a:lnTo>
                  <a:pt x="1605" y="377"/>
                </a:lnTo>
                <a:lnTo>
                  <a:pt x="1630" y="405"/>
                </a:lnTo>
                <a:lnTo>
                  <a:pt x="1670" y="450"/>
                </a:lnTo>
                <a:lnTo>
                  <a:pt x="1672" y="473"/>
                </a:lnTo>
                <a:lnTo>
                  <a:pt x="1691" y="531"/>
                </a:lnTo>
                <a:lnTo>
                  <a:pt x="1711" y="576"/>
                </a:lnTo>
                <a:lnTo>
                  <a:pt x="1745" y="630"/>
                </a:lnTo>
                <a:lnTo>
                  <a:pt x="1775" y="697"/>
                </a:lnTo>
                <a:lnTo>
                  <a:pt x="1904" y="848"/>
                </a:lnTo>
                <a:lnTo>
                  <a:pt x="1913" y="889"/>
                </a:lnTo>
                <a:lnTo>
                  <a:pt x="1965" y="1071"/>
                </a:lnTo>
                <a:lnTo>
                  <a:pt x="1972" y="1188"/>
                </a:lnTo>
                <a:lnTo>
                  <a:pt x="1958" y="1170"/>
                </a:lnTo>
                <a:lnTo>
                  <a:pt x="1958" y="1238"/>
                </a:lnTo>
                <a:lnTo>
                  <a:pt x="1941" y="1290"/>
                </a:lnTo>
                <a:lnTo>
                  <a:pt x="1920" y="1319"/>
                </a:lnTo>
                <a:lnTo>
                  <a:pt x="1904" y="1359"/>
                </a:lnTo>
                <a:lnTo>
                  <a:pt x="1892" y="1362"/>
                </a:lnTo>
                <a:lnTo>
                  <a:pt x="1812" y="1418"/>
                </a:lnTo>
                <a:lnTo>
                  <a:pt x="1772" y="1418"/>
                </a:lnTo>
                <a:lnTo>
                  <a:pt x="1753" y="1433"/>
                </a:lnTo>
                <a:lnTo>
                  <a:pt x="1708" y="1434"/>
                </a:lnTo>
                <a:lnTo>
                  <a:pt x="1670" y="1422"/>
                </a:lnTo>
                <a:lnTo>
                  <a:pt x="1680" y="1400"/>
                </a:lnTo>
                <a:lnTo>
                  <a:pt x="1700" y="1401"/>
                </a:lnTo>
                <a:lnTo>
                  <a:pt x="1724" y="1411"/>
                </a:lnTo>
                <a:lnTo>
                  <a:pt x="1738" y="1401"/>
                </a:lnTo>
                <a:lnTo>
                  <a:pt x="1710" y="1370"/>
                </a:lnTo>
                <a:lnTo>
                  <a:pt x="1717" y="1350"/>
                </a:lnTo>
                <a:lnTo>
                  <a:pt x="1737" y="1340"/>
                </a:lnTo>
                <a:lnTo>
                  <a:pt x="1743" y="1319"/>
                </a:lnTo>
                <a:lnTo>
                  <a:pt x="1717" y="1319"/>
                </a:lnTo>
                <a:lnTo>
                  <a:pt x="1717" y="1302"/>
                </a:lnTo>
                <a:lnTo>
                  <a:pt x="1725" y="1282"/>
                </a:lnTo>
                <a:lnTo>
                  <a:pt x="1711" y="1261"/>
                </a:lnTo>
                <a:lnTo>
                  <a:pt x="1624" y="1252"/>
                </a:lnTo>
                <a:lnTo>
                  <a:pt x="1523" y="1197"/>
                </a:lnTo>
                <a:lnTo>
                  <a:pt x="1487" y="1134"/>
                </a:lnTo>
                <a:lnTo>
                  <a:pt x="1491" y="1046"/>
                </a:lnTo>
                <a:lnTo>
                  <a:pt x="1490" y="1025"/>
                </a:lnTo>
                <a:lnTo>
                  <a:pt x="1467" y="1052"/>
                </a:lnTo>
                <a:lnTo>
                  <a:pt x="1446" y="1071"/>
                </a:lnTo>
                <a:lnTo>
                  <a:pt x="1438" y="1067"/>
                </a:lnTo>
                <a:lnTo>
                  <a:pt x="1422" y="975"/>
                </a:lnTo>
                <a:lnTo>
                  <a:pt x="1435" y="956"/>
                </a:lnTo>
                <a:lnTo>
                  <a:pt x="1435" y="939"/>
                </a:lnTo>
                <a:lnTo>
                  <a:pt x="1435" y="910"/>
                </a:lnTo>
                <a:lnTo>
                  <a:pt x="1425" y="935"/>
                </a:lnTo>
                <a:lnTo>
                  <a:pt x="1418" y="945"/>
                </a:lnTo>
                <a:lnTo>
                  <a:pt x="1402" y="953"/>
                </a:lnTo>
                <a:lnTo>
                  <a:pt x="1377" y="948"/>
                </a:lnTo>
                <a:lnTo>
                  <a:pt x="1373" y="946"/>
                </a:lnTo>
                <a:lnTo>
                  <a:pt x="1389" y="986"/>
                </a:lnTo>
                <a:lnTo>
                  <a:pt x="1374" y="991"/>
                </a:lnTo>
                <a:lnTo>
                  <a:pt x="1359" y="986"/>
                </a:lnTo>
                <a:lnTo>
                  <a:pt x="1324" y="950"/>
                </a:lnTo>
                <a:lnTo>
                  <a:pt x="1326" y="973"/>
                </a:lnTo>
                <a:lnTo>
                  <a:pt x="1288" y="901"/>
                </a:lnTo>
                <a:lnTo>
                  <a:pt x="1256" y="866"/>
                </a:lnTo>
                <a:lnTo>
                  <a:pt x="1240" y="857"/>
                </a:lnTo>
                <a:lnTo>
                  <a:pt x="1246" y="847"/>
                </a:lnTo>
                <a:lnTo>
                  <a:pt x="1274" y="824"/>
                </a:lnTo>
                <a:lnTo>
                  <a:pt x="1299" y="786"/>
                </a:lnTo>
                <a:lnTo>
                  <a:pt x="1298" y="760"/>
                </a:lnTo>
                <a:lnTo>
                  <a:pt x="1307" y="748"/>
                </a:lnTo>
                <a:lnTo>
                  <a:pt x="1307" y="729"/>
                </a:lnTo>
                <a:lnTo>
                  <a:pt x="1277" y="707"/>
                </a:lnTo>
                <a:lnTo>
                  <a:pt x="1271" y="753"/>
                </a:lnTo>
                <a:lnTo>
                  <a:pt x="1248" y="730"/>
                </a:lnTo>
                <a:lnTo>
                  <a:pt x="1239" y="736"/>
                </a:lnTo>
                <a:lnTo>
                  <a:pt x="1239" y="743"/>
                </a:lnTo>
                <a:lnTo>
                  <a:pt x="1253" y="770"/>
                </a:lnTo>
                <a:lnTo>
                  <a:pt x="1258" y="783"/>
                </a:lnTo>
                <a:lnTo>
                  <a:pt x="1245" y="793"/>
                </a:lnTo>
                <a:lnTo>
                  <a:pt x="1235" y="802"/>
                </a:lnTo>
                <a:lnTo>
                  <a:pt x="1221" y="799"/>
                </a:lnTo>
                <a:lnTo>
                  <a:pt x="1193" y="732"/>
                </a:lnTo>
                <a:lnTo>
                  <a:pt x="1199" y="672"/>
                </a:lnTo>
                <a:lnTo>
                  <a:pt x="1197" y="587"/>
                </a:lnTo>
                <a:lnTo>
                  <a:pt x="1180" y="493"/>
                </a:lnTo>
                <a:lnTo>
                  <a:pt x="1141" y="446"/>
                </a:lnTo>
                <a:lnTo>
                  <a:pt x="1043" y="386"/>
                </a:lnTo>
                <a:lnTo>
                  <a:pt x="1000" y="366"/>
                </a:lnTo>
                <a:lnTo>
                  <a:pt x="990" y="363"/>
                </a:lnTo>
                <a:lnTo>
                  <a:pt x="990" y="327"/>
                </a:lnTo>
                <a:lnTo>
                  <a:pt x="985" y="311"/>
                </a:lnTo>
                <a:lnTo>
                  <a:pt x="945" y="309"/>
                </a:lnTo>
                <a:lnTo>
                  <a:pt x="926" y="295"/>
                </a:lnTo>
                <a:lnTo>
                  <a:pt x="902" y="291"/>
                </a:lnTo>
                <a:lnTo>
                  <a:pt x="888" y="282"/>
                </a:lnTo>
                <a:lnTo>
                  <a:pt x="873" y="259"/>
                </a:lnTo>
                <a:lnTo>
                  <a:pt x="835" y="242"/>
                </a:lnTo>
                <a:lnTo>
                  <a:pt x="815" y="242"/>
                </a:lnTo>
                <a:lnTo>
                  <a:pt x="799" y="248"/>
                </a:lnTo>
                <a:lnTo>
                  <a:pt x="776" y="268"/>
                </a:lnTo>
                <a:lnTo>
                  <a:pt x="724" y="323"/>
                </a:lnTo>
                <a:lnTo>
                  <a:pt x="697" y="329"/>
                </a:lnTo>
                <a:lnTo>
                  <a:pt x="657" y="369"/>
                </a:lnTo>
                <a:lnTo>
                  <a:pt x="624" y="377"/>
                </a:lnTo>
                <a:lnTo>
                  <a:pt x="580" y="402"/>
                </a:lnTo>
                <a:lnTo>
                  <a:pt x="534" y="408"/>
                </a:lnTo>
                <a:lnTo>
                  <a:pt x="516" y="397"/>
                </a:lnTo>
                <a:lnTo>
                  <a:pt x="493" y="386"/>
                </a:lnTo>
                <a:lnTo>
                  <a:pt x="485" y="340"/>
                </a:lnTo>
                <a:lnTo>
                  <a:pt x="485" y="343"/>
                </a:lnTo>
                <a:lnTo>
                  <a:pt x="493" y="352"/>
                </a:lnTo>
                <a:lnTo>
                  <a:pt x="498" y="374"/>
                </a:lnTo>
                <a:lnTo>
                  <a:pt x="517" y="386"/>
                </a:lnTo>
                <a:lnTo>
                  <a:pt x="532" y="379"/>
                </a:lnTo>
                <a:lnTo>
                  <a:pt x="532" y="329"/>
                </a:lnTo>
                <a:lnTo>
                  <a:pt x="525" y="302"/>
                </a:lnTo>
                <a:lnTo>
                  <a:pt x="508" y="283"/>
                </a:lnTo>
                <a:lnTo>
                  <a:pt x="473" y="286"/>
                </a:lnTo>
                <a:lnTo>
                  <a:pt x="457" y="286"/>
                </a:lnTo>
                <a:lnTo>
                  <a:pt x="457" y="276"/>
                </a:lnTo>
                <a:lnTo>
                  <a:pt x="457" y="272"/>
                </a:lnTo>
                <a:lnTo>
                  <a:pt x="508" y="259"/>
                </a:lnTo>
                <a:lnTo>
                  <a:pt x="490" y="248"/>
                </a:lnTo>
                <a:lnTo>
                  <a:pt x="414" y="250"/>
                </a:lnTo>
                <a:lnTo>
                  <a:pt x="389" y="250"/>
                </a:lnTo>
                <a:lnTo>
                  <a:pt x="384" y="248"/>
                </a:lnTo>
                <a:lnTo>
                  <a:pt x="384" y="233"/>
                </a:lnTo>
                <a:lnTo>
                  <a:pt x="398" y="223"/>
                </a:lnTo>
                <a:lnTo>
                  <a:pt x="398" y="215"/>
                </a:lnTo>
                <a:lnTo>
                  <a:pt x="375" y="215"/>
                </a:lnTo>
                <a:lnTo>
                  <a:pt x="360" y="227"/>
                </a:lnTo>
                <a:lnTo>
                  <a:pt x="346" y="234"/>
                </a:lnTo>
                <a:lnTo>
                  <a:pt x="360" y="255"/>
                </a:lnTo>
                <a:lnTo>
                  <a:pt x="335" y="248"/>
                </a:lnTo>
                <a:lnTo>
                  <a:pt x="328" y="244"/>
                </a:lnTo>
                <a:lnTo>
                  <a:pt x="249" y="252"/>
                </a:lnTo>
                <a:lnTo>
                  <a:pt x="221" y="265"/>
                </a:lnTo>
                <a:lnTo>
                  <a:pt x="178" y="271"/>
                </a:lnTo>
                <a:lnTo>
                  <a:pt x="168" y="276"/>
                </a:lnTo>
                <a:lnTo>
                  <a:pt x="168" y="268"/>
                </a:lnTo>
                <a:lnTo>
                  <a:pt x="171" y="253"/>
                </a:lnTo>
                <a:lnTo>
                  <a:pt x="168" y="241"/>
                </a:lnTo>
                <a:lnTo>
                  <a:pt x="155" y="232"/>
                </a:lnTo>
                <a:lnTo>
                  <a:pt x="118" y="248"/>
                </a:lnTo>
                <a:lnTo>
                  <a:pt x="118" y="255"/>
                </a:lnTo>
                <a:lnTo>
                  <a:pt x="124" y="270"/>
                </a:lnTo>
                <a:lnTo>
                  <a:pt x="124" y="276"/>
                </a:lnTo>
                <a:lnTo>
                  <a:pt x="109" y="290"/>
                </a:lnTo>
                <a:lnTo>
                  <a:pt x="24" y="310"/>
                </a:lnTo>
                <a:lnTo>
                  <a:pt x="14" y="311"/>
                </a:lnTo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Freeform 44"/>
          <p:cNvSpPr/>
          <p:nvPr/>
        </p:nvSpPr>
        <p:spPr>
          <a:xfrm>
            <a:off x="7594560" y="5241960"/>
            <a:ext cx="106560" cy="119160"/>
          </a:xfrm>
          <a:custGeom>
            <a:avLst/>
            <a:gdLst>
              <a:gd name="textAreaLeft" fmla="*/ 0 w 106560"/>
              <a:gd name="textAreaRight" fmla="*/ 106920 w 10656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37" h="160">
                <a:moveTo>
                  <a:pt x="0" y="0"/>
                </a:moveTo>
                <a:lnTo>
                  <a:pt x="15" y="8"/>
                </a:lnTo>
                <a:lnTo>
                  <a:pt x="34" y="31"/>
                </a:lnTo>
                <a:lnTo>
                  <a:pt x="54" y="54"/>
                </a:lnTo>
                <a:lnTo>
                  <a:pt x="69" y="71"/>
                </a:lnTo>
                <a:lnTo>
                  <a:pt x="87" y="105"/>
                </a:lnTo>
                <a:lnTo>
                  <a:pt x="100" y="117"/>
                </a:lnTo>
                <a:lnTo>
                  <a:pt x="116" y="136"/>
                </a:lnTo>
                <a:lnTo>
                  <a:pt x="126" y="150"/>
                </a:lnTo>
                <a:lnTo>
                  <a:pt x="137" y="16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Freeform 45"/>
          <p:cNvSpPr/>
          <p:nvPr/>
        </p:nvSpPr>
        <p:spPr>
          <a:xfrm>
            <a:off x="7772400" y="5891040"/>
            <a:ext cx="88920" cy="96840"/>
          </a:xfrm>
          <a:custGeom>
            <a:avLst/>
            <a:gdLst>
              <a:gd name="textAreaLeft" fmla="*/ 0 w 88920"/>
              <a:gd name="textAreaRight" fmla="*/ 88920 w 8892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113" h="130">
                <a:moveTo>
                  <a:pt x="104" y="2"/>
                </a:moveTo>
                <a:lnTo>
                  <a:pt x="77" y="51"/>
                </a:lnTo>
                <a:lnTo>
                  <a:pt x="56" y="69"/>
                </a:lnTo>
                <a:lnTo>
                  <a:pt x="36" y="93"/>
                </a:lnTo>
                <a:lnTo>
                  <a:pt x="19" y="105"/>
                </a:lnTo>
                <a:lnTo>
                  <a:pt x="2" y="122"/>
                </a:lnTo>
                <a:lnTo>
                  <a:pt x="0" y="130"/>
                </a:lnTo>
                <a:lnTo>
                  <a:pt x="9" y="128"/>
                </a:lnTo>
                <a:lnTo>
                  <a:pt x="30" y="110"/>
                </a:lnTo>
                <a:lnTo>
                  <a:pt x="51" y="96"/>
                </a:lnTo>
                <a:lnTo>
                  <a:pt x="77" y="72"/>
                </a:lnTo>
                <a:lnTo>
                  <a:pt x="95" y="46"/>
                </a:lnTo>
                <a:lnTo>
                  <a:pt x="106" y="26"/>
                </a:lnTo>
                <a:lnTo>
                  <a:pt x="113" y="8"/>
                </a:lnTo>
                <a:lnTo>
                  <a:pt x="108" y="0"/>
                </a:lnTo>
                <a:lnTo>
                  <a:pt x="104" y="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Freeform 46"/>
          <p:cNvSpPr/>
          <p:nvPr/>
        </p:nvSpPr>
        <p:spPr>
          <a:xfrm>
            <a:off x="6810480" y="3619440"/>
            <a:ext cx="1371600" cy="601560"/>
          </a:xfrm>
          <a:custGeom>
            <a:avLst/>
            <a:gdLst>
              <a:gd name="textAreaLeft" fmla="*/ 0 w 1371600"/>
              <a:gd name="textAreaRight" fmla="*/ 1371600 w 1371600"/>
              <a:gd name="textAreaTop" fmla="*/ 0 h 601560"/>
              <a:gd name="textAreaBottom" fmla="*/ 601920 h 601560"/>
            </a:gdLst>
            <a:ahLst/>
            <a:rect l="textAreaLeft" t="textAreaTop" r="textAreaRight" b="textAreaBottom"/>
            <a:pathLst>
              <a:path w="1751" h="823">
                <a:moveTo>
                  <a:pt x="1275" y="822"/>
                </a:moveTo>
                <a:lnTo>
                  <a:pt x="1305" y="797"/>
                </a:lnTo>
                <a:lnTo>
                  <a:pt x="1368" y="761"/>
                </a:lnTo>
                <a:lnTo>
                  <a:pt x="1376" y="746"/>
                </a:lnTo>
                <a:lnTo>
                  <a:pt x="1359" y="720"/>
                </a:lnTo>
                <a:lnTo>
                  <a:pt x="1352" y="715"/>
                </a:lnTo>
                <a:lnTo>
                  <a:pt x="1376" y="739"/>
                </a:lnTo>
                <a:lnTo>
                  <a:pt x="1389" y="743"/>
                </a:lnTo>
                <a:lnTo>
                  <a:pt x="1395" y="733"/>
                </a:lnTo>
                <a:lnTo>
                  <a:pt x="1412" y="697"/>
                </a:lnTo>
                <a:lnTo>
                  <a:pt x="1398" y="706"/>
                </a:lnTo>
                <a:lnTo>
                  <a:pt x="1391" y="711"/>
                </a:lnTo>
                <a:lnTo>
                  <a:pt x="1394" y="687"/>
                </a:lnTo>
                <a:lnTo>
                  <a:pt x="1426" y="628"/>
                </a:lnTo>
                <a:lnTo>
                  <a:pt x="1487" y="547"/>
                </a:lnTo>
                <a:lnTo>
                  <a:pt x="1589" y="485"/>
                </a:lnTo>
                <a:lnTo>
                  <a:pt x="1610" y="470"/>
                </a:lnTo>
                <a:lnTo>
                  <a:pt x="1624" y="442"/>
                </a:lnTo>
                <a:lnTo>
                  <a:pt x="1623" y="417"/>
                </a:lnTo>
                <a:lnTo>
                  <a:pt x="1611" y="417"/>
                </a:lnTo>
                <a:lnTo>
                  <a:pt x="1579" y="428"/>
                </a:lnTo>
                <a:lnTo>
                  <a:pt x="1539" y="437"/>
                </a:lnTo>
                <a:lnTo>
                  <a:pt x="1508" y="438"/>
                </a:lnTo>
                <a:lnTo>
                  <a:pt x="1468" y="417"/>
                </a:lnTo>
                <a:lnTo>
                  <a:pt x="1489" y="417"/>
                </a:lnTo>
                <a:lnTo>
                  <a:pt x="1523" y="417"/>
                </a:lnTo>
                <a:lnTo>
                  <a:pt x="1562" y="401"/>
                </a:lnTo>
                <a:lnTo>
                  <a:pt x="1572" y="377"/>
                </a:lnTo>
                <a:lnTo>
                  <a:pt x="1564" y="362"/>
                </a:lnTo>
                <a:lnTo>
                  <a:pt x="1571" y="348"/>
                </a:lnTo>
                <a:lnTo>
                  <a:pt x="1564" y="341"/>
                </a:lnTo>
                <a:lnTo>
                  <a:pt x="1548" y="341"/>
                </a:lnTo>
                <a:lnTo>
                  <a:pt x="1536" y="329"/>
                </a:lnTo>
                <a:lnTo>
                  <a:pt x="1536" y="316"/>
                </a:lnTo>
                <a:lnTo>
                  <a:pt x="1576" y="323"/>
                </a:lnTo>
                <a:lnTo>
                  <a:pt x="1608" y="340"/>
                </a:lnTo>
                <a:lnTo>
                  <a:pt x="1645" y="340"/>
                </a:lnTo>
                <a:lnTo>
                  <a:pt x="1683" y="346"/>
                </a:lnTo>
                <a:lnTo>
                  <a:pt x="1706" y="333"/>
                </a:lnTo>
                <a:lnTo>
                  <a:pt x="1706" y="301"/>
                </a:lnTo>
                <a:lnTo>
                  <a:pt x="1718" y="259"/>
                </a:lnTo>
                <a:lnTo>
                  <a:pt x="1733" y="230"/>
                </a:lnTo>
                <a:lnTo>
                  <a:pt x="1751" y="211"/>
                </a:lnTo>
                <a:lnTo>
                  <a:pt x="1751" y="186"/>
                </a:lnTo>
                <a:lnTo>
                  <a:pt x="1724" y="149"/>
                </a:lnTo>
                <a:lnTo>
                  <a:pt x="1708" y="141"/>
                </a:lnTo>
                <a:lnTo>
                  <a:pt x="1686" y="141"/>
                </a:lnTo>
                <a:lnTo>
                  <a:pt x="1683" y="166"/>
                </a:lnTo>
                <a:lnTo>
                  <a:pt x="1684" y="194"/>
                </a:lnTo>
                <a:lnTo>
                  <a:pt x="1684" y="231"/>
                </a:lnTo>
                <a:lnTo>
                  <a:pt x="1668" y="218"/>
                </a:lnTo>
                <a:lnTo>
                  <a:pt x="1649" y="178"/>
                </a:lnTo>
                <a:lnTo>
                  <a:pt x="1633" y="158"/>
                </a:lnTo>
                <a:lnTo>
                  <a:pt x="1620" y="158"/>
                </a:lnTo>
                <a:lnTo>
                  <a:pt x="1595" y="171"/>
                </a:lnTo>
                <a:lnTo>
                  <a:pt x="1565" y="175"/>
                </a:lnTo>
                <a:lnTo>
                  <a:pt x="1529" y="193"/>
                </a:lnTo>
                <a:lnTo>
                  <a:pt x="1514" y="198"/>
                </a:lnTo>
                <a:lnTo>
                  <a:pt x="1524" y="180"/>
                </a:lnTo>
                <a:lnTo>
                  <a:pt x="1506" y="156"/>
                </a:lnTo>
                <a:lnTo>
                  <a:pt x="1444" y="115"/>
                </a:lnTo>
                <a:lnTo>
                  <a:pt x="1465" y="115"/>
                </a:lnTo>
                <a:lnTo>
                  <a:pt x="1503" y="124"/>
                </a:lnTo>
                <a:lnTo>
                  <a:pt x="1527" y="114"/>
                </a:lnTo>
                <a:lnTo>
                  <a:pt x="1552" y="110"/>
                </a:lnTo>
                <a:lnTo>
                  <a:pt x="1589" y="115"/>
                </a:lnTo>
                <a:lnTo>
                  <a:pt x="1617" y="113"/>
                </a:lnTo>
                <a:lnTo>
                  <a:pt x="1658" y="106"/>
                </a:lnTo>
                <a:lnTo>
                  <a:pt x="1687" y="98"/>
                </a:lnTo>
                <a:lnTo>
                  <a:pt x="1687" y="76"/>
                </a:lnTo>
                <a:lnTo>
                  <a:pt x="1685" y="48"/>
                </a:lnTo>
                <a:lnTo>
                  <a:pt x="1669" y="44"/>
                </a:lnTo>
                <a:lnTo>
                  <a:pt x="1669" y="38"/>
                </a:lnTo>
                <a:lnTo>
                  <a:pt x="1680" y="30"/>
                </a:lnTo>
                <a:lnTo>
                  <a:pt x="1691" y="30"/>
                </a:lnTo>
                <a:lnTo>
                  <a:pt x="1699" y="19"/>
                </a:lnTo>
                <a:lnTo>
                  <a:pt x="1695" y="9"/>
                </a:lnTo>
                <a:lnTo>
                  <a:pt x="1695" y="6"/>
                </a:lnTo>
                <a:lnTo>
                  <a:pt x="1691" y="0"/>
                </a:lnTo>
                <a:lnTo>
                  <a:pt x="1400" y="59"/>
                </a:lnTo>
                <a:lnTo>
                  <a:pt x="1400" y="71"/>
                </a:lnTo>
                <a:lnTo>
                  <a:pt x="1115" y="136"/>
                </a:lnTo>
                <a:lnTo>
                  <a:pt x="781" y="211"/>
                </a:lnTo>
                <a:lnTo>
                  <a:pt x="505" y="259"/>
                </a:lnTo>
                <a:lnTo>
                  <a:pt x="456" y="265"/>
                </a:lnTo>
                <a:lnTo>
                  <a:pt x="431" y="292"/>
                </a:lnTo>
                <a:lnTo>
                  <a:pt x="422" y="303"/>
                </a:lnTo>
                <a:lnTo>
                  <a:pt x="418" y="318"/>
                </a:lnTo>
                <a:lnTo>
                  <a:pt x="419" y="331"/>
                </a:lnTo>
                <a:lnTo>
                  <a:pt x="424" y="346"/>
                </a:lnTo>
                <a:lnTo>
                  <a:pt x="427" y="371"/>
                </a:lnTo>
                <a:lnTo>
                  <a:pt x="410" y="369"/>
                </a:lnTo>
                <a:lnTo>
                  <a:pt x="405" y="363"/>
                </a:lnTo>
                <a:lnTo>
                  <a:pt x="391" y="376"/>
                </a:lnTo>
                <a:lnTo>
                  <a:pt x="378" y="389"/>
                </a:lnTo>
                <a:lnTo>
                  <a:pt x="372" y="403"/>
                </a:lnTo>
                <a:lnTo>
                  <a:pt x="356" y="420"/>
                </a:lnTo>
                <a:lnTo>
                  <a:pt x="342" y="432"/>
                </a:lnTo>
                <a:lnTo>
                  <a:pt x="331" y="450"/>
                </a:lnTo>
                <a:lnTo>
                  <a:pt x="328" y="456"/>
                </a:lnTo>
                <a:lnTo>
                  <a:pt x="325" y="456"/>
                </a:lnTo>
                <a:lnTo>
                  <a:pt x="307" y="453"/>
                </a:lnTo>
                <a:lnTo>
                  <a:pt x="298" y="450"/>
                </a:lnTo>
                <a:lnTo>
                  <a:pt x="291" y="446"/>
                </a:lnTo>
                <a:lnTo>
                  <a:pt x="275" y="451"/>
                </a:lnTo>
                <a:lnTo>
                  <a:pt x="262" y="461"/>
                </a:lnTo>
                <a:lnTo>
                  <a:pt x="251" y="473"/>
                </a:lnTo>
                <a:lnTo>
                  <a:pt x="240" y="488"/>
                </a:lnTo>
                <a:lnTo>
                  <a:pt x="234" y="501"/>
                </a:lnTo>
                <a:lnTo>
                  <a:pt x="232" y="511"/>
                </a:lnTo>
                <a:lnTo>
                  <a:pt x="220" y="519"/>
                </a:lnTo>
                <a:lnTo>
                  <a:pt x="212" y="523"/>
                </a:lnTo>
                <a:lnTo>
                  <a:pt x="205" y="520"/>
                </a:lnTo>
                <a:lnTo>
                  <a:pt x="201" y="514"/>
                </a:lnTo>
                <a:lnTo>
                  <a:pt x="197" y="508"/>
                </a:lnTo>
                <a:lnTo>
                  <a:pt x="192" y="506"/>
                </a:lnTo>
                <a:lnTo>
                  <a:pt x="182" y="506"/>
                </a:lnTo>
                <a:lnTo>
                  <a:pt x="172" y="506"/>
                </a:lnTo>
                <a:lnTo>
                  <a:pt x="162" y="535"/>
                </a:lnTo>
                <a:lnTo>
                  <a:pt x="145" y="565"/>
                </a:lnTo>
                <a:lnTo>
                  <a:pt x="141" y="576"/>
                </a:lnTo>
                <a:lnTo>
                  <a:pt x="130" y="594"/>
                </a:lnTo>
                <a:lnTo>
                  <a:pt x="115" y="603"/>
                </a:lnTo>
                <a:lnTo>
                  <a:pt x="100" y="606"/>
                </a:lnTo>
                <a:lnTo>
                  <a:pt x="87" y="612"/>
                </a:lnTo>
                <a:lnTo>
                  <a:pt x="81" y="613"/>
                </a:lnTo>
                <a:lnTo>
                  <a:pt x="67" y="617"/>
                </a:lnTo>
                <a:lnTo>
                  <a:pt x="58" y="621"/>
                </a:lnTo>
                <a:lnTo>
                  <a:pt x="53" y="633"/>
                </a:lnTo>
                <a:lnTo>
                  <a:pt x="47" y="649"/>
                </a:lnTo>
                <a:lnTo>
                  <a:pt x="39" y="657"/>
                </a:lnTo>
                <a:lnTo>
                  <a:pt x="32" y="663"/>
                </a:lnTo>
                <a:lnTo>
                  <a:pt x="32" y="666"/>
                </a:lnTo>
                <a:lnTo>
                  <a:pt x="32" y="673"/>
                </a:lnTo>
                <a:lnTo>
                  <a:pt x="35" y="680"/>
                </a:lnTo>
                <a:lnTo>
                  <a:pt x="35" y="688"/>
                </a:lnTo>
                <a:lnTo>
                  <a:pt x="32" y="692"/>
                </a:lnTo>
                <a:lnTo>
                  <a:pt x="20" y="695"/>
                </a:lnTo>
                <a:lnTo>
                  <a:pt x="7" y="700"/>
                </a:lnTo>
                <a:lnTo>
                  <a:pt x="7" y="717"/>
                </a:lnTo>
                <a:lnTo>
                  <a:pt x="0" y="749"/>
                </a:lnTo>
                <a:lnTo>
                  <a:pt x="0" y="754"/>
                </a:lnTo>
                <a:lnTo>
                  <a:pt x="117" y="739"/>
                </a:lnTo>
                <a:lnTo>
                  <a:pt x="126" y="733"/>
                </a:lnTo>
                <a:lnTo>
                  <a:pt x="297" y="703"/>
                </a:lnTo>
                <a:lnTo>
                  <a:pt x="337" y="697"/>
                </a:lnTo>
                <a:lnTo>
                  <a:pt x="416" y="653"/>
                </a:lnTo>
                <a:lnTo>
                  <a:pt x="493" y="645"/>
                </a:lnTo>
                <a:lnTo>
                  <a:pt x="500" y="645"/>
                </a:lnTo>
                <a:lnTo>
                  <a:pt x="504" y="636"/>
                </a:lnTo>
                <a:lnTo>
                  <a:pt x="712" y="621"/>
                </a:lnTo>
                <a:lnTo>
                  <a:pt x="718" y="621"/>
                </a:lnTo>
                <a:lnTo>
                  <a:pt x="722" y="628"/>
                </a:lnTo>
                <a:lnTo>
                  <a:pt x="722" y="641"/>
                </a:lnTo>
                <a:lnTo>
                  <a:pt x="735" y="641"/>
                </a:lnTo>
                <a:lnTo>
                  <a:pt x="750" y="641"/>
                </a:lnTo>
                <a:lnTo>
                  <a:pt x="765" y="670"/>
                </a:lnTo>
                <a:lnTo>
                  <a:pt x="773" y="681"/>
                </a:lnTo>
                <a:lnTo>
                  <a:pt x="998" y="643"/>
                </a:lnTo>
                <a:lnTo>
                  <a:pt x="1273" y="823"/>
                </a:lnTo>
                <a:lnTo>
                  <a:pt x="1275" y="822"/>
                </a:lnTo>
              </a:path>
            </a:pathLst>
          </a:custGeom>
          <a:solidFill>
            <a:srgbClr val="ff66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Freeform 47"/>
          <p:cNvSpPr/>
          <p:nvPr/>
        </p:nvSpPr>
        <p:spPr>
          <a:xfrm>
            <a:off x="6932520" y="4062240"/>
            <a:ext cx="863640" cy="563760"/>
          </a:xfrm>
          <a:custGeom>
            <a:avLst/>
            <a:gdLst>
              <a:gd name="textAreaLeft" fmla="*/ 0 w 863640"/>
              <a:gd name="textAreaRight" fmla="*/ 864000 w 863640"/>
              <a:gd name="textAreaTop" fmla="*/ 0 h 563760"/>
              <a:gd name="textAreaBottom" fmla="*/ 564120 h 563760"/>
            </a:gdLst>
            <a:ahLst/>
            <a:rect l="textAreaLeft" t="textAreaTop" r="textAreaRight" b="textAreaBottom"/>
            <a:pathLst>
              <a:path w="1103" h="771">
                <a:moveTo>
                  <a:pt x="61" y="94"/>
                </a:moveTo>
                <a:lnTo>
                  <a:pt x="170" y="76"/>
                </a:lnTo>
                <a:lnTo>
                  <a:pt x="246" y="31"/>
                </a:lnTo>
                <a:lnTo>
                  <a:pt x="327" y="24"/>
                </a:lnTo>
                <a:lnTo>
                  <a:pt x="333" y="18"/>
                </a:lnTo>
                <a:lnTo>
                  <a:pt x="546" y="0"/>
                </a:lnTo>
                <a:lnTo>
                  <a:pt x="551" y="3"/>
                </a:lnTo>
                <a:lnTo>
                  <a:pt x="553" y="19"/>
                </a:lnTo>
                <a:lnTo>
                  <a:pt x="572" y="19"/>
                </a:lnTo>
                <a:lnTo>
                  <a:pt x="574" y="19"/>
                </a:lnTo>
                <a:lnTo>
                  <a:pt x="602" y="60"/>
                </a:lnTo>
                <a:lnTo>
                  <a:pt x="829" y="22"/>
                </a:lnTo>
                <a:lnTo>
                  <a:pt x="1103" y="201"/>
                </a:lnTo>
                <a:lnTo>
                  <a:pt x="1060" y="241"/>
                </a:lnTo>
                <a:lnTo>
                  <a:pt x="1036" y="272"/>
                </a:lnTo>
                <a:lnTo>
                  <a:pt x="1019" y="296"/>
                </a:lnTo>
                <a:lnTo>
                  <a:pt x="998" y="339"/>
                </a:lnTo>
                <a:lnTo>
                  <a:pt x="990" y="357"/>
                </a:lnTo>
                <a:lnTo>
                  <a:pt x="990" y="375"/>
                </a:lnTo>
                <a:lnTo>
                  <a:pt x="979" y="417"/>
                </a:lnTo>
                <a:lnTo>
                  <a:pt x="966" y="432"/>
                </a:lnTo>
                <a:lnTo>
                  <a:pt x="945" y="432"/>
                </a:lnTo>
                <a:lnTo>
                  <a:pt x="926" y="430"/>
                </a:lnTo>
                <a:lnTo>
                  <a:pt x="915" y="435"/>
                </a:lnTo>
                <a:lnTo>
                  <a:pt x="903" y="462"/>
                </a:lnTo>
                <a:lnTo>
                  <a:pt x="890" y="492"/>
                </a:lnTo>
                <a:lnTo>
                  <a:pt x="864" y="505"/>
                </a:lnTo>
                <a:lnTo>
                  <a:pt x="846" y="511"/>
                </a:lnTo>
                <a:lnTo>
                  <a:pt x="839" y="511"/>
                </a:lnTo>
                <a:lnTo>
                  <a:pt x="831" y="492"/>
                </a:lnTo>
                <a:lnTo>
                  <a:pt x="831" y="485"/>
                </a:lnTo>
                <a:lnTo>
                  <a:pt x="822" y="505"/>
                </a:lnTo>
                <a:lnTo>
                  <a:pt x="818" y="541"/>
                </a:lnTo>
                <a:lnTo>
                  <a:pt x="811" y="564"/>
                </a:lnTo>
                <a:lnTo>
                  <a:pt x="806" y="577"/>
                </a:lnTo>
                <a:lnTo>
                  <a:pt x="799" y="588"/>
                </a:lnTo>
                <a:lnTo>
                  <a:pt x="772" y="582"/>
                </a:lnTo>
                <a:lnTo>
                  <a:pt x="765" y="575"/>
                </a:lnTo>
                <a:lnTo>
                  <a:pt x="765" y="561"/>
                </a:lnTo>
                <a:lnTo>
                  <a:pt x="744" y="568"/>
                </a:lnTo>
                <a:lnTo>
                  <a:pt x="733" y="584"/>
                </a:lnTo>
                <a:lnTo>
                  <a:pt x="726" y="590"/>
                </a:lnTo>
                <a:lnTo>
                  <a:pt x="741" y="614"/>
                </a:lnTo>
                <a:lnTo>
                  <a:pt x="741" y="640"/>
                </a:lnTo>
                <a:lnTo>
                  <a:pt x="734" y="652"/>
                </a:lnTo>
                <a:lnTo>
                  <a:pt x="725" y="664"/>
                </a:lnTo>
                <a:lnTo>
                  <a:pt x="705" y="656"/>
                </a:lnTo>
                <a:lnTo>
                  <a:pt x="690" y="645"/>
                </a:lnTo>
                <a:lnTo>
                  <a:pt x="689" y="629"/>
                </a:lnTo>
                <a:lnTo>
                  <a:pt x="674" y="630"/>
                </a:lnTo>
                <a:lnTo>
                  <a:pt x="666" y="645"/>
                </a:lnTo>
                <a:lnTo>
                  <a:pt x="674" y="670"/>
                </a:lnTo>
                <a:lnTo>
                  <a:pt x="690" y="696"/>
                </a:lnTo>
                <a:lnTo>
                  <a:pt x="677" y="708"/>
                </a:lnTo>
                <a:lnTo>
                  <a:pt x="667" y="716"/>
                </a:lnTo>
                <a:lnTo>
                  <a:pt x="651" y="717"/>
                </a:lnTo>
                <a:lnTo>
                  <a:pt x="645" y="724"/>
                </a:lnTo>
                <a:lnTo>
                  <a:pt x="640" y="739"/>
                </a:lnTo>
                <a:lnTo>
                  <a:pt x="638" y="751"/>
                </a:lnTo>
                <a:lnTo>
                  <a:pt x="638" y="764"/>
                </a:lnTo>
                <a:lnTo>
                  <a:pt x="638" y="771"/>
                </a:lnTo>
                <a:lnTo>
                  <a:pt x="627" y="762"/>
                </a:lnTo>
                <a:lnTo>
                  <a:pt x="617" y="756"/>
                </a:lnTo>
                <a:lnTo>
                  <a:pt x="609" y="739"/>
                </a:lnTo>
                <a:lnTo>
                  <a:pt x="598" y="719"/>
                </a:lnTo>
                <a:lnTo>
                  <a:pt x="597" y="710"/>
                </a:lnTo>
                <a:lnTo>
                  <a:pt x="594" y="706"/>
                </a:lnTo>
                <a:lnTo>
                  <a:pt x="584" y="701"/>
                </a:lnTo>
                <a:lnTo>
                  <a:pt x="569" y="696"/>
                </a:lnTo>
                <a:lnTo>
                  <a:pt x="561" y="693"/>
                </a:lnTo>
                <a:lnTo>
                  <a:pt x="550" y="681"/>
                </a:lnTo>
                <a:lnTo>
                  <a:pt x="550" y="674"/>
                </a:lnTo>
                <a:lnTo>
                  <a:pt x="550" y="641"/>
                </a:lnTo>
                <a:lnTo>
                  <a:pt x="546" y="623"/>
                </a:lnTo>
                <a:lnTo>
                  <a:pt x="543" y="606"/>
                </a:lnTo>
                <a:lnTo>
                  <a:pt x="541" y="602"/>
                </a:lnTo>
                <a:lnTo>
                  <a:pt x="529" y="589"/>
                </a:lnTo>
                <a:lnTo>
                  <a:pt x="519" y="581"/>
                </a:lnTo>
                <a:lnTo>
                  <a:pt x="511" y="577"/>
                </a:lnTo>
                <a:lnTo>
                  <a:pt x="507" y="572"/>
                </a:lnTo>
                <a:lnTo>
                  <a:pt x="507" y="559"/>
                </a:lnTo>
                <a:lnTo>
                  <a:pt x="504" y="554"/>
                </a:lnTo>
                <a:lnTo>
                  <a:pt x="476" y="526"/>
                </a:lnTo>
                <a:lnTo>
                  <a:pt x="468" y="521"/>
                </a:lnTo>
                <a:lnTo>
                  <a:pt x="442" y="519"/>
                </a:lnTo>
                <a:lnTo>
                  <a:pt x="425" y="517"/>
                </a:lnTo>
                <a:lnTo>
                  <a:pt x="415" y="508"/>
                </a:lnTo>
                <a:lnTo>
                  <a:pt x="398" y="490"/>
                </a:lnTo>
                <a:lnTo>
                  <a:pt x="372" y="467"/>
                </a:lnTo>
                <a:lnTo>
                  <a:pt x="333" y="435"/>
                </a:lnTo>
                <a:lnTo>
                  <a:pt x="296" y="414"/>
                </a:lnTo>
                <a:lnTo>
                  <a:pt x="235" y="370"/>
                </a:lnTo>
                <a:lnTo>
                  <a:pt x="215" y="338"/>
                </a:lnTo>
                <a:lnTo>
                  <a:pt x="196" y="301"/>
                </a:lnTo>
                <a:lnTo>
                  <a:pt x="186" y="291"/>
                </a:lnTo>
                <a:lnTo>
                  <a:pt x="166" y="277"/>
                </a:lnTo>
                <a:lnTo>
                  <a:pt x="149" y="261"/>
                </a:lnTo>
                <a:lnTo>
                  <a:pt x="136" y="249"/>
                </a:lnTo>
                <a:lnTo>
                  <a:pt x="117" y="239"/>
                </a:lnTo>
                <a:lnTo>
                  <a:pt x="97" y="233"/>
                </a:lnTo>
                <a:lnTo>
                  <a:pt x="80" y="231"/>
                </a:lnTo>
                <a:lnTo>
                  <a:pt x="63" y="221"/>
                </a:lnTo>
                <a:lnTo>
                  <a:pt x="50" y="218"/>
                </a:lnTo>
                <a:lnTo>
                  <a:pt x="37" y="217"/>
                </a:lnTo>
                <a:lnTo>
                  <a:pt x="25" y="202"/>
                </a:lnTo>
                <a:lnTo>
                  <a:pt x="12" y="188"/>
                </a:lnTo>
                <a:lnTo>
                  <a:pt x="0" y="176"/>
                </a:lnTo>
                <a:lnTo>
                  <a:pt x="0" y="171"/>
                </a:lnTo>
                <a:lnTo>
                  <a:pt x="1" y="155"/>
                </a:lnTo>
                <a:lnTo>
                  <a:pt x="11" y="145"/>
                </a:lnTo>
                <a:lnTo>
                  <a:pt x="20" y="135"/>
                </a:lnTo>
                <a:lnTo>
                  <a:pt x="37" y="127"/>
                </a:lnTo>
                <a:lnTo>
                  <a:pt x="44" y="120"/>
                </a:lnTo>
                <a:lnTo>
                  <a:pt x="49" y="113"/>
                </a:lnTo>
                <a:lnTo>
                  <a:pt x="57" y="99"/>
                </a:lnTo>
                <a:lnTo>
                  <a:pt x="61" y="94"/>
                </a:lnTo>
              </a:path>
            </a:pathLst>
          </a:custGeom>
          <a:solidFill>
            <a:srgbClr val="ff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Freeform 48"/>
          <p:cNvSpPr/>
          <p:nvPr/>
        </p:nvSpPr>
        <p:spPr>
          <a:xfrm>
            <a:off x="6869160" y="3165480"/>
            <a:ext cx="1266840" cy="687240"/>
          </a:xfrm>
          <a:custGeom>
            <a:avLst/>
            <a:gdLst>
              <a:gd name="textAreaLeft" fmla="*/ 0 w 1266840"/>
              <a:gd name="textAreaRight" fmla="*/ 1267200 w 1266840"/>
              <a:gd name="textAreaTop" fmla="*/ 0 h 687240"/>
              <a:gd name="textAreaBottom" fmla="*/ 687600 h 687240"/>
            </a:gdLst>
            <a:ahLst/>
            <a:rect l="textAreaLeft" t="textAreaTop" r="textAreaRight" b="textAreaBottom"/>
            <a:pathLst>
              <a:path w="1618" h="938">
                <a:moveTo>
                  <a:pt x="0" y="938"/>
                </a:moveTo>
                <a:lnTo>
                  <a:pt x="22" y="916"/>
                </a:lnTo>
                <a:lnTo>
                  <a:pt x="35" y="905"/>
                </a:lnTo>
                <a:lnTo>
                  <a:pt x="55" y="896"/>
                </a:lnTo>
                <a:lnTo>
                  <a:pt x="59" y="886"/>
                </a:lnTo>
                <a:lnTo>
                  <a:pt x="63" y="878"/>
                </a:lnTo>
                <a:lnTo>
                  <a:pt x="74" y="867"/>
                </a:lnTo>
                <a:lnTo>
                  <a:pt x="93" y="854"/>
                </a:lnTo>
                <a:lnTo>
                  <a:pt x="106" y="850"/>
                </a:lnTo>
                <a:lnTo>
                  <a:pt x="114" y="841"/>
                </a:lnTo>
                <a:lnTo>
                  <a:pt x="126" y="829"/>
                </a:lnTo>
                <a:lnTo>
                  <a:pt x="132" y="809"/>
                </a:lnTo>
                <a:lnTo>
                  <a:pt x="134" y="795"/>
                </a:lnTo>
                <a:lnTo>
                  <a:pt x="142" y="791"/>
                </a:lnTo>
                <a:lnTo>
                  <a:pt x="173" y="776"/>
                </a:lnTo>
                <a:lnTo>
                  <a:pt x="199" y="760"/>
                </a:lnTo>
                <a:lnTo>
                  <a:pt x="220" y="736"/>
                </a:lnTo>
                <a:lnTo>
                  <a:pt x="237" y="715"/>
                </a:lnTo>
                <a:lnTo>
                  <a:pt x="253" y="698"/>
                </a:lnTo>
                <a:lnTo>
                  <a:pt x="269" y="688"/>
                </a:lnTo>
                <a:lnTo>
                  <a:pt x="280" y="702"/>
                </a:lnTo>
                <a:lnTo>
                  <a:pt x="287" y="713"/>
                </a:lnTo>
                <a:lnTo>
                  <a:pt x="311" y="726"/>
                </a:lnTo>
                <a:lnTo>
                  <a:pt x="345" y="712"/>
                </a:lnTo>
                <a:lnTo>
                  <a:pt x="372" y="692"/>
                </a:lnTo>
                <a:lnTo>
                  <a:pt x="397" y="697"/>
                </a:lnTo>
                <a:lnTo>
                  <a:pt x="417" y="703"/>
                </a:lnTo>
                <a:lnTo>
                  <a:pt x="458" y="692"/>
                </a:lnTo>
                <a:lnTo>
                  <a:pt x="504" y="662"/>
                </a:lnTo>
                <a:lnTo>
                  <a:pt x="513" y="639"/>
                </a:lnTo>
                <a:lnTo>
                  <a:pt x="520" y="624"/>
                </a:lnTo>
                <a:lnTo>
                  <a:pt x="541" y="629"/>
                </a:lnTo>
                <a:lnTo>
                  <a:pt x="571" y="631"/>
                </a:lnTo>
                <a:lnTo>
                  <a:pt x="616" y="612"/>
                </a:lnTo>
                <a:lnTo>
                  <a:pt x="633" y="596"/>
                </a:lnTo>
                <a:lnTo>
                  <a:pt x="667" y="570"/>
                </a:lnTo>
                <a:lnTo>
                  <a:pt x="671" y="556"/>
                </a:lnTo>
                <a:lnTo>
                  <a:pt x="645" y="539"/>
                </a:lnTo>
                <a:lnTo>
                  <a:pt x="649" y="501"/>
                </a:lnTo>
                <a:lnTo>
                  <a:pt x="685" y="439"/>
                </a:lnTo>
                <a:lnTo>
                  <a:pt x="711" y="397"/>
                </a:lnTo>
                <a:lnTo>
                  <a:pt x="716" y="358"/>
                </a:lnTo>
                <a:lnTo>
                  <a:pt x="719" y="316"/>
                </a:lnTo>
                <a:lnTo>
                  <a:pt x="734" y="261"/>
                </a:lnTo>
                <a:lnTo>
                  <a:pt x="754" y="259"/>
                </a:lnTo>
                <a:lnTo>
                  <a:pt x="770" y="281"/>
                </a:lnTo>
                <a:lnTo>
                  <a:pt x="787" y="321"/>
                </a:lnTo>
                <a:lnTo>
                  <a:pt x="814" y="332"/>
                </a:lnTo>
                <a:lnTo>
                  <a:pt x="831" y="310"/>
                </a:lnTo>
                <a:lnTo>
                  <a:pt x="852" y="242"/>
                </a:lnTo>
                <a:lnTo>
                  <a:pt x="863" y="208"/>
                </a:lnTo>
                <a:lnTo>
                  <a:pt x="880" y="192"/>
                </a:lnTo>
                <a:lnTo>
                  <a:pt x="904" y="202"/>
                </a:lnTo>
                <a:lnTo>
                  <a:pt x="935" y="150"/>
                </a:lnTo>
                <a:lnTo>
                  <a:pt x="945" y="129"/>
                </a:lnTo>
                <a:lnTo>
                  <a:pt x="961" y="121"/>
                </a:lnTo>
                <a:lnTo>
                  <a:pt x="990" y="87"/>
                </a:lnTo>
                <a:lnTo>
                  <a:pt x="1022" y="52"/>
                </a:lnTo>
                <a:lnTo>
                  <a:pt x="1035" y="40"/>
                </a:lnTo>
                <a:lnTo>
                  <a:pt x="1058" y="0"/>
                </a:lnTo>
                <a:lnTo>
                  <a:pt x="1201" y="96"/>
                </a:lnTo>
                <a:lnTo>
                  <a:pt x="1228" y="49"/>
                </a:lnTo>
                <a:lnTo>
                  <a:pt x="1253" y="48"/>
                </a:lnTo>
                <a:lnTo>
                  <a:pt x="1270" y="53"/>
                </a:lnTo>
                <a:lnTo>
                  <a:pt x="1291" y="70"/>
                </a:lnTo>
                <a:lnTo>
                  <a:pt x="1297" y="86"/>
                </a:lnTo>
                <a:lnTo>
                  <a:pt x="1279" y="93"/>
                </a:lnTo>
                <a:lnTo>
                  <a:pt x="1279" y="102"/>
                </a:lnTo>
                <a:lnTo>
                  <a:pt x="1300" y="116"/>
                </a:lnTo>
                <a:lnTo>
                  <a:pt x="1327" y="119"/>
                </a:lnTo>
                <a:lnTo>
                  <a:pt x="1367" y="129"/>
                </a:lnTo>
                <a:lnTo>
                  <a:pt x="1400" y="140"/>
                </a:lnTo>
                <a:lnTo>
                  <a:pt x="1413" y="167"/>
                </a:lnTo>
                <a:lnTo>
                  <a:pt x="1405" y="183"/>
                </a:lnTo>
                <a:lnTo>
                  <a:pt x="1369" y="199"/>
                </a:lnTo>
                <a:lnTo>
                  <a:pt x="1347" y="200"/>
                </a:lnTo>
                <a:lnTo>
                  <a:pt x="1322" y="229"/>
                </a:lnTo>
                <a:lnTo>
                  <a:pt x="1299" y="271"/>
                </a:lnTo>
                <a:lnTo>
                  <a:pt x="1344" y="270"/>
                </a:lnTo>
                <a:lnTo>
                  <a:pt x="1371" y="251"/>
                </a:lnTo>
                <a:lnTo>
                  <a:pt x="1410" y="250"/>
                </a:lnTo>
                <a:lnTo>
                  <a:pt x="1422" y="266"/>
                </a:lnTo>
                <a:lnTo>
                  <a:pt x="1414" y="291"/>
                </a:lnTo>
                <a:lnTo>
                  <a:pt x="1392" y="304"/>
                </a:lnTo>
                <a:lnTo>
                  <a:pt x="1400" y="328"/>
                </a:lnTo>
                <a:lnTo>
                  <a:pt x="1441" y="352"/>
                </a:lnTo>
                <a:lnTo>
                  <a:pt x="1474" y="378"/>
                </a:lnTo>
                <a:lnTo>
                  <a:pt x="1479" y="393"/>
                </a:lnTo>
                <a:lnTo>
                  <a:pt x="1486" y="422"/>
                </a:lnTo>
                <a:lnTo>
                  <a:pt x="1490" y="443"/>
                </a:lnTo>
                <a:lnTo>
                  <a:pt x="1474" y="458"/>
                </a:lnTo>
                <a:lnTo>
                  <a:pt x="1456" y="468"/>
                </a:lnTo>
                <a:lnTo>
                  <a:pt x="1405" y="463"/>
                </a:lnTo>
                <a:lnTo>
                  <a:pt x="1371" y="461"/>
                </a:lnTo>
                <a:lnTo>
                  <a:pt x="1360" y="471"/>
                </a:lnTo>
                <a:lnTo>
                  <a:pt x="1407" y="490"/>
                </a:lnTo>
                <a:lnTo>
                  <a:pt x="1445" y="508"/>
                </a:lnTo>
                <a:lnTo>
                  <a:pt x="1448" y="524"/>
                </a:lnTo>
                <a:lnTo>
                  <a:pt x="1479" y="524"/>
                </a:lnTo>
                <a:lnTo>
                  <a:pt x="1514" y="507"/>
                </a:lnTo>
                <a:lnTo>
                  <a:pt x="1531" y="507"/>
                </a:lnTo>
                <a:lnTo>
                  <a:pt x="1542" y="519"/>
                </a:lnTo>
                <a:lnTo>
                  <a:pt x="1577" y="562"/>
                </a:lnTo>
                <a:lnTo>
                  <a:pt x="1607" y="585"/>
                </a:lnTo>
                <a:lnTo>
                  <a:pt x="1618" y="609"/>
                </a:lnTo>
                <a:lnTo>
                  <a:pt x="1618" y="616"/>
                </a:lnTo>
                <a:lnTo>
                  <a:pt x="1327" y="675"/>
                </a:lnTo>
                <a:lnTo>
                  <a:pt x="1330" y="687"/>
                </a:lnTo>
                <a:lnTo>
                  <a:pt x="918" y="782"/>
                </a:lnTo>
                <a:lnTo>
                  <a:pt x="629" y="841"/>
                </a:lnTo>
                <a:lnTo>
                  <a:pt x="381" y="881"/>
                </a:lnTo>
                <a:lnTo>
                  <a:pt x="20" y="934"/>
                </a:lnTo>
                <a:lnTo>
                  <a:pt x="0" y="938"/>
                </a:lnTo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Freeform 49"/>
          <p:cNvSpPr/>
          <p:nvPr/>
        </p:nvSpPr>
        <p:spPr>
          <a:xfrm>
            <a:off x="8346960" y="1293840"/>
            <a:ext cx="574920" cy="968400"/>
          </a:xfrm>
          <a:custGeom>
            <a:avLst/>
            <a:gdLst>
              <a:gd name="textAreaLeft" fmla="*/ 0 w 574920"/>
              <a:gd name="textAreaRight" fmla="*/ 575280 w 574920"/>
              <a:gd name="textAreaTop" fmla="*/ 0 h 968400"/>
              <a:gd name="textAreaBottom" fmla="*/ 968760 h 968400"/>
            </a:gdLst>
            <a:ahLst/>
            <a:rect l="textAreaLeft" t="textAreaTop" r="textAreaRight" b="textAreaBottom"/>
            <a:pathLst>
              <a:path w="733" h="1321">
                <a:moveTo>
                  <a:pt x="0" y="675"/>
                </a:moveTo>
                <a:lnTo>
                  <a:pt x="20" y="667"/>
                </a:lnTo>
                <a:lnTo>
                  <a:pt x="36" y="667"/>
                </a:lnTo>
                <a:lnTo>
                  <a:pt x="44" y="682"/>
                </a:lnTo>
                <a:lnTo>
                  <a:pt x="62" y="661"/>
                </a:lnTo>
                <a:lnTo>
                  <a:pt x="62" y="638"/>
                </a:lnTo>
                <a:lnTo>
                  <a:pt x="52" y="624"/>
                </a:lnTo>
                <a:lnTo>
                  <a:pt x="56" y="610"/>
                </a:lnTo>
                <a:lnTo>
                  <a:pt x="72" y="616"/>
                </a:lnTo>
                <a:lnTo>
                  <a:pt x="82" y="609"/>
                </a:lnTo>
                <a:lnTo>
                  <a:pt x="92" y="578"/>
                </a:lnTo>
                <a:lnTo>
                  <a:pt x="99" y="533"/>
                </a:lnTo>
                <a:lnTo>
                  <a:pt x="117" y="514"/>
                </a:lnTo>
                <a:lnTo>
                  <a:pt x="125" y="504"/>
                </a:lnTo>
                <a:lnTo>
                  <a:pt x="123" y="482"/>
                </a:lnTo>
                <a:lnTo>
                  <a:pt x="111" y="449"/>
                </a:lnTo>
                <a:lnTo>
                  <a:pt x="110" y="388"/>
                </a:lnTo>
                <a:lnTo>
                  <a:pt x="100" y="359"/>
                </a:lnTo>
                <a:lnTo>
                  <a:pt x="92" y="335"/>
                </a:lnTo>
                <a:lnTo>
                  <a:pt x="95" y="313"/>
                </a:lnTo>
                <a:lnTo>
                  <a:pt x="99" y="299"/>
                </a:lnTo>
                <a:lnTo>
                  <a:pt x="99" y="270"/>
                </a:lnTo>
                <a:lnTo>
                  <a:pt x="147" y="20"/>
                </a:lnTo>
                <a:lnTo>
                  <a:pt x="162" y="33"/>
                </a:lnTo>
                <a:lnTo>
                  <a:pt x="178" y="44"/>
                </a:lnTo>
                <a:lnTo>
                  <a:pt x="182" y="48"/>
                </a:lnTo>
                <a:lnTo>
                  <a:pt x="196" y="48"/>
                </a:lnTo>
                <a:lnTo>
                  <a:pt x="204" y="39"/>
                </a:lnTo>
                <a:lnTo>
                  <a:pt x="217" y="21"/>
                </a:lnTo>
                <a:lnTo>
                  <a:pt x="229" y="21"/>
                </a:lnTo>
                <a:lnTo>
                  <a:pt x="249" y="27"/>
                </a:lnTo>
                <a:lnTo>
                  <a:pt x="264" y="32"/>
                </a:lnTo>
                <a:lnTo>
                  <a:pt x="284" y="27"/>
                </a:lnTo>
                <a:lnTo>
                  <a:pt x="304" y="8"/>
                </a:lnTo>
                <a:lnTo>
                  <a:pt x="327" y="0"/>
                </a:lnTo>
                <a:lnTo>
                  <a:pt x="357" y="0"/>
                </a:lnTo>
                <a:lnTo>
                  <a:pt x="380" y="11"/>
                </a:lnTo>
                <a:lnTo>
                  <a:pt x="390" y="21"/>
                </a:lnTo>
                <a:lnTo>
                  <a:pt x="410" y="33"/>
                </a:lnTo>
                <a:lnTo>
                  <a:pt x="496" y="385"/>
                </a:lnTo>
                <a:lnTo>
                  <a:pt x="514" y="412"/>
                </a:lnTo>
                <a:lnTo>
                  <a:pt x="532" y="428"/>
                </a:lnTo>
                <a:lnTo>
                  <a:pt x="550" y="438"/>
                </a:lnTo>
                <a:lnTo>
                  <a:pt x="577" y="437"/>
                </a:lnTo>
                <a:lnTo>
                  <a:pt x="606" y="437"/>
                </a:lnTo>
                <a:lnTo>
                  <a:pt x="623" y="442"/>
                </a:lnTo>
                <a:lnTo>
                  <a:pt x="623" y="456"/>
                </a:lnTo>
                <a:lnTo>
                  <a:pt x="614" y="474"/>
                </a:lnTo>
                <a:lnTo>
                  <a:pt x="619" y="481"/>
                </a:lnTo>
                <a:lnTo>
                  <a:pt x="635" y="487"/>
                </a:lnTo>
                <a:lnTo>
                  <a:pt x="636" y="512"/>
                </a:lnTo>
                <a:lnTo>
                  <a:pt x="653" y="523"/>
                </a:lnTo>
                <a:lnTo>
                  <a:pt x="664" y="523"/>
                </a:lnTo>
                <a:lnTo>
                  <a:pt x="681" y="506"/>
                </a:lnTo>
                <a:lnTo>
                  <a:pt x="694" y="506"/>
                </a:lnTo>
                <a:lnTo>
                  <a:pt x="694" y="523"/>
                </a:lnTo>
                <a:lnTo>
                  <a:pt x="727" y="528"/>
                </a:lnTo>
                <a:lnTo>
                  <a:pt x="733" y="559"/>
                </a:lnTo>
                <a:lnTo>
                  <a:pt x="728" y="587"/>
                </a:lnTo>
                <a:lnTo>
                  <a:pt x="716" y="596"/>
                </a:lnTo>
                <a:lnTo>
                  <a:pt x="691" y="609"/>
                </a:lnTo>
                <a:lnTo>
                  <a:pt x="691" y="616"/>
                </a:lnTo>
                <a:lnTo>
                  <a:pt x="693" y="632"/>
                </a:lnTo>
                <a:lnTo>
                  <a:pt x="681" y="640"/>
                </a:lnTo>
                <a:lnTo>
                  <a:pt x="663" y="648"/>
                </a:lnTo>
                <a:lnTo>
                  <a:pt x="646" y="655"/>
                </a:lnTo>
                <a:lnTo>
                  <a:pt x="631" y="668"/>
                </a:lnTo>
                <a:lnTo>
                  <a:pt x="631" y="686"/>
                </a:lnTo>
                <a:lnTo>
                  <a:pt x="628" y="702"/>
                </a:lnTo>
                <a:lnTo>
                  <a:pt x="611" y="702"/>
                </a:lnTo>
                <a:lnTo>
                  <a:pt x="599" y="710"/>
                </a:lnTo>
                <a:lnTo>
                  <a:pt x="592" y="737"/>
                </a:lnTo>
                <a:lnTo>
                  <a:pt x="577" y="750"/>
                </a:lnTo>
                <a:lnTo>
                  <a:pt x="557" y="751"/>
                </a:lnTo>
                <a:lnTo>
                  <a:pt x="540" y="747"/>
                </a:lnTo>
                <a:lnTo>
                  <a:pt x="515" y="747"/>
                </a:lnTo>
                <a:lnTo>
                  <a:pt x="528" y="762"/>
                </a:lnTo>
                <a:lnTo>
                  <a:pt x="520" y="777"/>
                </a:lnTo>
                <a:lnTo>
                  <a:pt x="502" y="799"/>
                </a:lnTo>
                <a:lnTo>
                  <a:pt x="485" y="793"/>
                </a:lnTo>
                <a:lnTo>
                  <a:pt x="474" y="776"/>
                </a:lnTo>
                <a:lnTo>
                  <a:pt x="451" y="747"/>
                </a:lnTo>
                <a:lnTo>
                  <a:pt x="446" y="741"/>
                </a:lnTo>
                <a:lnTo>
                  <a:pt x="428" y="773"/>
                </a:lnTo>
                <a:lnTo>
                  <a:pt x="423" y="786"/>
                </a:lnTo>
                <a:lnTo>
                  <a:pt x="439" y="799"/>
                </a:lnTo>
                <a:lnTo>
                  <a:pt x="433" y="845"/>
                </a:lnTo>
                <a:lnTo>
                  <a:pt x="426" y="897"/>
                </a:lnTo>
                <a:lnTo>
                  <a:pt x="390" y="937"/>
                </a:lnTo>
                <a:lnTo>
                  <a:pt x="371" y="950"/>
                </a:lnTo>
                <a:lnTo>
                  <a:pt x="347" y="937"/>
                </a:lnTo>
                <a:lnTo>
                  <a:pt x="332" y="947"/>
                </a:lnTo>
                <a:lnTo>
                  <a:pt x="330" y="973"/>
                </a:lnTo>
                <a:lnTo>
                  <a:pt x="341" y="995"/>
                </a:lnTo>
                <a:lnTo>
                  <a:pt x="345" y="1005"/>
                </a:lnTo>
                <a:lnTo>
                  <a:pt x="330" y="1017"/>
                </a:lnTo>
                <a:lnTo>
                  <a:pt x="314" y="1018"/>
                </a:lnTo>
                <a:lnTo>
                  <a:pt x="301" y="1018"/>
                </a:lnTo>
                <a:lnTo>
                  <a:pt x="292" y="1003"/>
                </a:lnTo>
                <a:lnTo>
                  <a:pt x="280" y="1018"/>
                </a:lnTo>
                <a:lnTo>
                  <a:pt x="293" y="1047"/>
                </a:lnTo>
                <a:lnTo>
                  <a:pt x="293" y="1070"/>
                </a:lnTo>
                <a:lnTo>
                  <a:pt x="266" y="1072"/>
                </a:lnTo>
                <a:lnTo>
                  <a:pt x="249" y="1094"/>
                </a:lnTo>
                <a:lnTo>
                  <a:pt x="258" y="1109"/>
                </a:lnTo>
                <a:lnTo>
                  <a:pt x="258" y="1132"/>
                </a:lnTo>
                <a:lnTo>
                  <a:pt x="238" y="1145"/>
                </a:lnTo>
                <a:lnTo>
                  <a:pt x="226" y="1168"/>
                </a:lnTo>
                <a:lnTo>
                  <a:pt x="226" y="1202"/>
                </a:lnTo>
                <a:lnTo>
                  <a:pt x="229" y="1218"/>
                </a:lnTo>
                <a:lnTo>
                  <a:pt x="227" y="1247"/>
                </a:lnTo>
                <a:lnTo>
                  <a:pt x="218" y="1278"/>
                </a:lnTo>
                <a:lnTo>
                  <a:pt x="220" y="1321"/>
                </a:lnTo>
                <a:lnTo>
                  <a:pt x="197" y="1298"/>
                </a:lnTo>
                <a:lnTo>
                  <a:pt x="185" y="1293"/>
                </a:lnTo>
                <a:lnTo>
                  <a:pt x="168" y="1283"/>
                </a:lnTo>
                <a:lnTo>
                  <a:pt x="163" y="1268"/>
                </a:lnTo>
                <a:lnTo>
                  <a:pt x="158" y="1254"/>
                </a:lnTo>
                <a:lnTo>
                  <a:pt x="145" y="1239"/>
                </a:lnTo>
                <a:lnTo>
                  <a:pt x="3" y="686"/>
                </a:lnTo>
                <a:lnTo>
                  <a:pt x="0" y="67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Freeform 50"/>
          <p:cNvSpPr/>
          <p:nvPr/>
        </p:nvSpPr>
        <p:spPr>
          <a:xfrm>
            <a:off x="8253360" y="1787400"/>
            <a:ext cx="266760" cy="598680"/>
          </a:xfrm>
          <a:custGeom>
            <a:avLst/>
            <a:gdLst>
              <a:gd name="textAreaLeft" fmla="*/ 0 w 266760"/>
              <a:gd name="textAreaRight" fmla="*/ 267120 w 266760"/>
              <a:gd name="textAreaTop" fmla="*/ 0 h 598680"/>
              <a:gd name="textAreaBottom" fmla="*/ 599040 h 598680"/>
            </a:gdLst>
            <a:ahLst/>
            <a:rect l="textAreaLeft" t="textAreaTop" r="textAreaRight" b="textAreaBottom"/>
            <a:pathLst>
              <a:path w="342" h="817">
                <a:moveTo>
                  <a:pt x="122" y="0"/>
                </a:moveTo>
                <a:lnTo>
                  <a:pt x="112" y="10"/>
                </a:lnTo>
                <a:lnTo>
                  <a:pt x="104" y="25"/>
                </a:lnTo>
                <a:lnTo>
                  <a:pt x="105" y="41"/>
                </a:lnTo>
                <a:lnTo>
                  <a:pt x="105" y="57"/>
                </a:lnTo>
                <a:lnTo>
                  <a:pt x="95" y="72"/>
                </a:lnTo>
                <a:lnTo>
                  <a:pt x="82" y="74"/>
                </a:lnTo>
                <a:lnTo>
                  <a:pt x="72" y="74"/>
                </a:lnTo>
                <a:lnTo>
                  <a:pt x="63" y="80"/>
                </a:lnTo>
                <a:lnTo>
                  <a:pt x="59" y="87"/>
                </a:lnTo>
                <a:lnTo>
                  <a:pt x="46" y="85"/>
                </a:lnTo>
                <a:lnTo>
                  <a:pt x="40" y="82"/>
                </a:lnTo>
                <a:lnTo>
                  <a:pt x="31" y="88"/>
                </a:lnTo>
                <a:lnTo>
                  <a:pt x="19" y="101"/>
                </a:lnTo>
                <a:lnTo>
                  <a:pt x="14" y="109"/>
                </a:lnTo>
                <a:lnTo>
                  <a:pt x="5" y="112"/>
                </a:lnTo>
                <a:lnTo>
                  <a:pt x="2" y="119"/>
                </a:lnTo>
                <a:lnTo>
                  <a:pt x="9" y="126"/>
                </a:lnTo>
                <a:lnTo>
                  <a:pt x="20" y="132"/>
                </a:lnTo>
                <a:lnTo>
                  <a:pt x="31" y="161"/>
                </a:lnTo>
                <a:lnTo>
                  <a:pt x="44" y="181"/>
                </a:lnTo>
                <a:lnTo>
                  <a:pt x="43" y="200"/>
                </a:lnTo>
                <a:lnTo>
                  <a:pt x="38" y="208"/>
                </a:lnTo>
                <a:lnTo>
                  <a:pt x="44" y="221"/>
                </a:lnTo>
                <a:lnTo>
                  <a:pt x="47" y="235"/>
                </a:lnTo>
                <a:lnTo>
                  <a:pt x="45" y="248"/>
                </a:lnTo>
                <a:lnTo>
                  <a:pt x="34" y="265"/>
                </a:lnTo>
                <a:lnTo>
                  <a:pt x="27" y="282"/>
                </a:lnTo>
                <a:lnTo>
                  <a:pt x="25" y="292"/>
                </a:lnTo>
                <a:lnTo>
                  <a:pt x="38" y="303"/>
                </a:lnTo>
                <a:lnTo>
                  <a:pt x="55" y="322"/>
                </a:lnTo>
                <a:lnTo>
                  <a:pt x="55" y="327"/>
                </a:lnTo>
                <a:lnTo>
                  <a:pt x="49" y="344"/>
                </a:lnTo>
                <a:lnTo>
                  <a:pt x="40" y="369"/>
                </a:lnTo>
                <a:lnTo>
                  <a:pt x="19" y="393"/>
                </a:lnTo>
                <a:lnTo>
                  <a:pt x="4" y="412"/>
                </a:lnTo>
                <a:lnTo>
                  <a:pt x="0" y="424"/>
                </a:lnTo>
                <a:lnTo>
                  <a:pt x="14" y="446"/>
                </a:lnTo>
                <a:lnTo>
                  <a:pt x="16" y="471"/>
                </a:lnTo>
                <a:lnTo>
                  <a:pt x="16" y="514"/>
                </a:lnTo>
                <a:lnTo>
                  <a:pt x="8" y="565"/>
                </a:lnTo>
                <a:lnTo>
                  <a:pt x="11" y="591"/>
                </a:lnTo>
                <a:lnTo>
                  <a:pt x="17" y="619"/>
                </a:lnTo>
                <a:lnTo>
                  <a:pt x="24" y="654"/>
                </a:lnTo>
                <a:lnTo>
                  <a:pt x="24" y="677"/>
                </a:lnTo>
                <a:lnTo>
                  <a:pt x="25" y="691"/>
                </a:lnTo>
                <a:lnTo>
                  <a:pt x="23" y="699"/>
                </a:lnTo>
                <a:lnTo>
                  <a:pt x="27" y="712"/>
                </a:lnTo>
                <a:lnTo>
                  <a:pt x="29" y="723"/>
                </a:lnTo>
                <a:lnTo>
                  <a:pt x="27" y="731"/>
                </a:lnTo>
                <a:lnTo>
                  <a:pt x="27" y="742"/>
                </a:lnTo>
                <a:lnTo>
                  <a:pt x="32" y="750"/>
                </a:lnTo>
                <a:lnTo>
                  <a:pt x="28" y="763"/>
                </a:lnTo>
                <a:lnTo>
                  <a:pt x="20" y="783"/>
                </a:lnTo>
                <a:lnTo>
                  <a:pt x="24" y="794"/>
                </a:lnTo>
                <a:lnTo>
                  <a:pt x="28" y="803"/>
                </a:lnTo>
                <a:lnTo>
                  <a:pt x="39" y="817"/>
                </a:lnTo>
                <a:lnTo>
                  <a:pt x="218" y="768"/>
                </a:lnTo>
                <a:lnTo>
                  <a:pt x="229" y="746"/>
                </a:lnTo>
                <a:lnTo>
                  <a:pt x="229" y="739"/>
                </a:lnTo>
                <a:lnTo>
                  <a:pt x="241" y="739"/>
                </a:lnTo>
                <a:lnTo>
                  <a:pt x="252" y="737"/>
                </a:lnTo>
                <a:lnTo>
                  <a:pt x="262" y="727"/>
                </a:lnTo>
                <a:lnTo>
                  <a:pt x="262" y="718"/>
                </a:lnTo>
                <a:lnTo>
                  <a:pt x="264" y="710"/>
                </a:lnTo>
                <a:lnTo>
                  <a:pt x="271" y="700"/>
                </a:lnTo>
                <a:lnTo>
                  <a:pt x="284" y="700"/>
                </a:lnTo>
                <a:lnTo>
                  <a:pt x="289" y="694"/>
                </a:lnTo>
                <a:lnTo>
                  <a:pt x="298" y="688"/>
                </a:lnTo>
                <a:lnTo>
                  <a:pt x="308" y="682"/>
                </a:lnTo>
                <a:lnTo>
                  <a:pt x="342" y="686"/>
                </a:lnTo>
                <a:lnTo>
                  <a:pt x="340" y="664"/>
                </a:lnTo>
                <a:lnTo>
                  <a:pt x="342" y="647"/>
                </a:lnTo>
                <a:lnTo>
                  <a:pt x="326" y="634"/>
                </a:lnTo>
                <a:lnTo>
                  <a:pt x="319" y="624"/>
                </a:lnTo>
                <a:lnTo>
                  <a:pt x="302" y="619"/>
                </a:lnTo>
                <a:lnTo>
                  <a:pt x="292" y="610"/>
                </a:lnTo>
                <a:lnTo>
                  <a:pt x="285" y="598"/>
                </a:lnTo>
                <a:lnTo>
                  <a:pt x="282" y="588"/>
                </a:lnTo>
                <a:lnTo>
                  <a:pt x="280" y="579"/>
                </a:lnTo>
                <a:lnTo>
                  <a:pt x="271" y="572"/>
                </a:lnTo>
                <a:lnTo>
                  <a:pt x="269" y="564"/>
                </a:lnTo>
                <a:lnTo>
                  <a:pt x="260" y="534"/>
                </a:lnTo>
                <a:lnTo>
                  <a:pt x="198" y="295"/>
                </a:lnTo>
                <a:lnTo>
                  <a:pt x="123" y="7"/>
                </a:lnTo>
                <a:lnTo>
                  <a:pt x="122" y="0"/>
                </a:lnTo>
              </a:path>
            </a:pathLst>
          </a:custGeom>
          <a:solidFill>
            <a:srgbClr val="ff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Freeform 51"/>
          <p:cNvSpPr/>
          <p:nvPr/>
        </p:nvSpPr>
        <p:spPr>
          <a:xfrm>
            <a:off x="8012160" y="1874880"/>
            <a:ext cx="284040" cy="546120"/>
          </a:xfrm>
          <a:custGeom>
            <a:avLst/>
            <a:gdLst>
              <a:gd name="textAreaLeft" fmla="*/ 0 w 284040"/>
              <a:gd name="textAreaRight" fmla="*/ 284400 w 284040"/>
              <a:gd name="textAreaTop" fmla="*/ 0 h 546120"/>
              <a:gd name="textAreaBottom" fmla="*/ 546120 h 546120"/>
            </a:gdLst>
            <a:ahLst/>
            <a:rect l="textAreaLeft" t="textAreaTop" r="textAreaRight" b="textAreaBottom"/>
            <a:pathLst>
              <a:path w="362" h="743">
                <a:moveTo>
                  <a:pt x="307" y="0"/>
                </a:moveTo>
                <a:lnTo>
                  <a:pt x="166" y="41"/>
                </a:lnTo>
                <a:lnTo>
                  <a:pt x="45" y="69"/>
                </a:lnTo>
                <a:lnTo>
                  <a:pt x="11" y="81"/>
                </a:lnTo>
                <a:lnTo>
                  <a:pt x="19" y="104"/>
                </a:lnTo>
                <a:lnTo>
                  <a:pt x="15" y="105"/>
                </a:lnTo>
                <a:lnTo>
                  <a:pt x="6" y="110"/>
                </a:lnTo>
                <a:lnTo>
                  <a:pt x="0" y="115"/>
                </a:lnTo>
                <a:lnTo>
                  <a:pt x="0" y="128"/>
                </a:lnTo>
                <a:lnTo>
                  <a:pt x="14" y="188"/>
                </a:lnTo>
                <a:lnTo>
                  <a:pt x="17" y="202"/>
                </a:lnTo>
                <a:lnTo>
                  <a:pt x="28" y="192"/>
                </a:lnTo>
                <a:lnTo>
                  <a:pt x="33" y="194"/>
                </a:lnTo>
                <a:lnTo>
                  <a:pt x="33" y="208"/>
                </a:lnTo>
                <a:lnTo>
                  <a:pt x="48" y="239"/>
                </a:lnTo>
                <a:lnTo>
                  <a:pt x="44" y="251"/>
                </a:lnTo>
                <a:lnTo>
                  <a:pt x="34" y="254"/>
                </a:lnTo>
                <a:lnTo>
                  <a:pt x="31" y="263"/>
                </a:lnTo>
                <a:lnTo>
                  <a:pt x="33" y="278"/>
                </a:lnTo>
                <a:lnTo>
                  <a:pt x="41" y="288"/>
                </a:lnTo>
                <a:lnTo>
                  <a:pt x="44" y="303"/>
                </a:lnTo>
                <a:lnTo>
                  <a:pt x="40" y="312"/>
                </a:lnTo>
                <a:lnTo>
                  <a:pt x="34" y="334"/>
                </a:lnTo>
                <a:lnTo>
                  <a:pt x="43" y="393"/>
                </a:lnTo>
                <a:lnTo>
                  <a:pt x="46" y="404"/>
                </a:lnTo>
                <a:lnTo>
                  <a:pt x="51" y="421"/>
                </a:lnTo>
                <a:lnTo>
                  <a:pt x="47" y="455"/>
                </a:lnTo>
                <a:lnTo>
                  <a:pt x="57" y="493"/>
                </a:lnTo>
                <a:lnTo>
                  <a:pt x="63" y="499"/>
                </a:lnTo>
                <a:lnTo>
                  <a:pt x="71" y="512"/>
                </a:lnTo>
                <a:lnTo>
                  <a:pt x="71" y="519"/>
                </a:lnTo>
                <a:lnTo>
                  <a:pt x="59" y="535"/>
                </a:lnTo>
                <a:lnTo>
                  <a:pt x="59" y="541"/>
                </a:lnTo>
                <a:lnTo>
                  <a:pt x="59" y="556"/>
                </a:lnTo>
                <a:lnTo>
                  <a:pt x="71" y="560"/>
                </a:lnTo>
                <a:lnTo>
                  <a:pt x="82" y="545"/>
                </a:lnTo>
                <a:lnTo>
                  <a:pt x="91" y="544"/>
                </a:lnTo>
                <a:lnTo>
                  <a:pt x="100" y="553"/>
                </a:lnTo>
                <a:lnTo>
                  <a:pt x="100" y="556"/>
                </a:lnTo>
                <a:lnTo>
                  <a:pt x="112" y="559"/>
                </a:lnTo>
                <a:lnTo>
                  <a:pt x="119" y="566"/>
                </a:lnTo>
                <a:lnTo>
                  <a:pt x="122" y="566"/>
                </a:lnTo>
                <a:lnTo>
                  <a:pt x="161" y="725"/>
                </a:lnTo>
                <a:lnTo>
                  <a:pt x="163" y="730"/>
                </a:lnTo>
                <a:lnTo>
                  <a:pt x="163" y="743"/>
                </a:lnTo>
                <a:lnTo>
                  <a:pt x="343" y="697"/>
                </a:lnTo>
                <a:lnTo>
                  <a:pt x="330" y="677"/>
                </a:lnTo>
                <a:lnTo>
                  <a:pt x="325" y="666"/>
                </a:lnTo>
                <a:lnTo>
                  <a:pt x="325" y="663"/>
                </a:lnTo>
                <a:lnTo>
                  <a:pt x="333" y="645"/>
                </a:lnTo>
                <a:lnTo>
                  <a:pt x="337" y="633"/>
                </a:lnTo>
                <a:lnTo>
                  <a:pt x="334" y="625"/>
                </a:lnTo>
                <a:lnTo>
                  <a:pt x="332" y="620"/>
                </a:lnTo>
                <a:lnTo>
                  <a:pt x="332" y="612"/>
                </a:lnTo>
                <a:lnTo>
                  <a:pt x="332" y="607"/>
                </a:lnTo>
                <a:lnTo>
                  <a:pt x="334" y="607"/>
                </a:lnTo>
                <a:lnTo>
                  <a:pt x="334" y="598"/>
                </a:lnTo>
                <a:lnTo>
                  <a:pt x="332" y="590"/>
                </a:lnTo>
                <a:lnTo>
                  <a:pt x="326" y="577"/>
                </a:lnTo>
                <a:lnTo>
                  <a:pt x="326" y="576"/>
                </a:lnTo>
                <a:lnTo>
                  <a:pt x="329" y="573"/>
                </a:lnTo>
                <a:lnTo>
                  <a:pt x="328" y="550"/>
                </a:lnTo>
                <a:lnTo>
                  <a:pt x="328" y="535"/>
                </a:lnTo>
                <a:lnTo>
                  <a:pt x="325" y="519"/>
                </a:lnTo>
                <a:lnTo>
                  <a:pt x="321" y="496"/>
                </a:lnTo>
                <a:lnTo>
                  <a:pt x="314" y="473"/>
                </a:lnTo>
                <a:lnTo>
                  <a:pt x="314" y="444"/>
                </a:lnTo>
                <a:lnTo>
                  <a:pt x="316" y="425"/>
                </a:lnTo>
                <a:lnTo>
                  <a:pt x="320" y="398"/>
                </a:lnTo>
                <a:lnTo>
                  <a:pt x="321" y="368"/>
                </a:lnTo>
                <a:lnTo>
                  <a:pt x="320" y="346"/>
                </a:lnTo>
                <a:lnTo>
                  <a:pt x="319" y="329"/>
                </a:lnTo>
                <a:lnTo>
                  <a:pt x="314" y="321"/>
                </a:lnTo>
                <a:lnTo>
                  <a:pt x="307" y="311"/>
                </a:lnTo>
                <a:lnTo>
                  <a:pt x="306" y="307"/>
                </a:lnTo>
                <a:lnTo>
                  <a:pt x="304" y="303"/>
                </a:lnTo>
                <a:lnTo>
                  <a:pt x="319" y="286"/>
                </a:lnTo>
                <a:lnTo>
                  <a:pt x="325" y="271"/>
                </a:lnTo>
                <a:lnTo>
                  <a:pt x="334" y="259"/>
                </a:lnTo>
                <a:lnTo>
                  <a:pt x="345" y="247"/>
                </a:lnTo>
                <a:lnTo>
                  <a:pt x="354" y="225"/>
                </a:lnTo>
                <a:lnTo>
                  <a:pt x="362" y="207"/>
                </a:lnTo>
                <a:lnTo>
                  <a:pt x="362" y="204"/>
                </a:lnTo>
                <a:lnTo>
                  <a:pt x="347" y="186"/>
                </a:lnTo>
                <a:lnTo>
                  <a:pt x="333" y="175"/>
                </a:lnTo>
                <a:lnTo>
                  <a:pt x="330" y="173"/>
                </a:lnTo>
                <a:lnTo>
                  <a:pt x="330" y="168"/>
                </a:lnTo>
                <a:lnTo>
                  <a:pt x="332" y="155"/>
                </a:lnTo>
                <a:lnTo>
                  <a:pt x="343" y="144"/>
                </a:lnTo>
                <a:lnTo>
                  <a:pt x="350" y="129"/>
                </a:lnTo>
                <a:lnTo>
                  <a:pt x="352" y="118"/>
                </a:lnTo>
                <a:lnTo>
                  <a:pt x="352" y="111"/>
                </a:lnTo>
                <a:lnTo>
                  <a:pt x="347" y="95"/>
                </a:lnTo>
                <a:lnTo>
                  <a:pt x="344" y="91"/>
                </a:lnTo>
                <a:lnTo>
                  <a:pt x="339" y="86"/>
                </a:lnTo>
                <a:lnTo>
                  <a:pt x="347" y="82"/>
                </a:lnTo>
                <a:lnTo>
                  <a:pt x="349" y="77"/>
                </a:lnTo>
                <a:lnTo>
                  <a:pt x="349" y="69"/>
                </a:lnTo>
                <a:lnTo>
                  <a:pt x="349" y="60"/>
                </a:lnTo>
                <a:lnTo>
                  <a:pt x="339" y="50"/>
                </a:lnTo>
                <a:lnTo>
                  <a:pt x="332" y="34"/>
                </a:lnTo>
                <a:lnTo>
                  <a:pt x="328" y="23"/>
                </a:lnTo>
                <a:lnTo>
                  <a:pt x="324" y="12"/>
                </a:lnTo>
                <a:lnTo>
                  <a:pt x="320" y="12"/>
                </a:lnTo>
                <a:lnTo>
                  <a:pt x="314" y="6"/>
                </a:lnTo>
                <a:lnTo>
                  <a:pt x="307" y="0"/>
                </a:lnTo>
              </a:path>
            </a:pathLst>
          </a:custGeom>
          <a:solidFill>
            <a:srgbClr val="ff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Freeform 52"/>
          <p:cNvSpPr/>
          <p:nvPr/>
        </p:nvSpPr>
        <p:spPr>
          <a:xfrm>
            <a:off x="8140680" y="2287440"/>
            <a:ext cx="588960" cy="235080"/>
          </a:xfrm>
          <a:custGeom>
            <a:avLst/>
            <a:gdLst>
              <a:gd name="textAreaLeft" fmla="*/ 0 w 588960"/>
              <a:gd name="textAreaRight" fmla="*/ 589320 w 58896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749" h="322">
                <a:moveTo>
                  <a:pt x="0" y="181"/>
                </a:moveTo>
                <a:lnTo>
                  <a:pt x="33" y="315"/>
                </a:lnTo>
                <a:lnTo>
                  <a:pt x="48" y="322"/>
                </a:lnTo>
                <a:lnTo>
                  <a:pt x="165" y="292"/>
                </a:lnTo>
                <a:lnTo>
                  <a:pt x="169" y="308"/>
                </a:lnTo>
                <a:lnTo>
                  <a:pt x="182" y="305"/>
                </a:lnTo>
                <a:lnTo>
                  <a:pt x="185" y="297"/>
                </a:lnTo>
                <a:lnTo>
                  <a:pt x="186" y="292"/>
                </a:lnTo>
                <a:lnTo>
                  <a:pt x="196" y="284"/>
                </a:lnTo>
                <a:lnTo>
                  <a:pt x="204" y="278"/>
                </a:lnTo>
                <a:lnTo>
                  <a:pt x="369" y="232"/>
                </a:lnTo>
                <a:lnTo>
                  <a:pt x="375" y="241"/>
                </a:lnTo>
                <a:lnTo>
                  <a:pt x="489" y="207"/>
                </a:lnTo>
                <a:lnTo>
                  <a:pt x="511" y="233"/>
                </a:lnTo>
                <a:lnTo>
                  <a:pt x="520" y="231"/>
                </a:lnTo>
                <a:lnTo>
                  <a:pt x="534" y="254"/>
                </a:lnTo>
                <a:lnTo>
                  <a:pt x="542" y="260"/>
                </a:lnTo>
                <a:lnTo>
                  <a:pt x="551" y="264"/>
                </a:lnTo>
                <a:lnTo>
                  <a:pt x="556" y="264"/>
                </a:lnTo>
                <a:lnTo>
                  <a:pt x="564" y="264"/>
                </a:lnTo>
                <a:lnTo>
                  <a:pt x="569" y="264"/>
                </a:lnTo>
                <a:lnTo>
                  <a:pt x="573" y="259"/>
                </a:lnTo>
                <a:lnTo>
                  <a:pt x="579" y="250"/>
                </a:lnTo>
                <a:lnTo>
                  <a:pt x="584" y="245"/>
                </a:lnTo>
                <a:lnTo>
                  <a:pt x="594" y="245"/>
                </a:lnTo>
                <a:lnTo>
                  <a:pt x="610" y="233"/>
                </a:lnTo>
                <a:lnTo>
                  <a:pt x="618" y="247"/>
                </a:lnTo>
                <a:lnTo>
                  <a:pt x="634" y="256"/>
                </a:lnTo>
                <a:lnTo>
                  <a:pt x="639" y="261"/>
                </a:lnTo>
                <a:lnTo>
                  <a:pt x="637" y="270"/>
                </a:lnTo>
                <a:lnTo>
                  <a:pt x="631" y="280"/>
                </a:lnTo>
                <a:lnTo>
                  <a:pt x="621" y="297"/>
                </a:lnTo>
                <a:lnTo>
                  <a:pt x="613" y="299"/>
                </a:lnTo>
                <a:lnTo>
                  <a:pt x="635" y="285"/>
                </a:lnTo>
                <a:lnTo>
                  <a:pt x="656" y="272"/>
                </a:lnTo>
                <a:lnTo>
                  <a:pt x="677" y="255"/>
                </a:lnTo>
                <a:lnTo>
                  <a:pt x="702" y="233"/>
                </a:lnTo>
                <a:lnTo>
                  <a:pt x="717" y="216"/>
                </a:lnTo>
                <a:lnTo>
                  <a:pt x="730" y="208"/>
                </a:lnTo>
                <a:lnTo>
                  <a:pt x="739" y="201"/>
                </a:lnTo>
                <a:lnTo>
                  <a:pt x="743" y="216"/>
                </a:lnTo>
                <a:lnTo>
                  <a:pt x="743" y="231"/>
                </a:lnTo>
                <a:lnTo>
                  <a:pt x="743" y="236"/>
                </a:lnTo>
                <a:lnTo>
                  <a:pt x="749" y="219"/>
                </a:lnTo>
                <a:lnTo>
                  <a:pt x="743" y="181"/>
                </a:lnTo>
                <a:lnTo>
                  <a:pt x="743" y="141"/>
                </a:lnTo>
                <a:lnTo>
                  <a:pt x="732" y="112"/>
                </a:lnTo>
                <a:lnTo>
                  <a:pt x="716" y="95"/>
                </a:lnTo>
                <a:lnTo>
                  <a:pt x="704" y="77"/>
                </a:lnTo>
                <a:lnTo>
                  <a:pt x="690" y="68"/>
                </a:lnTo>
                <a:lnTo>
                  <a:pt x="675" y="63"/>
                </a:lnTo>
                <a:lnTo>
                  <a:pt x="666" y="63"/>
                </a:lnTo>
                <a:lnTo>
                  <a:pt x="662" y="75"/>
                </a:lnTo>
                <a:lnTo>
                  <a:pt x="662" y="81"/>
                </a:lnTo>
                <a:lnTo>
                  <a:pt x="671" y="87"/>
                </a:lnTo>
                <a:lnTo>
                  <a:pt x="674" y="80"/>
                </a:lnTo>
                <a:lnTo>
                  <a:pt x="680" y="78"/>
                </a:lnTo>
                <a:lnTo>
                  <a:pt x="688" y="80"/>
                </a:lnTo>
                <a:lnTo>
                  <a:pt x="697" y="95"/>
                </a:lnTo>
                <a:lnTo>
                  <a:pt x="703" y="106"/>
                </a:lnTo>
                <a:lnTo>
                  <a:pt x="703" y="127"/>
                </a:lnTo>
                <a:lnTo>
                  <a:pt x="703" y="135"/>
                </a:lnTo>
                <a:lnTo>
                  <a:pt x="709" y="134"/>
                </a:lnTo>
                <a:lnTo>
                  <a:pt x="715" y="131"/>
                </a:lnTo>
                <a:lnTo>
                  <a:pt x="715" y="141"/>
                </a:lnTo>
                <a:lnTo>
                  <a:pt x="716" y="153"/>
                </a:lnTo>
                <a:lnTo>
                  <a:pt x="716" y="161"/>
                </a:lnTo>
                <a:lnTo>
                  <a:pt x="707" y="170"/>
                </a:lnTo>
                <a:lnTo>
                  <a:pt x="684" y="181"/>
                </a:lnTo>
                <a:lnTo>
                  <a:pt x="663" y="181"/>
                </a:lnTo>
                <a:lnTo>
                  <a:pt x="658" y="187"/>
                </a:lnTo>
                <a:lnTo>
                  <a:pt x="650" y="189"/>
                </a:lnTo>
                <a:lnTo>
                  <a:pt x="643" y="184"/>
                </a:lnTo>
                <a:lnTo>
                  <a:pt x="649" y="181"/>
                </a:lnTo>
                <a:lnTo>
                  <a:pt x="654" y="179"/>
                </a:lnTo>
                <a:lnTo>
                  <a:pt x="641" y="179"/>
                </a:lnTo>
                <a:lnTo>
                  <a:pt x="619" y="172"/>
                </a:lnTo>
                <a:lnTo>
                  <a:pt x="597" y="157"/>
                </a:lnTo>
                <a:lnTo>
                  <a:pt x="581" y="135"/>
                </a:lnTo>
                <a:lnTo>
                  <a:pt x="571" y="121"/>
                </a:lnTo>
                <a:lnTo>
                  <a:pt x="568" y="106"/>
                </a:lnTo>
                <a:lnTo>
                  <a:pt x="559" y="95"/>
                </a:lnTo>
                <a:lnTo>
                  <a:pt x="548" y="83"/>
                </a:lnTo>
                <a:lnTo>
                  <a:pt x="534" y="78"/>
                </a:lnTo>
                <a:lnTo>
                  <a:pt x="528" y="78"/>
                </a:lnTo>
                <a:lnTo>
                  <a:pt x="525" y="78"/>
                </a:lnTo>
                <a:lnTo>
                  <a:pt x="519" y="75"/>
                </a:lnTo>
                <a:lnTo>
                  <a:pt x="512" y="72"/>
                </a:lnTo>
                <a:lnTo>
                  <a:pt x="513" y="66"/>
                </a:lnTo>
                <a:lnTo>
                  <a:pt x="517" y="63"/>
                </a:lnTo>
                <a:lnTo>
                  <a:pt x="511" y="60"/>
                </a:lnTo>
                <a:lnTo>
                  <a:pt x="502" y="55"/>
                </a:lnTo>
                <a:lnTo>
                  <a:pt x="511" y="48"/>
                </a:lnTo>
                <a:lnTo>
                  <a:pt x="513" y="42"/>
                </a:lnTo>
                <a:lnTo>
                  <a:pt x="507" y="40"/>
                </a:lnTo>
                <a:lnTo>
                  <a:pt x="497" y="30"/>
                </a:lnTo>
                <a:lnTo>
                  <a:pt x="489" y="25"/>
                </a:lnTo>
                <a:lnTo>
                  <a:pt x="484" y="14"/>
                </a:lnTo>
                <a:lnTo>
                  <a:pt x="484" y="4"/>
                </a:lnTo>
                <a:lnTo>
                  <a:pt x="451" y="0"/>
                </a:lnTo>
                <a:lnTo>
                  <a:pt x="446" y="3"/>
                </a:lnTo>
                <a:lnTo>
                  <a:pt x="438" y="9"/>
                </a:lnTo>
                <a:lnTo>
                  <a:pt x="427" y="14"/>
                </a:lnTo>
                <a:lnTo>
                  <a:pt x="424" y="17"/>
                </a:lnTo>
                <a:lnTo>
                  <a:pt x="417" y="18"/>
                </a:lnTo>
                <a:lnTo>
                  <a:pt x="412" y="18"/>
                </a:lnTo>
                <a:lnTo>
                  <a:pt x="408" y="26"/>
                </a:lnTo>
                <a:lnTo>
                  <a:pt x="404" y="30"/>
                </a:lnTo>
                <a:lnTo>
                  <a:pt x="404" y="36"/>
                </a:lnTo>
                <a:lnTo>
                  <a:pt x="404" y="44"/>
                </a:lnTo>
                <a:lnTo>
                  <a:pt x="399" y="48"/>
                </a:lnTo>
                <a:lnTo>
                  <a:pt x="394" y="55"/>
                </a:lnTo>
                <a:lnTo>
                  <a:pt x="387" y="55"/>
                </a:lnTo>
                <a:lnTo>
                  <a:pt x="370" y="57"/>
                </a:lnTo>
                <a:lnTo>
                  <a:pt x="370" y="65"/>
                </a:lnTo>
                <a:lnTo>
                  <a:pt x="364" y="81"/>
                </a:lnTo>
                <a:lnTo>
                  <a:pt x="358" y="86"/>
                </a:lnTo>
                <a:lnTo>
                  <a:pt x="0" y="181"/>
                </a:lnTo>
              </a:path>
            </a:pathLst>
          </a:custGeom>
          <a:solidFill>
            <a:srgbClr val="ff66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Freeform 53"/>
          <p:cNvSpPr/>
          <p:nvPr/>
        </p:nvSpPr>
        <p:spPr>
          <a:xfrm>
            <a:off x="8432640" y="2438280"/>
            <a:ext cx="155880" cy="136800"/>
          </a:xfrm>
          <a:custGeom>
            <a:avLst/>
            <a:gdLst>
              <a:gd name="textAreaLeft" fmla="*/ 0 w 155880"/>
              <a:gd name="textAreaRight" fmla="*/ 156240 w 155880"/>
              <a:gd name="textAreaTop" fmla="*/ 0 h 136800"/>
              <a:gd name="textAreaBottom" fmla="*/ 136800 h 136800"/>
            </a:gdLst>
            <a:ahLst/>
            <a:rect l="textAreaLeft" t="textAreaTop" r="textAreaRight" b="textAreaBottom"/>
            <a:pathLst>
              <a:path w="196" h="185">
                <a:moveTo>
                  <a:pt x="27" y="185"/>
                </a:moveTo>
                <a:lnTo>
                  <a:pt x="27" y="176"/>
                </a:lnTo>
                <a:lnTo>
                  <a:pt x="27" y="170"/>
                </a:lnTo>
                <a:lnTo>
                  <a:pt x="19" y="164"/>
                </a:lnTo>
                <a:lnTo>
                  <a:pt x="18" y="161"/>
                </a:lnTo>
                <a:lnTo>
                  <a:pt x="18" y="155"/>
                </a:lnTo>
                <a:lnTo>
                  <a:pt x="22" y="147"/>
                </a:lnTo>
                <a:lnTo>
                  <a:pt x="27" y="147"/>
                </a:lnTo>
                <a:lnTo>
                  <a:pt x="27" y="141"/>
                </a:lnTo>
                <a:lnTo>
                  <a:pt x="10" y="70"/>
                </a:lnTo>
                <a:lnTo>
                  <a:pt x="0" y="34"/>
                </a:lnTo>
                <a:lnTo>
                  <a:pt x="63" y="16"/>
                </a:lnTo>
                <a:lnTo>
                  <a:pt x="114" y="0"/>
                </a:lnTo>
                <a:lnTo>
                  <a:pt x="136" y="30"/>
                </a:lnTo>
                <a:lnTo>
                  <a:pt x="145" y="25"/>
                </a:lnTo>
                <a:lnTo>
                  <a:pt x="156" y="42"/>
                </a:lnTo>
                <a:lnTo>
                  <a:pt x="162" y="49"/>
                </a:lnTo>
                <a:lnTo>
                  <a:pt x="173" y="60"/>
                </a:lnTo>
                <a:lnTo>
                  <a:pt x="183" y="61"/>
                </a:lnTo>
                <a:lnTo>
                  <a:pt x="196" y="60"/>
                </a:lnTo>
                <a:lnTo>
                  <a:pt x="177" y="80"/>
                </a:lnTo>
                <a:lnTo>
                  <a:pt x="174" y="84"/>
                </a:lnTo>
                <a:lnTo>
                  <a:pt x="166" y="84"/>
                </a:lnTo>
                <a:lnTo>
                  <a:pt x="161" y="87"/>
                </a:lnTo>
                <a:lnTo>
                  <a:pt x="162" y="95"/>
                </a:lnTo>
                <a:lnTo>
                  <a:pt x="163" y="100"/>
                </a:lnTo>
                <a:lnTo>
                  <a:pt x="167" y="108"/>
                </a:lnTo>
                <a:lnTo>
                  <a:pt x="161" y="109"/>
                </a:lnTo>
                <a:lnTo>
                  <a:pt x="153" y="111"/>
                </a:lnTo>
                <a:lnTo>
                  <a:pt x="116" y="136"/>
                </a:lnTo>
                <a:lnTo>
                  <a:pt x="80" y="160"/>
                </a:lnTo>
                <a:lnTo>
                  <a:pt x="64" y="164"/>
                </a:lnTo>
                <a:lnTo>
                  <a:pt x="53" y="174"/>
                </a:lnTo>
                <a:lnTo>
                  <a:pt x="42" y="182"/>
                </a:lnTo>
                <a:lnTo>
                  <a:pt x="30" y="183"/>
                </a:lnTo>
                <a:lnTo>
                  <a:pt x="27" y="18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Freeform 54"/>
          <p:cNvSpPr/>
          <p:nvPr/>
        </p:nvSpPr>
        <p:spPr>
          <a:xfrm>
            <a:off x="8164440" y="2455920"/>
            <a:ext cx="290520" cy="241200"/>
          </a:xfrm>
          <a:custGeom>
            <a:avLst/>
            <a:gdLst>
              <a:gd name="textAreaLeft" fmla="*/ 0 w 290520"/>
              <a:gd name="textAreaRight" fmla="*/ 290880 w 29052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369" h="328">
                <a:moveTo>
                  <a:pt x="38" y="328"/>
                </a:moveTo>
                <a:lnTo>
                  <a:pt x="20" y="306"/>
                </a:lnTo>
                <a:lnTo>
                  <a:pt x="60" y="278"/>
                </a:lnTo>
                <a:lnTo>
                  <a:pt x="40" y="261"/>
                </a:lnTo>
                <a:lnTo>
                  <a:pt x="0" y="84"/>
                </a:lnTo>
                <a:lnTo>
                  <a:pt x="14" y="92"/>
                </a:lnTo>
                <a:lnTo>
                  <a:pt x="132" y="61"/>
                </a:lnTo>
                <a:lnTo>
                  <a:pt x="136" y="77"/>
                </a:lnTo>
                <a:lnTo>
                  <a:pt x="151" y="76"/>
                </a:lnTo>
                <a:lnTo>
                  <a:pt x="152" y="66"/>
                </a:lnTo>
                <a:lnTo>
                  <a:pt x="155" y="59"/>
                </a:lnTo>
                <a:lnTo>
                  <a:pt x="164" y="52"/>
                </a:lnTo>
                <a:lnTo>
                  <a:pt x="183" y="43"/>
                </a:lnTo>
                <a:lnTo>
                  <a:pt x="337" y="0"/>
                </a:lnTo>
                <a:lnTo>
                  <a:pt x="369" y="112"/>
                </a:lnTo>
                <a:lnTo>
                  <a:pt x="367" y="120"/>
                </a:lnTo>
                <a:lnTo>
                  <a:pt x="367" y="121"/>
                </a:lnTo>
                <a:lnTo>
                  <a:pt x="361" y="123"/>
                </a:lnTo>
                <a:lnTo>
                  <a:pt x="359" y="135"/>
                </a:lnTo>
                <a:lnTo>
                  <a:pt x="359" y="137"/>
                </a:lnTo>
                <a:lnTo>
                  <a:pt x="361" y="140"/>
                </a:lnTo>
                <a:lnTo>
                  <a:pt x="367" y="144"/>
                </a:lnTo>
                <a:lnTo>
                  <a:pt x="369" y="150"/>
                </a:lnTo>
                <a:lnTo>
                  <a:pt x="367" y="161"/>
                </a:lnTo>
                <a:lnTo>
                  <a:pt x="356" y="167"/>
                </a:lnTo>
                <a:lnTo>
                  <a:pt x="352" y="162"/>
                </a:lnTo>
                <a:lnTo>
                  <a:pt x="349" y="159"/>
                </a:lnTo>
                <a:lnTo>
                  <a:pt x="341" y="165"/>
                </a:lnTo>
                <a:lnTo>
                  <a:pt x="336" y="173"/>
                </a:lnTo>
                <a:lnTo>
                  <a:pt x="330" y="180"/>
                </a:lnTo>
                <a:lnTo>
                  <a:pt x="323" y="180"/>
                </a:lnTo>
                <a:lnTo>
                  <a:pt x="313" y="180"/>
                </a:lnTo>
                <a:lnTo>
                  <a:pt x="307" y="183"/>
                </a:lnTo>
                <a:lnTo>
                  <a:pt x="296" y="182"/>
                </a:lnTo>
                <a:lnTo>
                  <a:pt x="285" y="190"/>
                </a:lnTo>
                <a:lnTo>
                  <a:pt x="275" y="200"/>
                </a:lnTo>
                <a:lnTo>
                  <a:pt x="269" y="204"/>
                </a:lnTo>
                <a:lnTo>
                  <a:pt x="254" y="210"/>
                </a:lnTo>
                <a:lnTo>
                  <a:pt x="246" y="221"/>
                </a:lnTo>
                <a:lnTo>
                  <a:pt x="236" y="225"/>
                </a:lnTo>
                <a:lnTo>
                  <a:pt x="232" y="227"/>
                </a:lnTo>
                <a:lnTo>
                  <a:pt x="221" y="227"/>
                </a:lnTo>
                <a:lnTo>
                  <a:pt x="204" y="227"/>
                </a:lnTo>
                <a:lnTo>
                  <a:pt x="196" y="233"/>
                </a:lnTo>
                <a:lnTo>
                  <a:pt x="187" y="241"/>
                </a:lnTo>
                <a:lnTo>
                  <a:pt x="172" y="243"/>
                </a:lnTo>
                <a:lnTo>
                  <a:pt x="156" y="252"/>
                </a:lnTo>
                <a:lnTo>
                  <a:pt x="143" y="263"/>
                </a:lnTo>
                <a:lnTo>
                  <a:pt x="129" y="272"/>
                </a:lnTo>
                <a:lnTo>
                  <a:pt x="124" y="278"/>
                </a:lnTo>
                <a:lnTo>
                  <a:pt x="117" y="280"/>
                </a:lnTo>
                <a:lnTo>
                  <a:pt x="111" y="275"/>
                </a:lnTo>
                <a:lnTo>
                  <a:pt x="101" y="284"/>
                </a:lnTo>
                <a:lnTo>
                  <a:pt x="99" y="290"/>
                </a:lnTo>
                <a:lnTo>
                  <a:pt x="94" y="290"/>
                </a:lnTo>
                <a:lnTo>
                  <a:pt x="87" y="290"/>
                </a:lnTo>
                <a:lnTo>
                  <a:pt x="78" y="297"/>
                </a:lnTo>
                <a:lnTo>
                  <a:pt x="70" y="302"/>
                </a:lnTo>
                <a:lnTo>
                  <a:pt x="63" y="311"/>
                </a:lnTo>
                <a:lnTo>
                  <a:pt x="56" y="318"/>
                </a:lnTo>
                <a:lnTo>
                  <a:pt x="47" y="322"/>
                </a:lnTo>
                <a:lnTo>
                  <a:pt x="41" y="327"/>
                </a:lnTo>
                <a:lnTo>
                  <a:pt x="38" y="328"/>
                </a:lnTo>
              </a:path>
            </a:pathLst>
          </a:custGeom>
          <a:solidFill>
            <a:srgbClr val="ff66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Freeform 55"/>
          <p:cNvSpPr/>
          <p:nvPr/>
        </p:nvSpPr>
        <p:spPr>
          <a:xfrm>
            <a:off x="7256520" y="1933560"/>
            <a:ext cx="957240" cy="841320"/>
          </a:xfrm>
          <a:custGeom>
            <a:avLst/>
            <a:gdLst>
              <a:gd name="textAreaLeft" fmla="*/ 0 w 957240"/>
              <a:gd name="textAreaRight" fmla="*/ 957600 w 957240"/>
              <a:gd name="textAreaTop" fmla="*/ 0 h 841320"/>
              <a:gd name="textAreaBottom" fmla="*/ 841680 h 841320"/>
            </a:gdLst>
            <a:ahLst/>
            <a:rect l="textAreaLeft" t="textAreaTop" r="textAreaRight" b="textAreaBottom"/>
            <a:pathLst>
              <a:path w="1219" h="1147">
                <a:moveTo>
                  <a:pt x="0" y="992"/>
                </a:moveTo>
                <a:lnTo>
                  <a:pt x="32" y="959"/>
                </a:lnTo>
                <a:lnTo>
                  <a:pt x="91" y="901"/>
                </a:lnTo>
                <a:lnTo>
                  <a:pt x="129" y="863"/>
                </a:lnTo>
                <a:lnTo>
                  <a:pt x="143" y="847"/>
                </a:lnTo>
                <a:lnTo>
                  <a:pt x="145" y="805"/>
                </a:lnTo>
                <a:lnTo>
                  <a:pt x="136" y="727"/>
                </a:lnTo>
                <a:lnTo>
                  <a:pt x="122" y="692"/>
                </a:lnTo>
                <a:lnTo>
                  <a:pt x="113" y="666"/>
                </a:lnTo>
                <a:lnTo>
                  <a:pt x="113" y="650"/>
                </a:lnTo>
                <a:lnTo>
                  <a:pt x="142" y="629"/>
                </a:lnTo>
                <a:lnTo>
                  <a:pt x="204" y="602"/>
                </a:lnTo>
                <a:lnTo>
                  <a:pt x="275" y="588"/>
                </a:lnTo>
                <a:lnTo>
                  <a:pt x="349" y="583"/>
                </a:lnTo>
                <a:lnTo>
                  <a:pt x="369" y="586"/>
                </a:lnTo>
                <a:lnTo>
                  <a:pt x="381" y="600"/>
                </a:lnTo>
                <a:lnTo>
                  <a:pt x="400" y="600"/>
                </a:lnTo>
                <a:lnTo>
                  <a:pt x="464" y="577"/>
                </a:lnTo>
                <a:lnTo>
                  <a:pt x="498" y="565"/>
                </a:lnTo>
                <a:lnTo>
                  <a:pt x="514" y="577"/>
                </a:lnTo>
                <a:lnTo>
                  <a:pt x="527" y="570"/>
                </a:lnTo>
                <a:lnTo>
                  <a:pt x="526" y="561"/>
                </a:lnTo>
                <a:lnTo>
                  <a:pt x="545" y="532"/>
                </a:lnTo>
                <a:lnTo>
                  <a:pt x="556" y="507"/>
                </a:lnTo>
                <a:lnTo>
                  <a:pt x="568" y="504"/>
                </a:lnTo>
                <a:lnTo>
                  <a:pt x="585" y="510"/>
                </a:lnTo>
                <a:lnTo>
                  <a:pt x="598" y="502"/>
                </a:lnTo>
                <a:lnTo>
                  <a:pt x="610" y="479"/>
                </a:lnTo>
                <a:lnTo>
                  <a:pt x="605" y="398"/>
                </a:lnTo>
                <a:lnTo>
                  <a:pt x="592" y="374"/>
                </a:lnTo>
                <a:lnTo>
                  <a:pt x="585" y="367"/>
                </a:lnTo>
                <a:lnTo>
                  <a:pt x="569" y="357"/>
                </a:lnTo>
                <a:lnTo>
                  <a:pt x="593" y="341"/>
                </a:lnTo>
                <a:lnTo>
                  <a:pt x="607" y="341"/>
                </a:lnTo>
                <a:lnTo>
                  <a:pt x="607" y="324"/>
                </a:lnTo>
                <a:lnTo>
                  <a:pt x="593" y="318"/>
                </a:lnTo>
                <a:lnTo>
                  <a:pt x="591" y="312"/>
                </a:lnTo>
                <a:lnTo>
                  <a:pt x="586" y="307"/>
                </a:lnTo>
                <a:lnTo>
                  <a:pt x="574" y="311"/>
                </a:lnTo>
                <a:lnTo>
                  <a:pt x="569" y="311"/>
                </a:lnTo>
                <a:lnTo>
                  <a:pt x="565" y="289"/>
                </a:lnTo>
                <a:lnTo>
                  <a:pt x="591" y="254"/>
                </a:lnTo>
                <a:lnTo>
                  <a:pt x="600" y="226"/>
                </a:lnTo>
                <a:lnTo>
                  <a:pt x="622" y="198"/>
                </a:lnTo>
                <a:lnTo>
                  <a:pt x="639" y="175"/>
                </a:lnTo>
                <a:lnTo>
                  <a:pt x="650" y="145"/>
                </a:lnTo>
                <a:lnTo>
                  <a:pt x="677" y="113"/>
                </a:lnTo>
                <a:lnTo>
                  <a:pt x="722" y="77"/>
                </a:lnTo>
                <a:lnTo>
                  <a:pt x="772" y="60"/>
                </a:lnTo>
                <a:lnTo>
                  <a:pt x="837" y="40"/>
                </a:lnTo>
                <a:lnTo>
                  <a:pt x="876" y="34"/>
                </a:lnTo>
                <a:lnTo>
                  <a:pt x="900" y="23"/>
                </a:lnTo>
                <a:lnTo>
                  <a:pt x="929" y="8"/>
                </a:lnTo>
                <a:lnTo>
                  <a:pt x="974" y="0"/>
                </a:lnTo>
                <a:lnTo>
                  <a:pt x="982" y="25"/>
                </a:lnTo>
                <a:lnTo>
                  <a:pt x="977" y="30"/>
                </a:lnTo>
                <a:lnTo>
                  <a:pt x="969" y="30"/>
                </a:lnTo>
                <a:lnTo>
                  <a:pt x="966" y="39"/>
                </a:lnTo>
                <a:lnTo>
                  <a:pt x="966" y="59"/>
                </a:lnTo>
                <a:lnTo>
                  <a:pt x="970" y="91"/>
                </a:lnTo>
                <a:lnTo>
                  <a:pt x="978" y="116"/>
                </a:lnTo>
                <a:lnTo>
                  <a:pt x="978" y="122"/>
                </a:lnTo>
                <a:lnTo>
                  <a:pt x="985" y="121"/>
                </a:lnTo>
                <a:lnTo>
                  <a:pt x="989" y="114"/>
                </a:lnTo>
                <a:lnTo>
                  <a:pt x="993" y="110"/>
                </a:lnTo>
                <a:lnTo>
                  <a:pt x="995" y="114"/>
                </a:lnTo>
                <a:lnTo>
                  <a:pt x="995" y="124"/>
                </a:lnTo>
                <a:lnTo>
                  <a:pt x="1003" y="148"/>
                </a:lnTo>
                <a:lnTo>
                  <a:pt x="1010" y="156"/>
                </a:lnTo>
                <a:lnTo>
                  <a:pt x="1010" y="165"/>
                </a:lnTo>
                <a:lnTo>
                  <a:pt x="1008" y="173"/>
                </a:lnTo>
                <a:lnTo>
                  <a:pt x="996" y="178"/>
                </a:lnTo>
                <a:lnTo>
                  <a:pt x="994" y="178"/>
                </a:lnTo>
                <a:lnTo>
                  <a:pt x="994" y="185"/>
                </a:lnTo>
                <a:lnTo>
                  <a:pt x="996" y="201"/>
                </a:lnTo>
                <a:lnTo>
                  <a:pt x="1004" y="213"/>
                </a:lnTo>
                <a:lnTo>
                  <a:pt x="1008" y="220"/>
                </a:lnTo>
                <a:lnTo>
                  <a:pt x="1006" y="232"/>
                </a:lnTo>
                <a:lnTo>
                  <a:pt x="1002" y="244"/>
                </a:lnTo>
                <a:lnTo>
                  <a:pt x="997" y="252"/>
                </a:lnTo>
                <a:lnTo>
                  <a:pt x="1006" y="306"/>
                </a:lnTo>
                <a:lnTo>
                  <a:pt x="1015" y="337"/>
                </a:lnTo>
                <a:lnTo>
                  <a:pt x="1015" y="357"/>
                </a:lnTo>
                <a:lnTo>
                  <a:pt x="1016" y="365"/>
                </a:lnTo>
                <a:lnTo>
                  <a:pt x="1007" y="372"/>
                </a:lnTo>
                <a:lnTo>
                  <a:pt x="1019" y="398"/>
                </a:lnTo>
                <a:lnTo>
                  <a:pt x="1029" y="423"/>
                </a:lnTo>
                <a:lnTo>
                  <a:pt x="1035" y="434"/>
                </a:lnTo>
                <a:lnTo>
                  <a:pt x="1035" y="438"/>
                </a:lnTo>
                <a:lnTo>
                  <a:pt x="1026" y="447"/>
                </a:lnTo>
                <a:lnTo>
                  <a:pt x="1023" y="455"/>
                </a:lnTo>
                <a:lnTo>
                  <a:pt x="1023" y="463"/>
                </a:lnTo>
                <a:lnTo>
                  <a:pt x="1023" y="470"/>
                </a:lnTo>
                <a:lnTo>
                  <a:pt x="1026" y="479"/>
                </a:lnTo>
                <a:lnTo>
                  <a:pt x="1035" y="480"/>
                </a:lnTo>
                <a:lnTo>
                  <a:pt x="1040" y="480"/>
                </a:lnTo>
                <a:lnTo>
                  <a:pt x="1042" y="476"/>
                </a:lnTo>
                <a:lnTo>
                  <a:pt x="1046" y="466"/>
                </a:lnTo>
                <a:lnTo>
                  <a:pt x="1048" y="466"/>
                </a:lnTo>
                <a:lnTo>
                  <a:pt x="1057" y="469"/>
                </a:lnTo>
                <a:lnTo>
                  <a:pt x="1071" y="477"/>
                </a:lnTo>
                <a:lnTo>
                  <a:pt x="1080" y="487"/>
                </a:lnTo>
                <a:lnTo>
                  <a:pt x="1084" y="487"/>
                </a:lnTo>
                <a:lnTo>
                  <a:pt x="1126" y="658"/>
                </a:lnTo>
                <a:lnTo>
                  <a:pt x="1200" y="974"/>
                </a:lnTo>
                <a:lnTo>
                  <a:pt x="1219" y="991"/>
                </a:lnTo>
                <a:lnTo>
                  <a:pt x="1178" y="1019"/>
                </a:lnTo>
                <a:lnTo>
                  <a:pt x="1197" y="1038"/>
                </a:lnTo>
                <a:lnTo>
                  <a:pt x="1190" y="1060"/>
                </a:lnTo>
                <a:lnTo>
                  <a:pt x="1190" y="1079"/>
                </a:lnTo>
                <a:lnTo>
                  <a:pt x="1199" y="1097"/>
                </a:lnTo>
                <a:lnTo>
                  <a:pt x="1196" y="1100"/>
                </a:lnTo>
                <a:lnTo>
                  <a:pt x="1189" y="1115"/>
                </a:lnTo>
                <a:lnTo>
                  <a:pt x="1189" y="1124"/>
                </a:lnTo>
                <a:lnTo>
                  <a:pt x="1189" y="1147"/>
                </a:lnTo>
                <a:lnTo>
                  <a:pt x="1169" y="1138"/>
                </a:lnTo>
                <a:lnTo>
                  <a:pt x="1166" y="1126"/>
                </a:lnTo>
                <a:lnTo>
                  <a:pt x="1154" y="1124"/>
                </a:lnTo>
                <a:lnTo>
                  <a:pt x="1147" y="1124"/>
                </a:lnTo>
                <a:lnTo>
                  <a:pt x="994" y="1090"/>
                </a:lnTo>
                <a:lnTo>
                  <a:pt x="982" y="1072"/>
                </a:lnTo>
                <a:lnTo>
                  <a:pt x="951" y="1063"/>
                </a:lnTo>
                <a:lnTo>
                  <a:pt x="931" y="1048"/>
                </a:lnTo>
                <a:lnTo>
                  <a:pt x="929" y="1027"/>
                </a:lnTo>
                <a:lnTo>
                  <a:pt x="925" y="1014"/>
                </a:lnTo>
                <a:lnTo>
                  <a:pt x="908" y="1003"/>
                </a:lnTo>
                <a:lnTo>
                  <a:pt x="898" y="986"/>
                </a:lnTo>
                <a:lnTo>
                  <a:pt x="896" y="963"/>
                </a:lnTo>
                <a:lnTo>
                  <a:pt x="872" y="941"/>
                </a:lnTo>
                <a:lnTo>
                  <a:pt x="855" y="928"/>
                </a:lnTo>
                <a:lnTo>
                  <a:pt x="838" y="917"/>
                </a:lnTo>
                <a:lnTo>
                  <a:pt x="828" y="910"/>
                </a:lnTo>
                <a:lnTo>
                  <a:pt x="16" y="1042"/>
                </a:lnTo>
                <a:lnTo>
                  <a:pt x="0" y="992"/>
                </a:lnTo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Freeform 56"/>
          <p:cNvSpPr/>
          <p:nvPr/>
        </p:nvSpPr>
        <p:spPr>
          <a:xfrm>
            <a:off x="8201160" y="2610000"/>
            <a:ext cx="291960" cy="160200"/>
          </a:xfrm>
          <a:custGeom>
            <a:avLst/>
            <a:gdLst>
              <a:gd name="textAreaLeft" fmla="*/ 0 w 291960"/>
              <a:gd name="textAreaRight" fmla="*/ 292320 w 29196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371" h="218">
                <a:moveTo>
                  <a:pt x="0" y="194"/>
                </a:moveTo>
                <a:lnTo>
                  <a:pt x="3" y="178"/>
                </a:lnTo>
                <a:lnTo>
                  <a:pt x="15" y="167"/>
                </a:lnTo>
                <a:lnTo>
                  <a:pt x="26" y="162"/>
                </a:lnTo>
                <a:lnTo>
                  <a:pt x="42" y="152"/>
                </a:lnTo>
                <a:lnTo>
                  <a:pt x="57" y="140"/>
                </a:lnTo>
                <a:lnTo>
                  <a:pt x="71" y="126"/>
                </a:lnTo>
                <a:lnTo>
                  <a:pt x="83" y="110"/>
                </a:lnTo>
                <a:lnTo>
                  <a:pt x="92" y="101"/>
                </a:lnTo>
                <a:lnTo>
                  <a:pt x="116" y="101"/>
                </a:lnTo>
                <a:lnTo>
                  <a:pt x="133" y="85"/>
                </a:lnTo>
                <a:lnTo>
                  <a:pt x="158" y="72"/>
                </a:lnTo>
                <a:lnTo>
                  <a:pt x="193" y="74"/>
                </a:lnTo>
                <a:lnTo>
                  <a:pt x="214" y="68"/>
                </a:lnTo>
                <a:lnTo>
                  <a:pt x="238" y="54"/>
                </a:lnTo>
                <a:lnTo>
                  <a:pt x="277" y="25"/>
                </a:lnTo>
                <a:lnTo>
                  <a:pt x="310" y="0"/>
                </a:lnTo>
                <a:lnTo>
                  <a:pt x="320" y="2"/>
                </a:lnTo>
                <a:lnTo>
                  <a:pt x="291" y="43"/>
                </a:lnTo>
                <a:lnTo>
                  <a:pt x="256" y="62"/>
                </a:lnTo>
                <a:lnTo>
                  <a:pt x="264" y="71"/>
                </a:lnTo>
                <a:lnTo>
                  <a:pt x="303" y="53"/>
                </a:lnTo>
                <a:lnTo>
                  <a:pt x="332" y="28"/>
                </a:lnTo>
                <a:lnTo>
                  <a:pt x="371" y="19"/>
                </a:lnTo>
                <a:lnTo>
                  <a:pt x="334" y="49"/>
                </a:lnTo>
                <a:lnTo>
                  <a:pt x="289" y="86"/>
                </a:lnTo>
                <a:lnTo>
                  <a:pt x="227" y="127"/>
                </a:lnTo>
                <a:lnTo>
                  <a:pt x="204" y="146"/>
                </a:lnTo>
                <a:lnTo>
                  <a:pt x="138" y="178"/>
                </a:lnTo>
                <a:lnTo>
                  <a:pt x="103" y="201"/>
                </a:lnTo>
                <a:lnTo>
                  <a:pt x="97" y="206"/>
                </a:lnTo>
                <a:lnTo>
                  <a:pt x="87" y="206"/>
                </a:lnTo>
                <a:lnTo>
                  <a:pt x="94" y="195"/>
                </a:lnTo>
                <a:lnTo>
                  <a:pt x="103" y="180"/>
                </a:lnTo>
                <a:lnTo>
                  <a:pt x="83" y="180"/>
                </a:lnTo>
                <a:lnTo>
                  <a:pt x="69" y="195"/>
                </a:lnTo>
                <a:lnTo>
                  <a:pt x="65" y="201"/>
                </a:lnTo>
                <a:lnTo>
                  <a:pt x="53" y="213"/>
                </a:lnTo>
                <a:lnTo>
                  <a:pt x="42" y="218"/>
                </a:lnTo>
                <a:lnTo>
                  <a:pt x="15" y="216"/>
                </a:lnTo>
                <a:lnTo>
                  <a:pt x="9" y="202"/>
                </a:lnTo>
                <a:lnTo>
                  <a:pt x="3" y="202"/>
                </a:lnTo>
                <a:lnTo>
                  <a:pt x="0" y="194"/>
                </a:lnTo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Freeform 57"/>
          <p:cNvSpPr/>
          <p:nvPr/>
        </p:nvSpPr>
        <p:spPr>
          <a:xfrm>
            <a:off x="7161120" y="2600280"/>
            <a:ext cx="927360" cy="558720"/>
          </a:xfrm>
          <a:custGeom>
            <a:avLst/>
            <a:gdLst>
              <a:gd name="textAreaLeft" fmla="*/ 0 w 927360"/>
              <a:gd name="textAreaRight" fmla="*/ 927720 w 927360"/>
              <a:gd name="textAreaTop" fmla="*/ 0 h 558720"/>
              <a:gd name="textAreaBottom" fmla="*/ 559080 h 558720"/>
            </a:gdLst>
            <a:ahLst/>
            <a:rect l="textAreaLeft" t="textAreaTop" r="textAreaRight" b="textAreaBottom"/>
            <a:pathLst>
              <a:path w="1181" h="761">
                <a:moveTo>
                  <a:pt x="0" y="138"/>
                </a:moveTo>
                <a:lnTo>
                  <a:pt x="23" y="134"/>
                </a:lnTo>
                <a:lnTo>
                  <a:pt x="46" y="124"/>
                </a:lnTo>
                <a:lnTo>
                  <a:pt x="79" y="110"/>
                </a:lnTo>
                <a:lnTo>
                  <a:pt x="98" y="105"/>
                </a:lnTo>
                <a:lnTo>
                  <a:pt x="115" y="90"/>
                </a:lnTo>
                <a:lnTo>
                  <a:pt x="123" y="81"/>
                </a:lnTo>
                <a:lnTo>
                  <a:pt x="139" y="131"/>
                </a:lnTo>
                <a:lnTo>
                  <a:pt x="949" y="0"/>
                </a:lnTo>
                <a:lnTo>
                  <a:pt x="966" y="7"/>
                </a:lnTo>
                <a:lnTo>
                  <a:pt x="994" y="30"/>
                </a:lnTo>
                <a:lnTo>
                  <a:pt x="1011" y="47"/>
                </a:lnTo>
                <a:lnTo>
                  <a:pt x="1014" y="55"/>
                </a:lnTo>
                <a:lnTo>
                  <a:pt x="1019" y="70"/>
                </a:lnTo>
                <a:lnTo>
                  <a:pt x="1025" y="83"/>
                </a:lnTo>
                <a:lnTo>
                  <a:pt x="1031" y="93"/>
                </a:lnTo>
                <a:lnTo>
                  <a:pt x="1036" y="94"/>
                </a:lnTo>
                <a:lnTo>
                  <a:pt x="1046" y="100"/>
                </a:lnTo>
                <a:lnTo>
                  <a:pt x="1048" y="110"/>
                </a:lnTo>
                <a:lnTo>
                  <a:pt x="1050" y="114"/>
                </a:lnTo>
                <a:lnTo>
                  <a:pt x="1054" y="128"/>
                </a:lnTo>
                <a:lnTo>
                  <a:pt x="1054" y="135"/>
                </a:lnTo>
                <a:lnTo>
                  <a:pt x="1056" y="138"/>
                </a:lnTo>
                <a:lnTo>
                  <a:pt x="1067" y="147"/>
                </a:lnTo>
                <a:lnTo>
                  <a:pt x="1079" y="157"/>
                </a:lnTo>
                <a:lnTo>
                  <a:pt x="1094" y="160"/>
                </a:lnTo>
                <a:lnTo>
                  <a:pt x="1103" y="162"/>
                </a:lnTo>
                <a:lnTo>
                  <a:pt x="1108" y="166"/>
                </a:lnTo>
                <a:lnTo>
                  <a:pt x="1111" y="173"/>
                </a:lnTo>
                <a:lnTo>
                  <a:pt x="1115" y="180"/>
                </a:lnTo>
                <a:lnTo>
                  <a:pt x="1117" y="189"/>
                </a:lnTo>
                <a:lnTo>
                  <a:pt x="1112" y="226"/>
                </a:lnTo>
                <a:lnTo>
                  <a:pt x="1111" y="237"/>
                </a:lnTo>
                <a:lnTo>
                  <a:pt x="1101" y="258"/>
                </a:lnTo>
                <a:lnTo>
                  <a:pt x="1092" y="279"/>
                </a:lnTo>
                <a:lnTo>
                  <a:pt x="1100" y="283"/>
                </a:lnTo>
                <a:lnTo>
                  <a:pt x="1111" y="293"/>
                </a:lnTo>
                <a:lnTo>
                  <a:pt x="1111" y="318"/>
                </a:lnTo>
                <a:lnTo>
                  <a:pt x="1111" y="335"/>
                </a:lnTo>
                <a:lnTo>
                  <a:pt x="1117" y="343"/>
                </a:lnTo>
                <a:lnTo>
                  <a:pt x="1131" y="342"/>
                </a:lnTo>
                <a:lnTo>
                  <a:pt x="1149" y="367"/>
                </a:lnTo>
                <a:lnTo>
                  <a:pt x="1181" y="400"/>
                </a:lnTo>
                <a:lnTo>
                  <a:pt x="1176" y="423"/>
                </a:lnTo>
                <a:lnTo>
                  <a:pt x="1161" y="433"/>
                </a:lnTo>
                <a:lnTo>
                  <a:pt x="1133" y="464"/>
                </a:lnTo>
                <a:lnTo>
                  <a:pt x="1124" y="485"/>
                </a:lnTo>
                <a:lnTo>
                  <a:pt x="1112" y="494"/>
                </a:lnTo>
                <a:lnTo>
                  <a:pt x="1101" y="496"/>
                </a:lnTo>
                <a:lnTo>
                  <a:pt x="1102" y="514"/>
                </a:lnTo>
                <a:lnTo>
                  <a:pt x="1092" y="522"/>
                </a:lnTo>
                <a:lnTo>
                  <a:pt x="1080" y="525"/>
                </a:lnTo>
                <a:lnTo>
                  <a:pt x="1072" y="525"/>
                </a:lnTo>
                <a:lnTo>
                  <a:pt x="1059" y="533"/>
                </a:lnTo>
                <a:lnTo>
                  <a:pt x="1050" y="548"/>
                </a:lnTo>
                <a:lnTo>
                  <a:pt x="1043" y="560"/>
                </a:lnTo>
                <a:lnTo>
                  <a:pt x="1041" y="561"/>
                </a:lnTo>
                <a:lnTo>
                  <a:pt x="110" y="761"/>
                </a:lnTo>
                <a:lnTo>
                  <a:pt x="0" y="138"/>
                </a:lnTo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Freeform 58"/>
          <p:cNvSpPr/>
          <p:nvPr/>
        </p:nvSpPr>
        <p:spPr>
          <a:xfrm>
            <a:off x="8001000" y="2743200"/>
            <a:ext cx="263520" cy="446040"/>
          </a:xfrm>
          <a:custGeom>
            <a:avLst/>
            <a:gdLst>
              <a:gd name="textAreaLeft" fmla="*/ 0 w 263520"/>
              <a:gd name="textAreaRight" fmla="*/ 263880 w 263520"/>
              <a:gd name="textAreaTop" fmla="*/ 0 h 446040"/>
              <a:gd name="textAreaBottom" fmla="*/ 446400 h 446040"/>
            </a:gdLst>
            <a:ahLst/>
            <a:rect l="textAreaLeft" t="textAreaTop" r="textAreaRight" b="textAreaBottom"/>
            <a:pathLst>
              <a:path w="334" h="609">
                <a:moveTo>
                  <a:pt x="37" y="0"/>
                </a:moveTo>
                <a:lnTo>
                  <a:pt x="190" y="35"/>
                </a:lnTo>
                <a:lnTo>
                  <a:pt x="191" y="51"/>
                </a:lnTo>
                <a:lnTo>
                  <a:pt x="205" y="75"/>
                </a:lnTo>
                <a:lnTo>
                  <a:pt x="208" y="83"/>
                </a:lnTo>
                <a:lnTo>
                  <a:pt x="205" y="89"/>
                </a:lnTo>
                <a:lnTo>
                  <a:pt x="195" y="89"/>
                </a:lnTo>
                <a:lnTo>
                  <a:pt x="192" y="90"/>
                </a:lnTo>
                <a:lnTo>
                  <a:pt x="192" y="98"/>
                </a:lnTo>
                <a:lnTo>
                  <a:pt x="200" y="101"/>
                </a:lnTo>
                <a:lnTo>
                  <a:pt x="205" y="108"/>
                </a:lnTo>
                <a:lnTo>
                  <a:pt x="212" y="109"/>
                </a:lnTo>
                <a:lnTo>
                  <a:pt x="219" y="104"/>
                </a:lnTo>
                <a:lnTo>
                  <a:pt x="225" y="104"/>
                </a:lnTo>
                <a:lnTo>
                  <a:pt x="234" y="105"/>
                </a:lnTo>
                <a:lnTo>
                  <a:pt x="236" y="108"/>
                </a:lnTo>
                <a:lnTo>
                  <a:pt x="239" y="101"/>
                </a:lnTo>
                <a:lnTo>
                  <a:pt x="239" y="100"/>
                </a:lnTo>
                <a:lnTo>
                  <a:pt x="269" y="128"/>
                </a:lnTo>
                <a:lnTo>
                  <a:pt x="288" y="169"/>
                </a:lnTo>
                <a:lnTo>
                  <a:pt x="305" y="209"/>
                </a:lnTo>
                <a:lnTo>
                  <a:pt x="325" y="257"/>
                </a:lnTo>
                <a:lnTo>
                  <a:pt x="334" y="286"/>
                </a:lnTo>
                <a:lnTo>
                  <a:pt x="333" y="340"/>
                </a:lnTo>
                <a:lnTo>
                  <a:pt x="320" y="359"/>
                </a:lnTo>
                <a:lnTo>
                  <a:pt x="306" y="376"/>
                </a:lnTo>
                <a:lnTo>
                  <a:pt x="288" y="400"/>
                </a:lnTo>
                <a:lnTo>
                  <a:pt x="265" y="434"/>
                </a:lnTo>
                <a:lnTo>
                  <a:pt x="225" y="491"/>
                </a:lnTo>
                <a:lnTo>
                  <a:pt x="213" y="499"/>
                </a:lnTo>
                <a:lnTo>
                  <a:pt x="184" y="522"/>
                </a:lnTo>
                <a:lnTo>
                  <a:pt x="171" y="543"/>
                </a:lnTo>
                <a:lnTo>
                  <a:pt x="153" y="571"/>
                </a:lnTo>
                <a:lnTo>
                  <a:pt x="148" y="595"/>
                </a:lnTo>
                <a:lnTo>
                  <a:pt x="148" y="606"/>
                </a:lnTo>
                <a:lnTo>
                  <a:pt x="144" y="609"/>
                </a:lnTo>
                <a:lnTo>
                  <a:pt x="133" y="606"/>
                </a:lnTo>
                <a:lnTo>
                  <a:pt x="130" y="595"/>
                </a:lnTo>
                <a:lnTo>
                  <a:pt x="126" y="583"/>
                </a:lnTo>
                <a:lnTo>
                  <a:pt x="126" y="567"/>
                </a:lnTo>
                <a:lnTo>
                  <a:pt x="128" y="553"/>
                </a:lnTo>
                <a:lnTo>
                  <a:pt x="128" y="538"/>
                </a:lnTo>
                <a:lnTo>
                  <a:pt x="125" y="532"/>
                </a:lnTo>
                <a:lnTo>
                  <a:pt x="113" y="526"/>
                </a:lnTo>
                <a:lnTo>
                  <a:pt x="102" y="522"/>
                </a:lnTo>
                <a:lnTo>
                  <a:pt x="90" y="515"/>
                </a:lnTo>
                <a:lnTo>
                  <a:pt x="62" y="482"/>
                </a:lnTo>
                <a:lnTo>
                  <a:pt x="37" y="443"/>
                </a:lnTo>
                <a:lnTo>
                  <a:pt x="37" y="432"/>
                </a:lnTo>
                <a:lnTo>
                  <a:pt x="26" y="419"/>
                </a:lnTo>
                <a:lnTo>
                  <a:pt x="18" y="405"/>
                </a:lnTo>
                <a:lnTo>
                  <a:pt x="8" y="394"/>
                </a:lnTo>
                <a:lnTo>
                  <a:pt x="8" y="381"/>
                </a:lnTo>
                <a:lnTo>
                  <a:pt x="8" y="377"/>
                </a:lnTo>
                <a:lnTo>
                  <a:pt x="0" y="373"/>
                </a:lnTo>
                <a:lnTo>
                  <a:pt x="0" y="368"/>
                </a:lnTo>
                <a:lnTo>
                  <a:pt x="0" y="358"/>
                </a:lnTo>
                <a:lnTo>
                  <a:pt x="0" y="351"/>
                </a:lnTo>
                <a:lnTo>
                  <a:pt x="23" y="341"/>
                </a:lnTo>
                <a:lnTo>
                  <a:pt x="24" y="338"/>
                </a:lnTo>
                <a:lnTo>
                  <a:pt x="25" y="336"/>
                </a:lnTo>
                <a:lnTo>
                  <a:pt x="24" y="323"/>
                </a:lnTo>
                <a:lnTo>
                  <a:pt x="24" y="317"/>
                </a:lnTo>
                <a:lnTo>
                  <a:pt x="38" y="315"/>
                </a:lnTo>
                <a:lnTo>
                  <a:pt x="46" y="307"/>
                </a:lnTo>
                <a:lnTo>
                  <a:pt x="48" y="305"/>
                </a:lnTo>
                <a:lnTo>
                  <a:pt x="55" y="291"/>
                </a:lnTo>
                <a:lnTo>
                  <a:pt x="75" y="260"/>
                </a:lnTo>
                <a:lnTo>
                  <a:pt x="86" y="253"/>
                </a:lnTo>
                <a:lnTo>
                  <a:pt x="92" y="246"/>
                </a:lnTo>
                <a:lnTo>
                  <a:pt x="96" y="246"/>
                </a:lnTo>
                <a:lnTo>
                  <a:pt x="102" y="238"/>
                </a:lnTo>
                <a:lnTo>
                  <a:pt x="107" y="222"/>
                </a:lnTo>
                <a:lnTo>
                  <a:pt x="86" y="201"/>
                </a:lnTo>
                <a:lnTo>
                  <a:pt x="71" y="187"/>
                </a:lnTo>
                <a:lnTo>
                  <a:pt x="62" y="174"/>
                </a:lnTo>
                <a:lnTo>
                  <a:pt x="55" y="164"/>
                </a:lnTo>
                <a:lnTo>
                  <a:pt x="49" y="164"/>
                </a:lnTo>
                <a:lnTo>
                  <a:pt x="40" y="165"/>
                </a:lnTo>
                <a:lnTo>
                  <a:pt x="34" y="164"/>
                </a:lnTo>
                <a:lnTo>
                  <a:pt x="34" y="155"/>
                </a:lnTo>
                <a:lnTo>
                  <a:pt x="34" y="140"/>
                </a:lnTo>
                <a:lnTo>
                  <a:pt x="34" y="117"/>
                </a:lnTo>
                <a:lnTo>
                  <a:pt x="31" y="112"/>
                </a:lnTo>
                <a:lnTo>
                  <a:pt x="24" y="106"/>
                </a:lnTo>
                <a:lnTo>
                  <a:pt x="18" y="101"/>
                </a:lnTo>
                <a:lnTo>
                  <a:pt x="17" y="101"/>
                </a:lnTo>
                <a:lnTo>
                  <a:pt x="15" y="100"/>
                </a:lnTo>
                <a:lnTo>
                  <a:pt x="30" y="65"/>
                </a:lnTo>
                <a:lnTo>
                  <a:pt x="35" y="52"/>
                </a:lnTo>
                <a:lnTo>
                  <a:pt x="39" y="25"/>
                </a:lnTo>
                <a:lnTo>
                  <a:pt x="40" y="18"/>
                </a:lnTo>
                <a:lnTo>
                  <a:pt x="40" y="13"/>
                </a:lnTo>
                <a:lnTo>
                  <a:pt x="38" y="3"/>
                </a:lnTo>
                <a:lnTo>
                  <a:pt x="37" y="0"/>
                </a:lnTo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Freeform 59"/>
          <p:cNvSpPr/>
          <p:nvPr/>
        </p:nvSpPr>
        <p:spPr>
          <a:xfrm>
            <a:off x="7978680" y="2986200"/>
            <a:ext cx="144720" cy="244440"/>
          </a:xfrm>
          <a:custGeom>
            <a:avLst/>
            <a:gdLst>
              <a:gd name="textAreaLeft" fmla="*/ 0 w 144720"/>
              <a:gd name="textAreaRight" fmla="*/ 145080 w 14472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83" h="335">
                <a:moveTo>
                  <a:pt x="35" y="0"/>
                </a:moveTo>
                <a:lnTo>
                  <a:pt x="23" y="5"/>
                </a:lnTo>
                <a:lnTo>
                  <a:pt x="13" y="16"/>
                </a:lnTo>
                <a:lnTo>
                  <a:pt x="0" y="35"/>
                </a:lnTo>
                <a:lnTo>
                  <a:pt x="65" y="335"/>
                </a:lnTo>
                <a:lnTo>
                  <a:pt x="183" y="326"/>
                </a:lnTo>
                <a:lnTo>
                  <a:pt x="178" y="291"/>
                </a:lnTo>
                <a:lnTo>
                  <a:pt x="164" y="278"/>
                </a:lnTo>
                <a:lnTo>
                  <a:pt x="155" y="269"/>
                </a:lnTo>
                <a:lnTo>
                  <a:pt x="135" y="247"/>
                </a:lnTo>
                <a:lnTo>
                  <a:pt x="127" y="233"/>
                </a:lnTo>
                <a:lnTo>
                  <a:pt x="120" y="216"/>
                </a:lnTo>
                <a:lnTo>
                  <a:pt x="99" y="185"/>
                </a:lnTo>
                <a:lnTo>
                  <a:pt x="86" y="165"/>
                </a:lnTo>
                <a:lnTo>
                  <a:pt x="81" y="125"/>
                </a:lnTo>
                <a:lnTo>
                  <a:pt x="60" y="100"/>
                </a:lnTo>
                <a:lnTo>
                  <a:pt x="56" y="84"/>
                </a:lnTo>
                <a:lnTo>
                  <a:pt x="42" y="64"/>
                </a:lnTo>
                <a:lnTo>
                  <a:pt x="42" y="51"/>
                </a:lnTo>
                <a:lnTo>
                  <a:pt x="42" y="47"/>
                </a:lnTo>
                <a:lnTo>
                  <a:pt x="42" y="34"/>
                </a:lnTo>
                <a:lnTo>
                  <a:pt x="42" y="31"/>
                </a:lnTo>
                <a:lnTo>
                  <a:pt x="35" y="28"/>
                </a:lnTo>
                <a:lnTo>
                  <a:pt x="34" y="21"/>
                </a:lnTo>
                <a:lnTo>
                  <a:pt x="34" y="5"/>
                </a:lnTo>
                <a:lnTo>
                  <a:pt x="3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Freeform 60"/>
          <p:cNvSpPr/>
          <p:nvPr/>
        </p:nvSpPr>
        <p:spPr>
          <a:xfrm>
            <a:off x="7412040" y="3011400"/>
            <a:ext cx="711360" cy="338400"/>
          </a:xfrm>
          <a:custGeom>
            <a:avLst/>
            <a:gdLst>
              <a:gd name="textAreaLeft" fmla="*/ 0 w 711360"/>
              <a:gd name="textAreaRight" fmla="*/ 711360 w 711360"/>
              <a:gd name="textAreaTop" fmla="*/ 0 h 338400"/>
              <a:gd name="textAreaBottom" fmla="*/ 338760 h 338400"/>
            </a:gdLst>
            <a:ahLst/>
            <a:rect l="textAreaLeft" t="textAreaTop" r="textAreaRight" b="textAreaBottom"/>
            <a:pathLst>
              <a:path w="907" h="463">
                <a:moveTo>
                  <a:pt x="0" y="156"/>
                </a:moveTo>
                <a:lnTo>
                  <a:pt x="724" y="0"/>
                </a:lnTo>
                <a:lnTo>
                  <a:pt x="789" y="300"/>
                </a:lnTo>
                <a:lnTo>
                  <a:pt x="907" y="291"/>
                </a:lnTo>
                <a:lnTo>
                  <a:pt x="902" y="349"/>
                </a:lnTo>
                <a:lnTo>
                  <a:pt x="897" y="374"/>
                </a:lnTo>
                <a:lnTo>
                  <a:pt x="897" y="386"/>
                </a:lnTo>
                <a:lnTo>
                  <a:pt x="891" y="393"/>
                </a:lnTo>
                <a:lnTo>
                  <a:pt x="890" y="398"/>
                </a:lnTo>
                <a:lnTo>
                  <a:pt x="884" y="410"/>
                </a:lnTo>
                <a:lnTo>
                  <a:pt x="886" y="428"/>
                </a:lnTo>
                <a:lnTo>
                  <a:pt x="886" y="433"/>
                </a:lnTo>
                <a:lnTo>
                  <a:pt x="884" y="444"/>
                </a:lnTo>
                <a:lnTo>
                  <a:pt x="812" y="463"/>
                </a:lnTo>
                <a:lnTo>
                  <a:pt x="810" y="434"/>
                </a:lnTo>
                <a:lnTo>
                  <a:pt x="799" y="419"/>
                </a:lnTo>
                <a:lnTo>
                  <a:pt x="788" y="409"/>
                </a:lnTo>
                <a:lnTo>
                  <a:pt x="784" y="403"/>
                </a:lnTo>
                <a:lnTo>
                  <a:pt x="781" y="401"/>
                </a:lnTo>
                <a:lnTo>
                  <a:pt x="781" y="382"/>
                </a:lnTo>
                <a:lnTo>
                  <a:pt x="781" y="364"/>
                </a:lnTo>
                <a:lnTo>
                  <a:pt x="786" y="355"/>
                </a:lnTo>
                <a:lnTo>
                  <a:pt x="798" y="341"/>
                </a:lnTo>
                <a:lnTo>
                  <a:pt x="786" y="328"/>
                </a:lnTo>
                <a:lnTo>
                  <a:pt x="771" y="305"/>
                </a:lnTo>
                <a:lnTo>
                  <a:pt x="754" y="283"/>
                </a:lnTo>
                <a:lnTo>
                  <a:pt x="721" y="265"/>
                </a:lnTo>
                <a:lnTo>
                  <a:pt x="708" y="230"/>
                </a:lnTo>
                <a:lnTo>
                  <a:pt x="694" y="221"/>
                </a:lnTo>
                <a:lnTo>
                  <a:pt x="694" y="207"/>
                </a:lnTo>
                <a:lnTo>
                  <a:pt x="704" y="198"/>
                </a:lnTo>
                <a:lnTo>
                  <a:pt x="682" y="186"/>
                </a:lnTo>
                <a:lnTo>
                  <a:pt x="671" y="167"/>
                </a:lnTo>
                <a:lnTo>
                  <a:pt x="670" y="135"/>
                </a:lnTo>
                <a:lnTo>
                  <a:pt x="659" y="109"/>
                </a:lnTo>
                <a:lnTo>
                  <a:pt x="661" y="100"/>
                </a:lnTo>
                <a:lnTo>
                  <a:pt x="666" y="84"/>
                </a:lnTo>
                <a:lnTo>
                  <a:pt x="664" y="71"/>
                </a:lnTo>
                <a:lnTo>
                  <a:pt x="660" y="57"/>
                </a:lnTo>
                <a:lnTo>
                  <a:pt x="659" y="44"/>
                </a:lnTo>
                <a:lnTo>
                  <a:pt x="639" y="25"/>
                </a:lnTo>
                <a:lnTo>
                  <a:pt x="636" y="32"/>
                </a:lnTo>
                <a:lnTo>
                  <a:pt x="630" y="44"/>
                </a:lnTo>
                <a:lnTo>
                  <a:pt x="615" y="80"/>
                </a:lnTo>
                <a:lnTo>
                  <a:pt x="618" y="109"/>
                </a:lnTo>
                <a:lnTo>
                  <a:pt x="624" y="132"/>
                </a:lnTo>
                <a:lnTo>
                  <a:pt x="613" y="133"/>
                </a:lnTo>
                <a:lnTo>
                  <a:pt x="602" y="138"/>
                </a:lnTo>
                <a:lnTo>
                  <a:pt x="619" y="155"/>
                </a:lnTo>
                <a:lnTo>
                  <a:pt x="638" y="184"/>
                </a:lnTo>
                <a:lnTo>
                  <a:pt x="630" y="190"/>
                </a:lnTo>
                <a:lnTo>
                  <a:pt x="619" y="207"/>
                </a:lnTo>
                <a:lnTo>
                  <a:pt x="637" y="215"/>
                </a:lnTo>
                <a:lnTo>
                  <a:pt x="648" y="228"/>
                </a:lnTo>
                <a:lnTo>
                  <a:pt x="646" y="241"/>
                </a:lnTo>
                <a:lnTo>
                  <a:pt x="652" y="264"/>
                </a:lnTo>
                <a:lnTo>
                  <a:pt x="661" y="289"/>
                </a:lnTo>
                <a:lnTo>
                  <a:pt x="671" y="310"/>
                </a:lnTo>
                <a:lnTo>
                  <a:pt x="694" y="328"/>
                </a:lnTo>
                <a:lnTo>
                  <a:pt x="706" y="343"/>
                </a:lnTo>
                <a:lnTo>
                  <a:pt x="708" y="357"/>
                </a:lnTo>
                <a:lnTo>
                  <a:pt x="692" y="347"/>
                </a:lnTo>
                <a:lnTo>
                  <a:pt x="666" y="340"/>
                </a:lnTo>
                <a:lnTo>
                  <a:pt x="628" y="330"/>
                </a:lnTo>
                <a:lnTo>
                  <a:pt x="611" y="329"/>
                </a:lnTo>
                <a:lnTo>
                  <a:pt x="604" y="328"/>
                </a:lnTo>
                <a:lnTo>
                  <a:pt x="599" y="324"/>
                </a:lnTo>
                <a:lnTo>
                  <a:pt x="593" y="321"/>
                </a:lnTo>
                <a:lnTo>
                  <a:pt x="586" y="313"/>
                </a:lnTo>
                <a:lnTo>
                  <a:pt x="586" y="309"/>
                </a:lnTo>
                <a:lnTo>
                  <a:pt x="586" y="307"/>
                </a:lnTo>
                <a:lnTo>
                  <a:pt x="599" y="302"/>
                </a:lnTo>
                <a:lnTo>
                  <a:pt x="604" y="299"/>
                </a:lnTo>
                <a:lnTo>
                  <a:pt x="604" y="294"/>
                </a:lnTo>
                <a:lnTo>
                  <a:pt x="589" y="279"/>
                </a:lnTo>
                <a:lnTo>
                  <a:pt x="580" y="269"/>
                </a:lnTo>
                <a:lnTo>
                  <a:pt x="562" y="262"/>
                </a:lnTo>
                <a:lnTo>
                  <a:pt x="549" y="262"/>
                </a:lnTo>
                <a:lnTo>
                  <a:pt x="539" y="264"/>
                </a:lnTo>
                <a:lnTo>
                  <a:pt x="535" y="268"/>
                </a:lnTo>
                <a:lnTo>
                  <a:pt x="526" y="282"/>
                </a:lnTo>
                <a:lnTo>
                  <a:pt x="508" y="310"/>
                </a:lnTo>
                <a:lnTo>
                  <a:pt x="365" y="213"/>
                </a:lnTo>
                <a:lnTo>
                  <a:pt x="350" y="206"/>
                </a:lnTo>
                <a:lnTo>
                  <a:pt x="320" y="194"/>
                </a:lnTo>
                <a:lnTo>
                  <a:pt x="300" y="190"/>
                </a:lnTo>
                <a:lnTo>
                  <a:pt x="288" y="189"/>
                </a:lnTo>
                <a:lnTo>
                  <a:pt x="283" y="178"/>
                </a:lnTo>
                <a:lnTo>
                  <a:pt x="277" y="169"/>
                </a:lnTo>
                <a:lnTo>
                  <a:pt x="259" y="169"/>
                </a:lnTo>
                <a:lnTo>
                  <a:pt x="251" y="163"/>
                </a:lnTo>
                <a:lnTo>
                  <a:pt x="251" y="154"/>
                </a:lnTo>
                <a:lnTo>
                  <a:pt x="242" y="146"/>
                </a:lnTo>
                <a:lnTo>
                  <a:pt x="225" y="144"/>
                </a:lnTo>
                <a:lnTo>
                  <a:pt x="214" y="143"/>
                </a:lnTo>
                <a:lnTo>
                  <a:pt x="208" y="141"/>
                </a:lnTo>
                <a:lnTo>
                  <a:pt x="204" y="135"/>
                </a:lnTo>
                <a:lnTo>
                  <a:pt x="189" y="133"/>
                </a:lnTo>
                <a:lnTo>
                  <a:pt x="174" y="133"/>
                </a:lnTo>
                <a:lnTo>
                  <a:pt x="163" y="141"/>
                </a:lnTo>
                <a:lnTo>
                  <a:pt x="161" y="153"/>
                </a:lnTo>
                <a:lnTo>
                  <a:pt x="155" y="160"/>
                </a:lnTo>
                <a:lnTo>
                  <a:pt x="147" y="161"/>
                </a:lnTo>
                <a:lnTo>
                  <a:pt x="141" y="166"/>
                </a:lnTo>
                <a:lnTo>
                  <a:pt x="141" y="173"/>
                </a:lnTo>
                <a:lnTo>
                  <a:pt x="139" y="183"/>
                </a:lnTo>
                <a:lnTo>
                  <a:pt x="124" y="190"/>
                </a:lnTo>
                <a:lnTo>
                  <a:pt x="121" y="199"/>
                </a:lnTo>
                <a:lnTo>
                  <a:pt x="113" y="204"/>
                </a:lnTo>
                <a:lnTo>
                  <a:pt x="102" y="204"/>
                </a:lnTo>
                <a:lnTo>
                  <a:pt x="95" y="198"/>
                </a:lnTo>
                <a:lnTo>
                  <a:pt x="87" y="198"/>
                </a:lnTo>
                <a:lnTo>
                  <a:pt x="84" y="213"/>
                </a:lnTo>
                <a:lnTo>
                  <a:pt x="85" y="227"/>
                </a:lnTo>
                <a:lnTo>
                  <a:pt x="71" y="237"/>
                </a:lnTo>
                <a:lnTo>
                  <a:pt x="56" y="257"/>
                </a:lnTo>
                <a:lnTo>
                  <a:pt x="55" y="264"/>
                </a:lnTo>
                <a:lnTo>
                  <a:pt x="49" y="279"/>
                </a:lnTo>
                <a:lnTo>
                  <a:pt x="34" y="299"/>
                </a:lnTo>
                <a:lnTo>
                  <a:pt x="1" y="328"/>
                </a:lnTo>
                <a:lnTo>
                  <a:pt x="0" y="156"/>
                </a:lnTo>
              </a:path>
            </a:pathLst>
          </a:custGeom>
          <a:solidFill>
            <a:srgbClr val="00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Freeform 61"/>
          <p:cNvSpPr/>
          <p:nvPr/>
        </p:nvSpPr>
        <p:spPr>
          <a:xfrm>
            <a:off x="8050320" y="3335400"/>
            <a:ext cx="54000" cy="131760"/>
          </a:xfrm>
          <a:custGeom>
            <a:avLst/>
            <a:gdLst>
              <a:gd name="textAreaLeft" fmla="*/ 0 w 54000"/>
              <a:gd name="textAreaRight" fmla="*/ 54360 w 540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70" h="180">
                <a:moveTo>
                  <a:pt x="0" y="18"/>
                </a:moveTo>
                <a:lnTo>
                  <a:pt x="5" y="71"/>
                </a:lnTo>
                <a:lnTo>
                  <a:pt x="17" y="142"/>
                </a:lnTo>
                <a:lnTo>
                  <a:pt x="29" y="166"/>
                </a:lnTo>
                <a:lnTo>
                  <a:pt x="34" y="180"/>
                </a:lnTo>
                <a:lnTo>
                  <a:pt x="46" y="172"/>
                </a:lnTo>
                <a:lnTo>
                  <a:pt x="48" y="161"/>
                </a:lnTo>
                <a:lnTo>
                  <a:pt x="60" y="143"/>
                </a:lnTo>
                <a:lnTo>
                  <a:pt x="70" y="131"/>
                </a:lnTo>
                <a:lnTo>
                  <a:pt x="70" y="104"/>
                </a:lnTo>
                <a:lnTo>
                  <a:pt x="70" y="59"/>
                </a:lnTo>
                <a:lnTo>
                  <a:pt x="70" y="9"/>
                </a:lnTo>
                <a:lnTo>
                  <a:pt x="70" y="0"/>
                </a:lnTo>
                <a:lnTo>
                  <a:pt x="0" y="18"/>
                </a:lnTo>
              </a:path>
            </a:pathLst>
          </a:custGeom>
          <a:solidFill>
            <a:srgbClr val="00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Freeform 62"/>
          <p:cNvSpPr/>
          <p:nvPr/>
        </p:nvSpPr>
        <p:spPr>
          <a:xfrm>
            <a:off x="6940440" y="2970360"/>
            <a:ext cx="757440" cy="728640"/>
          </a:xfrm>
          <a:custGeom>
            <a:avLst/>
            <a:gdLst>
              <a:gd name="textAreaLeft" fmla="*/ 0 w 757440"/>
              <a:gd name="textAreaRight" fmla="*/ 757800 w 7574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964" h="997">
                <a:moveTo>
                  <a:pt x="348" y="0"/>
                </a:moveTo>
                <a:lnTo>
                  <a:pt x="390" y="258"/>
                </a:lnTo>
                <a:lnTo>
                  <a:pt x="598" y="213"/>
                </a:lnTo>
                <a:lnTo>
                  <a:pt x="601" y="385"/>
                </a:lnTo>
                <a:lnTo>
                  <a:pt x="619" y="370"/>
                </a:lnTo>
                <a:lnTo>
                  <a:pt x="633" y="357"/>
                </a:lnTo>
                <a:lnTo>
                  <a:pt x="648" y="333"/>
                </a:lnTo>
                <a:lnTo>
                  <a:pt x="655" y="315"/>
                </a:lnTo>
                <a:lnTo>
                  <a:pt x="666" y="295"/>
                </a:lnTo>
                <a:lnTo>
                  <a:pt x="668" y="293"/>
                </a:lnTo>
                <a:lnTo>
                  <a:pt x="677" y="287"/>
                </a:lnTo>
                <a:lnTo>
                  <a:pt x="681" y="287"/>
                </a:lnTo>
                <a:lnTo>
                  <a:pt x="683" y="266"/>
                </a:lnTo>
                <a:lnTo>
                  <a:pt x="687" y="260"/>
                </a:lnTo>
                <a:lnTo>
                  <a:pt x="689" y="256"/>
                </a:lnTo>
                <a:lnTo>
                  <a:pt x="693" y="256"/>
                </a:lnTo>
                <a:lnTo>
                  <a:pt x="706" y="260"/>
                </a:lnTo>
                <a:lnTo>
                  <a:pt x="712" y="260"/>
                </a:lnTo>
                <a:lnTo>
                  <a:pt x="717" y="260"/>
                </a:lnTo>
                <a:lnTo>
                  <a:pt x="721" y="253"/>
                </a:lnTo>
                <a:lnTo>
                  <a:pt x="727" y="245"/>
                </a:lnTo>
                <a:lnTo>
                  <a:pt x="735" y="240"/>
                </a:lnTo>
                <a:lnTo>
                  <a:pt x="737" y="240"/>
                </a:lnTo>
                <a:lnTo>
                  <a:pt x="740" y="231"/>
                </a:lnTo>
                <a:lnTo>
                  <a:pt x="740" y="223"/>
                </a:lnTo>
                <a:lnTo>
                  <a:pt x="745" y="220"/>
                </a:lnTo>
                <a:lnTo>
                  <a:pt x="754" y="216"/>
                </a:lnTo>
                <a:lnTo>
                  <a:pt x="755" y="212"/>
                </a:lnTo>
                <a:lnTo>
                  <a:pt x="763" y="202"/>
                </a:lnTo>
                <a:lnTo>
                  <a:pt x="763" y="195"/>
                </a:lnTo>
                <a:lnTo>
                  <a:pt x="774" y="192"/>
                </a:lnTo>
                <a:lnTo>
                  <a:pt x="784" y="189"/>
                </a:lnTo>
                <a:lnTo>
                  <a:pt x="796" y="189"/>
                </a:lnTo>
                <a:lnTo>
                  <a:pt x="807" y="195"/>
                </a:lnTo>
                <a:lnTo>
                  <a:pt x="813" y="201"/>
                </a:lnTo>
                <a:lnTo>
                  <a:pt x="821" y="200"/>
                </a:lnTo>
                <a:lnTo>
                  <a:pt x="838" y="204"/>
                </a:lnTo>
                <a:lnTo>
                  <a:pt x="846" y="208"/>
                </a:lnTo>
                <a:lnTo>
                  <a:pt x="850" y="211"/>
                </a:lnTo>
                <a:lnTo>
                  <a:pt x="856" y="220"/>
                </a:lnTo>
                <a:lnTo>
                  <a:pt x="856" y="223"/>
                </a:lnTo>
                <a:lnTo>
                  <a:pt x="864" y="226"/>
                </a:lnTo>
                <a:lnTo>
                  <a:pt x="876" y="226"/>
                </a:lnTo>
                <a:lnTo>
                  <a:pt x="879" y="231"/>
                </a:lnTo>
                <a:lnTo>
                  <a:pt x="888" y="245"/>
                </a:lnTo>
                <a:lnTo>
                  <a:pt x="896" y="247"/>
                </a:lnTo>
                <a:lnTo>
                  <a:pt x="927" y="253"/>
                </a:lnTo>
                <a:lnTo>
                  <a:pt x="944" y="265"/>
                </a:lnTo>
                <a:lnTo>
                  <a:pt x="964" y="270"/>
                </a:lnTo>
                <a:lnTo>
                  <a:pt x="959" y="278"/>
                </a:lnTo>
                <a:lnTo>
                  <a:pt x="945" y="311"/>
                </a:lnTo>
                <a:lnTo>
                  <a:pt x="933" y="318"/>
                </a:lnTo>
                <a:lnTo>
                  <a:pt x="907" y="340"/>
                </a:lnTo>
                <a:lnTo>
                  <a:pt x="879" y="386"/>
                </a:lnTo>
                <a:lnTo>
                  <a:pt x="867" y="392"/>
                </a:lnTo>
                <a:lnTo>
                  <a:pt x="846" y="407"/>
                </a:lnTo>
                <a:lnTo>
                  <a:pt x="841" y="419"/>
                </a:lnTo>
                <a:lnTo>
                  <a:pt x="814" y="469"/>
                </a:lnTo>
                <a:lnTo>
                  <a:pt x="811" y="476"/>
                </a:lnTo>
                <a:lnTo>
                  <a:pt x="799" y="472"/>
                </a:lnTo>
                <a:lnTo>
                  <a:pt x="786" y="466"/>
                </a:lnTo>
                <a:lnTo>
                  <a:pt x="781" y="466"/>
                </a:lnTo>
                <a:lnTo>
                  <a:pt x="775" y="480"/>
                </a:lnTo>
                <a:lnTo>
                  <a:pt x="769" y="489"/>
                </a:lnTo>
                <a:lnTo>
                  <a:pt x="746" y="551"/>
                </a:lnTo>
                <a:lnTo>
                  <a:pt x="729" y="586"/>
                </a:lnTo>
                <a:lnTo>
                  <a:pt x="721" y="601"/>
                </a:lnTo>
                <a:lnTo>
                  <a:pt x="716" y="602"/>
                </a:lnTo>
                <a:lnTo>
                  <a:pt x="699" y="601"/>
                </a:lnTo>
                <a:lnTo>
                  <a:pt x="689" y="590"/>
                </a:lnTo>
                <a:lnTo>
                  <a:pt x="674" y="559"/>
                </a:lnTo>
                <a:lnTo>
                  <a:pt x="663" y="541"/>
                </a:lnTo>
                <a:lnTo>
                  <a:pt x="656" y="531"/>
                </a:lnTo>
                <a:lnTo>
                  <a:pt x="640" y="537"/>
                </a:lnTo>
                <a:lnTo>
                  <a:pt x="639" y="559"/>
                </a:lnTo>
                <a:lnTo>
                  <a:pt x="628" y="583"/>
                </a:lnTo>
                <a:lnTo>
                  <a:pt x="625" y="637"/>
                </a:lnTo>
                <a:lnTo>
                  <a:pt x="616" y="672"/>
                </a:lnTo>
                <a:lnTo>
                  <a:pt x="596" y="698"/>
                </a:lnTo>
                <a:lnTo>
                  <a:pt x="577" y="737"/>
                </a:lnTo>
                <a:lnTo>
                  <a:pt x="565" y="757"/>
                </a:lnTo>
                <a:lnTo>
                  <a:pt x="560" y="778"/>
                </a:lnTo>
                <a:lnTo>
                  <a:pt x="557" y="795"/>
                </a:lnTo>
                <a:lnTo>
                  <a:pt x="557" y="809"/>
                </a:lnTo>
                <a:lnTo>
                  <a:pt x="566" y="814"/>
                </a:lnTo>
                <a:lnTo>
                  <a:pt x="583" y="829"/>
                </a:lnTo>
                <a:lnTo>
                  <a:pt x="578" y="840"/>
                </a:lnTo>
                <a:lnTo>
                  <a:pt x="533" y="877"/>
                </a:lnTo>
                <a:lnTo>
                  <a:pt x="501" y="899"/>
                </a:lnTo>
                <a:lnTo>
                  <a:pt x="475" y="907"/>
                </a:lnTo>
                <a:lnTo>
                  <a:pt x="454" y="904"/>
                </a:lnTo>
                <a:lnTo>
                  <a:pt x="435" y="900"/>
                </a:lnTo>
                <a:lnTo>
                  <a:pt x="429" y="900"/>
                </a:lnTo>
                <a:lnTo>
                  <a:pt x="424" y="908"/>
                </a:lnTo>
                <a:lnTo>
                  <a:pt x="412" y="928"/>
                </a:lnTo>
                <a:lnTo>
                  <a:pt x="404" y="939"/>
                </a:lnTo>
                <a:lnTo>
                  <a:pt x="360" y="962"/>
                </a:lnTo>
                <a:lnTo>
                  <a:pt x="331" y="978"/>
                </a:lnTo>
                <a:lnTo>
                  <a:pt x="303" y="970"/>
                </a:lnTo>
                <a:lnTo>
                  <a:pt x="283" y="967"/>
                </a:lnTo>
                <a:lnTo>
                  <a:pt x="278" y="967"/>
                </a:lnTo>
                <a:lnTo>
                  <a:pt x="264" y="974"/>
                </a:lnTo>
                <a:lnTo>
                  <a:pt x="245" y="983"/>
                </a:lnTo>
                <a:lnTo>
                  <a:pt x="226" y="997"/>
                </a:lnTo>
                <a:lnTo>
                  <a:pt x="208" y="997"/>
                </a:lnTo>
                <a:lnTo>
                  <a:pt x="190" y="988"/>
                </a:lnTo>
                <a:lnTo>
                  <a:pt x="177" y="966"/>
                </a:lnTo>
                <a:lnTo>
                  <a:pt x="171" y="960"/>
                </a:lnTo>
                <a:lnTo>
                  <a:pt x="160" y="953"/>
                </a:lnTo>
                <a:lnTo>
                  <a:pt x="147" y="920"/>
                </a:lnTo>
                <a:lnTo>
                  <a:pt x="144" y="886"/>
                </a:lnTo>
                <a:lnTo>
                  <a:pt x="131" y="861"/>
                </a:lnTo>
                <a:lnTo>
                  <a:pt x="107" y="809"/>
                </a:lnTo>
                <a:lnTo>
                  <a:pt x="107" y="802"/>
                </a:lnTo>
                <a:lnTo>
                  <a:pt x="94" y="786"/>
                </a:lnTo>
                <a:lnTo>
                  <a:pt x="90" y="777"/>
                </a:lnTo>
                <a:lnTo>
                  <a:pt x="90" y="762"/>
                </a:lnTo>
                <a:lnTo>
                  <a:pt x="72" y="749"/>
                </a:lnTo>
                <a:lnTo>
                  <a:pt x="57" y="737"/>
                </a:lnTo>
                <a:lnTo>
                  <a:pt x="40" y="725"/>
                </a:lnTo>
                <a:lnTo>
                  <a:pt x="38" y="717"/>
                </a:lnTo>
                <a:lnTo>
                  <a:pt x="38" y="708"/>
                </a:lnTo>
                <a:lnTo>
                  <a:pt x="23" y="697"/>
                </a:lnTo>
                <a:lnTo>
                  <a:pt x="15" y="692"/>
                </a:lnTo>
                <a:lnTo>
                  <a:pt x="0" y="682"/>
                </a:lnTo>
                <a:lnTo>
                  <a:pt x="20" y="673"/>
                </a:lnTo>
                <a:lnTo>
                  <a:pt x="35" y="666"/>
                </a:lnTo>
                <a:lnTo>
                  <a:pt x="41" y="657"/>
                </a:lnTo>
                <a:lnTo>
                  <a:pt x="47" y="648"/>
                </a:lnTo>
                <a:lnTo>
                  <a:pt x="52" y="634"/>
                </a:lnTo>
                <a:lnTo>
                  <a:pt x="60" y="628"/>
                </a:lnTo>
                <a:lnTo>
                  <a:pt x="65" y="620"/>
                </a:lnTo>
                <a:lnTo>
                  <a:pt x="71" y="612"/>
                </a:lnTo>
                <a:lnTo>
                  <a:pt x="65" y="612"/>
                </a:lnTo>
                <a:lnTo>
                  <a:pt x="61" y="603"/>
                </a:lnTo>
                <a:lnTo>
                  <a:pt x="61" y="592"/>
                </a:lnTo>
                <a:lnTo>
                  <a:pt x="68" y="576"/>
                </a:lnTo>
                <a:lnTo>
                  <a:pt x="78" y="574"/>
                </a:lnTo>
                <a:lnTo>
                  <a:pt x="86" y="574"/>
                </a:lnTo>
                <a:lnTo>
                  <a:pt x="93" y="582"/>
                </a:lnTo>
                <a:lnTo>
                  <a:pt x="93" y="596"/>
                </a:lnTo>
                <a:lnTo>
                  <a:pt x="100" y="604"/>
                </a:lnTo>
                <a:lnTo>
                  <a:pt x="103" y="604"/>
                </a:lnTo>
                <a:lnTo>
                  <a:pt x="103" y="595"/>
                </a:lnTo>
                <a:lnTo>
                  <a:pt x="103" y="591"/>
                </a:lnTo>
                <a:lnTo>
                  <a:pt x="113" y="591"/>
                </a:lnTo>
                <a:lnTo>
                  <a:pt x="124" y="591"/>
                </a:lnTo>
                <a:lnTo>
                  <a:pt x="126" y="589"/>
                </a:lnTo>
                <a:lnTo>
                  <a:pt x="121" y="578"/>
                </a:lnTo>
                <a:lnTo>
                  <a:pt x="106" y="561"/>
                </a:lnTo>
                <a:lnTo>
                  <a:pt x="102" y="551"/>
                </a:lnTo>
                <a:lnTo>
                  <a:pt x="102" y="543"/>
                </a:lnTo>
                <a:lnTo>
                  <a:pt x="110" y="534"/>
                </a:lnTo>
                <a:lnTo>
                  <a:pt x="124" y="530"/>
                </a:lnTo>
                <a:lnTo>
                  <a:pt x="131" y="530"/>
                </a:lnTo>
                <a:lnTo>
                  <a:pt x="141" y="527"/>
                </a:lnTo>
                <a:lnTo>
                  <a:pt x="141" y="516"/>
                </a:lnTo>
                <a:lnTo>
                  <a:pt x="136" y="497"/>
                </a:lnTo>
                <a:lnTo>
                  <a:pt x="136" y="491"/>
                </a:lnTo>
                <a:lnTo>
                  <a:pt x="144" y="472"/>
                </a:lnTo>
                <a:lnTo>
                  <a:pt x="170" y="429"/>
                </a:lnTo>
                <a:lnTo>
                  <a:pt x="186" y="416"/>
                </a:lnTo>
                <a:lnTo>
                  <a:pt x="199" y="412"/>
                </a:lnTo>
                <a:lnTo>
                  <a:pt x="216" y="408"/>
                </a:lnTo>
                <a:lnTo>
                  <a:pt x="231" y="407"/>
                </a:lnTo>
                <a:lnTo>
                  <a:pt x="238" y="402"/>
                </a:lnTo>
                <a:lnTo>
                  <a:pt x="242" y="392"/>
                </a:lnTo>
                <a:lnTo>
                  <a:pt x="245" y="376"/>
                </a:lnTo>
                <a:lnTo>
                  <a:pt x="237" y="352"/>
                </a:lnTo>
                <a:lnTo>
                  <a:pt x="244" y="334"/>
                </a:lnTo>
                <a:lnTo>
                  <a:pt x="251" y="330"/>
                </a:lnTo>
                <a:lnTo>
                  <a:pt x="255" y="322"/>
                </a:lnTo>
                <a:lnTo>
                  <a:pt x="300" y="208"/>
                </a:lnTo>
                <a:lnTo>
                  <a:pt x="318" y="150"/>
                </a:lnTo>
                <a:lnTo>
                  <a:pt x="321" y="133"/>
                </a:lnTo>
                <a:lnTo>
                  <a:pt x="318" y="118"/>
                </a:lnTo>
                <a:lnTo>
                  <a:pt x="325" y="101"/>
                </a:lnTo>
                <a:lnTo>
                  <a:pt x="329" y="91"/>
                </a:lnTo>
                <a:lnTo>
                  <a:pt x="326" y="80"/>
                </a:lnTo>
                <a:lnTo>
                  <a:pt x="323" y="69"/>
                </a:lnTo>
                <a:lnTo>
                  <a:pt x="317" y="57"/>
                </a:lnTo>
                <a:lnTo>
                  <a:pt x="311" y="56"/>
                </a:lnTo>
                <a:lnTo>
                  <a:pt x="308" y="52"/>
                </a:lnTo>
                <a:lnTo>
                  <a:pt x="305" y="43"/>
                </a:lnTo>
                <a:lnTo>
                  <a:pt x="305" y="34"/>
                </a:lnTo>
                <a:lnTo>
                  <a:pt x="312" y="22"/>
                </a:lnTo>
                <a:lnTo>
                  <a:pt x="329" y="12"/>
                </a:lnTo>
                <a:lnTo>
                  <a:pt x="340" y="0"/>
                </a:lnTo>
                <a:lnTo>
                  <a:pt x="34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Freeform 63"/>
          <p:cNvSpPr/>
          <p:nvPr/>
        </p:nvSpPr>
        <p:spPr>
          <a:xfrm>
            <a:off x="6004080" y="421812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7625" h="7">
                <a:moveTo>
                  <a:pt x="0" y="7"/>
                </a:moveTo>
                <a:lnTo>
                  <a:pt x="0" y="7"/>
                </a:lnTo>
                <a:lnTo>
                  <a:pt x="0" y="6"/>
                </a:lnTo>
                <a:lnTo>
                  <a:pt x="0" y="3"/>
                </a:lnTo>
                <a:lnTo>
                  <a:pt x="0" y="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Freeform 64"/>
          <p:cNvSpPr/>
          <p:nvPr/>
        </p:nvSpPr>
        <p:spPr>
          <a:xfrm>
            <a:off x="8788320" y="205272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7625" h="7">
                <a:moveTo>
                  <a:pt x="0" y="7"/>
                </a:moveTo>
                <a:lnTo>
                  <a:pt x="0" y="7"/>
                </a:lnTo>
                <a:lnTo>
                  <a:pt x="0" y="6"/>
                </a:lnTo>
                <a:lnTo>
                  <a:pt x="0" y="3"/>
                </a:lnTo>
                <a:lnTo>
                  <a:pt x="0" y="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Freeform 65"/>
          <p:cNvSpPr/>
          <p:nvPr/>
        </p:nvSpPr>
        <p:spPr>
          <a:xfrm>
            <a:off x="8418600" y="198288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7625" h="7">
                <a:moveTo>
                  <a:pt x="0" y="7"/>
                </a:moveTo>
                <a:lnTo>
                  <a:pt x="0" y="7"/>
                </a:lnTo>
                <a:lnTo>
                  <a:pt x="0" y="6"/>
                </a:lnTo>
                <a:lnTo>
                  <a:pt x="0" y="4"/>
                </a:lnTo>
                <a:lnTo>
                  <a:pt x="0" y="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Freeform 66"/>
          <p:cNvSpPr/>
          <p:nvPr/>
        </p:nvSpPr>
        <p:spPr>
          <a:xfrm>
            <a:off x="8383680" y="233208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7625" h="6">
                <a:moveTo>
                  <a:pt x="0" y="6"/>
                </a:moveTo>
                <a:lnTo>
                  <a:pt x="0" y="6"/>
                </a:lnTo>
                <a:lnTo>
                  <a:pt x="0" y="5"/>
                </a:lnTo>
                <a:lnTo>
                  <a:pt x="0" y="3"/>
                </a:lnTo>
                <a:lnTo>
                  <a:pt x="0" y="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Freeform 67"/>
          <p:cNvSpPr/>
          <p:nvPr/>
        </p:nvSpPr>
        <p:spPr>
          <a:xfrm>
            <a:off x="8609040" y="233676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7625" h="7">
                <a:moveTo>
                  <a:pt x="0" y="7"/>
                </a:moveTo>
                <a:lnTo>
                  <a:pt x="0" y="7"/>
                </a:lnTo>
                <a:lnTo>
                  <a:pt x="0" y="6"/>
                </a:lnTo>
                <a:lnTo>
                  <a:pt x="0" y="3"/>
                </a:lnTo>
                <a:lnTo>
                  <a:pt x="0" y="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Freeform 68"/>
          <p:cNvSpPr/>
          <p:nvPr/>
        </p:nvSpPr>
        <p:spPr>
          <a:xfrm>
            <a:off x="8113680" y="276552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6037" h="7">
                <a:moveTo>
                  <a:pt x="0" y="7"/>
                </a:moveTo>
                <a:lnTo>
                  <a:pt x="0" y="7"/>
                </a:lnTo>
                <a:lnTo>
                  <a:pt x="0" y="6"/>
                </a:lnTo>
                <a:lnTo>
                  <a:pt x="0" y="4"/>
                </a:lnTo>
                <a:lnTo>
                  <a:pt x="0" y="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Freeform 69"/>
          <p:cNvSpPr/>
          <p:nvPr/>
        </p:nvSpPr>
        <p:spPr>
          <a:xfrm>
            <a:off x="8169120" y="276552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7625" h="7">
                <a:moveTo>
                  <a:pt x="0" y="7"/>
                </a:moveTo>
                <a:lnTo>
                  <a:pt x="0" y="7"/>
                </a:lnTo>
                <a:lnTo>
                  <a:pt x="0" y="6"/>
                </a:lnTo>
                <a:lnTo>
                  <a:pt x="0" y="4"/>
                </a:lnTo>
                <a:lnTo>
                  <a:pt x="0" y="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Freeform 70"/>
          <p:cNvSpPr/>
          <p:nvPr/>
        </p:nvSpPr>
        <p:spPr>
          <a:xfrm>
            <a:off x="7174080" y="309564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7625" h="7">
                <a:moveTo>
                  <a:pt x="0" y="7"/>
                </a:moveTo>
                <a:lnTo>
                  <a:pt x="0" y="7"/>
                </a:lnTo>
                <a:lnTo>
                  <a:pt x="0" y="5"/>
                </a:lnTo>
                <a:lnTo>
                  <a:pt x="0" y="3"/>
                </a:lnTo>
                <a:lnTo>
                  <a:pt x="0" y="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Freeform 71"/>
          <p:cNvSpPr/>
          <p:nvPr/>
        </p:nvSpPr>
        <p:spPr>
          <a:xfrm>
            <a:off x="7308720" y="309564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6038" h="7">
                <a:moveTo>
                  <a:pt x="0" y="7"/>
                </a:moveTo>
                <a:lnTo>
                  <a:pt x="0" y="7"/>
                </a:lnTo>
                <a:lnTo>
                  <a:pt x="0" y="5"/>
                </a:lnTo>
                <a:lnTo>
                  <a:pt x="0" y="3"/>
                </a:lnTo>
                <a:lnTo>
                  <a:pt x="0" y="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Oval 72"/>
          <p:cNvSpPr/>
          <p:nvPr/>
        </p:nvSpPr>
        <p:spPr>
          <a:xfrm flipH="1">
            <a:off x="4985640" y="5710320"/>
            <a:ext cx="165240" cy="152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Oval 73"/>
          <p:cNvSpPr/>
          <p:nvPr/>
        </p:nvSpPr>
        <p:spPr>
          <a:xfrm>
            <a:off x="5056200" y="6124680"/>
            <a:ext cx="163440" cy="1508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xt Box 74"/>
          <p:cNvSpPr/>
          <p:nvPr/>
        </p:nvSpPr>
        <p:spPr>
          <a:xfrm>
            <a:off x="5194440" y="6053040"/>
            <a:ext cx="3011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Lucida Sans Unicode"/>
              </a:rPr>
              <a:t>Over 30 Fortune 1000 Cos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75"/>
          <p:cNvSpPr/>
          <p:nvPr/>
        </p:nvSpPr>
        <p:spPr>
          <a:xfrm>
            <a:off x="5194440" y="5779800"/>
            <a:ext cx="2346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Lucida Sans Unicode"/>
              </a:rPr>
              <a:t>21 - 30 Fortune 1000 Cos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AutoShape 76"/>
          <p:cNvSpPr/>
          <p:nvPr/>
        </p:nvSpPr>
        <p:spPr>
          <a:xfrm>
            <a:off x="5000760" y="5880240"/>
            <a:ext cx="207720" cy="195120"/>
          </a:xfrm>
          <a:prstGeom prst="flowChartConnector">
            <a:avLst/>
          </a:prstGeom>
          <a:solidFill>
            <a:srgbClr val="ff6600"/>
          </a:solidFill>
          <a:ln w="9360">
            <a:solidFill>
              <a:srgbClr val="99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3520" rIns="83520" tIns="41760" bIns="4176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77"/>
          <p:cNvSpPr/>
          <p:nvPr/>
        </p:nvSpPr>
        <p:spPr>
          <a:xfrm>
            <a:off x="5124600" y="5573160"/>
            <a:ext cx="2350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Lucida Sans Unicode"/>
              </a:rPr>
              <a:t>10 - 20 Fortune 1000 Cos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Text Box 78"/>
          <p:cNvSpPr/>
          <p:nvPr/>
        </p:nvSpPr>
        <p:spPr>
          <a:xfrm>
            <a:off x="626760" y="322416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ext Box 79"/>
          <p:cNvSpPr/>
          <p:nvPr/>
        </p:nvSpPr>
        <p:spPr>
          <a:xfrm>
            <a:off x="3880440" y="4776840"/>
            <a:ext cx="608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11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ext Box 80"/>
          <p:cNvSpPr/>
          <p:nvPr/>
        </p:nvSpPr>
        <p:spPr>
          <a:xfrm>
            <a:off x="5638680" y="307188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5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Text Box 81"/>
          <p:cNvSpPr/>
          <p:nvPr/>
        </p:nvSpPr>
        <p:spPr>
          <a:xfrm>
            <a:off x="7620120" y="223344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9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Text Box 82"/>
          <p:cNvSpPr/>
          <p:nvPr/>
        </p:nvSpPr>
        <p:spPr>
          <a:xfrm>
            <a:off x="3049560" y="332892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xt Box 83"/>
          <p:cNvSpPr/>
          <p:nvPr/>
        </p:nvSpPr>
        <p:spPr>
          <a:xfrm>
            <a:off x="5105520" y="342900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Text Box 84"/>
          <p:cNvSpPr/>
          <p:nvPr/>
        </p:nvSpPr>
        <p:spPr>
          <a:xfrm>
            <a:off x="4802040" y="190512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3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Text Box 85"/>
          <p:cNvSpPr/>
          <p:nvPr/>
        </p:nvSpPr>
        <p:spPr>
          <a:xfrm>
            <a:off x="7162920" y="510552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3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ext Box 86"/>
          <p:cNvSpPr/>
          <p:nvPr/>
        </p:nvSpPr>
        <p:spPr>
          <a:xfrm>
            <a:off x="6746760" y="436716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Text Box 87"/>
          <p:cNvSpPr/>
          <p:nvPr/>
        </p:nvSpPr>
        <p:spPr>
          <a:xfrm>
            <a:off x="7468920" y="373392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2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 Box 88"/>
          <p:cNvSpPr/>
          <p:nvPr/>
        </p:nvSpPr>
        <p:spPr>
          <a:xfrm>
            <a:off x="7467480" y="327672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3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Text Box 89"/>
          <p:cNvSpPr/>
          <p:nvPr/>
        </p:nvSpPr>
        <p:spPr>
          <a:xfrm>
            <a:off x="6248520" y="243828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3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Text Box 90"/>
          <p:cNvSpPr/>
          <p:nvPr/>
        </p:nvSpPr>
        <p:spPr>
          <a:xfrm>
            <a:off x="6630840" y="289548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6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Text Box 91"/>
          <p:cNvSpPr/>
          <p:nvPr/>
        </p:nvSpPr>
        <p:spPr>
          <a:xfrm>
            <a:off x="7421400" y="266544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5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xt Box 92"/>
          <p:cNvSpPr/>
          <p:nvPr/>
        </p:nvSpPr>
        <p:spPr>
          <a:xfrm>
            <a:off x="8167680" y="315288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"/>
                <a:ea typeface="Lucida Sans Unicode"/>
              </a:rPr>
              <a:t>4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Text Box 93"/>
          <p:cNvSpPr/>
          <p:nvPr/>
        </p:nvSpPr>
        <p:spPr>
          <a:xfrm>
            <a:off x="8237520" y="266868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"/>
                <a:ea typeface="Lucida Sans Unicode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Line 94"/>
          <p:cNvSpPr/>
          <p:nvPr/>
        </p:nvSpPr>
        <p:spPr>
          <a:xfrm flipH="1" flipV="1">
            <a:off x="8152920" y="2971440"/>
            <a:ext cx="228600" cy="304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Line 95"/>
          <p:cNvSpPr/>
          <p:nvPr/>
        </p:nvSpPr>
        <p:spPr>
          <a:xfrm flipH="1" flipV="1">
            <a:off x="8305560" y="2514240"/>
            <a:ext cx="228600" cy="304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Text Box 96"/>
          <p:cNvSpPr/>
          <p:nvPr/>
        </p:nvSpPr>
        <p:spPr>
          <a:xfrm>
            <a:off x="6178680" y="411120"/>
            <a:ext cx="25146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  <a:ea typeface="Lucida Sans Unicode"/>
              </a:rPr>
              <a:t>Source:  Fortune 500, May 200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ext Box 97"/>
          <p:cNvSpPr/>
          <p:nvPr/>
        </p:nvSpPr>
        <p:spPr>
          <a:xfrm>
            <a:off x="1143000" y="137160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Text Box 98"/>
          <p:cNvSpPr/>
          <p:nvPr/>
        </p:nvSpPr>
        <p:spPr>
          <a:xfrm>
            <a:off x="8681760" y="190800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"/>
                <a:ea typeface="Lucida Sans Unicode"/>
              </a:rPr>
              <a:t>2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Line 99"/>
          <p:cNvSpPr/>
          <p:nvPr/>
        </p:nvSpPr>
        <p:spPr>
          <a:xfrm flipH="1">
            <a:off x="8534160" y="2133720"/>
            <a:ext cx="228600" cy="22860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Text Box 100"/>
          <p:cNvSpPr/>
          <p:nvPr/>
        </p:nvSpPr>
        <p:spPr>
          <a:xfrm>
            <a:off x="1905120" y="411480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Text Box 101"/>
          <p:cNvSpPr/>
          <p:nvPr/>
        </p:nvSpPr>
        <p:spPr>
          <a:xfrm>
            <a:off x="3963960" y="281952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Text Box 102"/>
          <p:cNvSpPr/>
          <p:nvPr/>
        </p:nvSpPr>
        <p:spPr>
          <a:xfrm>
            <a:off x="6248520" y="383364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2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Text Box 103"/>
          <p:cNvSpPr/>
          <p:nvPr/>
        </p:nvSpPr>
        <p:spPr>
          <a:xfrm>
            <a:off x="6095880" y="307188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Line 104"/>
          <p:cNvSpPr/>
          <p:nvPr/>
        </p:nvSpPr>
        <p:spPr>
          <a:xfrm flipH="1" flipV="1">
            <a:off x="7772040" y="3123720"/>
            <a:ext cx="609480" cy="7621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Text Box 105"/>
          <p:cNvSpPr/>
          <p:nvPr/>
        </p:nvSpPr>
        <p:spPr>
          <a:xfrm>
            <a:off x="8097840" y="3774960"/>
            <a:ext cx="465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"/>
                <a:ea typeface="Lucida Sans Unicode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Text Box 106"/>
          <p:cNvSpPr/>
          <p:nvPr/>
        </p:nvSpPr>
        <p:spPr>
          <a:xfrm>
            <a:off x="5486400" y="2209680"/>
            <a:ext cx="466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Rectangle 107"/>
          <p:cNvSpPr/>
          <p:nvPr/>
        </p:nvSpPr>
        <p:spPr>
          <a:xfrm>
            <a:off x="1274040" y="2943360"/>
            <a:ext cx="439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MS PGothic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3" name="Group 108"/>
          <p:cNvGrpSpPr/>
          <p:nvPr/>
        </p:nvGrpSpPr>
        <p:grpSpPr>
          <a:xfrm>
            <a:off x="281160" y="4829040"/>
            <a:ext cx="1947240" cy="1350720"/>
            <a:chOff x="281160" y="4829040"/>
            <a:chExt cx="1947240" cy="1350720"/>
          </a:xfrm>
        </p:grpSpPr>
        <p:sp>
          <p:nvSpPr>
            <p:cNvPr id="264" name="Freeform 109"/>
            <p:cNvSpPr/>
            <p:nvPr/>
          </p:nvSpPr>
          <p:spPr>
            <a:xfrm>
              <a:off x="830880" y="4829040"/>
              <a:ext cx="1397520" cy="1184040"/>
            </a:xfrm>
            <a:custGeom>
              <a:avLst/>
              <a:gdLst>
                <a:gd name="textAreaLeft" fmla="*/ 0 w 1397520"/>
                <a:gd name="textAreaRight" fmla="*/ 1397880 w 1397520"/>
                <a:gd name="textAreaTop" fmla="*/ 0 h 1184040"/>
                <a:gd name="textAreaBottom" fmla="*/ 1184400 h 1184040"/>
              </a:gdLst>
              <a:ahLst/>
              <a:rect l="textAreaLeft" t="textAreaTop" r="textAreaRight" b="textAreaBottom"/>
              <a:pathLst>
                <a:path w="752" h="624">
                  <a:moveTo>
                    <a:pt x="744" y="480"/>
                  </a:moveTo>
                  <a:lnTo>
                    <a:pt x="752" y="472"/>
                  </a:lnTo>
                  <a:lnTo>
                    <a:pt x="752" y="464"/>
                  </a:lnTo>
                  <a:lnTo>
                    <a:pt x="752" y="456"/>
                  </a:lnTo>
                  <a:lnTo>
                    <a:pt x="752" y="440"/>
                  </a:lnTo>
                  <a:lnTo>
                    <a:pt x="736" y="432"/>
                  </a:lnTo>
                  <a:lnTo>
                    <a:pt x="720" y="432"/>
                  </a:lnTo>
                  <a:lnTo>
                    <a:pt x="712" y="424"/>
                  </a:lnTo>
                  <a:lnTo>
                    <a:pt x="696" y="424"/>
                  </a:lnTo>
                  <a:lnTo>
                    <a:pt x="624" y="368"/>
                  </a:lnTo>
                  <a:lnTo>
                    <a:pt x="600" y="360"/>
                  </a:lnTo>
                  <a:lnTo>
                    <a:pt x="584" y="344"/>
                  </a:lnTo>
                  <a:lnTo>
                    <a:pt x="568" y="360"/>
                  </a:lnTo>
                  <a:lnTo>
                    <a:pt x="576" y="368"/>
                  </a:lnTo>
                  <a:lnTo>
                    <a:pt x="560" y="384"/>
                  </a:lnTo>
                  <a:lnTo>
                    <a:pt x="528" y="368"/>
                  </a:lnTo>
                  <a:lnTo>
                    <a:pt x="528" y="360"/>
                  </a:lnTo>
                  <a:lnTo>
                    <a:pt x="512" y="352"/>
                  </a:lnTo>
                  <a:lnTo>
                    <a:pt x="496" y="352"/>
                  </a:lnTo>
                  <a:lnTo>
                    <a:pt x="488" y="360"/>
                  </a:lnTo>
                  <a:lnTo>
                    <a:pt x="480" y="360"/>
                  </a:lnTo>
                  <a:lnTo>
                    <a:pt x="480" y="368"/>
                  </a:lnTo>
                  <a:lnTo>
                    <a:pt x="376" y="24"/>
                  </a:lnTo>
                  <a:lnTo>
                    <a:pt x="368" y="24"/>
                  </a:lnTo>
                  <a:lnTo>
                    <a:pt x="352" y="16"/>
                  </a:lnTo>
                  <a:lnTo>
                    <a:pt x="328" y="16"/>
                  </a:lnTo>
                  <a:lnTo>
                    <a:pt x="320" y="24"/>
                  </a:lnTo>
                  <a:lnTo>
                    <a:pt x="312" y="24"/>
                  </a:lnTo>
                  <a:lnTo>
                    <a:pt x="280" y="24"/>
                  </a:lnTo>
                  <a:lnTo>
                    <a:pt x="264" y="24"/>
                  </a:lnTo>
                  <a:lnTo>
                    <a:pt x="256" y="24"/>
                  </a:lnTo>
                  <a:lnTo>
                    <a:pt x="248" y="24"/>
                  </a:lnTo>
                  <a:lnTo>
                    <a:pt x="232" y="24"/>
                  </a:lnTo>
                  <a:lnTo>
                    <a:pt x="224" y="8"/>
                  </a:lnTo>
                  <a:lnTo>
                    <a:pt x="216" y="8"/>
                  </a:lnTo>
                  <a:lnTo>
                    <a:pt x="208" y="8"/>
                  </a:lnTo>
                  <a:lnTo>
                    <a:pt x="208" y="16"/>
                  </a:lnTo>
                  <a:lnTo>
                    <a:pt x="192" y="0"/>
                  </a:lnTo>
                  <a:lnTo>
                    <a:pt x="184" y="8"/>
                  </a:lnTo>
                  <a:lnTo>
                    <a:pt x="184" y="0"/>
                  </a:lnTo>
                  <a:lnTo>
                    <a:pt x="168" y="0"/>
                  </a:lnTo>
                  <a:lnTo>
                    <a:pt x="160" y="8"/>
                  </a:lnTo>
                  <a:lnTo>
                    <a:pt x="152" y="16"/>
                  </a:lnTo>
                  <a:lnTo>
                    <a:pt x="144" y="16"/>
                  </a:lnTo>
                  <a:lnTo>
                    <a:pt x="136" y="16"/>
                  </a:lnTo>
                  <a:lnTo>
                    <a:pt x="120" y="32"/>
                  </a:lnTo>
                  <a:lnTo>
                    <a:pt x="112" y="32"/>
                  </a:lnTo>
                  <a:lnTo>
                    <a:pt x="96" y="48"/>
                  </a:lnTo>
                  <a:lnTo>
                    <a:pt x="72" y="80"/>
                  </a:lnTo>
                  <a:lnTo>
                    <a:pt x="72" y="88"/>
                  </a:lnTo>
                  <a:lnTo>
                    <a:pt x="48" y="88"/>
                  </a:lnTo>
                  <a:lnTo>
                    <a:pt x="32" y="104"/>
                  </a:lnTo>
                  <a:lnTo>
                    <a:pt x="48" y="112"/>
                  </a:lnTo>
                  <a:lnTo>
                    <a:pt x="72" y="136"/>
                  </a:lnTo>
                  <a:lnTo>
                    <a:pt x="72" y="152"/>
                  </a:lnTo>
                  <a:lnTo>
                    <a:pt x="96" y="160"/>
                  </a:lnTo>
                  <a:lnTo>
                    <a:pt x="104" y="176"/>
                  </a:lnTo>
                  <a:lnTo>
                    <a:pt x="112" y="176"/>
                  </a:lnTo>
                  <a:lnTo>
                    <a:pt x="112" y="184"/>
                  </a:lnTo>
                  <a:lnTo>
                    <a:pt x="96" y="184"/>
                  </a:lnTo>
                  <a:lnTo>
                    <a:pt x="88" y="168"/>
                  </a:lnTo>
                  <a:lnTo>
                    <a:pt x="88" y="176"/>
                  </a:lnTo>
                  <a:lnTo>
                    <a:pt x="96" y="184"/>
                  </a:lnTo>
                  <a:lnTo>
                    <a:pt x="112" y="192"/>
                  </a:lnTo>
                  <a:lnTo>
                    <a:pt x="96" y="200"/>
                  </a:lnTo>
                  <a:lnTo>
                    <a:pt x="64" y="192"/>
                  </a:lnTo>
                  <a:lnTo>
                    <a:pt x="72" y="176"/>
                  </a:lnTo>
                  <a:lnTo>
                    <a:pt x="40" y="184"/>
                  </a:lnTo>
                  <a:lnTo>
                    <a:pt x="40" y="192"/>
                  </a:lnTo>
                  <a:lnTo>
                    <a:pt x="32" y="192"/>
                  </a:lnTo>
                  <a:lnTo>
                    <a:pt x="32" y="184"/>
                  </a:lnTo>
                  <a:lnTo>
                    <a:pt x="24" y="184"/>
                  </a:lnTo>
                  <a:lnTo>
                    <a:pt x="0" y="200"/>
                  </a:lnTo>
                  <a:lnTo>
                    <a:pt x="0" y="208"/>
                  </a:lnTo>
                  <a:lnTo>
                    <a:pt x="8" y="224"/>
                  </a:lnTo>
                  <a:lnTo>
                    <a:pt x="16" y="224"/>
                  </a:lnTo>
                  <a:lnTo>
                    <a:pt x="24" y="232"/>
                  </a:lnTo>
                  <a:lnTo>
                    <a:pt x="24" y="240"/>
                  </a:lnTo>
                  <a:lnTo>
                    <a:pt x="32" y="248"/>
                  </a:lnTo>
                  <a:lnTo>
                    <a:pt x="56" y="248"/>
                  </a:lnTo>
                  <a:lnTo>
                    <a:pt x="72" y="256"/>
                  </a:lnTo>
                  <a:lnTo>
                    <a:pt x="88" y="256"/>
                  </a:lnTo>
                  <a:lnTo>
                    <a:pt x="104" y="240"/>
                  </a:lnTo>
                  <a:lnTo>
                    <a:pt x="112" y="240"/>
                  </a:lnTo>
                  <a:lnTo>
                    <a:pt x="120" y="240"/>
                  </a:lnTo>
                  <a:lnTo>
                    <a:pt x="120" y="248"/>
                  </a:lnTo>
                  <a:lnTo>
                    <a:pt x="104" y="256"/>
                  </a:lnTo>
                  <a:lnTo>
                    <a:pt x="112" y="272"/>
                  </a:lnTo>
                  <a:lnTo>
                    <a:pt x="112" y="288"/>
                  </a:lnTo>
                  <a:lnTo>
                    <a:pt x="88" y="288"/>
                  </a:lnTo>
                  <a:lnTo>
                    <a:pt x="72" y="312"/>
                  </a:lnTo>
                  <a:lnTo>
                    <a:pt x="72" y="304"/>
                  </a:lnTo>
                  <a:lnTo>
                    <a:pt x="64" y="304"/>
                  </a:lnTo>
                  <a:lnTo>
                    <a:pt x="48" y="304"/>
                  </a:lnTo>
                  <a:lnTo>
                    <a:pt x="48" y="312"/>
                  </a:lnTo>
                  <a:lnTo>
                    <a:pt x="48" y="320"/>
                  </a:lnTo>
                  <a:lnTo>
                    <a:pt x="48" y="336"/>
                  </a:lnTo>
                  <a:lnTo>
                    <a:pt x="32" y="336"/>
                  </a:lnTo>
                  <a:lnTo>
                    <a:pt x="32" y="344"/>
                  </a:lnTo>
                  <a:lnTo>
                    <a:pt x="24" y="352"/>
                  </a:lnTo>
                  <a:lnTo>
                    <a:pt x="16" y="360"/>
                  </a:lnTo>
                  <a:lnTo>
                    <a:pt x="16" y="368"/>
                  </a:lnTo>
                  <a:lnTo>
                    <a:pt x="24" y="368"/>
                  </a:lnTo>
                  <a:lnTo>
                    <a:pt x="32" y="360"/>
                  </a:lnTo>
                  <a:lnTo>
                    <a:pt x="24" y="376"/>
                  </a:lnTo>
                  <a:lnTo>
                    <a:pt x="32" y="384"/>
                  </a:lnTo>
                  <a:lnTo>
                    <a:pt x="48" y="400"/>
                  </a:lnTo>
                  <a:lnTo>
                    <a:pt x="56" y="400"/>
                  </a:lnTo>
                  <a:lnTo>
                    <a:pt x="40" y="416"/>
                  </a:lnTo>
                  <a:lnTo>
                    <a:pt x="40" y="424"/>
                  </a:lnTo>
                  <a:lnTo>
                    <a:pt x="48" y="424"/>
                  </a:lnTo>
                  <a:lnTo>
                    <a:pt x="56" y="432"/>
                  </a:lnTo>
                  <a:lnTo>
                    <a:pt x="56" y="440"/>
                  </a:lnTo>
                  <a:lnTo>
                    <a:pt x="72" y="440"/>
                  </a:lnTo>
                  <a:lnTo>
                    <a:pt x="80" y="416"/>
                  </a:lnTo>
                  <a:lnTo>
                    <a:pt x="88" y="408"/>
                  </a:lnTo>
                  <a:lnTo>
                    <a:pt x="88" y="416"/>
                  </a:lnTo>
                  <a:lnTo>
                    <a:pt x="88" y="432"/>
                  </a:lnTo>
                  <a:lnTo>
                    <a:pt x="96" y="440"/>
                  </a:lnTo>
                  <a:lnTo>
                    <a:pt x="96" y="448"/>
                  </a:lnTo>
                  <a:lnTo>
                    <a:pt x="96" y="456"/>
                  </a:lnTo>
                  <a:lnTo>
                    <a:pt x="96" y="464"/>
                  </a:lnTo>
                  <a:lnTo>
                    <a:pt x="96" y="472"/>
                  </a:lnTo>
                  <a:lnTo>
                    <a:pt x="96" y="480"/>
                  </a:lnTo>
                  <a:lnTo>
                    <a:pt x="96" y="488"/>
                  </a:lnTo>
                  <a:lnTo>
                    <a:pt x="104" y="488"/>
                  </a:lnTo>
                  <a:lnTo>
                    <a:pt x="112" y="464"/>
                  </a:lnTo>
                  <a:lnTo>
                    <a:pt x="120" y="456"/>
                  </a:lnTo>
                  <a:lnTo>
                    <a:pt x="128" y="472"/>
                  </a:lnTo>
                  <a:lnTo>
                    <a:pt x="128" y="456"/>
                  </a:lnTo>
                  <a:lnTo>
                    <a:pt x="136" y="456"/>
                  </a:lnTo>
                  <a:lnTo>
                    <a:pt x="144" y="472"/>
                  </a:lnTo>
                  <a:lnTo>
                    <a:pt x="144" y="488"/>
                  </a:lnTo>
                  <a:lnTo>
                    <a:pt x="152" y="488"/>
                  </a:lnTo>
                  <a:lnTo>
                    <a:pt x="152" y="472"/>
                  </a:lnTo>
                  <a:lnTo>
                    <a:pt x="160" y="472"/>
                  </a:lnTo>
                  <a:lnTo>
                    <a:pt x="176" y="472"/>
                  </a:lnTo>
                  <a:lnTo>
                    <a:pt x="184" y="464"/>
                  </a:lnTo>
                  <a:lnTo>
                    <a:pt x="192" y="448"/>
                  </a:lnTo>
                  <a:lnTo>
                    <a:pt x="184" y="480"/>
                  </a:lnTo>
                  <a:lnTo>
                    <a:pt x="176" y="504"/>
                  </a:lnTo>
                  <a:lnTo>
                    <a:pt x="168" y="536"/>
                  </a:lnTo>
                  <a:lnTo>
                    <a:pt x="160" y="536"/>
                  </a:lnTo>
                  <a:lnTo>
                    <a:pt x="160" y="544"/>
                  </a:lnTo>
                  <a:lnTo>
                    <a:pt x="136" y="560"/>
                  </a:lnTo>
                  <a:lnTo>
                    <a:pt x="120" y="568"/>
                  </a:lnTo>
                  <a:lnTo>
                    <a:pt x="120" y="584"/>
                  </a:lnTo>
                  <a:lnTo>
                    <a:pt x="120" y="592"/>
                  </a:lnTo>
                  <a:lnTo>
                    <a:pt x="112" y="592"/>
                  </a:lnTo>
                  <a:lnTo>
                    <a:pt x="112" y="584"/>
                  </a:lnTo>
                  <a:lnTo>
                    <a:pt x="104" y="584"/>
                  </a:lnTo>
                  <a:lnTo>
                    <a:pt x="96" y="584"/>
                  </a:lnTo>
                  <a:lnTo>
                    <a:pt x="88" y="584"/>
                  </a:lnTo>
                  <a:lnTo>
                    <a:pt x="64" y="608"/>
                  </a:lnTo>
                  <a:lnTo>
                    <a:pt x="56" y="616"/>
                  </a:lnTo>
                  <a:lnTo>
                    <a:pt x="64" y="624"/>
                  </a:lnTo>
                  <a:lnTo>
                    <a:pt x="80" y="608"/>
                  </a:lnTo>
                  <a:lnTo>
                    <a:pt x="96" y="592"/>
                  </a:lnTo>
                  <a:lnTo>
                    <a:pt x="96" y="600"/>
                  </a:lnTo>
                  <a:lnTo>
                    <a:pt x="96" y="608"/>
                  </a:lnTo>
                  <a:lnTo>
                    <a:pt x="104" y="608"/>
                  </a:lnTo>
                  <a:lnTo>
                    <a:pt x="128" y="592"/>
                  </a:lnTo>
                  <a:lnTo>
                    <a:pt x="128" y="584"/>
                  </a:lnTo>
                  <a:lnTo>
                    <a:pt x="136" y="592"/>
                  </a:lnTo>
                  <a:lnTo>
                    <a:pt x="136" y="584"/>
                  </a:lnTo>
                  <a:lnTo>
                    <a:pt x="152" y="576"/>
                  </a:lnTo>
                  <a:lnTo>
                    <a:pt x="168" y="576"/>
                  </a:lnTo>
                  <a:lnTo>
                    <a:pt x="160" y="568"/>
                  </a:lnTo>
                  <a:lnTo>
                    <a:pt x="160" y="560"/>
                  </a:lnTo>
                  <a:lnTo>
                    <a:pt x="184" y="544"/>
                  </a:lnTo>
                  <a:lnTo>
                    <a:pt x="200" y="536"/>
                  </a:lnTo>
                  <a:lnTo>
                    <a:pt x="200" y="528"/>
                  </a:lnTo>
                  <a:lnTo>
                    <a:pt x="216" y="504"/>
                  </a:lnTo>
                  <a:lnTo>
                    <a:pt x="248" y="480"/>
                  </a:lnTo>
                  <a:lnTo>
                    <a:pt x="256" y="472"/>
                  </a:lnTo>
                  <a:lnTo>
                    <a:pt x="256" y="464"/>
                  </a:lnTo>
                  <a:lnTo>
                    <a:pt x="256" y="456"/>
                  </a:lnTo>
                  <a:lnTo>
                    <a:pt x="240" y="456"/>
                  </a:lnTo>
                  <a:lnTo>
                    <a:pt x="240" y="448"/>
                  </a:lnTo>
                  <a:lnTo>
                    <a:pt x="248" y="432"/>
                  </a:lnTo>
                  <a:lnTo>
                    <a:pt x="272" y="416"/>
                  </a:lnTo>
                  <a:lnTo>
                    <a:pt x="272" y="400"/>
                  </a:lnTo>
                  <a:lnTo>
                    <a:pt x="288" y="360"/>
                  </a:lnTo>
                  <a:lnTo>
                    <a:pt x="312" y="360"/>
                  </a:lnTo>
                  <a:lnTo>
                    <a:pt x="320" y="368"/>
                  </a:lnTo>
                  <a:lnTo>
                    <a:pt x="312" y="376"/>
                  </a:lnTo>
                  <a:lnTo>
                    <a:pt x="288" y="376"/>
                  </a:lnTo>
                  <a:lnTo>
                    <a:pt x="288" y="400"/>
                  </a:lnTo>
                  <a:lnTo>
                    <a:pt x="296" y="408"/>
                  </a:lnTo>
                  <a:lnTo>
                    <a:pt x="288" y="424"/>
                  </a:lnTo>
                  <a:lnTo>
                    <a:pt x="296" y="424"/>
                  </a:lnTo>
                  <a:lnTo>
                    <a:pt x="288" y="440"/>
                  </a:lnTo>
                  <a:lnTo>
                    <a:pt x="288" y="448"/>
                  </a:lnTo>
                  <a:lnTo>
                    <a:pt x="296" y="440"/>
                  </a:lnTo>
                  <a:lnTo>
                    <a:pt x="304" y="432"/>
                  </a:lnTo>
                  <a:lnTo>
                    <a:pt x="320" y="416"/>
                  </a:lnTo>
                  <a:lnTo>
                    <a:pt x="328" y="416"/>
                  </a:lnTo>
                  <a:lnTo>
                    <a:pt x="336" y="408"/>
                  </a:lnTo>
                  <a:lnTo>
                    <a:pt x="344" y="400"/>
                  </a:lnTo>
                  <a:lnTo>
                    <a:pt x="344" y="392"/>
                  </a:lnTo>
                  <a:lnTo>
                    <a:pt x="336" y="384"/>
                  </a:lnTo>
                  <a:lnTo>
                    <a:pt x="336" y="376"/>
                  </a:lnTo>
                  <a:lnTo>
                    <a:pt x="336" y="368"/>
                  </a:lnTo>
                  <a:lnTo>
                    <a:pt x="352" y="360"/>
                  </a:lnTo>
                  <a:lnTo>
                    <a:pt x="352" y="368"/>
                  </a:lnTo>
                  <a:lnTo>
                    <a:pt x="368" y="360"/>
                  </a:lnTo>
                  <a:lnTo>
                    <a:pt x="392" y="368"/>
                  </a:lnTo>
                  <a:lnTo>
                    <a:pt x="400" y="384"/>
                  </a:lnTo>
                  <a:lnTo>
                    <a:pt x="408" y="368"/>
                  </a:lnTo>
                  <a:lnTo>
                    <a:pt x="424" y="392"/>
                  </a:lnTo>
                  <a:lnTo>
                    <a:pt x="424" y="384"/>
                  </a:lnTo>
                  <a:lnTo>
                    <a:pt x="448" y="376"/>
                  </a:lnTo>
                  <a:lnTo>
                    <a:pt x="480" y="376"/>
                  </a:lnTo>
                  <a:lnTo>
                    <a:pt x="496" y="376"/>
                  </a:lnTo>
                  <a:lnTo>
                    <a:pt x="504" y="368"/>
                  </a:lnTo>
                  <a:lnTo>
                    <a:pt x="512" y="376"/>
                  </a:lnTo>
                  <a:lnTo>
                    <a:pt x="512" y="384"/>
                  </a:lnTo>
                  <a:lnTo>
                    <a:pt x="536" y="384"/>
                  </a:lnTo>
                  <a:lnTo>
                    <a:pt x="544" y="384"/>
                  </a:lnTo>
                  <a:lnTo>
                    <a:pt x="568" y="400"/>
                  </a:lnTo>
                  <a:lnTo>
                    <a:pt x="576" y="408"/>
                  </a:lnTo>
                  <a:lnTo>
                    <a:pt x="592" y="408"/>
                  </a:lnTo>
                  <a:lnTo>
                    <a:pt x="592" y="400"/>
                  </a:lnTo>
                  <a:lnTo>
                    <a:pt x="576" y="384"/>
                  </a:lnTo>
                  <a:lnTo>
                    <a:pt x="584" y="376"/>
                  </a:lnTo>
                  <a:lnTo>
                    <a:pt x="592" y="384"/>
                  </a:lnTo>
                  <a:lnTo>
                    <a:pt x="600" y="392"/>
                  </a:lnTo>
                  <a:lnTo>
                    <a:pt x="608" y="392"/>
                  </a:lnTo>
                  <a:lnTo>
                    <a:pt x="592" y="368"/>
                  </a:lnTo>
                  <a:lnTo>
                    <a:pt x="600" y="360"/>
                  </a:lnTo>
                  <a:lnTo>
                    <a:pt x="616" y="392"/>
                  </a:lnTo>
                  <a:lnTo>
                    <a:pt x="632" y="384"/>
                  </a:lnTo>
                  <a:lnTo>
                    <a:pt x="640" y="392"/>
                  </a:lnTo>
                  <a:lnTo>
                    <a:pt x="648" y="400"/>
                  </a:lnTo>
                  <a:lnTo>
                    <a:pt x="664" y="432"/>
                  </a:lnTo>
                  <a:lnTo>
                    <a:pt x="672" y="432"/>
                  </a:lnTo>
                  <a:lnTo>
                    <a:pt x="672" y="424"/>
                  </a:lnTo>
                  <a:lnTo>
                    <a:pt x="704" y="440"/>
                  </a:lnTo>
                  <a:lnTo>
                    <a:pt x="704" y="448"/>
                  </a:lnTo>
                  <a:lnTo>
                    <a:pt x="704" y="456"/>
                  </a:lnTo>
                  <a:lnTo>
                    <a:pt x="720" y="440"/>
                  </a:lnTo>
                  <a:lnTo>
                    <a:pt x="728" y="440"/>
                  </a:lnTo>
                  <a:lnTo>
                    <a:pt x="728" y="448"/>
                  </a:lnTo>
                  <a:lnTo>
                    <a:pt x="744" y="464"/>
                  </a:lnTo>
                  <a:lnTo>
                    <a:pt x="744" y="472"/>
                  </a:lnTo>
                  <a:lnTo>
                    <a:pt x="744" y="480"/>
                  </a:lnTo>
                  <a:close/>
                </a:path>
              </a:pathLst>
            </a:custGeom>
            <a:solidFill>
              <a:srgbClr val="0066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Freeform 110"/>
            <p:cNvSpPr/>
            <p:nvPr/>
          </p:nvSpPr>
          <p:spPr>
            <a:xfrm>
              <a:off x="1931400" y="5587920"/>
              <a:ext cx="59400" cy="6048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32" h="32">
                  <a:moveTo>
                    <a:pt x="0" y="8"/>
                  </a:moveTo>
                  <a:lnTo>
                    <a:pt x="0" y="8"/>
                  </a:lnTo>
                  <a:lnTo>
                    <a:pt x="16" y="0"/>
                  </a:lnTo>
                  <a:lnTo>
                    <a:pt x="32" y="24"/>
                  </a:lnTo>
                  <a:lnTo>
                    <a:pt x="24" y="16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16" y="32"/>
                  </a:lnTo>
                  <a:lnTo>
                    <a:pt x="0" y="1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66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Freeform 111"/>
            <p:cNvSpPr/>
            <p:nvPr/>
          </p:nvSpPr>
          <p:spPr>
            <a:xfrm>
              <a:off x="1990800" y="5648400"/>
              <a:ext cx="44640" cy="604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24" h="32">
                  <a:moveTo>
                    <a:pt x="0" y="0"/>
                  </a:moveTo>
                  <a:lnTo>
                    <a:pt x="0" y="0"/>
                  </a:lnTo>
                  <a:lnTo>
                    <a:pt x="8" y="24"/>
                  </a:lnTo>
                  <a:lnTo>
                    <a:pt x="24" y="32"/>
                  </a:lnTo>
                  <a:lnTo>
                    <a:pt x="16" y="8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Freeform 112"/>
            <p:cNvSpPr/>
            <p:nvPr/>
          </p:nvSpPr>
          <p:spPr>
            <a:xfrm>
              <a:off x="1976040" y="5587920"/>
              <a:ext cx="59400" cy="4536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" h="24">
                  <a:moveTo>
                    <a:pt x="32" y="16"/>
                  </a:moveTo>
                  <a:lnTo>
                    <a:pt x="32" y="16"/>
                  </a:lnTo>
                  <a:lnTo>
                    <a:pt x="24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0" y="0"/>
                  </a:lnTo>
                  <a:lnTo>
                    <a:pt x="8" y="0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66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Freeform 113"/>
            <p:cNvSpPr/>
            <p:nvPr/>
          </p:nvSpPr>
          <p:spPr>
            <a:xfrm>
              <a:off x="2109600" y="5694120"/>
              <a:ext cx="59400" cy="7560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32" h="40">
                  <a:moveTo>
                    <a:pt x="8" y="8"/>
                  </a:moveTo>
                  <a:lnTo>
                    <a:pt x="8" y="8"/>
                  </a:lnTo>
                  <a:lnTo>
                    <a:pt x="32" y="32"/>
                  </a:lnTo>
                  <a:lnTo>
                    <a:pt x="32" y="40"/>
                  </a:lnTo>
                  <a:lnTo>
                    <a:pt x="16" y="24"/>
                  </a:lnTo>
                  <a:lnTo>
                    <a:pt x="8" y="24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0066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Freeform 114"/>
            <p:cNvSpPr/>
            <p:nvPr/>
          </p:nvSpPr>
          <p:spPr>
            <a:xfrm>
              <a:off x="2154240" y="5815440"/>
              <a:ext cx="74160" cy="4536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40" h="24">
                  <a:moveTo>
                    <a:pt x="16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32" y="24"/>
                  </a:lnTo>
                  <a:lnTo>
                    <a:pt x="24" y="24"/>
                  </a:lnTo>
                  <a:lnTo>
                    <a:pt x="16" y="24"/>
                  </a:lnTo>
                  <a:lnTo>
                    <a:pt x="8" y="16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66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Freeform 115"/>
            <p:cNvSpPr/>
            <p:nvPr/>
          </p:nvSpPr>
          <p:spPr>
            <a:xfrm>
              <a:off x="1277280" y="5769720"/>
              <a:ext cx="88920" cy="7596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8" h="40">
                  <a:moveTo>
                    <a:pt x="24" y="0"/>
                  </a:moveTo>
                  <a:lnTo>
                    <a:pt x="24" y="0"/>
                  </a:lnTo>
                  <a:lnTo>
                    <a:pt x="16" y="8"/>
                  </a:lnTo>
                  <a:lnTo>
                    <a:pt x="16" y="16"/>
                  </a:lnTo>
                  <a:lnTo>
                    <a:pt x="16" y="24"/>
                  </a:lnTo>
                  <a:lnTo>
                    <a:pt x="8" y="8"/>
                  </a:lnTo>
                  <a:lnTo>
                    <a:pt x="0" y="24"/>
                  </a:lnTo>
                  <a:lnTo>
                    <a:pt x="8" y="40"/>
                  </a:lnTo>
                  <a:lnTo>
                    <a:pt x="24" y="32"/>
                  </a:lnTo>
                  <a:lnTo>
                    <a:pt x="32" y="16"/>
                  </a:lnTo>
                  <a:lnTo>
                    <a:pt x="48" y="16"/>
                  </a:lnTo>
                  <a:lnTo>
                    <a:pt x="40" y="8"/>
                  </a:lnTo>
                  <a:lnTo>
                    <a:pt x="40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66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Freeform 116"/>
            <p:cNvSpPr/>
            <p:nvPr/>
          </p:nvSpPr>
          <p:spPr>
            <a:xfrm>
              <a:off x="756720" y="6058440"/>
              <a:ext cx="59400" cy="4536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" h="24">
                  <a:moveTo>
                    <a:pt x="24" y="0"/>
                  </a:moveTo>
                  <a:lnTo>
                    <a:pt x="24" y="0"/>
                  </a:lnTo>
                  <a:lnTo>
                    <a:pt x="32" y="8"/>
                  </a:lnTo>
                  <a:lnTo>
                    <a:pt x="8" y="24"/>
                  </a:lnTo>
                  <a:lnTo>
                    <a:pt x="0" y="24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66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Freeform 117"/>
            <p:cNvSpPr/>
            <p:nvPr/>
          </p:nvSpPr>
          <p:spPr>
            <a:xfrm>
              <a:off x="756720" y="6058440"/>
              <a:ext cx="59400" cy="4536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" h="24">
                  <a:moveTo>
                    <a:pt x="24" y="0"/>
                  </a:moveTo>
                  <a:lnTo>
                    <a:pt x="24" y="0"/>
                  </a:lnTo>
                  <a:lnTo>
                    <a:pt x="32" y="8"/>
                  </a:lnTo>
                  <a:lnTo>
                    <a:pt x="8" y="24"/>
                  </a:lnTo>
                  <a:lnTo>
                    <a:pt x="0" y="24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24" y="0"/>
                  </a:lnTo>
                  <a:lnTo>
                    <a:pt x="32" y="8"/>
                  </a:lnTo>
                  <a:lnTo>
                    <a:pt x="8" y="24"/>
                  </a:lnTo>
                  <a:lnTo>
                    <a:pt x="0" y="24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66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Freeform 118"/>
            <p:cNvSpPr/>
            <p:nvPr/>
          </p:nvSpPr>
          <p:spPr>
            <a:xfrm>
              <a:off x="697320" y="6088680"/>
              <a:ext cx="59400" cy="4536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" h="24">
                  <a:moveTo>
                    <a:pt x="0" y="24"/>
                  </a:moveTo>
                  <a:lnTo>
                    <a:pt x="0" y="24"/>
                  </a:lnTo>
                  <a:lnTo>
                    <a:pt x="0" y="16"/>
                  </a:lnTo>
                  <a:lnTo>
                    <a:pt x="8" y="8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24" y="8"/>
                  </a:lnTo>
                  <a:lnTo>
                    <a:pt x="16" y="16"/>
                  </a:lnTo>
                  <a:lnTo>
                    <a:pt x="8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66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Oval 119"/>
            <p:cNvSpPr/>
            <p:nvPr/>
          </p:nvSpPr>
          <p:spPr>
            <a:xfrm>
              <a:off x="875520" y="6013080"/>
              <a:ext cx="44640" cy="45360"/>
            </a:xfrm>
            <a:prstGeom prst="ellipse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Oval 120"/>
            <p:cNvSpPr/>
            <p:nvPr/>
          </p:nvSpPr>
          <p:spPr>
            <a:xfrm>
              <a:off x="340560" y="6134400"/>
              <a:ext cx="44640" cy="45360"/>
            </a:xfrm>
            <a:prstGeom prst="ellipse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Oval 121"/>
            <p:cNvSpPr/>
            <p:nvPr/>
          </p:nvSpPr>
          <p:spPr>
            <a:xfrm>
              <a:off x="474480" y="6134400"/>
              <a:ext cx="44640" cy="45360"/>
            </a:xfrm>
            <a:prstGeom prst="ellipse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Oval 122"/>
            <p:cNvSpPr/>
            <p:nvPr/>
          </p:nvSpPr>
          <p:spPr>
            <a:xfrm>
              <a:off x="281160" y="6119280"/>
              <a:ext cx="29880" cy="45360"/>
            </a:xfrm>
            <a:prstGeom prst="ellipse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Oval 123"/>
            <p:cNvSpPr/>
            <p:nvPr/>
          </p:nvSpPr>
          <p:spPr>
            <a:xfrm>
              <a:off x="1039320" y="5982480"/>
              <a:ext cx="29880" cy="30240"/>
            </a:xfrm>
            <a:prstGeom prst="ellipse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Freeform 124"/>
            <p:cNvSpPr/>
            <p:nvPr/>
          </p:nvSpPr>
          <p:spPr>
            <a:xfrm>
              <a:off x="816120" y="5603040"/>
              <a:ext cx="59400" cy="3024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32" h="16">
                  <a:moveTo>
                    <a:pt x="24" y="0"/>
                  </a:moveTo>
                  <a:lnTo>
                    <a:pt x="32" y="0"/>
                  </a:lnTo>
                  <a:lnTo>
                    <a:pt x="32" y="8"/>
                  </a:lnTo>
                  <a:lnTo>
                    <a:pt x="32" y="16"/>
                  </a:lnTo>
                  <a:lnTo>
                    <a:pt x="16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66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Freeform 125"/>
            <p:cNvSpPr/>
            <p:nvPr/>
          </p:nvSpPr>
          <p:spPr>
            <a:xfrm>
              <a:off x="415080" y="6119280"/>
              <a:ext cx="59400" cy="2988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32" h="16">
                  <a:moveTo>
                    <a:pt x="0" y="8"/>
                  </a:moveTo>
                  <a:lnTo>
                    <a:pt x="0" y="8"/>
                  </a:lnTo>
                  <a:lnTo>
                    <a:pt x="24" y="16"/>
                  </a:lnTo>
                  <a:lnTo>
                    <a:pt x="32" y="0"/>
                  </a:lnTo>
                  <a:lnTo>
                    <a:pt x="16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66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Freeform 126"/>
            <p:cNvSpPr/>
            <p:nvPr/>
          </p:nvSpPr>
          <p:spPr>
            <a:xfrm>
              <a:off x="415080" y="6119280"/>
              <a:ext cx="59400" cy="2988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32" h="16">
                  <a:moveTo>
                    <a:pt x="0" y="8"/>
                  </a:moveTo>
                  <a:lnTo>
                    <a:pt x="0" y="8"/>
                  </a:lnTo>
                  <a:lnTo>
                    <a:pt x="24" y="16"/>
                  </a:lnTo>
                  <a:lnTo>
                    <a:pt x="32" y="0"/>
                  </a:lnTo>
                  <a:lnTo>
                    <a:pt x="16" y="0"/>
                  </a:lnTo>
                  <a:lnTo>
                    <a:pt x="0" y="8"/>
                  </a:lnTo>
                  <a:lnTo>
                    <a:pt x="24" y="16"/>
                  </a:lnTo>
                  <a:lnTo>
                    <a:pt x="32" y="0"/>
                  </a:lnTo>
                  <a:lnTo>
                    <a:pt x="16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66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Freeform 127"/>
            <p:cNvSpPr/>
            <p:nvPr/>
          </p:nvSpPr>
          <p:spPr>
            <a:xfrm>
              <a:off x="712080" y="5329800"/>
              <a:ext cx="74520" cy="7596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0" h="40">
                  <a:moveTo>
                    <a:pt x="0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16"/>
                  </a:lnTo>
                  <a:lnTo>
                    <a:pt x="24" y="8"/>
                  </a:lnTo>
                  <a:lnTo>
                    <a:pt x="24" y="16"/>
                  </a:lnTo>
                  <a:lnTo>
                    <a:pt x="32" y="24"/>
                  </a:lnTo>
                  <a:lnTo>
                    <a:pt x="40" y="24"/>
                  </a:lnTo>
                  <a:lnTo>
                    <a:pt x="24" y="40"/>
                  </a:lnTo>
                  <a:lnTo>
                    <a:pt x="24" y="32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3" name="Group 128"/>
          <p:cNvGrpSpPr/>
          <p:nvPr/>
        </p:nvGrpSpPr>
        <p:grpSpPr>
          <a:xfrm>
            <a:off x="2428920" y="5433840"/>
            <a:ext cx="1093320" cy="810720"/>
            <a:chOff x="2428920" y="5433840"/>
            <a:chExt cx="1093320" cy="810720"/>
          </a:xfrm>
        </p:grpSpPr>
        <p:sp>
          <p:nvSpPr>
            <p:cNvPr id="284" name="Freeform 129"/>
            <p:cNvSpPr/>
            <p:nvPr/>
          </p:nvSpPr>
          <p:spPr>
            <a:xfrm>
              <a:off x="2519640" y="5433840"/>
              <a:ext cx="90720" cy="10512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32" h="32">
                  <a:moveTo>
                    <a:pt x="0" y="16"/>
                  </a:moveTo>
                  <a:lnTo>
                    <a:pt x="0" y="8"/>
                  </a:lnTo>
                  <a:lnTo>
                    <a:pt x="16" y="0"/>
                  </a:lnTo>
                  <a:lnTo>
                    <a:pt x="32" y="0"/>
                  </a:lnTo>
                  <a:lnTo>
                    <a:pt x="32" y="16"/>
                  </a:lnTo>
                  <a:lnTo>
                    <a:pt x="24" y="32"/>
                  </a:lnTo>
                  <a:lnTo>
                    <a:pt x="16" y="32"/>
                  </a:lnTo>
                  <a:lnTo>
                    <a:pt x="0" y="24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Freeform 130"/>
            <p:cNvSpPr/>
            <p:nvPr/>
          </p:nvSpPr>
          <p:spPr>
            <a:xfrm>
              <a:off x="2838960" y="5564880"/>
              <a:ext cx="113400" cy="13032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40" h="40">
                  <a:moveTo>
                    <a:pt x="8" y="8"/>
                  </a:move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4" y="16"/>
                  </a:lnTo>
                  <a:lnTo>
                    <a:pt x="32" y="24"/>
                  </a:lnTo>
                  <a:lnTo>
                    <a:pt x="40" y="32"/>
                  </a:lnTo>
                  <a:lnTo>
                    <a:pt x="32" y="40"/>
                  </a:lnTo>
                  <a:lnTo>
                    <a:pt x="16" y="32"/>
                  </a:lnTo>
                  <a:lnTo>
                    <a:pt x="8" y="32"/>
                  </a:lnTo>
                  <a:lnTo>
                    <a:pt x="0" y="24"/>
                  </a:lnTo>
                  <a:lnTo>
                    <a:pt x="0" y="8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Freeform 131"/>
            <p:cNvSpPr/>
            <p:nvPr/>
          </p:nvSpPr>
          <p:spPr>
            <a:xfrm>
              <a:off x="3021120" y="5669280"/>
              <a:ext cx="113400" cy="5256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0" h="16">
                  <a:moveTo>
                    <a:pt x="8" y="0"/>
                  </a:moveTo>
                  <a:lnTo>
                    <a:pt x="0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40" y="16"/>
                  </a:lnTo>
                  <a:lnTo>
                    <a:pt x="40" y="8"/>
                  </a:lnTo>
                  <a:lnTo>
                    <a:pt x="24" y="8"/>
                  </a:lnTo>
                  <a:lnTo>
                    <a:pt x="8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Freeform 132"/>
            <p:cNvSpPr/>
            <p:nvPr/>
          </p:nvSpPr>
          <p:spPr>
            <a:xfrm>
              <a:off x="3157920" y="5748120"/>
              <a:ext cx="136080" cy="104400"/>
            </a:xfrm>
            <a:custGeom>
              <a:avLst/>
              <a:gdLst>
                <a:gd name="textAreaLeft" fmla="*/ 0 w 136080"/>
                <a:gd name="textAreaRight" fmla="*/ 136440 w 13608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48" h="32">
                  <a:moveTo>
                    <a:pt x="0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16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32" y="24"/>
                  </a:lnTo>
                  <a:lnTo>
                    <a:pt x="24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8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Freeform 133"/>
            <p:cNvSpPr/>
            <p:nvPr/>
          </p:nvSpPr>
          <p:spPr>
            <a:xfrm>
              <a:off x="3271680" y="5904360"/>
              <a:ext cx="250560" cy="34020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340200"/>
                <a:gd name="textAreaBottom" fmla="*/ 340560 h 340200"/>
              </a:gdLst>
              <a:ahLst/>
              <a:rect l="textAreaLeft" t="textAreaTop" r="textAreaRight" b="textAreaBottom"/>
              <a:pathLst>
                <a:path w="88" h="104">
                  <a:moveTo>
                    <a:pt x="16" y="8"/>
                  </a:moveTo>
                  <a:lnTo>
                    <a:pt x="16" y="0"/>
                  </a:lnTo>
                  <a:lnTo>
                    <a:pt x="32" y="16"/>
                  </a:lnTo>
                  <a:lnTo>
                    <a:pt x="64" y="32"/>
                  </a:lnTo>
                  <a:lnTo>
                    <a:pt x="72" y="32"/>
                  </a:lnTo>
                  <a:lnTo>
                    <a:pt x="72" y="40"/>
                  </a:lnTo>
                  <a:lnTo>
                    <a:pt x="80" y="56"/>
                  </a:lnTo>
                  <a:lnTo>
                    <a:pt x="88" y="56"/>
                  </a:lnTo>
                  <a:lnTo>
                    <a:pt x="88" y="72"/>
                  </a:lnTo>
                  <a:lnTo>
                    <a:pt x="72" y="80"/>
                  </a:lnTo>
                  <a:lnTo>
                    <a:pt x="40" y="88"/>
                  </a:lnTo>
                  <a:lnTo>
                    <a:pt x="32" y="104"/>
                  </a:lnTo>
                  <a:lnTo>
                    <a:pt x="24" y="104"/>
                  </a:lnTo>
                  <a:lnTo>
                    <a:pt x="8" y="96"/>
                  </a:lnTo>
                  <a:lnTo>
                    <a:pt x="16" y="72"/>
                  </a:lnTo>
                  <a:lnTo>
                    <a:pt x="16" y="64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8" y="40"/>
                  </a:lnTo>
                  <a:lnTo>
                    <a:pt x="16" y="40"/>
                  </a:lnTo>
                  <a:lnTo>
                    <a:pt x="16" y="16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Freeform 134"/>
            <p:cNvSpPr/>
            <p:nvPr/>
          </p:nvSpPr>
          <p:spPr>
            <a:xfrm>
              <a:off x="3089520" y="5774040"/>
              <a:ext cx="22320" cy="259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Oval 135"/>
            <p:cNvSpPr/>
            <p:nvPr/>
          </p:nvSpPr>
          <p:spPr>
            <a:xfrm>
              <a:off x="3157920" y="5852520"/>
              <a:ext cx="45000" cy="518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Oval 136"/>
            <p:cNvSpPr/>
            <p:nvPr/>
          </p:nvSpPr>
          <p:spPr>
            <a:xfrm>
              <a:off x="2428920" y="5512320"/>
              <a:ext cx="68400" cy="525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2" name="Text Box 137"/>
          <p:cNvSpPr/>
          <p:nvPr/>
        </p:nvSpPr>
        <p:spPr>
          <a:xfrm>
            <a:off x="6252120" y="4451400"/>
            <a:ext cx="3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Text Box 138"/>
          <p:cNvSpPr/>
          <p:nvPr/>
        </p:nvSpPr>
        <p:spPr>
          <a:xfrm>
            <a:off x="5290200" y="4788000"/>
            <a:ext cx="3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Text Box 139"/>
          <p:cNvSpPr/>
          <p:nvPr/>
        </p:nvSpPr>
        <p:spPr>
          <a:xfrm>
            <a:off x="5753160" y="4521240"/>
            <a:ext cx="3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Text Box 140"/>
          <p:cNvSpPr/>
          <p:nvPr/>
        </p:nvSpPr>
        <p:spPr>
          <a:xfrm>
            <a:off x="5291280" y="4116240"/>
            <a:ext cx="3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Text Box 141"/>
          <p:cNvSpPr/>
          <p:nvPr/>
        </p:nvSpPr>
        <p:spPr>
          <a:xfrm>
            <a:off x="7304760" y="4094280"/>
            <a:ext cx="3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Text Box 142"/>
          <p:cNvSpPr/>
          <p:nvPr/>
        </p:nvSpPr>
        <p:spPr>
          <a:xfrm>
            <a:off x="3327480" y="5986440"/>
            <a:ext cx="25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Lucida Sans Unicode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Text Box 143"/>
          <p:cNvSpPr/>
          <p:nvPr/>
        </p:nvSpPr>
        <p:spPr>
          <a:xfrm>
            <a:off x="2964600" y="4151160"/>
            <a:ext cx="3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Text Box 144"/>
          <p:cNvSpPr/>
          <p:nvPr/>
        </p:nvSpPr>
        <p:spPr>
          <a:xfrm>
            <a:off x="4468680" y="4037040"/>
            <a:ext cx="3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Text Box 145"/>
          <p:cNvSpPr/>
          <p:nvPr/>
        </p:nvSpPr>
        <p:spPr>
          <a:xfrm>
            <a:off x="4353480" y="3422520"/>
            <a:ext cx="3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 Box 146"/>
          <p:cNvSpPr/>
          <p:nvPr/>
        </p:nvSpPr>
        <p:spPr>
          <a:xfrm>
            <a:off x="6472080" y="3479760"/>
            <a:ext cx="3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Text Box 147"/>
          <p:cNvSpPr/>
          <p:nvPr/>
        </p:nvSpPr>
        <p:spPr>
          <a:xfrm>
            <a:off x="8011080" y="1967040"/>
            <a:ext cx="352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Lucida Sans Unicode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Text Box 148"/>
          <p:cNvSpPr/>
          <p:nvPr/>
        </p:nvSpPr>
        <p:spPr>
          <a:xfrm>
            <a:off x="8197560" y="2000160"/>
            <a:ext cx="352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Lucida Sans Unicode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Text Box 149"/>
          <p:cNvSpPr/>
          <p:nvPr/>
        </p:nvSpPr>
        <p:spPr>
          <a:xfrm>
            <a:off x="5070600" y="2703600"/>
            <a:ext cx="3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Text Box 150"/>
          <p:cNvSpPr/>
          <p:nvPr/>
        </p:nvSpPr>
        <p:spPr>
          <a:xfrm>
            <a:off x="4097880" y="1685880"/>
            <a:ext cx="3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Text Box 151"/>
          <p:cNvSpPr/>
          <p:nvPr/>
        </p:nvSpPr>
        <p:spPr>
          <a:xfrm>
            <a:off x="4110840" y="2276640"/>
            <a:ext cx="3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Text Box 152"/>
          <p:cNvSpPr/>
          <p:nvPr/>
        </p:nvSpPr>
        <p:spPr>
          <a:xfrm>
            <a:off x="2130480" y="3121200"/>
            <a:ext cx="3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Text Box 153"/>
          <p:cNvSpPr/>
          <p:nvPr/>
        </p:nvSpPr>
        <p:spPr>
          <a:xfrm>
            <a:off x="1851840" y="2170080"/>
            <a:ext cx="3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Text Box 154"/>
          <p:cNvSpPr/>
          <p:nvPr/>
        </p:nvSpPr>
        <p:spPr>
          <a:xfrm>
            <a:off x="1019880" y="1996920"/>
            <a:ext cx="3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Text Box 155"/>
          <p:cNvSpPr/>
          <p:nvPr/>
        </p:nvSpPr>
        <p:spPr>
          <a:xfrm>
            <a:off x="5128200" y="5433840"/>
            <a:ext cx="2135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Lucida Sans Unicode"/>
              </a:rPr>
              <a:t>1 - 9 Fortune 1000 Co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Oval 156"/>
          <p:cNvSpPr/>
          <p:nvPr/>
        </p:nvSpPr>
        <p:spPr>
          <a:xfrm flipH="1">
            <a:off x="4985640" y="5502240"/>
            <a:ext cx="166680" cy="154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Rectangle 160"/>
          <p:cNvSpPr/>
          <p:nvPr/>
        </p:nvSpPr>
        <p:spPr>
          <a:xfrm>
            <a:off x="-152280" y="111240"/>
            <a:ext cx="94248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Slide content by Jim Jones at the May 2009 CCJ-Globalization Conferenc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Slide Number Placeholder 2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6F9DD-3033-4F42-8A1A-A8D1812888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65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Times New Roman"/>
              </a:rPr>
              <a:t>Companies with In-House General Counsels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5" name="Freeform 3"/>
          <p:cNvSpPr/>
          <p:nvPr/>
        </p:nvSpPr>
        <p:spPr>
          <a:xfrm>
            <a:off x="419040" y="2414520"/>
            <a:ext cx="1301760" cy="2094120"/>
          </a:xfrm>
          <a:custGeom>
            <a:avLst/>
            <a:gdLst>
              <a:gd name="textAreaLeft" fmla="*/ 0 w 1301760"/>
              <a:gd name="textAreaRight" fmla="*/ 1302120 w 1301760"/>
              <a:gd name="textAreaTop" fmla="*/ 0 h 2094120"/>
              <a:gd name="textAreaBottom" fmla="*/ 2094480 h 2094120"/>
            </a:gdLst>
            <a:ahLst/>
            <a:rect l="textAreaLeft" t="textAreaTop" r="textAreaRight" b="textAreaBottom"/>
            <a:pathLst>
              <a:path w="1661" h="2859">
                <a:moveTo>
                  <a:pt x="160" y="0"/>
                </a:moveTo>
                <a:lnTo>
                  <a:pt x="925" y="197"/>
                </a:lnTo>
                <a:lnTo>
                  <a:pt x="763" y="972"/>
                </a:lnTo>
                <a:lnTo>
                  <a:pt x="1589" y="2275"/>
                </a:lnTo>
                <a:lnTo>
                  <a:pt x="1598" y="2292"/>
                </a:lnTo>
                <a:lnTo>
                  <a:pt x="1598" y="2345"/>
                </a:lnTo>
                <a:lnTo>
                  <a:pt x="1598" y="2360"/>
                </a:lnTo>
                <a:lnTo>
                  <a:pt x="1605" y="2382"/>
                </a:lnTo>
                <a:lnTo>
                  <a:pt x="1615" y="2400"/>
                </a:lnTo>
                <a:lnTo>
                  <a:pt x="1625" y="2415"/>
                </a:lnTo>
                <a:lnTo>
                  <a:pt x="1635" y="2431"/>
                </a:lnTo>
                <a:lnTo>
                  <a:pt x="1640" y="2444"/>
                </a:lnTo>
                <a:lnTo>
                  <a:pt x="1651" y="2454"/>
                </a:lnTo>
                <a:lnTo>
                  <a:pt x="1660" y="2469"/>
                </a:lnTo>
                <a:lnTo>
                  <a:pt x="1661" y="2480"/>
                </a:lnTo>
                <a:lnTo>
                  <a:pt x="1653" y="2484"/>
                </a:lnTo>
                <a:lnTo>
                  <a:pt x="1620" y="2503"/>
                </a:lnTo>
                <a:lnTo>
                  <a:pt x="1577" y="2512"/>
                </a:lnTo>
                <a:lnTo>
                  <a:pt x="1558" y="2542"/>
                </a:lnTo>
                <a:lnTo>
                  <a:pt x="1543" y="2574"/>
                </a:lnTo>
                <a:lnTo>
                  <a:pt x="1529" y="2628"/>
                </a:lnTo>
                <a:lnTo>
                  <a:pt x="1521" y="2701"/>
                </a:lnTo>
                <a:lnTo>
                  <a:pt x="1505" y="2743"/>
                </a:lnTo>
                <a:lnTo>
                  <a:pt x="1480" y="2756"/>
                </a:lnTo>
                <a:lnTo>
                  <a:pt x="1480" y="2763"/>
                </a:lnTo>
                <a:lnTo>
                  <a:pt x="1480" y="2778"/>
                </a:lnTo>
                <a:lnTo>
                  <a:pt x="1506" y="2787"/>
                </a:lnTo>
                <a:lnTo>
                  <a:pt x="1515" y="2802"/>
                </a:lnTo>
                <a:lnTo>
                  <a:pt x="1516" y="2818"/>
                </a:lnTo>
                <a:lnTo>
                  <a:pt x="1500" y="2828"/>
                </a:lnTo>
                <a:lnTo>
                  <a:pt x="1465" y="2856"/>
                </a:lnTo>
                <a:lnTo>
                  <a:pt x="1448" y="2859"/>
                </a:lnTo>
                <a:lnTo>
                  <a:pt x="1448" y="2836"/>
                </a:lnTo>
                <a:lnTo>
                  <a:pt x="1448" y="2829"/>
                </a:lnTo>
                <a:lnTo>
                  <a:pt x="896" y="2767"/>
                </a:lnTo>
                <a:lnTo>
                  <a:pt x="895" y="2733"/>
                </a:lnTo>
                <a:lnTo>
                  <a:pt x="903" y="2709"/>
                </a:lnTo>
                <a:lnTo>
                  <a:pt x="892" y="2596"/>
                </a:lnTo>
                <a:lnTo>
                  <a:pt x="866" y="2538"/>
                </a:lnTo>
                <a:lnTo>
                  <a:pt x="832" y="2507"/>
                </a:lnTo>
                <a:lnTo>
                  <a:pt x="832" y="2493"/>
                </a:lnTo>
                <a:lnTo>
                  <a:pt x="825" y="2444"/>
                </a:lnTo>
                <a:lnTo>
                  <a:pt x="797" y="2424"/>
                </a:lnTo>
                <a:lnTo>
                  <a:pt x="757" y="2384"/>
                </a:lnTo>
                <a:lnTo>
                  <a:pt x="739" y="2376"/>
                </a:lnTo>
                <a:lnTo>
                  <a:pt x="739" y="2367"/>
                </a:lnTo>
                <a:lnTo>
                  <a:pt x="737" y="2353"/>
                </a:lnTo>
                <a:lnTo>
                  <a:pt x="695" y="2323"/>
                </a:lnTo>
                <a:lnTo>
                  <a:pt x="620" y="2255"/>
                </a:lnTo>
                <a:lnTo>
                  <a:pt x="601" y="2238"/>
                </a:lnTo>
                <a:lnTo>
                  <a:pt x="567" y="2223"/>
                </a:lnTo>
                <a:lnTo>
                  <a:pt x="457" y="2124"/>
                </a:lnTo>
                <a:lnTo>
                  <a:pt x="441" y="2109"/>
                </a:lnTo>
                <a:lnTo>
                  <a:pt x="406" y="2091"/>
                </a:lnTo>
                <a:lnTo>
                  <a:pt x="373" y="2086"/>
                </a:lnTo>
                <a:lnTo>
                  <a:pt x="355" y="2075"/>
                </a:lnTo>
                <a:lnTo>
                  <a:pt x="340" y="2055"/>
                </a:lnTo>
                <a:lnTo>
                  <a:pt x="328" y="2023"/>
                </a:lnTo>
                <a:lnTo>
                  <a:pt x="339" y="2000"/>
                </a:lnTo>
                <a:lnTo>
                  <a:pt x="371" y="1952"/>
                </a:lnTo>
                <a:lnTo>
                  <a:pt x="363" y="1914"/>
                </a:lnTo>
                <a:lnTo>
                  <a:pt x="353" y="1874"/>
                </a:lnTo>
                <a:lnTo>
                  <a:pt x="337" y="1833"/>
                </a:lnTo>
                <a:lnTo>
                  <a:pt x="266" y="1742"/>
                </a:lnTo>
                <a:lnTo>
                  <a:pt x="250" y="1719"/>
                </a:lnTo>
                <a:lnTo>
                  <a:pt x="249" y="1667"/>
                </a:lnTo>
                <a:lnTo>
                  <a:pt x="231" y="1647"/>
                </a:lnTo>
                <a:lnTo>
                  <a:pt x="216" y="1632"/>
                </a:lnTo>
                <a:lnTo>
                  <a:pt x="198" y="1614"/>
                </a:lnTo>
                <a:lnTo>
                  <a:pt x="198" y="1599"/>
                </a:lnTo>
                <a:lnTo>
                  <a:pt x="197" y="1568"/>
                </a:lnTo>
                <a:lnTo>
                  <a:pt x="188" y="1545"/>
                </a:lnTo>
                <a:lnTo>
                  <a:pt x="178" y="1514"/>
                </a:lnTo>
                <a:lnTo>
                  <a:pt x="169" y="1498"/>
                </a:lnTo>
                <a:lnTo>
                  <a:pt x="169" y="1482"/>
                </a:lnTo>
                <a:lnTo>
                  <a:pt x="178" y="1460"/>
                </a:lnTo>
                <a:lnTo>
                  <a:pt x="186" y="1452"/>
                </a:lnTo>
                <a:lnTo>
                  <a:pt x="236" y="1442"/>
                </a:lnTo>
                <a:lnTo>
                  <a:pt x="259" y="1424"/>
                </a:lnTo>
                <a:lnTo>
                  <a:pt x="259" y="1419"/>
                </a:lnTo>
                <a:lnTo>
                  <a:pt x="227" y="1390"/>
                </a:lnTo>
                <a:lnTo>
                  <a:pt x="199" y="1349"/>
                </a:lnTo>
                <a:lnTo>
                  <a:pt x="182" y="1309"/>
                </a:lnTo>
                <a:lnTo>
                  <a:pt x="175" y="1270"/>
                </a:lnTo>
                <a:lnTo>
                  <a:pt x="175" y="1217"/>
                </a:lnTo>
                <a:lnTo>
                  <a:pt x="165" y="1178"/>
                </a:lnTo>
                <a:lnTo>
                  <a:pt x="165" y="1164"/>
                </a:lnTo>
                <a:lnTo>
                  <a:pt x="174" y="1147"/>
                </a:lnTo>
                <a:lnTo>
                  <a:pt x="197" y="1163"/>
                </a:lnTo>
                <a:lnTo>
                  <a:pt x="221" y="1177"/>
                </a:lnTo>
                <a:lnTo>
                  <a:pt x="233" y="1194"/>
                </a:lnTo>
                <a:lnTo>
                  <a:pt x="241" y="1201"/>
                </a:lnTo>
                <a:lnTo>
                  <a:pt x="256" y="1200"/>
                </a:lnTo>
                <a:lnTo>
                  <a:pt x="266" y="1200"/>
                </a:lnTo>
                <a:lnTo>
                  <a:pt x="265" y="1166"/>
                </a:lnTo>
                <a:lnTo>
                  <a:pt x="265" y="1150"/>
                </a:lnTo>
                <a:lnTo>
                  <a:pt x="265" y="1138"/>
                </a:lnTo>
                <a:lnTo>
                  <a:pt x="248" y="1121"/>
                </a:lnTo>
                <a:lnTo>
                  <a:pt x="239" y="1097"/>
                </a:lnTo>
                <a:lnTo>
                  <a:pt x="239" y="1082"/>
                </a:lnTo>
                <a:lnTo>
                  <a:pt x="239" y="1075"/>
                </a:lnTo>
                <a:lnTo>
                  <a:pt x="263" y="1082"/>
                </a:lnTo>
                <a:lnTo>
                  <a:pt x="289" y="1096"/>
                </a:lnTo>
                <a:lnTo>
                  <a:pt x="289" y="1074"/>
                </a:lnTo>
                <a:lnTo>
                  <a:pt x="289" y="1066"/>
                </a:lnTo>
                <a:lnTo>
                  <a:pt x="280" y="1043"/>
                </a:lnTo>
                <a:lnTo>
                  <a:pt x="254" y="1027"/>
                </a:lnTo>
                <a:lnTo>
                  <a:pt x="229" y="1013"/>
                </a:lnTo>
                <a:lnTo>
                  <a:pt x="203" y="1004"/>
                </a:lnTo>
                <a:lnTo>
                  <a:pt x="195" y="1004"/>
                </a:lnTo>
                <a:lnTo>
                  <a:pt x="188" y="1004"/>
                </a:lnTo>
                <a:lnTo>
                  <a:pt x="188" y="1020"/>
                </a:lnTo>
                <a:lnTo>
                  <a:pt x="195" y="1035"/>
                </a:lnTo>
                <a:lnTo>
                  <a:pt x="195" y="1052"/>
                </a:lnTo>
                <a:lnTo>
                  <a:pt x="196" y="1075"/>
                </a:lnTo>
                <a:lnTo>
                  <a:pt x="189" y="1082"/>
                </a:lnTo>
                <a:lnTo>
                  <a:pt x="172" y="1100"/>
                </a:lnTo>
                <a:lnTo>
                  <a:pt x="156" y="1100"/>
                </a:lnTo>
                <a:lnTo>
                  <a:pt x="138" y="1083"/>
                </a:lnTo>
                <a:lnTo>
                  <a:pt x="122" y="1076"/>
                </a:lnTo>
                <a:lnTo>
                  <a:pt x="121" y="1053"/>
                </a:lnTo>
                <a:lnTo>
                  <a:pt x="121" y="1044"/>
                </a:lnTo>
                <a:lnTo>
                  <a:pt x="104" y="1021"/>
                </a:lnTo>
                <a:lnTo>
                  <a:pt x="95" y="1015"/>
                </a:lnTo>
                <a:lnTo>
                  <a:pt x="87" y="998"/>
                </a:lnTo>
                <a:lnTo>
                  <a:pt x="85" y="967"/>
                </a:lnTo>
                <a:lnTo>
                  <a:pt x="85" y="952"/>
                </a:lnTo>
                <a:lnTo>
                  <a:pt x="95" y="952"/>
                </a:lnTo>
                <a:lnTo>
                  <a:pt x="110" y="943"/>
                </a:lnTo>
                <a:lnTo>
                  <a:pt x="118" y="920"/>
                </a:lnTo>
                <a:lnTo>
                  <a:pt x="95" y="881"/>
                </a:lnTo>
                <a:lnTo>
                  <a:pt x="74" y="859"/>
                </a:lnTo>
                <a:lnTo>
                  <a:pt x="68" y="843"/>
                </a:lnTo>
                <a:lnTo>
                  <a:pt x="68" y="817"/>
                </a:lnTo>
                <a:lnTo>
                  <a:pt x="57" y="773"/>
                </a:lnTo>
                <a:lnTo>
                  <a:pt x="42" y="739"/>
                </a:lnTo>
                <a:lnTo>
                  <a:pt x="31" y="710"/>
                </a:lnTo>
                <a:lnTo>
                  <a:pt x="30" y="647"/>
                </a:lnTo>
                <a:lnTo>
                  <a:pt x="45" y="598"/>
                </a:lnTo>
                <a:lnTo>
                  <a:pt x="53" y="551"/>
                </a:lnTo>
                <a:lnTo>
                  <a:pt x="61" y="536"/>
                </a:lnTo>
                <a:lnTo>
                  <a:pt x="52" y="497"/>
                </a:lnTo>
                <a:lnTo>
                  <a:pt x="27" y="459"/>
                </a:lnTo>
                <a:lnTo>
                  <a:pt x="20" y="443"/>
                </a:lnTo>
                <a:lnTo>
                  <a:pt x="20" y="419"/>
                </a:lnTo>
                <a:lnTo>
                  <a:pt x="0" y="394"/>
                </a:lnTo>
                <a:lnTo>
                  <a:pt x="0" y="379"/>
                </a:lnTo>
                <a:lnTo>
                  <a:pt x="0" y="348"/>
                </a:lnTo>
                <a:lnTo>
                  <a:pt x="17" y="277"/>
                </a:lnTo>
                <a:lnTo>
                  <a:pt x="32" y="246"/>
                </a:lnTo>
                <a:lnTo>
                  <a:pt x="39" y="230"/>
                </a:lnTo>
                <a:lnTo>
                  <a:pt x="47" y="230"/>
                </a:lnTo>
                <a:lnTo>
                  <a:pt x="57" y="246"/>
                </a:lnTo>
                <a:lnTo>
                  <a:pt x="64" y="269"/>
                </a:lnTo>
                <a:lnTo>
                  <a:pt x="67" y="276"/>
                </a:lnTo>
                <a:lnTo>
                  <a:pt x="82" y="276"/>
                </a:lnTo>
                <a:lnTo>
                  <a:pt x="92" y="276"/>
                </a:lnTo>
                <a:lnTo>
                  <a:pt x="97" y="254"/>
                </a:lnTo>
                <a:lnTo>
                  <a:pt x="114" y="174"/>
                </a:lnTo>
                <a:lnTo>
                  <a:pt x="135" y="102"/>
                </a:lnTo>
                <a:lnTo>
                  <a:pt x="153" y="26"/>
                </a:lnTo>
                <a:lnTo>
                  <a:pt x="160" y="0"/>
                </a:lnTo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Freeform 4"/>
          <p:cNvSpPr/>
          <p:nvPr/>
        </p:nvSpPr>
        <p:spPr>
          <a:xfrm>
            <a:off x="538200" y="1635120"/>
            <a:ext cx="1257120" cy="1020600"/>
          </a:xfrm>
          <a:custGeom>
            <a:avLst/>
            <a:gdLst>
              <a:gd name="textAreaLeft" fmla="*/ 0 w 1257120"/>
              <a:gd name="textAreaRight" fmla="*/ 1257480 w 1257120"/>
              <a:gd name="textAreaTop" fmla="*/ 0 h 1020600"/>
              <a:gd name="textAreaBottom" fmla="*/ 1020960 h 1020600"/>
            </a:gdLst>
            <a:ahLst/>
            <a:rect l="textAreaLeft" t="textAreaTop" r="textAreaRight" b="textAreaBottom"/>
            <a:pathLst>
              <a:path w="1601" h="1394">
                <a:moveTo>
                  <a:pt x="8" y="1062"/>
                </a:moveTo>
                <a:lnTo>
                  <a:pt x="8" y="1008"/>
                </a:lnTo>
                <a:lnTo>
                  <a:pt x="2" y="979"/>
                </a:lnTo>
                <a:lnTo>
                  <a:pt x="0" y="960"/>
                </a:lnTo>
                <a:lnTo>
                  <a:pt x="0" y="939"/>
                </a:lnTo>
                <a:lnTo>
                  <a:pt x="1" y="909"/>
                </a:lnTo>
                <a:lnTo>
                  <a:pt x="1" y="824"/>
                </a:lnTo>
                <a:lnTo>
                  <a:pt x="0" y="778"/>
                </a:lnTo>
                <a:lnTo>
                  <a:pt x="0" y="773"/>
                </a:lnTo>
                <a:lnTo>
                  <a:pt x="5" y="765"/>
                </a:lnTo>
                <a:lnTo>
                  <a:pt x="25" y="750"/>
                </a:lnTo>
                <a:lnTo>
                  <a:pt x="54" y="734"/>
                </a:lnTo>
                <a:lnTo>
                  <a:pt x="74" y="722"/>
                </a:lnTo>
                <a:lnTo>
                  <a:pt x="88" y="708"/>
                </a:lnTo>
                <a:lnTo>
                  <a:pt x="105" y="692"/>
                </a:lnTo>
                <a:lnTo>
                  <a:pt x="121" y="668"/>
                </a:lnTo>
                <a:lnTo>
                  <a:pt x="139" y="626"/>
                </a:lnTo>
                <a:lnTo>
                  <a:pt x="165" y="575"/>
                </a:lnTo>
                <a:lnTo>
                  <a:pt x="173" y="559"/>
                </a:lnTo>
                <a:lnTo>
                  <a:pt x="172" y="533"/>
                </a:lnTo>
                <a:lnTo>
                  <a:pt x="174" y="516"/>
                </a:lnTo>
                <a:lnTo>
                  <a:pt x="174" y="491"/>
                </a:lnTo>
                <a:lnTo>
                  <a:pt x="190" y="475"/>
                </a:lnTo>
                <a:lnTo>
                  <a:pt x="203" y="457"/>
                </a:lnTo>
                <a:lnTo>
                  <a:pt x="225" y="407"/>
                </a:lnTo>
                <a:lnTo>
                  <a:pt x="242" y="357"/>
                </a:lnTo>
                <a:lnTo>
                  <a:pt x="266" y="323"/>
                </a:lnTo>
                <a:lnTo>
                  <a:pt x="283" y="288"/>
                </a:lnTo>
                <a:lnTo>
                  <a:pt x="295" y="271"/>
                </a:lnTo>
                <a:lnTo>
                  <a:pt x="311" y="260"/>
                </a:lnTo>
                <a:lnTo>
                  <a:pt x="328" y="255"/>
                </a:lnTo>
                <a:lnTo>
                  <a:pt x="335" y="246"/>
                </a:lnTo>
                <a:lnTo>
                  <a:pt x="355" y="236"/>
                </a:lnTo>
                <a:lnTo>
                  <a:pt x="355" y="229"/>
                </a:lnTo>
                <a:lnTo>
                  <a:pt x="355" y="221"/>
                </a:lnTo>
                <a:lnTo>
                  <a:pt x="346" y="200"/>
                </a:lnTo>
                <a:lnTo>
                  <a:pt x="335" y="189"/>
                </a:lnTo>
                <a:lnTo>
                  <a:pt x="333" y="167"/>
                </a:lnTo>
                <a:lnTo>
                  <a:pt x="333" y="155"/>
                </a:lnTo>
                <a:lnTo>
                  <a:pt x="338" y="138"/>
                </a:lnTo>
                <a:lnTo>
                  <a:pt x="361" y="88"/>
                </a:lnTo>
                <a:lnTo>
                  <a:pt x="377" y="51"/>
                </a:lnTo>
                <a:lnTo>
                  <a:pt x="389" y="0"/>
                </a:lnTo>
                <a:lnTo>
                  <a:pt x="410" y="2"/>
                </a:lnTo>
                <a:lnTo>
                  <a:pt x="434" y="13"/>
                </a:lnTo>
                <a:lnTo>
                  <a:pt x="450" y="36"/>
                </a:lnTo>
                <a:lnTo>
                  <a:pt x="457" y="48"/>
                </a:lnTo>
                <a:lnTo>
                  <a:pt x="479" y="56"/>
                </a:lnTo>
                <a:lnTo>
                  <a:pt x="502" y="69"/>
                </a:lnTo>
                <a:lnTo>
                  <a:pt x="520" y="98"/>
                </a:lnTo>
                <a:lnTo>
                  <a:pt x="520" y="134"/>
                </a:lnTo>
                <a:lnTo>
                  <a:pt x="523" y="165"/>
                </a:lnTo>
                <a:lnTo>
                  <a:pt x="537" y="221"/>
                </a:lnTo>
                <a:lnTo>
                  <a:pt x="544" y="237"/>
                </a:lnTo>
                <a:lnTo>
                  <a:pt x="562" y="256"/>
                </a:lnTo>
                <a:lnTo>
                  <a:pt x="598" y="266"/>
                </a:lnTo>
                <a:lnTo>
                  <a:pt x="643" y="266"/>
                </a:lnTo>
                <a:lnTo>
                  <a:pt x="676" y="265"/>
                </a:lnTo>
                <a:lnTo>
                  <a:pt x="697" y="260"/>
                </a:lnTo>
                <a:lnTo>
                  <a:pt x="727" y="248"/>
                </a:lnTo>
                <a:lnTo>
                  <a:pt x="735" y="248"/>
                </a:lnTo>
                <a:lnTo>
                  <a:pt x="745" y="256"/>
                </a:lnTo>
                <a:lnTo>
                  <a:pt x="790" y="270"/>
                </a:lnTo>
                <a:lnTo>
                  <a:pt x="818" y="270"/>
                </a:lnTo>
                <a:lnTo>
                  <a:pt x="825" y="270"/>
                </a:lnTo>
                <a:lnTo>
                  <a:pt x="839" y="276"/>
                </a:lnTo>
                <a:lnTo>
                  <a:pt x="874" y="297"/>
                </a:lnTo>
                <a:lnTo>
                  <a:pt x="899" y="317"/>
                </a:lnTo>
                <a:lnTo>
                  <a:pt x="918" y="323"/>
                </a:lnTo>
                <a:lnTo>
                  <a:pt x="952" y="340"/>
                </a:lnTo>
                <a:lnTo>
                  <a:pt x="994" y="339"/>
                </a:lnTo>
                <a:lnTo>
                  <a:pt x="1036" y="339"/>
                </a:lnTo>
                <a:lnTo>
                  <a:pt x="1056" y="348"/>
                </a:lnTo>
                <a:lnTo>
                  <a:pt x="1089" y="351"/>
                </a:lnTo>
                <a:lnTo>
                  <a:pt x="1116" y="351"/>
                </a:lnTo>
                <a:lnTo>
                  <a:pt x="1134" y="346"/>
                </a:lnTo>
                <a:lnTo>
                  <a:pt x="1154" y="336"/>
                </a:lnTo>
                <a:lnTo>
                  <a:pt x="1168" y="324"/>
                </a:lnTo>
                <a:lnTo>
                  <a:pt x="1172" y="319"/>
                </a:lnTo>
                <a:lnTo>
                  <a:pt x="1176" y="319"/>
                </a:lnTo>
                <a:lnTo>
                  <a:pt x="1193" y="326"/>
                </a:lnTo>
                <a:lnTo>
                  <a:pt x="1264" y="351"/>
                </a:lnTo>
                <a:lnTo>
                  <a:pt x="1297" y="351"/>
                </a:lnTo>
                <a:lnTo>
                  <a:pt x="1314" y="354"/>
                </a:lnTo>
                <a:lnTo>
                  <a:pt x="1344" y="354"/>
                </a:lnTo>
                <a:lnTo>
                  <a:pt x="1371" y="354"/>
                </a:lnTo>
                <a:lnTo>
                  <a:pt x="1378" y="354"/>
                </a:lnTo>
                <a:lnTo>
                  <a:pt x="1404" y="365"/>
                </a:lnTo>
                <a:lnTo>
                  <a:pt x="1456" y="380"/>
                </a:lnTo>
                <a:lnTo>
                  <a:pt x="1499" y="389"/>
                </a:lnTo>
                <a:lnTo>
                  <a:pt x="1541" y="395"/>
                </a:lnTo>
                <a:lnTo>
                  <a:pt x="1556" y="401"/>
                </a:lnTo>
                <a:lnTo>
                  <a:pt x="1572" y="409"/>
                </a:lnTo>
                <a:lnTo>
                  <a:pt x="1583" y="416"/>
                </a:lnTo>
                <a:lnTo>
                  <a:pt x="1595" y="433"/>
                </a:lnTo>
                <a:lnTo>
                  <a:pt x="1601" y="461"/>
                </a:lnTo>
                <a:lnTo>
                  <a:pt x="1601" y="483"/>
                </a:lnTo>
                <a:lnTo>
                  <a:pt x="1601" y="499"/>
                </a:lnTo>
                <a:lnTo>
                  <a:pt x="1590" y="547"/>
                </a:lnTo>
                <a:lnTo>
                  <a:pt x="1579" y="562"/>
                </a:lnTo>
                <a:lnTo>
                  <a:pt x="1563" y="585"/>
                </a:lnTo>
                <a:lnTo>
                  <a:pt x="1531" y="619"/>
                </a:lnTo>
                <a:lnTo>
                  <a:pt x="1514" y="634"/>
                </a:lnTo>
                <a:lnTo>
                  <a:pt x="1457" y="698"/>
                </a:lnTo>
                <a:lnTo>
                  <a:pt x="1436" y="732"/>
                </a:lnTo>
                <a:lnTo>
                  <a:pt x="1423" y="767"/>
                </a:lnTo>
                <a:lnTo>
                  <a:pt x="1411" y="864"/>
                </a:lnTo>
                <a:lnTo>
                  <a:pt x="1418" y="890"/>
                </a:lnTo>
                <a:lnTo>
                  <a:pt x="1421" y="918"/>
                </a:lnTo>
                <a:lnTo>
                  <a:pt x="1421" y="939"/>
                </a:lnTo>
                <a:lnTo>
                  <a:pt x="1421" y="950"/>
                </a:lnTo>
                <a:lnTo>
                  <a:pt x="1415" y="965"/>
                </a:lnTo>
                <a:lnTo>
                  <a:pt x="1280" y="1394"/>
                </a:lnTo>
                <a:lnTo>
                  <a:pt x="767" y="1259"/>
                </a:lnTo>
                <a:lnTo>
                  <a:pt x="25" y="1068"/>
                </a:lnTo>
                <a:lnTo>
                  <a:pt x="8" y="1062"/>
                </a:lnTo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Freeform 5"/>
          <p:cNvSpPr/>
          <p:nvPr/>
        </p:nvSpPr>
        <p:spPr>
          <a:xfrm>
            <a:off x="1022400" y="120636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2840 h 42840"/>
            </a:gdLst>
            <a:ahLst/>
            <a:rect l="textAreaLeft" t="textAreaTop" r="textAreaRight" b="textAreaBottom"/>
            <a:pathLst>
              <a:path w="29" h="22">
                <a:moveTo>
                  <a:pt x="17" y="1"/>
                </a:moveTo>
                <a:lnTo>
                  <a:pt x="8" y="0"/>
                </a:lnTo>
                <a:lnTo>
                  <a:pt x="1" y="3"/>
                </a:lnTo>
                <a:lnTo>
                  <a:pt x="0" y="10"/>
                </a:lnTo>
                <a:lnTo>
                  <a:pt x="1" y="16"/>
                </a:lnTo>
                <a:lnTo>
                  <a:pt x="8" y="20"/>
                </a:lnTo>
                <a:lnTo>
                  <a:pt x="19" y="22"/>
                </a:lnTo>
                <a:lnTo>
                  <a:pt x="27" y="16"/>
                </a:lnTo>
                <a:lnTo>
                  <a:pt x="29" y="11"/>
                </a:lnTo>
                <a:lnTo>
                  <a:pt x="20" y="7"/>
                </a:lnTo>
                <a:lnTo>
                  <a:pt x="17" y="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440" bIns="1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Freeform 6"/>
          <p:cNvSpPr/>
          <p:nvPr/>
        </p:nvSpPr>
        <p:spPr>
          <a:xfrm>
            <a:off x="1065240" y="117324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18" h="20">
                <a:moveTo>
                  <a:pt x="14" y="0"/>
                </a:moveTo>
                <a:lnTo>
                  <a:pt x="0" y="17"/>
                </a:lnTo>
                <a:lnTo>
                  <a:pt x="0" y="20"/>
                </a:lnTo>
                <a:lnTo>
                  <a:pt x="14" y="20"/>
                </a:lnTo>
                <a:lnTo>
                  <a:pt x="18" y="15"/>
                </a:lnTo>
                <a:lnTo>
                  <a:pt x="18" y="3"/>
                </a:lnTo>
                <a:lnTo>
                  <a:pt x="1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Freeform 7"/>
          <p:cNvSpPr/>
          <p:nvPr/>
        </p:nvSpPr>
        <p:spPr>
          <a:xfrm>
            <a:off x="1068480" y="1262160"/>
            <a:ext cx="42840" cy="42840"/>
          </a:xfrm>
          <a:custGeom>
            <a:avLst/>
            <a:gdLst>
              <a:gd name="textAreaLeft" fmla="*/ 0 w 42840"/>
              <a:gd name="textAreaRight" fmla="*/ 4284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22" h="33">
                <a:moveTo>
                  <a:pt x="10" y="0"/>
                </a:moveTo>
                <a:lnTo>
                  <a:pt x="0" y="6"/>
                </a:lnTo>
                <a:lnTo>
                  <a:pt x="0" y="13"/>
                </a:lnTo>
                <a:lnTo>
                  <a:pt x="15" y="33"/>
                </a:lnTo>
                <a:lnTo>
                  <a:pt x="22" y="30"/>
                </a:lnTo>
                <a:lnTo>
                  <a:pt x="22" y="17"/>
                </a:lnTo>
                <a:lnTo>
                  <a:pt x="17" y="6"/>
                </a:lnTo>
                <a:lnTo>
                  <a:pt x="1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Freeform 8"/>
          <p:cNvSpPr/>
          <p:nvPr/>
        </p:nvSpPr>
        <p:spPr>
          <a:xfrm>
            <a:off x="831960" y="1143000"/>
            <a:ext cx="1060200" cy="782640"/>
          </a:xfrm>
          <a:custGeom>
            <a:avLst/>
            <a:gdLst>
              <a:gd name="textAreaLeft" fmla="*/ 0 w 1060200"/>
              <a:gd name="textAreaRight" fmla="*/ 1060560 w 1060200"/>
              <a:gd name="textAreaTop" fmla="*/ 0 h 782640"/>
              <a:gd name="textAreaBottom" fmla="*/ 783000 h 782640"/>
            </a:gdLst>
            <a:ahLst/>
            <a:rect l="textAreaLeft" t="textAreaTop" r="textAreaRight" b="textAreaBottom"/>
            <a:pathLst>
              <a:path w="1354" h="1068">
                <a:moveTo>
                  <a:pt x="7" y="674"/>
                </a:moveTo>
                <a:lnTo>
                  <a:pt x="13" y="656"/>
                </a:lnTo>
                <a:lnTo>
                  <a:pt x="15" y="644"/>
                </a:lnTo>
                <a:lnTo>
                  <a:pt x="14" y="613"/>
                </a:lnTo>
                <a:lnTo>
                  <a:pt x="6" y="593"/>
                </a:lnTo>
                <a:lnTo>
                  <a:pt x="12" y="587"/>
                </a:lnTo>
                <a:lnTo>
                  <a:pt x="18" y="575"/>
                </a:lnTo>
                <a:lnTo>
                  <a:pt x="26" y="573"/>
                </a:lnTo>
                <a:lnTo>
                  <a:pt x="37" y="587"/>
                </a:lnTo>
                <a:lnTo>
                  <a:pt x="45" y="590"/>
                </a:lnTo>
                <a:lnTo>
                  <a:pt x="57" y="590"/>
                </a:lnTo>
                <a:lnTo>
                  <a:pt x="64" y="584"/>
                </a:lnTo>
                <a:lnTo>
                  <a:pt x="68" y="574"/>
                </a:lnTo>
                <a:lnTo>
                  <a:pt x="57" y="558"/>
                </a:lnTo>
                <a:lnTo>
                  <a:pt x="57" y="552"/>
                </a:lnTo>
                <a:lnTo>
                  <a:pt x="50" y="543"/>
                </a:lnTo>
                <a:lnTo>
                  <a:pt x="28" y="535"/>
                </a:lnTo>
                <a:lnTo>
                  <a:pt x="5" y="523"/>
                </a:lnTo>
                <a:lnTo>
                  <a:pt x="4" y="519"/>
                </a:lnTo>
                <a:lnTo>
                  <a:pt x="0" y="504"/>
                </a:lnTo>
                <a:lnTo>
                  <a:pt x="0" y="498"/>
                </a:lnTo>
                <a:lnTo>
                  <a:pt x="21" y="498"/>
                </a:lnTo>
                <a:lnTo>
                  <a:pt x="36" y="506"/>
                </a:lnTo>
                <a:lnTo>
                  <a:pt x="40" y="504"/>
                </a:lnTo>
                <a:lnTo>
                  <a:pt x="58" y="487"/>
                </a:lnTo>
                <a:lnTo>
                  <a:pt x="57" y="478"/>
                </a:lnTo>
                <a:lnTo>
                  <a:pt x="65" y="469"/>
                </a:lnTo>
                <a:lnTo>
                  <a:pt x="86" y="460"/>
                </a:lnTo>
                <a:lnTo>
                  <a:pt x="78" y="459"/>
                </a:lnTo>
                <a:lnTo>
                  <a:pt x="45" y="449"/>
                </a:lnTo>
                <a:lnTo>
                  <a:pt x="33" y="443"/>
                </a:lnTo>
                <a:lnTo>
                  <a:pt x="20" y="429"/>
                </a:lnTo>
                <a:lnTo>
                  <a:pt x="18" y="410"/>
                </a:lnTo>
                <a:lnTo>
                  <a:pt x="18" y="383"/>
                </a:lnTo>
                <a:lnTo>
                  <a:pt x="6" y="357"/>
                </a:lnTo>
                <a:lnTo>
                  <a:pt x="5" y="348"/>
                </a:lnTo>
                <a:lnTo>
                  <a:pt x="14" y="299"/>
                </a:lnTo>
                <a:lnTo>
                  <a:pt x="15" y="258"/>
                </a:lnTo>
                <a:lnTo>
                  <a:pt x="6" y="219"/>
                </a:lnTo>
                <a:lnTo>
                  <a:pt x="4" y="201"/>
                </a:lnTo>
                <a:lnTo>
                  <a:pt x="3" y="150"/>
                </a:lnTo>
                <a:lnTo>
                  <a:pt x="3" y="128"/>
                </a:lnTo>
                <a:lnTo>
                  <a:pt x="11" y="107"/>
                </a:lnTo>
                <a:lnTo>
                  <a:pt x="20" y="100"/>
                </a:lnTo>
                <a:lnTo>
                  <a:pt x="30" y="100"/>
                </a:lnTo>
                <a:lnTo>
                  <a:pt x="42" y="107"/>
                </a:lnTo>
                <a:lnTo>
                  <a:pt x="56" y="123"/>
                </a:lnTo>
                <a:lnTo>
                  <a:pt x="75" y="131"/>
                </a:lnTo>
                <a:lnTo>
                  <a:pt x="86" y="142"/>
                </a:lnTo>
                <a:lnTo>
                  <a:pt x="102" y="149"/>
                </a:lnTo>
                <a:lnTo>
                  <a:pt x="166" y="171"/>
                </a:lnTo>
                <a:lnTo>
                  <a:pt x="200" y="188"/>
                </a:lnTo>
                <a:lnTo>
                  <a:pt x="212" y="193"/>
                </a:lnTo>
                <a:lnTo>
                  <a:pt x="226" y="197"/>
                </a:lnTo>
                <a:lnTo>
                  <a:pt x="241" y="197"/>
                </a:lnTo>
                <a:lnTo>
                  <a:pt x="259" y="205"/>
                </a:lnTo>
                <a:lnTo>
                  <a:pt x="278" y="205"/>
                </a:lnTo>
                <a:lnTo>
                  <a:pt x="282" y="206"/>
                </a:lnTo>
                <a:lnTo>
                  <a:pt x="299" y="221"/>
                </a:lnTo>
                <a:lnTo>
                  <a:pt x="307" y="229"/>
                </a:lnTo>
                <a:lnTo>
                  <a:pt x="315" y="235"/>
                </a:lnTo>
                <a:lnTo>
                  <a:pt x="324" y="234"/>
                </a:lnTo>
                <a:lnTo>
                  <a:pt x="332" y="264"/>
                </a:lnTo>
                <a:lnTo>
                  <a:pt x="339" y="287"/>
                </a:lnTo>
                <a:lnTo>
                  <a:pt x="339" y="300"/>
                </a:lnTo>
                <a:lnTo>
                  <a:pt x="339" y="322"/>
                </a:lnTo>
                <a:lnTo>
                  <a:pt x="330" y="341"/>
                </a:lnTo>
                <a:lnTo>
                  <a:pt x="314" y="361"/>
                </a:lnTo>
                <a:lnTo>
                  <a:pt x="301" y="378"/>
                </a:lnTo>
                <a:lnTo>
                  <a:pt x="295" y="384"/>
                </a:lnTo>
                <a:lnTo>
                  <a:pt x="331" y="377"/>
                </a:lnTo>
                <a:lnTo>
                  <a:pt x="353" y="367"/>
                </a:lnTo>
                <a:lnTo>
                  <a:pt x="368" y="352"/>
                </a:lnTo>
                <a:lnTo>
                  <a:pt x="389" y="310"/>
                </a:lnTo>
                <a:lnTo>
                  <a:pt x="405" y="264"/>
                </a:lnTo>
                <a:lnTo>
                  <a:pt x="414" y="248"/>
                </a:lnTo>
                <a:lnTo>
                  <a:pt x="405" y="212"/>
                </a:lnTo>
                <a:lnTo>
                  <a:pt x="405" y="203"/>
                </a:lnTo>
                <a:lnTo>
                  <a:pt x="390" y="167"/>
                </a:lnTo>
                <a:lnTo>
                  <a:pt x="373" y="141"/>
                </a:lnTo>
                <a:lnTo>
                  <a:pt x="373" y="136"/>
                </a:lnTo>
                <a:lnTo>
                  <a:pt x="404" y="117"/>
                </a:lnTo>
                <a:lnTo>
                  <a:pt x="426" y="88"/>
                </a:lnTo>
                <a:lnTo>
                  <a:pt x="422" y="82"/>
                </a:lnTo>
                <a:lnTo>
                  <a:pt x="405" y="74"/>
                </a:lnTo>
                <a:lnTo>
                  <a:pt x="391" y="55"/>
                </a:lnTo>
                <a:lnTo>
                  <a:pt x="383" y="39"/>
                </a:lnTo>
                <a:lnTo>
                  <a:pt x="378" y="20"/>
                </a:lnTo>
                <a:lnTo>
                  <a:pt x="376" y="0"/>
                </a:lnTo>
                <a:lnTo>
                  <a:pt x="430" y="27"/>
                </a:lnTo>
                <a:lnTo>
                  <a:pt x="603" y="80"/>
                </a:lnTo>
                <a:lnTo>
                  <a:pt x="867" y="159"/>
                </a:lnTo>
                <a:lnTo>
                  <a:pt x="1045" y="204"/>
                </a:lnTo>
                <a:lnTo>
                  <a:pt x="1250" y="252"/>
                </a:lnTo>
                <a:lnTo>
                  <a:pt x="1354" y="274"/>
                </a:lnTo>
                <a:lnTo>
                  <a:pt x="1169" y="978"/>
                </a:lnTo>
                <a:lnTo>
                  <a:pt x="1169" y="996"/>
                </a:lnTo>
                <a:lnTo>
                  <a:pt x="1165" y="1024"/>
                </a:lnTo>
                <a:lnTo>
                  <a:pt x="1162" y="1068"/>
                </a:lnTo>
                <a:lnTo>
                  <a:pt x="1147" y="1066"/>
                </a:lnTo>
                <a:lnTo>
                  <a:pt x="1110" y="1061"/>
                </a:lnTo>
                <a:lnTo>
                  <a:pt x="1076" y="1053"/>
                </a:lnTo>
                <a:lnTo>
                  <a:pt x="1053" y="1047"/>
                </a:lnTo>
                <a:lnTo>
                  <a:pt x="1039" y="1044"/>
                </a:lnTo>
                <a:lnTo>
                  <a:pt x="1021" y="1038"/>
                </a:lnTo>
                <a:lnTo>
                  <a:pt x="1001" y="1029"/>
                </a:lnTo>
                <a:lnTo>
                  <a:pt x="998" y="1025"/>
                </a:lnTo>
                <a:lnTo>
                  <a:pt x="928" y="1028"/>
                </a:lnTo>
                <a:lnTo>
                  <a:pt x="915" y="1025"/>
                </a:lnTo>
                <a:lnTo>
                  <a:pt x="881" y="1025"/>
                </a:lnTo>
                <a:lnTo>
                  <a:pt x="861" y="1021"/>
                </a:lnTo>
                <a:lnTo>
                  <a:pt x="840" y="1007"/>
                </a:lnTo>
                <a:lnTo>
                  <a:pt x="815" y="1001"/>
                </a:lnTo>
                <a:lnTo>
                  <a:pt x="802" y="996"/>
                </a:lnTo>
                <a:lnTo>
                  <a:pt x="795" y="993"/>
                </a:lnTo>
                <a:lnTo>
                  <a:pt x="792" y="993"/>
                </a:lnTo>
                <a:lnTo>
                  <a:pt x="785" y="1000"/>
                </a:lnTo>
                <a:lnTo>
                  <a:pt x="777" y="1007"/>
                </a:lnTo>
                <a:lnTo>
                  <a:pt x="763" y="1012"/>
                </a:lnTo>
                <a:lnTo>
                  <a:pt x="749" y="1019"/>
                </a:lnTo>
                <a:lnTo>
                  <a:pt x="733" y="1024"/>
                </a:lnTo>
                <a:lnTo>
                  <a:pt x="705" y="1024"/>
                </a:lnTo>
                <a:lnTo>
                  <a:pt x="673" y="1021"/>
                </a:lnTo>
                <a:lnTo>
                  <a:pt x="665" y="1017"/>
                </a:lnTo>
                <a:lnTo>
                  <a:pt x="658" y="1013"/>
                </a:lnTo>
                <a:lnTo>
                  <a:pt x="656" y="1011"/>
                </a:lnTo>
                <a:lnTo>
                  <a:pt x="641" y="1012"/>
                </a:lnTo>
                <a:lnTo>
                  <a:pt x="571" y="1013"/>
                </a:lnTo>
                <a:lnTo>
                  <a:pt x="558" y="1007"/>
                </a:lnTo>
                <a:lnTo>
                  <a:pt x="540" y="1000"/>
                </a:lnTo>
                <a:lnTo>
                  <a:pt x="535" y="997"/>
                </a:lnTo>
                <a:lnTo>
                  <a:pt x="522" y="994"/>
                </a:lnTo>
                <a:lnTo>
                  <a:pt x="512" y="989"/>
                </a:lnTo>
                <a:lnTo>
                  <a:pt x="500" y="978"/>
                </a:lnTo>
                <a:lnTo>
                  <a:pt x="487" y="967"/>
                </a:lnTo>
                <a:lnTo>
                  <a:pt x="477" y="961"/>
                </a:lnTo>
                <a:lnTo>
                  <a:pt x="466" y="955"/>
                </a:lnTo>
                <a:lnTo>
                  <a:pt x="454" y="947"/>
                </a:lnTo>
                <a:lnTo>
                  <a:pt x="444" y="944"/>
                </a:lnTo>
                <a:lnTo>
                  <a:pt x="409" y="944"/>
                </a:lnTo>
                <a:lnTo>
                  <a:pt x="398" y="941"/>
                </a:lnTo>
                <a:lnTo>
                  <a:pt x="379" y="934"/>
                </a:lnTo>
                <a:lnTo>
                  <a:pt x="370" y="931"/>
                </a:lnTo>
                <a:lnTo>
                  <a:pt x="361" y="926"/>
                </a:lnTo>
                <a:lnTo>
                  <a:pt x="358" y="922"/>
                </a:lnTo>
                <a:lnTo>
                  <a:pt x="353" y="921"/>
                </a:lnTo>
                <a:lnTo>
                  <a:pt x="343" y="921"/>
                </a:lnTo>
                <a:lnTo>
                  <a:pt x="333" y="926"/>
                </a:lnTo>
                <a:lnTo>
                  <a:pt x="314" y="932"/>
                </a:lnTo>
                <a:lnTo>
                  <a:pt x="300" y="939"/>
                </a:lnTo>
                <a:lnTo>
                  <a:pt x="287" y="939"/>
                </a:lnTo>
                <a:lnTo>
                  <a:pt x="255" y="940"/>
                </a:lnTo>
                <a:lnTo>
                  <a:pt x="230" y="940"/>
                </a:lnTo>
                <a:lnTo>
                  <a:pt x="217" y="940"/>
                </a:lnTo>
                <a:lnTo>
                  <a:pt x="201" y="934"/>
                </a:lnTo>
                <a:lnTo>
                  <a:pt x="180" y="930"/>
                </a:lnTo>
                <a:lnTo>
                  <a:pt x="173" y="921"/>
                </a:lnTo>
                <a:lnTo>
                  <a:pt x="164" y="915"/>
                </a:lnTo>
                <a:lnTo>
                  <a:pt x="155" y="902"/>
                </a:lnTo>
                <a:lnTo>
                  <a:pt x="154" y="890"/>
                </a:lnTo>
                <a:lnTo>
                  <a:pt x="149" y="886"/>
                </a:lnTo>
                <a:lnTo>
                  <a:pt x="149" y="877"/>
                </a:lnTo>
                <a:lnTo>
                  <a:pt x="144" y="862"/>
                </a:lnTo>
                <a:lnTo>
                  <a:pt x="141" y="840"/>
                </a:lnTo>
                <a:lnTo>
                  <a:pt x="141" y="828"/>
                </a:lnTo>
                <a:lnTo>
                  <a:pt x="138" y="820"/>
                </a:lnTo>
                <a:lnTo>
                  <a:pt x="138" y="782"/>
                </a:lnTo>
                <a:lnTo>
                  <a:pt x="138" y="771"/>
                </a:lnTo>
                <a:lnTo>
                  <a:pt x="134" y="764"/>
                </a:lnTo>
                <a:lnTo>
                  <a:pt x="124" y="748"/>
                </a:lnTo>
                <a:lnTo>
                  <a:pt x="116" y="739"/>
                </a:lnTo>
                <a:lnTo>
                  <a:pt x="98" y="729"/>
                </a:lnTo>
                <a:lnTo>
                  <a:pt x="90" y="725"/>
                </a:lnTo>
                <a:lnTo>
                  <a:pt x="73" y="720"/>
                </a:lnTo>
                <a:lnTo>
                  <a:pt x="66" y="710"/>
                </a:lnTo>
                <a:lnTo>
                  <a:pt x="56" y="694"/>
                </a:lnTo>
                <a:lnTo>
                  <a:pt x="53" y="689"/>
                </a:lnTo>
                <a:lnTo>
                  <a:pt x="40" y="681"/>
                </a:lnTo>
                <a:lnTo>
                  <a:pt x="20" y="674"/>
                </a:lnTo>
                <a:lnTo>
                  <a:pt x="15" y="674"/>
                </a:lnTo>
                <a:lnTo>
                  <a:pt x="7" y="674"/>
                </a:lnTo>
              </a:path>
            </a:pathLst>
          </a:custGeom>
          <a:solidFill>
            <a:srgbClr val="00cc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Freeform 9"/>
          <p:cNvSpPr/>
          <p:nvPr/>
        </p:nvSpPr>
        <p:spPr>
          <a:xfrm>
            <a:off x="1539720" y="1343160"/>
            <a:ext cx="978120" cy="1476360"/>
          </a:xfrm>
          <a:custGeom>
            <a:avLst/>
            <a:gdLst>
              <a:gd name="textAreaLeft" fmla="*/ 0 w 978120"/>
              <a:gd name="textAreaRight" fmla="*/ 978480 w 978120"/>
              <a:gd name="textAreaTop" fmla="*/ 0 h 1476360"/>
              <a:gd name="textAreaBottom" fmla="*/ 1476720 h 1476360"/>
            </a:gdLst>
            <a:ahLst/>
            <a:rect l="textAreaLeft" t="textAreaTop" r="textAreaRight" b="textAreaBottom"/>
            <a:pathLst>
              <a:path w="1244" h="2016">
                <a:moveTo>
                  <a:pt x="454" y="0"/>
                </a:moveTo>
                <a:lnTo>
                  <a:pt x="277" y="684"/>
                </a:lnTo>
                <a:lnTo>
                  <a:pt x="271" y="712"/>
                </a:lnTo>
                <a:lnTo>
                  <a:pt x="267" y="752"/>
                </a:lnTo>
                <a:lnTo>
                  <a:pt x="265" y="773"/>
                </a:lnTo>
                <a:lnTo>
                  <a:pt x="262" y="796"/>
                </a:lnTo>
                <a:lnTo>
                  <a:pt x="277" y="803"/>
                </a:lnTo>
                <a:lnTo>
                  <a:pt x="296" y="811"/>
                </a:lnTo>
                <a:lnTo>
                  <a:pt x="307" y="826"/>
                </a:lnTo>
                <a:lnTo>
                  <a:pt x="315" y="834"/>
                </a:lnTo>
                <a:lnTo>
                  <a:pt x="321" y="859"/>
                </a:lnTo>
                <a:lnTo>
                  <a:pt x="321" y="892"/>
                </a:lnTo>
                <a:lnTo>
                  <a:pt x="317" y="909"/>
                </a:lnTo>
                <a:lnTo>
                  <a:pt x="311" y="942"/>
                </a:lnTo>
                <a:lnTo>
                  <a:pt x="298" y="965"/>
                </a:lnTo>
                <a:lnTo>
                  <a:pt x="253" y="1020"/>
                </a:lnTo>
                <a:lnTo>
                  <a:pt x="219" y="1053"/>
                </a:lnTo>
                <a:lnTo>
                  <a:pt x="194" y="1081"/>
                </a:lnTo>
                <a:lnTo>
                  <a:pt x="176" y="1098"/>
                </a:lnTo>
                <a:lnTo>
                  <a:pt x="165" y="1122"/>
                </a:lnTo>
                <a:lnTo>
                  <a:pt x="156" y="1133"/>
                </a:lnTo>
                <a:lnTo>
                  <a:pt x="143" y="1172"/>
                </a:lnTo>
                <a:lnTo>
                  <a:pt x="137" y="1205"/>
                </a:lnTo>
                <a:lnTo>
                  <a:pt x="130" y="1264"/>
                </a:lnTo>
                <a:lnTo>
                  <a:pt x="138" y="1293"/>
                </a:lnTo>
                <a:lnTo>
                  <a:pt x="141" y="1320"/>
                </a:lnTo>
                <a:lnTo>
                  <a:pt x="141" y="1338"/>
                </a:lnTo>
                <a:lnTo>
                  <a:pt x="141" y="1351"/>
                </a:lnTo>
                <a:lnTo>
                  <a:pt x="135" y="1365"/>
                </a:lnTo>
                <a:lnTo>
                  <a:pt x="114" y="1422"/>
                </a:lnTo>
                <a:lnTo>
                  <a:pt x="0" y="1794"/>
                </a:lnTo>
                <a:lnTo>
                  <a:pt x="112" y="1827"/>
                </a:lnTo>
                <a:lnTo>
                  <a:pt x="351" y="1881"/>
                </a:lnTo>
                <a:lnTo>
                  <a:pt x="615" y="1934"/>
                </a:lnTo>
                <a:lnTo>
                  <a:pt x="1007" y="1997"/>
                </a:lnTo>
                <a:lnTo>
                  <a:pt x="1136" y="2016"/>
                </a:lnTo>
                <a:lnTo>
                  <a:pt x="1147" y="1971"/>
                </a:lnTo>
                <a:lnTo>
                  <a:pt x="1152" y="1935"/>
                </a:lnTo>
                <a:lnTo>
                  <a:pt x="1162" y="1877"/>
                </a:lnTo>
                <a:lnTo>
                  <a:pt x="1168" y="1839"/>
                </a:lnTo>
                <a:lnTo>
                  <a:pt x="1176" y="1789"/>
                </a:lnTo>
                <a:lnTo>
                  <a:pt x="1182" y="1744"/>
                </a:lnTo>
                <a:lnTo>
                  <a:pt x="1197" y="1676"/>
                </a:lnTo>
                <a:lnTo>
                  <a:pt x="1204" y="1609"/>
                </a:lnTo>
                <a:lnTo>
                  <a:pt x="1220" y="1540"/>
                </a:lnTo>
                <a:lnTo>
                  <a:pt x="1231" y="1470"/>
                </a:lnTo>
                <a:lnTo>
                  <a:pt x="1238" y="1430"/>
                </a:lnTo>
                <a:lnTo>
                  <a:pt x="1244" y="1388"/>
                </a:lnTo>
                <a:lnTo>
                  <a:pt x="1227" y="1392"/>
                </a:lnTo>
                <a:lnTo>
                  <a:pt x="1221" y="1392"/>
                </a:lnTo>
                <a:lnTo>
                  <a:pt x="1215" y="1386"/>
                </a:lnTo>
                <a:lnTo>
                  <a:pt x="1204" y="1371"/>
                </a:lnTo>
                <a:lnTo>
                  <a:pt x="1182" y="1357"/>
                </a:lnTo>
                <a:lnTo>
                  <a:pt x="1175" y="1353"/>
                </a:lnTo>
                <a:lnTo>
                  <a:pt x="1160" y="1338"/>
                </a:lnTo>
                <a:lnTo>
                  <a:pt x="1145" y="1335"/>
                </a:lnTo>
                <a:lnTo>
                  <a:pt x="1123" y="1340"/>
                </a:lnTo>
                <a:lnTo>
                  <a:pt x="1111" y="1349"/>
                </a:lnTo>
                <a:lnTo>
                  <a:pt x="1075" y="1336"/>
                </a:lnTo>
                <a:lnTo>
                  <a:pt x="1055" y="1326"/>
                </a:lnTo>
                <a:lnTo>
                  <a:pt x="1033" y="1326"/>
                </a:lnTo>
                <a:lnTo>
                  <a:pt x="1015" y="1327"/>
                </a:lnTo>
                <a:lnTo>
                  <a:pt x="993" y="1333"/>
                </a:lnTo>
                <a:lnTo>
                  <a:pt x="985" y="1338"/>
                </a:lnTo>
                <a:lnTo>
                  <a:pt x="965" y="1333"/>
                </a:lnTo>
                <a:lnTo>
                  <a:pt x="924" y="1311"/>
                </a:lnTo>
                <a:lnTo>
                  <a:pt x="897" y="1289"/>
                </a:lnTo>
                <a:lnTo>
                  <a:pt x="871" y="1285"/>
                </a:lnTo>
                <a:lnTo>
                  <a:pt x="856" y="1271"/>
                </a:lnTo>
                <a:lnTo>
                  <a:pt x="850" y="1268"/>
                </a:lnTo>
                <a:lnTo>
                  <a:pt x="835" y="1233"/>
                </a:lnTo>
                <a:lnTo>
                  <a:pt x="829" y="1188"/>
                </a:lnTo>
                <a:lnTo>
                  <a:pt x="825" y="1161"/>
                </a:lnTo>
                <a:lnTo>
                  <a:pt x="817" y="1150"/>
                </a:lnTo>
                <a:lnTo>
                  <a:pt x="806" y="1133"/>
                </a:lnTo>
                <a:lnTo>
                  <a:pt x="780" y="1104"/>
                </a:lnTo>
                <a:lnTo>
                  <a:pt x="762" y="1062"/>
                </a:lnTo>
                <a:lnTo>
                  <a:pt x="754" y="1037"/>
                </a:lnTo>
                <a:lnTo>
                  <a:pt x="747" y="1028"/>
                </a:lnTo>
                <a:lnTo>
                  <a:pt x="729" y="1009"/>
                </a:lnTo>
                <a:lnTo>
                  <a:pt x="706" y="1017"/>
                </a:lnTo>
                <a:lnTo>
                  <a:pt x="693" y="1017"/>
                </a:lnTo>
                <a:lnTo>
                  <a:pt x="684" y="1000"/>
                </a:lnTo>
                <a:lnTo>
                  <a:pt x="662" y="979"/>
                </a:lnTo>
                <a:lnTo>
                  <a:pt x="656" y="941"/>
                </a:lnTo>
                <a:lnTo>
                  <a:pt x="656" y="914"/>
                </a:lnTo>
                <a:lnTo>
                  <a:pt x="667" y="876"/>
                </a:lnTo>
                <a:lnTo>
                  <a:pt x="697" y="840"/>
                </a:lnTo>
                <a:lnTo>
                  <a:pt x="714" y="824"/>
                </a:lnTo>
                <a:lnTo>
                  <a:pt x="721" y="794"/>
                </a:lnTo>
                <a:lnTo>
                  <a:pt x="721" y="777"/>
                </a:lnTo>
                <a:lnTo>
                  <a:pt x="713" y="767"/>
                </a:lnTo>
                <a:lnTo>
                  <a:pt x="696" y="751"/>
                </a:lnTo>
                <a:lnTo>
                  <a:pt x="670" y="739"/>
                </a:lnTo>
                <a:lnTo>
                  <a:pt x="659" y="735"/>
                </a:lnTo>
                <a:lnTo>
                  <a:pt x="653" y="715"/>
                </a:lnTo>
                <a:lnTo>
                  <a:pt x="633" y="665"/>
                </a:lnTo>
                <a:lnTo>
                  <a:pt x="625" y="643"/>
                </a:lnTo>
                <a:lnTo>
                  <a:pt x="621" y="609"/>
                </a:lnTo>
                <a:lnTo>
                  <a:pt x="616" y="583"/>
                </a:lnTo>
                <a:lnTo>
                  <a:pt x="600" y="568"/>
                </a:lnTo>
                <a:lnTo>
                  <a:pt x="594" y="560"/>
                </a:lnTo>
                <a:lnTo>
                  <a:pt x="578" y="543"/>
                </a:lnTo>
                <a:lnTo>
                  <a:pt x="571" y="535"/>
                </a:lnTo>
                <a:lnTo>
                  <a:pt x="571" y="530"/>
                </a:lnTo>
                <a:lnTo>
                  <a:pt x="582" y="485"/>
                </a:lnTo>
                <a:lnTo>
                  <a:pt x="582" y="469"/>
                </a:lnTo>
                <a:lnTo>
                  <a:pt x="569" y="445"/>
                </a:lnTo>
                <a:lnTo>
                  <a:pt x="564" y="440"/>
                </a:lnTo>
                <a:lnTo>
                  <a:pt x="563" y="378"/>
                </a:lnTo>
                <a:lnTo>
                  <a:pt x="622" y="32"/>
                </a:lnTo>
                <a:lnTo>
                  <a:pt x="544" y="17"/>
                </a:lnTo>
                <a:lnTo>
                  <a:pt x="470" y="3"/>
                </a:lnTo>
                <a:lnTo>
                  <a:pt x="454" y="0"/>
                </a:lnTo>
              </a:path>
            </a:pathLst>
          </a:custGeom>
          <a:solidFill>
            <a:srgbClr val="33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Freeform 10"/>
          <p:cNvSpPr/>
          <p:nvPr/>
        </p:nvSpPr>
        <p:spPr>
          <a:xfrm>
            <a:off x="1017720" y="2558880"/>
            <a:ext cx="1003320" cy="1522440"/>
          </a:xfrm>
          <a:custGeom>
            <a:avLst/>
            <a:gdLst>
              <a:gd name="textAreaLeft" fmla="*/ 0 w 1003320"/>
              <a:gd name="textAreaRight" fmla="*/ 1003680 w 1003320"/>
              <a:gd name="textAreaTop" fmla="*/ 0 h 1522440"/>
              <a:gd name="textAreaBottom" fmla="*/ 1522800 h 1522440"/>
            </a:gdLst>
            <a:ahLst/>
            <a:rect l="textAreaLeft" t="textAreaTop" r="textAreaRight" b="textAreaBottom"/>
            <a:pathLst>
              <a:path w="1281" h="2080">
                <a:moveTo>
                  <a:pt x="162" y="0"/>
                </a:moveTo>
                <a:lnTo>
                  <a:pt x="346" y="48"/>
                </a:lnTo>
                <a:lnTo>
                  <a:pt x="525" y="95"/>
                </a:lnTo>
                <a:lnTo>
                  <a:pt x="733" y="148"/>
                </a:lnTo>
                <a:lnTo>
                  <a:pt x="953" y="202"/>
                </a:lnTo>
                <a:lnTo>
                  <a:pt x="1165" y="248"/>
                </a:lnTo>
                <a:lnTo>
                  <a:pt x="1281" y="272"/>
                </a:lnTo>
                <a:lnTo>
                  <a:pt x="988" y="1787"/>
                </a:lnTo>
                <a:lnTo>
                  <a:pt x="975" y="1809"/>
                </a:lnTo>
                <a:lnTo>
                  <a:pt x="968" y="1821"/>
                </a:lnTo>
                <a:lnTo>
                  <a:pt x="951" y="1821"/>
                </a:lnTo>
                <a:lnTo>
                  <a:pt x="927" y="1829"/>
                </a:lnTo>
                <a:lnTo>
                  <a:pt x="909" y="1822"/>
                </a:lnTo>
                <a:lnTo>
                  <a:pt x="905" y="1809"/>
                </a:lnTo>
                <a:lnTo>
                  <a:pt x="902" y="1799"/>
                </a:lnTo>
                <a:lnTo>
                  <a:pt x="897" y="1791"/>
                </a:lnTo>
                <a:lnTo>
                  <a:pt x="877" y="1776"/>
                </a:lnTo>
                <a:lnTo>
                  <a:pt x="865" y="1791"/>
                </a:lnTo>
                <a:lnTo>
                  <a:pt x="852" y="1807"/>
                </a:lnTo>
                <a:lnTo>
                  <a:pt x="846" y="1810"/>
                </a:lnTo>
                <a:lnTo>
                  <a:pt x="849" y="1823"/>
                </a:lnTo>
                <a:lnTo>
                  <a:pt x="856" y="1847"/>
                </a:lnTo>
                <a:lnTo>
                  <a:pt x="858" y="1913"/>
                </a:lnTo>
                <a:lnTo>
                  <a:pt x="857" y="1947"/>
                </a:lnTo>
                <a:lnTo>
                  <a:pt x="845" y="1981"/>
                </a:lnTo>
                <a:lnTo>
                  <a:pt x="833" y="2005"/>
                </a:lnTo>
                <a:lnTo>
                  <a:pt x="830" y="2037"/>
                </a:lnTo>
                <a:lnTo>
                  <a:pt x="826" y="2061"/>
                </a:lnTo>
                <a:lnTo>
                  <a:pt x="829" y="2080"/>
                </a:lnTo>
                <a:lnTo>
                  <a:pt x="0" y="775"/>
                </a:lnTo>
                <a:lnTo>
                  <a:pt x="155" y="30"/>
                </a:lnTo>
                <a:lnTo>
                  <a:pt x="162" y="0"/>
                </a:lnTo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Freeform 11"/>
          <p:cNvSpPr/>
          <p:nvPr/>
        </p:nvSpPr>
        <p:spPr>
          <a:xfrm>
            <a:off x="1982880" y="1365120"/>
            <a:ext cx="1770120" cy="997200"/>
          </a:xfrm>
          <a:custGeom>
            <a:avLst/>
            <a:gdLst>
              <a:gd name="textAreaLeft" fmla="*/ 0 w 1770120"/>
              <a:gd name="textAreaRight" fmla="*/ 1770480 w 1770120"/>
              <a:gd name="textAreaTop" fmla="*/ 0 h 997200"/>
              <a:gd name="textAreaBottom" fmla="*/ 997560 h 997200"/>
            </a:gdLst>
            <a:ahLst/>
            <a:rect l="textAreaLeft" t="textAreaTop" r="textAreaRight" b="textAreaBottom"/>
            <a:pathLst>
              <a:path w="2258" h="1361">
                <a:moveTo>
                  <a:pt x="59" y="0"/>
                </a:moveTo>
                <a:lnTo>
                  <a:pt x="4" y="321"/>
                </a:lnTo>
                <a:lnTo>
                  <a:pt x="0" y="351"/>
                </a:lnTo>
                <a:lnTo>
                  <a:pt x="1" y="407"/>
                </a:lnTo>
                <a:lnTo>
                  <a:pt x="12" y="418"/>
                </a:lnTo>
                <a:lnTo>
                  <a:pt x="20" y="438"/>
                </a:lnTo>
                <a:lnTo>
                  <a:pt x="19" y="452"/>
                </a:lnTo>
                <a:lnTo>
                  <a:pt x="15" y="469"/>
                </a:lnTo>
                <a:lnTo>
                  <a:pt x="9" y="495"/>
                </a:lnTo>
                <a:lnTo>
                  <a:pt x="7" y="501"/>
                </a:lnTo>
                <a:lnTo>
                  <a:pt x="17" y="514"/>
                </a:lnTo>
                <a:lnTo>
                  <a:pt x="36" y="536"/>
                </a:lnTo>
                <a:lnTo>
                  <a:pt x="47" y="551"/>
                </a:lnTo>
                <a:lnTo>
                  <a:pt x="53" y="554"/>
                </a:lnTo>
                <a:lnTo>
                  <a:pt x="55" y="569"/>
                </a:lnTo>
                <a:lnTo>
                  <a:pt x="70" y="630"/>
                </a:lnTo>
                <a:lnTo>
                  <a:pt x="82" y="664"/>
                </a:lnTo>
                <a:lnTo>
                  <a:pt x="96" y="703"/>
                </a:lnTo>
                <a:lnTo>
                  <a:pt x="121" y="713"/>
                </a:lnTo>
                <a:lnTo>
                  <a:pt x="133" y="719"/>
                </a:lnTo>
                <a:lnTo>
                  <a:pt x="144" y="726"/>
                </a:lnTo>
                <a:lnTo>
                  <a:pt x="157" y="745"/>
                </a:lnTo>
                <a:lnTo>
                  <a:pt x="157" y="762"/>
                </a:lnTo>
                <a:lnTo>
                  <a:pt x="157" y="772"/>
                </a:lnTo>
                <a:lnTo>
                  <a:pt x="152" y="783"/>
                </a:lnTo>
                <a:lnTo>
                  <a:pt x="148" y="796"/>
                </a:lnTo>
                <a:lnTo>
                  <a:pt x="130" y="812"/>
                </a:lnTo>
                <a:lnTo>
                  <a:pt x="120" y="830"/>
                </a:lnTo>
                <a:lnTo>
                  <a:pt x="99" y="852"/>
                </a:lnTo>
                <a:lnTo>
                  <a:pt x="96" y="880"/>
                </a:lnTo>
                <a:lnTo>
                  <a:pt x="93" y="909"/>
                </a:lnTo>
                <a:lnTo>
                  <a:pt x="99" y="948"/>
                </a:lnTo>
                <a:lnTo>
                  <a:pt x="116" y="965"/>
                </a:lnTo>
                <a:lnTo>
                  <a:pt x="126" y="978"/>
                </a:lnTo>
                <a:lnTo>
                  <a:pt x="138" y="985"/>
                </a:lnTo>
                <a:lnTo>
                  <a:pt x="145" y="984"/>
                </a:lnTo>
                <a:lnTo>
                  <a:pt x="157" y="978"/>
                </a:lnTo>
                <a:lnTo>
                  <a:pt x="163" y="978"/>
                </a:lnTo>
                <a:lnTo>
                  <a:pt x="174" y="984"/>
                </a:lnTo>
                <a:lnTo>
                  <a:pt x="182" y="990"/>
                </a:lnTo>
                <a:lnTo>
                  <a:pt x="189" y="1003"/>
                </a:lnTo>
                <a:lnTo>
                  <a:pt x="196" y="1021"/>
                </a:lnTo>
                <a:lnTo>
                  <a:pt x="201" y="1036"/>
                </a:lnTo>
                <a:lnTo>
                  <a:pt x="213" y="1069"/>
                </a:lnTo>
                <a:lnTo>
                  <a:pt x="235" y="1092"/>
                </a:lnTo>
                <a:lnTo>
                  <a:pt x="250" y="1112"/>
                </a:lnTo>
                <a:lnTo>
                  <a:pt x="260" y="1125"/>
                </a:lnTo>
                <a:lnTo>
                  <a:pt x="266" y="1156"/>
                </a:lnTo>
                <a:lnTo>
                  <a:pt x="270" y="1186"/>
                </a:lnTo>
                <a:lnTo>
                  <a:pt x="280" y="1212"/>
                </a:lnTo>
                <a:lnTo>
                  <a:pt x="287" y="1236"/>
                </a:lnTo>
                <a:lnTo>
                  <a:pt x="305" y="1250"/>
                </a:lnTo>
                <a:lnTo>
                  <a:pt x="325" y="1256"/>
                </a:lnTo>
                <a:lnTo>
                  <a:pt x="333" y="1261"/>
                </a:lnTo>
                <a:lnTo>
                  <a:pt x="358" y="1276"/>
                </a:lnTo>
                <a:lnTo>
                  <a:pt x="389" y="1293"/>
                </a:lnTo>
                <a:lnTo>
                  <a:pt x="418" y="1307"/>
                </a:lnTo>
                <a:lnTo>
                  <a:pt x="437" y="1299"/>
                </a:lnTo>
                <a:lnTo>
                  <a:pt x="447" y="1295"/>
                </a:lnTo>
                <a:lnTo>
                  <a:pt x="491" y="1294"/>
                </a:lnTo>
                <a:lnTo>
                  <a:pt x="509" y="1302"/>
                </a:lnTo>
                <a:lnTo>
                  <a:pt x="520" y="1309"/>
                </a:lnTo>
                <a:lnTo>
                  <a:pt x="548" y="1317"/>
                </a:lnTo>
                <a:lnTo>
                  <a:pt x="566" y="1308"/>
                </a:lnTo>
                <a:lnTo>
                  <a:pt x="577" y="1304"/>
                </a:lnTo>
                <a:lnTo>
                  <a:pt x="594" y="1304"/>
                </a:lnTo>
                <a:lnTo>
                  <a:pt x="597" y="1304"/>
                </a:lnTo>
                <a:lnTo>
                  <a:pt x="601" y="1314"/>
                </a:lnTo>
                <a:lnTo>
                  <a:pt x="612" y="1319"/>
                </a:lnTo>
                <a:lnTo>
                  <a:pt x="636" y="1337"/>
                </a:lnTo>
                <a:lnTo>
                  <a:pt x="657" y="1355"/>
                </a:lnTo>
                <a:lnTo>
                  <a:pt x="660" y="1361"/>
                </a:lnTo>
                <a:lnTo>
                  <a:pt x="669" y="1359"/>
                </a:lnTo>
                <a:lnTo>
                  <a:pt x="676" y="1354"/>
                </a:lnTo>
                <a:lnTo>
                  <a:pt x="681" y="1348"/>
                </a:lnTo>
                <a:lnTo>
                  <a:pt x="696" y="1240"/>
                </a:lnTo>
                <a:lnTo>
                  <a:pt x="918" y="1270"/>
                </a:lnTo>
                <a:lnTo>
                  <a:pt x="1093" y="1288"/>
                </a:lnTo>
                <a:lnTo>
                  <a:pt x="1282" y="1306"/>
                </a:lnTo>
                <a:lnTo>
                  <a:pt x="1493" y="1322"/>
                </a:lnTo>
                <a:lnTo>
                  <a:pt x="1647" y="1336"/>
                </a:lnTo>
                <a:lnTo>
                  <a:pt x="1893" y="1342"/>
                </a:lnTo>
                <a:lnTo>
                  <a:pt x="2112" y="1348"/>
                </a:lnTo>
                <a:lnTo>
                  <a:pt x="2158" y="1348"/>
                </a:lnTo>
                <a:lnTo>
                  <a:pt x="2167" y="1265"/>
                </a:lnTo>
                <a:lnTo>
                  <a:pt x="2201" y="872"/>
                </a:lnTo>
                <a:lnTo>
                  <a:pt x="2230" y="550"/>
                </a:lnTo>
                <a:lnTo>
                  <a:pt x="2258" y="249"/>
                </a:lnTo>
                <a:lnTo>
                  <a:pt x="1819" y="223"/>
                </a:lnTo>
                <a:lnTo>
                  <a:pt x="1495" y="190"/>
                </a:lnTo>
                <a:lnTo>
                  <a:pt x="1140" y="155"/>
                </a:lnTo>
                <a:lnTo>
                  <a:pt x="712" y="104"/>
                </a:lnTo>
                <a:lnTo>
                  <a:pt x="289" y="45"/>
                </a:lnTo>
                <a:lnTo>
                  <a:pt x="89" y="6"/>
                </a:lnTo>
                <a:lnTo>
                  <a:pt x="59" y="0"/>
                </a:lnTo>
              </a:path>
            </a:pathLst>
          </a:custGeom>
          <a:solidFill>
            <a:srgbClr val="33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Freeform 12"/>
          <p:cNvSpPr/>
          <p:nvPr/>
        </p:nvSpPr>
        <p:spPr>
          <a:xfrm>
            <a:off x="2401920" y="2273400"/>
            <a:ext cx="1273320" cy="842760"/>
          </a:xfrm>
          <a:custGeom>
            <a:avLst/>
            <a:gdLst>
              <a:gd name="textAreaLeft" fmla="*/ 0 w 1273320"/>
              <a:gd name="textAreaRight" fmla="*/ 1273680 w 1273320"/>
              <a:gd name="textAreaTop" fmla="*/ 0 h 842760"/>
              <a:gd name="textAreaBottom" fmla="*/ 843120 h 842760"/>
            </a:gdLst>
            <a:ahLst/>
            <a:rect l="textAreaLeft" t="textAreaTop" r="textAreaRight" b="textAreaBottom"/>
            <a:pathLst>
              <a:path w="1623" h="1150">
                <a:moveTo>
                  <a:pt x="0" y="1000"/>
                </a:moveTo>
                <a:lnTo>
                  <a:pt x="96" y="1014"/>
                </a:lnTo>
                <a:lnTo>
                  <a:pt x="209" y="1035"/>
                </a:lnTo>
                <a:lnTo>
                  <a:pt x="359" y="1058"/>
                </a:lnTo>
                <a:lnTo>
                  <a:pt x="488" y="1073"/>
                </a:lnTo>
                <a:lnTo>
                  <a:pt x="770" y="1099"/>
                </a:lnTo>
                <a:lnTo>
                  <a:pt x="1151" y="1129"/>
                </a:lnTo>
                <a:lnTo>
                  <a:pt x="1361" y="1144"/>
                </a:lnTo>
                <a:lnTo>
                  <a:pt x="1527" y="1150"/>
                </a:lnTo>
                <a:lnTo>
                  <a:pt x="1623" y="107"/>
                </a:lnTo>
                <a:lnTo>
                  <a:pt x="1374" y="101"/>
                </a:lnTo>
                <a:lnTo>
                  <a:pt x="1044" y="89"/>
                </a:lnTo>
                <a:lnTo>
                  <a:pt x="802" y="67"/>
                </a:lnTo>
                <a:lnTo>
                  <a:pt x="413" y="32"/>
                </a:lnTo>
                <a:lnTo>
                  <a:pt x="169" y="0"/>
                </a:lnTo>
                <a:lnTo>
                  <a:pt x="163" y="0"/>
                </a:lnTo>
                <a:lnTo>
                  <a:pt x="0" y="994"/>
                </a:lnTo>
                <a:lnTo>
                  <a:pt x="0" y="1000"/>
                </a:lnTo>
              </a:path>
            </a:pathLst>
          </a:custGeom>
          <a:solidFill>
            <a:srgbClr val="33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Freeform 13"/>
          <p:cNvSpPr/>
          <p:nvPr/>
        </p:nvSpPr>
        <p:spPr>
          <a:xfrm>
            <a:off x="1824120" y="2759040"/>
            <a:ext cx="925560" cy="1065240"/>
          </a:xfrm>
          <a:custGeom>
            <a:avLst/>
            <a:gdLst>
              <a:gd name="textAreaLeft" fmla="*/ 0 w 925560"/>
              <a:gd name="textAreaRight" fmla="*/ 925920 w 925560"/>
              <a:gd name="textAreaTop" fmla="*/ 0 h 1065240"/>
              <a:gd name="textAreaBottom" fmla="*/ 1065600 h 1065240"/>
            </a:gdLst>
            <a:ahLst/>
            <a:rect l="textAreaLeft" t="textAreaTop" r="textAreaRight" b="textAreaBottom"/>
            <a:pathLst>
              <a:path w="1177" h="1455">
                <a:moveTo>
                  <a:pt x="0" y="1288"/>
                </a:moveTo>
                <a:lnTo>
                  <a:pt x="250" y="0"/>
                </a:lnTo>
                <a:lnTo>
                  <a:pt x="363" y="16"/>
                </a:lnTo>
                <a:lnTo>
                  <a:pt x="498" y="40"/>
                </a:lnTo>
                <a:lnTo>
                  <a:pt x="687" y="68"/>
                </a:lnTo>
                <a:lnTo>
                  <a:pt x="773" y="82"/>
                </a:lnTo>
                <a:lnTo>
                  <a:pt x="733" y="339"/>
                </a:lnTo>
                <a:lnTo>
                  <a:pt x="1054" y="391"/>
                </a:lnTo>
                <a:lnTo>
                  <a:pt x="1147" y="405"/>
                </a:lnTo>
                <a:lnTo>
                  <a:pt x="1177" y="408"/>
                </a:lnTo>
                <a:lnTo>
                  <a:pt x="1033" y="1455"/>
                </a:lnTo>
                <a:lnTo>
                  <a:pt x="679" y="1408"/>
                </a:lnTo>
                <a:lnTo>
                  <a:pt x="460" y="1364"/>
                </a:lnTo>
                <a:lnTo>
                  <a:pt x="111" y="1307"/>
                </a:lnTo>
                <a:lnTo>
                  <a:pt x="18" y="1289"/>
                </a:lnTo>
                <a:lnTo>
                  <a:pt x="0" y="1288"/>
                </a:lnTo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Freeform 14"/>
          <p:cNvSpPr/>
          <p:nvPr/>
        </p:nvSpPr>
        <p:spPr>
          <a:xfrm>
            <a:off x="1562040" y="3697200"/>
            <a:ext cx="1081080" cy="1243080"/>
          </a:xfrm>
          <a:custGeom>
            <a:avLst/>
            <a:gdLst>
              <a:gd name="textAreaLeft" fmla="*/ 0 w 1081080"/>
              <a:gd name="textAreaRight" fmla="*/ 1081440 w 1081080"/>
              <a:gd name="textAreaTop" fmla="*/ 0 h 1243080"/>
              <a:gd name="textAreaBottom" fmla="*/ 1243440 h 1243080"/>
            </a:gdLst>
            <a:ahLst/>
            <a:rect l="textAreaLeft" t="textAreaTop" r="textAreaRight" b="textAreaBottom"/>
            <a:pathLst>
              <a:path w="1379" h="1697">
                <a:moveTo>
                  <a:pt x="0" y="1105"/>
                </a:moveTo>
                <a:lnTo>
                  <a:pt x="22" y="1098"/>
                </a:lnTo>
                <a:lnTo>
                  <a:pt x="33" y="1089"/>
                </a:lnTo>
                <a:lnTo>
                  <a:pt x="47" y="1074"/>
                </a:lnTo>
                <a:lnTo>
                  <a:pt x="59" y="1069"/>
                </a:lnTo>
                <a:lnTo>
                  <a:pt x="66" y="1069"/>
                </a:lnTo>
                <a:lnTo>
                  <a:pt x="68" y="1059"/>
                </a:lnTo>
                <a:lnTo>
                  <a:pt x="67" y="1056"/>
                </a:lnTo>
                <a:lnTo>
                  <a:pt x="67" y="1048"/>
                </a:lnTo>
                <a:lnTo>
                  <a:pt x="58" y="1036"/>
                </a:lnTo>
                <a:lnTo>
                  <a:pt x="43" y="1029"/>
                </a:lnTo>
                <a:lnTo>
                  <a:pt x="32" y="1023"/>
                </a:lnTo>
                <a:lnTo>
                  <a:pt x="32" y="1018"/>
                </a:lnTo>
                <a:lnTo>
                  <a:pt x="32" y="1008"/>
                </a:lnTo>
                <a:lnTo>
                  <a:pt x="32" y="1004"/>
                </a:lnTo>
                <a:lnTo>
                  <a:pt x="43" y="995"/>
                </a:lnTo>
                <a:lnTo>
                  <a:pt x="52" y="989"/>
                </a:lnTo>
                <a:lnTo>
                  <a:pt x="58" y="978"/>
                </a:lnTo>
                <a:lnTo>
                  <a:pt x="68" y="964"/>
                </a:lnTo>
                <a:lnTo>
                  <a:pt x="74" y="919"/>
                </a:lnTo>
                <a:lnTo>
                  <a:pt x="77" y="903"/>
                </a:lnTo>
                <a:lnTo>
                  <a:pt x="81" y="870"/>
                </a:lnTo>
                <a:lnTo>
                  <a:pt x="91" y="834"/>
                </a:lnTo>
                <a:lnTo>
                  <a:pt x="96" y="812"/>
                </a:lnTo>
                <a:lnTo>
                  <a:pt x="121" y="772"/>
                </a:lnTo>
                <a:lnTo>
                  <a:pt x="128" y="757"/>
                </a:lnTo>
                <a:lnTo>
                  <a:pt x="150" y="752"/>
                </a:lnTo>
                <a:lnTo>
                  <a:pt x="172" y="749"/>
                </a:lnTo>
                <a:lnTo>
                  <a:pt x="191" y="738"/>
                </a:lnTo>
                <a:lnTo>
                  <a:pt x="209" y="727"/>
                </a:lnTo>
                <a:lnTo>
                  <a:pt x="212" y="725"/>
                </a:lnTo>
                <a:lnTo>
                  <a:pt x="207" y="712"/>
                </a:lnTo>
                <a:lnTo>
                  <a:pt x="196" y="692"/>
                </a:lnTo>
                <a:lnTo>
                  <a:pt x="187" y="678"/>
                </a:lnTo>
                <a:lnTo>
                  <a:pt x="167" y="648"/>
                </a:lnTo>
                <a:lnTo>
                  <a:pt x="158" y="629"/>
                </a:lnTo>
                <a:lnTo>
                  <a:pt x="150" y="609"/>
                </a:lnTo>
                <a:lnTo>
                  <a:pt x="150" y="541"/>
                </a:lnTo>
                <a:lnTo>
                  <a:pt x="145" y="529"/>
                </a:lnTo>
                <a:lnTo>
                  <a:pt x="139" y="519"/>
                </a:lnTo>
                <a:lnTo>
                  <a:pt x="136" y="514"/>
                </a:lnTo>
                <a:lnTo>
                  <a:pt x="139" y="501"/>
                </a:lnTo>
                <a:lnTo>
                  <a:pt x="149" y="449"/>
                </a:lnTo>
                <a:lnTo>
                  <a:pt x="165" y="410"/>
                </a:lnTo>
                <a:lnTo>
                  <a:pt x="173" y="371"/>
                </a:lnTo>
                <a:lnTo>
                  <a:pt x="173" y="351"/>
                </a:lnTo>
                <a:lnTo>
                  <a:pt x="167" y="281"/>
                </a:lnTo>
                <a:lnTo>
                  <a:pt x="161" y="273"/>
                </a:lnTo>
                <a:lnTo>
                  <a:pt x="161" y="264"/>
                </a:lnTo>
                <a:lnTo>
                  <a:pt x="166" y="246"/>
                </a:lnTo>
                <a:lnTo>
                  <a:pt x="172" y="241"/>
                </a:lnTo>
                <a:lnTo>
                  <a:pt x="177" y="234"/>
                </a:lnTo>
                <a:lnTo>
                  <a:pt x="189" y="228"/>
                </a:lnTo>
                <a:lnTo>
                  <a:pt x="192" y="227"/>
                </a:lnTo>
                <a:lnTo>
                  <a:pt x="203" y="227"/>
                </a:lnTo>
                <a:lnTo>
                  <a:pt x="213" y="237"/>
                </a:lnTo>
                <a:lnTo>
                  <a:pt x="219" y="246"/>
                </a:lnTo>
                <a:lnTo>
                  <a:pt x="226" y="257"/>
                </a:lnTo>
                <a:lnTo>
                  <a:pt x="226" y="263"/>
                </a:lnTo>
                <a:lnTo>
                  <a:pt x="232" y="266"/>
                </a:lnTo>
                <a:lnTo>
                  <a:pt x="242" y="272"/>
                </a:lnTo>
                <a:lnTo>
                  <a:pt x="265" y="265"/>
                </a:lnTo>
                <a:lnTo>
                  <a:pt x="280" y="265"/>
                </a:lnTo>
                <a:lnTo>
                  <a:pt x="289" y="253"/>
                </a:lnTo>
                <a:lnTo>
                  <a:pt x="294" y="250"/>
                </a:lnTo>
                <a:lnTo>
                  <a:pt x="300" y="230"/>
                </a:lnTo>
                <a:lnTo>
                  <a:pt x="342" y="0"/>
                </a:lnTo>
                <a:lnTo>
                  <a:pt x="583" y="47"/>
                </a:lnTo>
                <a:lnTo>
                  <a:pt x="752" y="72"/>
                </a:lnTo>
                <a:lnTo>
                  <a:pt x="916" y="99"/>
                </a:lnTo>
                <a:lnTo>
                  <a:pt x="1083" y="129"/>
                </a:lnTo>
                <a:lnTo>
                  <a:pt x="1251" y="151"/>
                </a:lnTo>
                <a:lnTo>
                  <a:pt x="1379" y="170"/>
                </a:lnTo>
                <a:lnTo>
                  <a:pt x="1176" y="1697"/>
                </a:lnTo>
                <a:lnTo>
                  <a:pt x="732" y="1624"/>
                </a:lnTo>
                <a:lnTo>
                  <a:pt x="1" y="1121"/>
                </a:lnTo>
                <a:lnTo>
                  <a:pt x="0" y="1105"/>
                </a:lnTo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Freeform 15"/>
          <p:cNvSpPr/>
          <p:nvPr/>
        </p:nvSpPr>
        <p:spPr>
          <a:xfrm>
            <a:off x="2635200" y="3057480"/>
            <a:ext cx="1270080" cy="849240"/>
          </a:xfrm>
          <a:custGeom>
            <a:avLst/>
            <a:gdLst>
              <a:gd name="textAreaLeft" fmla="*/ 0 w 1270080"/>
              <a:gd name="textAreaRight" fmla="*/ 1270440 w 1270080"/>
              <a:gd name="textAreaTop" fmla="*/ 0 h 849240"/>
              <a:gd name="textAreaBottom" fmla="*/ 849600 h 849240"/>
            </a:gdLst>
            <a:ahLst/>
            <a:rect l="textAreaLeft" t="textAreaTop" r="textAreaRight" b="textAreaBottom"/>
            <a:pathLst>
              <a:path w="1617" h="1161">
                <a:moveTo>
                  <a:pt x="145" y="0"/>
                </a:moveTo>
                <a:lnTo>
                  <a:pt x="264" y="12"/>
                </a:lnTo>
                <a:lnTo>
                  <a:pt x="547" y="37"/>
                </a:lnTo>
                <a:lnTo>
                  <a:pt x="844" y="59"/>
                </a:lnTo>
                <a:lnTo>
                  <a:pt x="1170" y="78"/>
                </a:lnTo>
                <a:lnTo>
                  <a:pt x="1247" y="80"/>
                </a:lnTo>
                <a:lnTo>
                  <a:pt x="1617" y="96"/>
                </a:lnTo>
                <a:lnTo>
                  <a:pt x="1564" y="1161"/>
                </a:lnTo>
                <a:lnTo>
                  <a:pt x="1344" y="1158"/>
                </a:lnTo>
                <a:lnTo>
                  <a:pt x="1021" y="1136"/>
                </a:lnTo>
                <a:lnTo>
                  <a:pt x="743" y="1118"/>
                </a:lnTo>
                <a:lnTo>
                  <a:pt x="419" y="1091"/>
                </a:lnTo>
                <a:lnTo>
                  <a:pt x="175" y="1067"/>
                </a:lnTo>
                <a:lnTo>
                  <a:pt x="0" y="1049"/>
                </a:lnTo>
                <a:lnTo>
                  <a:pt x="136" y="72"/>
                </a:lnTo>
                <a:lnTo>
                  <a:pt x="142" y="22"/>
                </a:lnTo>
                <a:lnTo>
                  <a:pt x="145" y="0"/>
                </a:lnTo>
              </a:path>
            </a:pathLst>
          </a:custGeom>
          <a:solidFill>
            <a:srgbClr val="00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Freeform 16"/>
          <p:cNvSpPr/>
          <p:nvPr/>
        </p:nvSpPr>
        <p:spPr>
          <a:xfrm>
            <a:off x="2482920" y="3809880"/>
            <a:ext cx="1212840" cy="1125720"/>
          </a:xfrm>
          <a:custGeom>
            <a:avLst/>
            <a:gdLst>
              <a:gd name="textAreaLeft" fmla="*/ 0 w 1212840"/>
              <a:gd name="textAreaRight" fmla="*/ 1212840 w 1212840"/>
              <a:gd name="textAreaTop" fmla="*/ 0 h 1125720"/>
              <a:gd name="textAreaBottom" fmla="*/ 1126080 h 1125720"/>
            </a:gdLst>
            <a:ahLst/>
            <a:rect l="textAreaLeft" t="textAreaTop" r="textAreaRight" b="textAreaBottom"/>
            <a:pathLst>
              <a:path w="1547" h="1536">
                <a:moveTo>
                  <a:pt x="0" y="1528"/>
                </a:moveTo>
                <a:lnTo>
                  <a:pt x="202" y="0"/>
                </a:lnTo>
                <a:lnTo>
                  <a:pt x="408" y="25"/>
                </a:lnTo>
                <a:lnTo>
                  <a:pt x="856" y="65"/>
                </a:lnTo>
                <a:lnTo>
                  <a:pt x="1139" y="83"/>
                </a:lnTo>
                <a:lnTo>
                  <a:pt x="1430" y="103"/>
                </a:lnTo>
                <a:lnTo>
                  <a:pt x="1547" y="108"/>
                </a:lnTo>
                <a:lnTo>
                  <a:pt x="1472" y="1379"/>
                </a:lnTo>
                <a:lnTo>
                  <a:pt x="521" y="1378"/>
                </a:lnTo>
                <a:lnTo>
                  <a:pt x="517" y="1450"/>
                </a:lnTo>
                <a:lnTo>
                  <a:pt x="142" y="1429"/>
                </a:lnTo>
                <a:lnTo>
                  <a:pt x="130" y="1536"/>
                </a:lnTo>
                <a:lnTo>
                  <a:pt x="0" y="1528"/>
                </a:lnTo>
              </a:path>
            </a:pathLst>
          </a:custGeom>
          <a:solidFill>
            <a:srgbClr val="33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Freeform 17"/>
          <p:cNvSpPr/>
          <p:nvPr/>
        </p:nvSpPr>
        <p:spPr>
          <a:xfrm>
            <a:off x="3693960" y="1549440"/>
            <a:ext cx="1051200" cy="673200"/>
          </a:xfrm>
          <a:custGeom>
            <a:avLst/>
            <a:gdLst>
              <a:gd name="textAreaLeft" fmla="*/ 0 w 1051200"/>
              <a:gd name="textAreaRight" fmla="*/ 1051560 w 1051200"/>
              <a:gd name="textAreaTop" fmla="*/ 0 h 673200"/>
              <a:gd name="textAreaBottom" fmla="*/ 673560 h 673200"/>
            </a:gdLst>
            <a:ahLst/>
            <a:rect l="textAreaLeft" t="textAreaTop" r="textAreaRight" b="textAreaBottom"/>
            <a:pathLst>
              <a:path w="1339" h="921">
                <a:moveTo>
                  <a:pt x="0" y="855"/>
                </a:moveTo>
                <a:lnTo>
                  <a:pt x="77" y="0"/>
                </a:lnTo>
                <a:lnTo>
                  <a:pt x="166" y="4"/>
                </a:lnTo>
                <a:lnTo>
                  <a:pt x="376" y="18"/>
                </a:lnTo>
                <a:lnTo>
                  <a:pt x="573" y="26"/>
                </a:lnTo>
                <a:lnTo>
                  <a:pt x="896" y="27"/>
                </a:lnTo>
                <a:lnTo>
                  <a:pt x="1119" y="29"/>
                </a:lnTo>
                <a:lnTo>
                  <a:pt x="1253" y="29"/>
                </a:lnTo>
                <a:lnTo>
                  <a:pt x="1258" y="116"/>
                </a:lnTo>
                <a:lnTo>
                  <a:pt x="1258" y="164"/>
                </a:lnTo>
                <a:lnTo>
                  <a:pt x="1254" y="208"/>
                </a:lnTo>
                <a:lnTo>
                  <a:pt x="1241" y="257"/>
                </a:lnTo>
                <a:lnTo>
                  <a:pt x="1237" y="285"/>
                </a:lnTo>
                <a:lnTo>
                  <a:pt x="1244" y="311"/>
                </a:lnTo>
                <a:lnTo>
                  <a:pt x="1254" y="326"/>
                </a:lnTo>
                <a:lnTo>
                  <a:pt x="1276" y="343"/>
                </a:lnTo>
                <a:lnTo>
                  <a:pt x="1292" y="360"/>
                </a:lnTo>
                <a:lnTo>
                  <a:pt x="1305" y="383"/>
                </a:lnTo>
                <a:lnTo>
                  <a:pt x="1305" y="390"/>
                </a:lnTo>
                <a:lnTo>
                  <a:pt x="1312" y="452"/>
                </a:lnTo>
                <a:lnTo>
                  <a:pt x="1307" y="505"/>
                </a:lnTo>
                <a:lnTo>
                  <a:pt x="1296" y="586"/>
                </a:lnTo>
                <a:lnTo>
                  <a:pt x="1305" y="642"/>
                </a:lnTo>
                <a:lnTo>
                  <a:pt x="1319" y="682"/>
                </a:lnTo>
                <a:lnTo>
                  <a:pt x="1324" y="712"/>
                </a:lnTo>
                <a:lnTo>
                  <a:pt x="1320" y="740"/>
                </a:lnTo>
                <a:lnTo>
                  <a:pt x="1321" y="775"/>
                </a:lnTo>
                <a:lnTo>
                  <a:pt x="1329" y="837"/>
                </a:lnTo>
                <a:lnTo>
                  <a:pt x="1339" y="884"/>
                </a:lnTo>
                <a:lnTo>
                  <a:pt x="1336" y="921"/>
                </a:lnTo>
                <a:lnTo>
                  <a:pt x="0" y="855"/>
                </a:lnTo>
              </a:path>
            </a:pathLst>
          </a:custGeom>
          <a:solidFill>
            <a:srgbClr val="33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Freeform 18"/>
          <p:cNvSpPr/>
          <p:nvPr/>
        </p:nvSpPr>
        <p:spPr>
          <a:xfrm>
            <a:off x="3637080" y="2176560"/>
            <a:ext cx="1155600" cy="714240"/>
          </a:xfrm>
          <a:custGeom>
            <a:avLst/>
            <a:gdLst>
              <a:gd name="textAreaLeft" fmla="*/ 0 w 1155600"/>
              <a:gd name="textAreaRight" fmla="*/ 1155960 w 115560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1475" h="976">
                <a:moveTo>
                  <a:pt x="0" y="769"/>
                </a:moveTo>
                <a:lnTo>
                  <a:pt x="72" y="0"/>
                </a:lnTo>
                <a:lnTo>
                  <a:pt x="259" y="12"/>
                </a:lnTo>
                <a:lnTo>
                  <a:pt x="691" y="30"/>
                </a:lnTo>
                <a:lnTo>
                  <a:pt x="1138" y="54"/>
                </a:lnTo>
                <a:lnTo>
                  <a:pt x="1410" y="66"/>
                </a:lnTo>
                <a:lnTo>
                  <a:pt x="1414" y="120"/>
                </a:lnTo>
                <a:lnTo>
                  <a:pt x="1414" y="148"/>
                </a:lnTo>
                <a:lnTo>
                  <a:pt x="1419" y="163"/>
                </a:lnTo>
                <a:lnTo>
                  <a:pt x="1441" y="179"/>
                </a:lnTo>
                <a:lnTo>
                  <a:pt x="1447" y="182"/>
                </a:lnTo>
                <a:lnTo>
                  <a:pt x="1457" y="190"/>
                </a:lnTo>
                <a:lnTo>
                  <a:pt x="1464" y="200"/>
                </a:lnTo>
                <a:lnTo>
                  <a:pt x="1468" y="218"/>
                </a:lnTo>
                <a:lnTo>
                  <a:pt x="1475" y="628"/>
                </a:lnTo>
                <a:lnTo>
                  <a:pt x="1460" y="628"/>
                </a:lnTo>
                <a:lnTo>
                  <a:pt x="1457" y="628"/>
                </a:lnTo>
                <a:lnTo>
                  <a:pt x="1437" y="630"/>
                </a:lnTo>
                <a:lnTo>
                  <a:pt x="1441" y="647"/>
                </a:lnTo>
                <a:lnTo>
                  <a:pt x="1448" y="660"/>
                </a:lnTo>
                <a:lnTo>
                  <a:pt x="1446" y="671"/>
                </a:lnTo>
                <a:lnTo>
                  <a:pt x="1447" y="685"/>
                </a:lnTo>
                <a:lnTo>
                  <a:pt x="1425" y="698"/>
                </a:lnTo>
                <a:lnTo>
                  <a:pt x="1430" y="716"/>
                </a:lnTo>
                <a:lnTo>
                  <a:pt x="1452" y="732"/>
                </a:lnTo>
                <a:lnTo>
                  <a:pt x="1465" y="750"/>
                </a:lnTo>
                <a:lnTo>
                  <a:pt x="1469" y="781"/>
                </a:lnTo>
                <a:lnTo>
                  <a:pt x="1455" y="797"/>
                </a:lnTo>
                <a:lnTo>
                  <a:pt x="1457" y="824"/>
                </a:lnTo>
                <a:lnTo>
                  <a:pt x="1465" y="842"/>
                </a:lnTo>
                <a:lnTo>
                  <a:pt x="1474" y="864"/>
                </a:lnTo>
                <a:lnTo>
                  <a:pt x="1472" y="893"/>
                </a:lnTo>
                <a:lnTo>
                  <a:pt x="1467" y="933"/>
                </a:lnTo>
                <a:lnTo>
                  <a:pt x="1462" y="968"/>
                </a:lnTo>
                <a:lnTo>
                  <a:pt x="1457" y="976"/>
                </a:lnTo>
                <a:lnTo>
                  <a:pt x="1432" y="954"/>
                </a:lnTo>
                <a:lnTo>
                  <a:pt x="1406" y="941"/>
                </a:lnTo>
                <a:lnTo>
                  <a:pt x="1388" y="941"/>
                </a:lnTo>
                <a:lnTo>
                  <a:pt x="1369" y="943"/>
                </a:lnTo>
                <a:lnTo>
                  <a:pt x="1351" y="933"/>
                </a:lnTo>
                <a:lnTo>
                  <a:pt x="1332" y="921"/>
                </a:lnTo>
                <a:lnTo>
                  <a:pt x="1315" y="901"/>
                </a:lnTo>
                <a:lnTo>
                  <a:pt x="1292" y="891"/>
                </a:lnTo>
                <a:lnTo>
                  <a:pt x="1259" y="888"/>
                </a:lnTo>
                <a:lnTo>
                  <a:pt x="1213" y="891"/>
                </a:lnTo>
                <a:lnTo>
                  <a:pt x="1201" y="887"/>
                </a:lnTo>
                <a:lnTo>
                  <a:pt x="1150" y="867"/>
                </a:lnTo>
                <a:lnTo>
                  <a:pt x="1138" y="857"/>
                </a:lnTo>
                <a:lnTo>
                  <a:pt x="1121" y="853"/>
                </a:lnTo>
                <a:lnTo>
                  <a:pt x="1095" y="853"/>
                </a:lnTo>
                <a:lnTo>
                  <a:pt x="1062" y="853"/>
                </a:lnTo>
                <a:lnTo>
                  <a:pt x="1040" y="847"/>
                </a:lnTo>
                <a:lnTo>
                  <a:pt x="1037" y="837"/>
                </a:lnTo>
                <a:lnTo>
                  <a:pt x="1028" y="829"/>
                </a:lnTo>
                <a:lnTo>
                  <a:pt x="1022" y="823"/>
                </a:lnTo>
                <a:lnTo>
                  <a:pt x="1013" y="812"/>
                </a:lnTo>
                <a:lnTo>
                  <a:pt x="998" y="796"/>
                </a:lnTo>
                <a:lnTo>
                  <a:pt x="501" y="778"/>
                </a:lnTo>
                <a:lnTo>
                  <a:pt x="164" y="770"/>
                </a:lnTo>
                <a:lnTo>
                  <a:pt x="42" y="769"/>
                </a:lnTo>
                <a:lnTo>
                  <a:pt x="0" y="769"/>
                </a:lnTo>
              </a:path>
            </a:pathLst>
          </a:custGeom>
          <a:solidFill>
            <a:srgbClr val="33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Freeform 19"/>
          <p:cNvSpPr/>
          <p:nvPr/>
        </p:nvSpPr>
        <p:spPr>
          <a:xfrm>
            <a:off x="3595680" y="2746440"/>
            <a:ext cx="1347840" cy="604800"/>
          </a:xfrm>
          <a:custGeom>
            <a:avLst/>
            <a:gdLst>
              <a:gd name="textAreaLeft" fmla="*/ 0 w 1347840"/>
              <a:gd name="textAreaRight" fmla="*/ 1348200 w 1347840"/>
              <a:gd name="textAreaTop" fmla="*/ 0 h 604800"/>
              <a:gd name="textAreaBottom" fmla="*/ 605160 h 604800"/>
            </a:gdLst>
            <a:ahLst/>
            <a:rect l="textAreaLeft" t="textAreaTop" r="textAreaRight" b="textAreaBottom"/>
            <a:pathLst>
              <a:path w="1715" h="826">
                <a:moveTo>
                  <a:pt x="0" y="516"/>
                </a:moveTo>
                <a:lnTo>
                  <a:pt x="47" y="0"/>
                </a:lnTo>
                <a:lnTo>
                  <a:pt x="249" y="4"/>
                </a:lnTo>
                <a:lnTo>
                  <a:pt x="469" y="6"/>
                </a:lnTo>
                <a:lnTo>
                  <a:pt x="829" y="19"/>
                </a:lnTo>
                <a:lnTo>
                  <a:pt x="1004" y="21"/>
                </a:lnTo>
                <a:lnTo>
                  <a:pt x="1032" y="21"/>
                </a:lnTo>
                <a:lnTo>
                  <a:pt x="1042" y="21"/>
                </a:lnTo>
                <a:lnTo>
                  <a:pt x="1054" y="31"/>
                </a:lnTo>
                <a:lnTo>
                  <a:pt x="1076" y="64"/>
                </a:lnTo>
                <a:lnTo>
                  <a:pt x="1092" y="79"/>
                </a:lnTo>
                <a:lnTo>
                  <a:pt x="1108" y="85"/>
                </a:lnTo>
                <a:lnTo>
                  <a:pt x="1137" y="85"/>
                </a:lnTo>
                <a:lnTo>
                  <a:pt x="1160" y="85"/>
                </a:lnTo>
                <a:lnTo>
                  <a:pt x="1178" y="85"/>
                </a:lnTo>
                <a:lnTo>
                  <a:pt x="1193" y="96"/>
                </a:lnTo>
                <a:lnTo>
                  <a:pt x="1229" y="110"/>
                </a:lnTo>
                <a:lnTo>
                  <a:pt x="1262" y="123"/>
                </a:lnTo>
                <a:lnTo>
                  <a:pt x="1290" y="119"/>
                </a:lnTo>
                <a:lnTo>
                  <a:pt x="1313" y="119"/>
                </a:lnTo>
                <a:lnTo>
                  <a:pt x="1343" y="120"/>
                </a:lnTo>
                <a:lnTo>
                  <a:pt x="1350" y="130"/>
                </a:lnTo>
                <a:lnTo>
                  <a:pt x="1362" y="133"/>
                </a:lnTo>
                <a:lnTo>
                  <a:pt x="1378" y="150"/>
                </a:lnTo>
                <a:lnTo>
                  <a:pt x="1398" y="165"/>
                </a:lnTo>
                <a:lnTo>
                  <a:pt x="1411" y="171"/>
                </a:lnTo>
                <a:lnTo>
                  <a:pt x="1418" y="173"/>
                </a:lnTo>
                <a:lnTo>
                  <a:pt x="1446" y="172"/>
                </a:lnTo>
                <a:lnTo>
                  <a:pt x="1453" y="172"/>
                </a:lnTo>
                <a:lnTo>
                  <a:pt x="1461" y="176"/>
                </a:lnTo>
                <a:lnTo>
                  <a:pt x="1480" y="187"/>
                </a:lnTo>
                <a:lnTo>
                  <a:pt x="1495" y="197"/>
                </a:lnTo>
                <a:lnTo>
                  <a:pt x="1504" y="209"/>
                </a:lnTo>
                <a:lnTo>
                  <a:pt x="1518" y="220"/>
                </a:lnTo>
                <a:lnTo>
                  <a:pt x="1532" y="239"/>
                </a:lnTo>
                <a:lnTo>
                  <a:pt x="1544" y="268"/>
                </a:lnTo>
                <a:lnTo>
                  <a:pt x="1544" y="281"/>
                </a:lnTo>
                <a:lnTo>
                  <a:pt x="1552" y="294"/>
                </a:lnTo>
                <a:lnTo>
                  <a:pt x="1568" y="328"/>
                </a:lnTo>
                <a:lnTo>
                  <a:pt x="1605" y="390"/>
                </a:lnTo>
                <a:lnTo>
                  <a:pt x="1615" y="422"/>
                </a:lnTo>
                <a:lnTo>
                  <a:pt x="1620" y="448"/>
                </a:lnTo>
                <a:lnTo>
                  <a:pt x="1630" y="476"/>
                </a:lnTo>
                <a:lnTo>
                  <a:pt x="1653" y="513"/>
                </a:lnTo>
                <a:lnTo>
                  <a:pt x="1661" y="519"/>
                </a:lnTo>
                <a:lnTo>
                  <a:pt x="1666" y="531"/>
                </a:lnTo>
                <a:lnTo>
                  <a:pt x="1666" y="544"/>
                </a:lnTo>
                <a:lnTo>
                  <a:pt x="1659" y="566"/>
                </a:lnTo>
                <a:lnTo>
                  <a:pt x="1654" y="574"/>
                </a:lnTo>
                <a:lnTo>
                  <a:pt x="1654" y="586"/>
                </a:lnTo>
                <a:lnTo>
                  <a:pt x="1654" y="607"/>
                </a:lnTo>
                <a:lnTo>
                  <a:pt x="1662" y="615"/>
                </a:lnTo>
                <a:lnTo>
                  <a:pt x="1677" y="632"/>
                </a:lnTo>
                <a:lnTo>
                  <a:pt x="1689" y="653"/>
                </a:lnTo>
                <a:lnTo>
                  <a:pt x="1697" y="671"/>
                </a:lnTo>
                <a:lnTo>
                  <a:pt x="1701" y="702"/>
                </a:lnTo>
                <a:lnTo>
                  <a:pt x="1707" y="735"/>
                </a:lnTo>
                <a:lnTo>
                  <a:pt x="1703" y="770"/>
                </a:lnTo>
                <a:lnTo>
                  <a:pt x="1708" y="798"/>
                </a:lnTo>
                <a:lnTo>
                  <a:pt x="1715" y="823"/>
                </a:lnTo>
                <a:lnTo>
                  <a:pt x="1715" y="826"/>
                </a:lnTo>
                <a:lnTo>
                  <a:pt x="1556" y="826"/>
                </a:lnTo>
                <a:lnTo>
                  <a:pt x="1200" y="822"/>
                </a:lnTo>
                <a:lnTo>
                  <a:pt x="745" y="814"/>
                </a:lnTo>
                <a:lnTo>
                  <a:pt x="429" y="806"/>
                </a:lnTo>
                <a:lnTo>
                  <a:pt x="376" y="807"/>
                </a:lnTo>
                <a:lnTo>
                  <a:pt x="388" y="532"/>
                </a:lnTo>
                <a:lnTo>
                  <a:pt x="35" y="517"/>
                </a:lnTo>
                <a:lnTo>
                  <a:pt x="0" y="516"/>
                </a:lnTo>
              </a:path>
            </a:pathLst>
          </a:custGeom>
          <a:solidFill>
            <a:srgbClr val="ff99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Freeform 20"/>
          <p:cNvSpPr/>
          <p:nvPr/>
        </p:nvSpPr>
        <p:spPr>
          <a:xfrm>
            <a:off x="3681360" y="3903840"/>
            <a:ext cx="1447920" cy="68580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1845" h="937">
                <a:moveTo>
                  <a:pt x="11" y="0"/>
                </a:moveTo>
                <a:lnTo>
                  <a:pt x="535" y="12"/>
                </a:lnTo>
                <a:lnTo>
                  <a:pt x="1119" y="26"/>
                </a:lnTo>
                <a:lnTo>
                  <a:pt x="1710" y="39"/>
                </a:lnTo>
                <a:lnTo>
                  <a:pt x="1751" y="43"/>
                </a:lnTo>
                <a:lnTo>
                  <a:pt x="1756" y="134"/>
                </a:lnTo>
                <a:lnTo>
                  <a:pt x="1826" y="330"/>
                </a:lnTo>
                <a:lnTo>
                  <a:pt x="1845" y="937"/>
                </a:lnTo>
                <a:lnTo>
                  <a:pt x="1826" y="937"/>
                </a:lnTo>
                <a:lnTo>
                  <a:pt x="1805" y="928"/>
                </a:lnTo>
                <a:lnTo>
                  <a:pt x="1775" y="915"/>
                </a:lnTo>
                <a:lnTo>
                  <a:pt x="1758" y="910"/>
                </a:lnTo>
                <a:lnTo>
                  <a:pt x="1733" y="902"/>
                </a:lnTo>
                <a:lnTo>
                  <a:pt x="1695" y="890"/>
                </a:lnTo>
                <a:lnTo>
                  <a:pt x="1677" y="881"/>
                </a:lnTo>
                <a:lnTo>
                  <a:pt x="1652" y="874"/>
                </a:lnTo>
                <a:lnTo>
                  <a:pt x="1625" y="868"/>
                </a:lnTo>
                <a:lnTo>
                  <a:pt x="1595" y="872"/>
                </a:lnTo>
                <a:lnTo>
                  <a:pt x="1584" y="868"/>
                </a:lnTo>
                <a:lnTo>
                  <a:pt x="1566" y="864"/>
                </a:lnTo>
                <a:lnTo>
                  <a:pt x="1555" y="860"/>
                </a:lnTo>
                <a:lnTo>
                  <a:pt x="1532" y="864"/>
                </a:lnTo>
                <a:lnTo>
                  <a:pt x="1500" y="877"/>
                </a:lnTo>
                <a:lnTo>
                  <a:pt x="1478" y="887"/>
                </a:lnTo>
                <a:lnTo>
                  <a:pt x="1473" y="896"/>
                </a:lnTo>
                <a:lnTo>
                  <a:pt x="1464" y="902"/>
                </a:lnTo>
                <a:lnTo>
                  <a:pt x="1452" y="919"/>
                </a:lnTo>
                <a:lnTo>
                  <a:pt x="1441" y="925"/>
                </a:lnTo>
                <a:lnTo>
                  <a:pt x="1426" y="926"/>
                </a:lnTo>
                <a:lnTo>
                  <a:pt x="1417" y="929"/>
                </a:lnTo>
                <a:lnTo>
                  <a:pt x="1404" y="929"/>
                </a:lnTo>
                <a:lnTo>
                  <a:pt x="1394" y="930"/>
                </a:lnTo>
                <a:lnTo>
                  <a:pt x="1383" y="930"/>
                </a:lnTo>
                <a:lnTo>
                  <a:pt x="1369" y="919"/>
                </a:lnTo>
                <a:lnTo>
                  <a:pt x="1359" y="910"/>
                </a:lnTo>
                <a:lnTo>
                  <a:pt x="1354" y="902"/>
                </a:lnTo>
                <a:lnTo>
                  <a:pt x="1348" y="889"/>
                </a:lnTo>
                <a:lnTo>
                  <a:pt x="1342" y="880"/>
                </a:lnTo>
                <a:lnTo>
                  <a:pt x="1316" y="868"/>
                </a:lnTo>
                <a:lnTo>
                  <a:pt x="1306" y="869"/>
                </a:lnTo>
                <a:lnTo>
                  <a:pt x="1286" y="873"/>
                </a:lnTo>
                <a:lnTo>
                  <a:pt x="1273" y="887"/>
                </a:lnTo>
                <a:lnTo>
                  <a:pt x="1270" y="896"/>
                </a:lnTo>
                <a:lnTo>
                  <a:pt x="1265" y="902"/>
                </a:lnTo>
                <a:lnTo>
                  <a:pt x="1246" y="891"/>
                </a:lnTo>
                <a:lnTo>
                  <a:pt x="1230" y="888"/>
                </a:lnTo>
                <a:lnTo>
                  <a:pt x="1219" y="902"/>
                </a:lnTo>
                <a:lnTo>
                  <a:pt x="1215" y="910"/>
                </a:lnTo>
                <a:lnTo>
                  <a:pt x="1202" y="925"/>
                </a:lnTo>
                <a:lnTo>
                  <a:pt x="1194" y="930"/>
                </a:lnTo>
                <a:lnTo>
                  <a:pt x="1177" y="933"/>
                </a:lnTo>
                <a:lnTo>
                  <a:pt x="1168" y="919"/>
                </a:lnTo>
                <a:lnTo>
                  <a:pt x="1157" y="904"/>
                </a:lnTo>
                <a:lnTo>
                  <a:pt x="1152" y="896"/>
                </a:lnTo>
                <a:lnTo>
                  <a:pt x="1133" y="896"/>
                </a:lnTo>
                <a:lnTo>
                  <a:pt x="1123" y="896"/>
                </a:lnTo>
                <a:lnTo>
                  <a:pt x="1114" y="890"/>
                </a:lnTo>
                <a:lnTo>
                  <a:pt x="1098" y="879"/>
                </a:lnTo>
                <a:lnTo>
                  <a:pt x="1087" y="882"/>
                </a:lnTo>
                <a:lnTo>
                  <a:pt x="1068" y="885"/>
                </a:lnTo>
                <a:lnTo>
                  <a:pt x="1063" y="885"/>
                </a:lnTo>
                <a:lnTo>
                  <a:pt x="1048" y="885"/>
                </a:lnTo>
                <a:lnTo>
                  <a:pt x="1032" y="882"/>
                </a:lnTo>
                <a:lnTo>
                  <a:pt x="1025" y="872"/>
                </a:lnTo>
                <a:lnTo>
                  <a:pt x="1017" y="864"/>
                </a:lnTo>
                <a:lnTo>
                  <a:pt x="1015" y="858"/>
                </a:lnTo>
                <a:lnTo>
                  <a:pt x="1008" y="846"/>
                </a:lnTo>
                <a:lnTo>
                  <a:pt x="1002" y="844"/>
                </a:lnTo>
                <a:lnTo>
                  <a:pt x="992" y="844"/>
                </a:lnTo>
                <a:lnTo>
                  <a:pt x="980" y="849"/>
                </a:lnTo>
                <a:lnTo>
                  <a:pt x="966" y="853"/>
                </a:lnTo>
                <a:lnTo>
                  <a:pt x="955" y="852"/>
                </a:lnTo>
                <a:lnTo>
                  <a:pt x="942" y="853"/>
                </a:lnTo>
                <a:lnTo>
                  <a:pt x="934" y="853"/>
                </a:lnTo>
                <a:lnTo>
                  <a:pt x="921" y="852"/>
                </a:lnTo>
                <a:lnTo>
                  <a:pt x="916" y="838"/>
                </a:lnTo>
                <a:lnTo>
                  <a:pt x="910" y="827"/>
                </a:lnTo>
                <a:lnTo>
                  <a:pt x="898" y="822"/>
                </a:lnTo>
                <a:lnTo>
                  <a:pt x="887" y="822"/>
                </a:lnTo>
                <a:lnTo>
                  <a:pt x="868" y="822"/>
                </a:lnTo>
                <a:lnTo>
                  <a:pt x="860" y="822"/>
                </a:lnTo>
                <a:lnTo>
                  <a:pt x="848" y="820"/>
                </a:lnTo>
                <a:lnTo>
                  <a:pt x="830" y="815"/>
                </a:lnTo>
                <a:lnTo>
                  <a:pt x="815" y="820"/>
                </a:lnTo>
                <a:lnTo>
                  <a:pt x="806" y="823"/>
                </a:lnTo>
                <a:lnTo>
                  <a:pt x="793" y="823"/>
                </a:lnTo>
                <a:lnTo>
                  <a:pt x="787" y="820"/>
                </a:lnTo>
                <a:lnTo>
                  <a:pt x="777" y="813"/>
                </a:lnTo>
                <a:lnTo>
                  <a:pt x="777" y="798"/>
                </a:lnTo>
                <a:lnTo>
                  <a:pt x="769" y="784"/>
                </a:lnTo>
                <a:lnTo>
                  <a:pt x="765" y="769"/>
                </a:lnTo>
                <a:lnTo>
                  <a:pt x="757" y="762"/>
                </a:lnTo>
                <a:lnTo>
                  <a:pt x="747" y="749"/>
                </a:lnTo>
                <a:lnTo>
                  <a:pt x="731" y="738"/>
                </a:lnTo>
                <a:lnTo>
                  <a:pt x="729" y="736"/>
                </a:lnTo>
                <a:lnTo>
                  <a:pt x="715" y="737"/>
                </a:lnTo>
                <a:lnTo>
                  <a:pt x="708" y="739"/>
                </a:lnTo>
                <a:lnTo>
                  <a:pt x="708" y="743"/>
                </a:lnTo>
                <a:lnTo>
                  <a:pt x="705" y="751"/>
                </a:lnTo>
                <a:lnTo>
                  <a:pt x="694" y="751"/>
                </a:lnTo>
                <a:lnTo>
                  <a:pt x="688" y="737"/>
                </a:lnTo>
                <a:lnTo>
                  <a:pt x="685" y="729"/>
                </a:lnTo>
                <a:lnTo>
                  <a:pt x="674" y="718"/>
                </a:lnTo>
                <a:lnTo>
                  <a:pt x="660" y="716"/>
                </a:lnTo>
                <a:lnTo>
                  <a:pt x="646" y="714"/>
                </a:lnTo>
                <a:lnTo>
                  <a:pt x="633" y="711"/>
                </a:lnTo>
                <a:lnTo>
                  <a:pt x="633" y="187"/>
                </a:lnTo>
                <a:lnTo>
                  <a:pt x="252" y="182"/>
                </a:lnTo>
                <a:lnTo>
                  <a:pt x="0" y="176"/>
                </a:lnTo>
                <a:lnTo>
                  <a:pt x="11" y="0"/>
                </a:lnTo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Freeform 21"/>
          <p:cNvSpPr/>
          <p:nvPr/>
        </p:nvSpPr>
        <p:spPr>
          <a:xfrm>
            <a:off x="2876400" y="4008600"/>
            <a:ext cx="2378160" cy="2065320"/>
          </a:xfrm>
          <a:custGeom>
            <a:avLst/>
            <a:gdLst>
              <a:gd name="textAreaLeft" fmla="*/ 0 w 2378160"/>
              <a:gd name="textAreaRight" fmla="*/ 2378520 w 2378160"/>
              <a:gd name="textAreaTop" fmla="*/ 0 h 2065320"/>
              <a:gd name="textAreaBottom" fmla="*/ 2065680 h 2065320"/>
            </a:gdLst>
            <a:ahLst/>
            <a:rect l="textAreaLeft" t="textAreaTop" r="textAreaRight" b="textAreaBottom"/>
            <a:pathLst>
              <a:path w="3032" h="2822">
                <a:moveTo>
                  <a:pt x="955" y="1098"/>
                </a:moveTo>
                <a:lnTo>
                  <a:pt x="1021" y="0"/>
                </a:lnTo>
                <a:lnTo>
                  <a:pt x="1267" y="9"/>
                </a:lnTo>
                <a:lnTo>
                  <a:pt x="1653" y="13"/>
                </a:lnTo>
                <a:lnTo>
                  <a:pt x="1653" y="534"/>
                </a:lnTo>
                <a:lnTo>
                  <a:pt x="1668" y="542"/>
                </a:lnTo>
                <a:lnTo>
                  <a:pt x="1694" y="545"/>
                </a:lnTo>
                <a:lnTo>
                  <a:pt x="1711" y="572"/>
                </a:lnTo>
                <a:lnTo>
                  <a:pt x="1719" y="579"/>
                </a:lnTo>
                <a:lnTo>
                  <a:pt x="1735" y="563"/>
                </a:lnTo>
                <a:lnTo>
                  <a:pt x="1752" y="563"/>
                </a:lnTo>
                <a:lnTo>
                  <a:pt x="1784" y="594"/>
                </a:lnTo>
                <a:lnTo>
                  <a:pt x="1792" y="609"/>
                </a:lnTo>
                <a:lnTo>
                  <a:pt x="1801" y="631"/>
                </a:lnTo>
                <a:lnTo>
                  <a:pt x="1812" y="650"/>
                </a:lnTo>
                <a:lnTo>
                  <a:pt x="1826" y="650"/>
                </a:lnTo>
                <a:lnTo>
                  <a:pt x="1851" y="642"/>
                </a:lnTo>
                <a:lnTo>
                  <a:pt x="1881" y="649"/>
                </a:lnTo>
                <a:lnTo>
                  <a:pt x="1922" y="649"/>
                </a:lnTo>
                <a:lnTo>
                  <a:pt x="1937" y="662"/>
                </a:lnTo>
                <a:lnTo>
                  <a:pt x="1937" y="666"/>
                </a:lnTo>
                <a:lnTo>
                  <a:pt x="1948" y="679"/>
                </a:lnTo>
                <a:lnTo>
                  <a:pt x="1982" y="679"/>
                </a:lnTo>
                <a:lnTo>
                  <a:pt x="2015" y="671"/>
                </a:lnTo>
                <a:lnTo>
                  <a:pt x="2027" y="671"/>
                </a:lnTo>
                <a:lnTo>
                  <a:pt x="2036" y="687"/>
                </a:lnTo>
                <a:lnTo>
                  <a:pt x="2053" y="709"/>
                </a:lnTo>
                <a:lnTo>
                  <a:pt x="2083" y="712"/>
                </a:lnTo>
                <a:lnTo>
                  <a:pt x="2115" y="703"/>
                </a:lnTo>
                <a:lnTo>
                  <a:pt x="2131" y="715"/>
                </a:lnTo>
                <a:lnTo>
                  <a:pt x="2141" y="723"/>
                </a:lnTo>
                <a:lnTo>
                  <a:pt x="2172" y="723"/>
                </a:lnTo>
                <a:lnTo>
                  <a:pt x="2190" y="746"/>
                </a:lnTo>
                <a:lnTo>
                  <a:pt x="2198" y="760"/>
                </a:lnTo>
                <a:lnTo>
                  <a:pt x="2214" y="759"/>
                </a:lnTo>
                <a:lnTo>
                  <a:pt x="2222" y="752"/>
                </a:lnTo>
                <a:lnTo>
                  <a:pt x="2237" y="730"/>
                </a:lnTo>
                <a:lnTo>
                  <a:pt x="2252" y="712"/>
                </a:lnTo>
                <a:lnTo>
                  <a:pt x="2270" y="722"/>
                </a:lnTo>
                <a:lnTo>
                  <a:pt x="2283" y="729"/>
                </a:lnTo>
                <a:lnTo>
                  <a:pt x="2298" y="704"/>
                </a:lnTo>
                <a:lnTo>
                  <a:pt x="2323" y="696"/>
                </a:lnTo>
                <a:lnTo>
                  <a:pt x="2342" y="696"/>
                </a:lnTo>
                <a:lnTo>
                  <a:pt x="2366" y="711"/>
                </a:lnTo>
                <a:lnTo>
                  <a:pt x="2384" y="741"/>
                </a:lnTo>
                <a:lnTo>
                  <a:pt x="2404" y="759"/>
                </a:lnTo>
                <a:lnTo>
                  <a:pt x="2441" y="752"/>
                </a:lnTo>
                <a:lnTo>
                  <a:pt x="2454" y="752"/>
                </a:lnTo>
                <a:lnTo>
                  <a:pt x="2476" y="740"/>
                </a:lnTo>
                <a:lnTo>
                  <a:pt x="2487" y="724"/>
                </a:lnTo>
                <a:lnTo>
                  <a:pt x="2518" y="701"/>
                </a:lnTo>
                <a:lnTo>
                  <a:pt x="2568" y="687"/>
                </a:lnTo>
                <a:lnTo>
                  <a:pt x="2612" y="699"/>
                </a:lnTo>
                <a:lnTo>
                  <a:pt x="2639" y="691"/>
                </a:lnTo>
                <a:lnTo>
                  <a:pt x="2687" y="704"/>
                </a:lnTo>
                <a:lnTo>
                  <a:pt x="2728" y="718"/>
                </a:lnTo>
                <a:lnTo>
                  <a:pt x="2795" y="741"/>
                </a:lnTo>
                <a:lnTo>
                  <a:pt x="2846" y="764"/>
                </a:lnTo>
                <a:lnTo>
                  <a:pt x="2866" y="764"/>
                </a:lnTo>
                <a:lnTo>
                  <a:pt x="2900" y="775"/>
                </a:lnTo>
                <a:lnTo>
                  <a:pt x="2924" y="769"/>
                </a:lnTo>
                <a:lnTo>
                  <a:pt x="2948" y="1290"/>
                </a:lnTo>
                <a:lnTo>
                  <a:pt x="2972" y="1313"/>
                </a:lnTo>
                <a:lnTo>
                  <a:pt x="2998" y="1336"/>
                </a:lnTo>
                <a:lnTo>
                  <a:pt x="3014" y="1356"/>
                </a:lnTo>
                <a:lnTo>
                  <a:pt x="3025" y="1385"/>
                </a:lnTo>
                <a:lnTo>
                  <a:pt x="3007" y="1403"/>
                </a:lnTo>
                <a:lnTo>
                  <a:pt x="3015" y="1419"/>
                </a:lnTo>
                <a:lnTo>
                  <a:pt x="3031" y="1439"/>
                </a:lnTo>
                <a:lnTo>
                  <a:pt x="3032" y="1472"/>
                </a:lnTo>
                <a:lnTo>
                  <a:pt x="3017" y="1522"/>
                </a:lnTo>
                <a:lnTo>
                  <a:pt x="3001" y="1547"/>
                </a:lnTo>
                <a:lnTo>
                  <a:pt x="3002" y="1586"/>
                </a:lnTo>
                <a:lnTo>
                  <a:pt x="3018" y="1614"/>
                </a:lnTo>
                <a:lnTo>
                  <a:pt x="3013" y="1650"/>
                </a:lnTo>
                <a:lnTo>
                  <a:pt x="3003" y="1674"/>
                </a:lnTo>
                <a:lnTo>
                  <a:pt x="3003" y="1707"/>
                </a:lnTo>
                <a:lnTo>
                  <a:pt x="3014" y="1735"/>
                </a:lnTo>
                <a:lnTo>
                  <a:pt x="2998" y="1764"/>
                </a:lnTo>
                <a:lnTo>
                  <a:pt x="2940" y="1765"/>
                </a:lnTo>
                <a:lnTo>
                  <a:pt x="2820" y="1829"/>
                </a:lnTo>
                <a:lnTo>
                  <a:pt x="2788" y="1860"/>
                </a:lnTo>
                <a:lnTo>
                  <a:pt x="2782" y="1860"/>
                </a:lnTo>
                <a:lnTo>
                  <a:pt x="2774" y="1837"/>
                </a:lnTo>
                <a:lnTo>
                  <a:pt x="2813" y="1815"/>
                </a:lnTo>
                <a:lnTo>
                  <a:pt x="2813" y="1792"/>
                </a:lnTo>
                <a:lnTo>
                  <a:pt x="2781" y="1800"/>
                </a:lnTo>
                <a:lnTo>
                  <a:pt x="2759" y="1800"/>
                </a:lnTo>
                <a:lnTo>
                  <a:pt x="2757" y="1762"/>
                </a:lnTo>
                <a:lnTo>
                  <a:pt x="2740" y="1754"/>
                </a:lnTo>
                <a:lnTo>
                  <a:pt x="2691" y="1763"/>
                </a:lnTo>
                <a:lnTo>
                  <a:pt x="2660" y="1788"/>
                </a:lnTo>
                <a:lnTo>
                  <a:pt x="2676" y="1824"/>
                </a:lnTo>
                <a:lnTo>
                  <a:pt x="2709" y="1839"/>
                </a:lnTo>
                <a:lnTo>
                  <a:pt x="2725" y="1854"/>
                </a:lnTo>
                <a:lnTo>
                  <a:pt x="2719" y="1877"/>
                </a:lnTo>
                <a:lnTo>
                  <a:pt x="2670" y="1930"/>
                </a:lnTo>
                <a:lnTo>
                  <a:pt x="2656" y="2006"/>
                </a:lnTo>
                <a:lnTo>
                  <a:pt x="2615" y="2044"/>
                </a:lnTo>
                <a:lnTo>
                  <a:pt x="2541" y="2090"/>
                </a:lnTo>
                <a:lnTo>
                  <a:pt x="2464" y="2135"/>
                </a:lnTo>
                <a:lnTo>
                  <a:pt x="2512" y="2076"/>
                </a:lnTo>
                <a:lnTo>
                  <a:pt x="2503" y="2053"/>
                </a:lnTo>
                <a:lnTo>
                  <a:pt x="2437" y="2063"/>
                </a:lnTo>
                <a:lnTo>
                  <a:pt x="2414" y="2064"/>
                </a:lnTo>
                <a:lnTo>
                  <a:pt x="2395" y="2048"/>
                </a:lnTo>
                <a:lnTo>
                  <a:pt x="2407" y="2026"/>
                </a:lnTo>
                <a:lnTo>
                  <a:pt x="2391" y="2041"/>
                </a:lnTo>
                <a:lnTo>
                  <a:pt x="2338" y="2050"/>
                </a:lnTo>
                <a:lnTo>
                  <a:pt x="2313" y="2027"/>
                </a:lnTo>
                <a:lnTo>
                  <a:pt x="2290" y="2036"/>
                </a:lnTo>
                <a:lnTo>
                  <a:pt x="2290" y="2051"/>
                </a:lnTo>
                <a:lnTo>
                  <a:pt x="2330" y="2081"/>
                </a:lnTo>
                <a:lnTo>
                  <a:pt x="2356" y="2081"/>
                </a:lnTo>
                <a:lnTo>
                  <a:pt x="2356" y="2110"/>
                </a:lnTo>
                <a:lnTo>
                  <a:pt x="2308" y="2163"/>
                </a:lnTo>
                <a:lnTo>
                  <a:pt x="2300" y="2171"/>
                </a:lnTo>
                <a:lnTo>
                  <a:pt x="2285" y="2157"/>
                </a:lnTo>
                <a:lnTo>
                  <a:pt x="2285" y="2149"/>
                </a:lnTo>
                <a:lnTo>
                  <a:pt x="2264" y="2157"/>
                </a:lnTo>
                <a:lnTo>
                  <a:pt x="2270" y="2195"/>
                </a:lnTo>
                <a:lnTo>
                  <a:pt x="2278" y="2201"/>
                </a:lnTo>
                <a:lnTo>
                  <a:pt x="2240" y="2249"/>
                </a:lnTo>
                <a:lnTo>
                  <a:pt x="2215" y="2249"/>
                </a:lnTo>
                <a:lnTo>
                  <a:pt x="2215" y="2234"/>
                </a:lnTo>
                <a:lnTo>
                  <a:pt x="2215" y="2196"/>
                </a:lnTo>
                <a:lnTo>
                  <a:pt x="2206" y="2202"/>
                </a:lnTo>
                <a:lnTo>
                  <a:pt x="2206" y="2234"/>
                </a:lnTo>
                <a:lnTo>
                  <a:pt x="2150" y="2241"/>
                </a:lnTo>
                <a:lnTo>
                  <a:pt x="2161" y="2263"/>
                </a:lnTo>
                <a:lnTo>
                  <a:pt x="2201" y="2262"/>
                </a:lnTo>
                <a:lnTo>
                  <a:pt x="2192" y="2309"/>
                </a:lnTo>
                <a:lnTo>
                  <a:pt x="2120" y="2310"/>
                </a:lnTo>
                <a:lnTo>
                  <a:pt x="2096" y="2311"/>
                </a:lnTo>
                <a:lnTo>
                  <a:pt x="2106" y="2324"/>
                </a:lnTo>
                <a:lnTo>
                  <a:pt x="2136" y="2330"/>
                </a:lnTo>
                <a:lnTo>
                  <a:pt x="2152" y="2355"/>
                </a:lnTo>
                <a:lnTo>
                  <a:pt x="2153" y="2399"/>
                </a:lnTo>
                <a:lnTo>
                  <a:pt x="2128" y="2416"/>
                </a:lnTo>
                <a:lnTo>
                  <a:pt x="2083" y="2417"/>
                </a:lnTo>
                <a:lnTo>
                  <a:pt x="2083" y="2441"/>
                </a:lnTo>
                <a:lnTo>
                  <a:pt x="2099" y="2446"/>
                </a:lnTo>
                <a:lnTo>
                  <a:pt x="2107" y="2500"/>
                </a:lnTo>
                <a:lnTo>
                  <a:pt x="2126" y="2606"/>
                </a:lnTo>
                <a:lnTo>
                  <a:pt x="2175" y="2747"/>
                </a:lnTo>
                <a:lnTo>
                  <a:pt x="2168" y="2756"/>
                </a:lnTo>
                <a:lnTo>
                  <a:pt x="2159" y="2756"/>
                </a:lnTo>
                <a:lnTo>
                  <a:pt x="2168" y="2762"/>
                </a:lnTo>
                <a:lnTo>
                  <a:pt x="2184" y="2779"/>
                </a:lnTo>
                <a:lnTo>
                  <a:pt x="2201" y="2808"/>
                </a:lnTo>
                <a:lnTo>
                  <a:pt x="2201" y="2822"/>
                </a:lnTo>
                <a:lnTo>
                  <a:pt x="2128" y="2794"/>
                </a:lnTo>
                <a:lnTo>
                  <a:pt x="2055" y="2765"/>
                </a:lnTo>
                <a:lnTo>
                  <a:pt x="2008" y="2749"/>
                </a:lnTo>
                <a:lnTo>
                  <a:pt x="1969" y="2745"/>
                </a:lnTo>
                <a:lnTo>
                  <a:pt x="1934" y="2735"/>
                </a:lnTo>
                <a:lnTo>
                  <a:pt x="1895" y="2709"/>
                </a:lnTo>
                <a:lnTo>
                  <a:pt x="1869" y="2677"/>
                </a:lnTo>
                <a:lnTo>
                  <a:pt x="1830" y="2664"/>
                </a:lnTo>
                <a:lnTo>
                  <a:pt x="1780" y="2626"/>
                </a:lnTo>
                <a:lnTo>
                  <a:pt x="1737" y="2583"/>
                </a:lnTo>
                <a:lnTo>
                  <a:pt x="1714" y="2528"/>
                </a:lnTo>
                <a:lnTo>
                  <a:pt x="1680" y="2431"/>
                </a:lnTo>
                <a:lnTo>
                  <a:pt x="1655" y="2393"/>
                </a:lnTo>
                <a:lnTo>
                  <a:pt x="1606" y="2347"/>
                </a:lnTo>
                <a:lnTo>
                  <a:pt x="1572" y="2284"/>
                </a:lnTo>
                <a:lnTo>
                  <a:pt x="1546" y="2192"/>
                </a:lnTo>
                <a:lnTo>
                  <a:pt x="1513" y="2147"/>
                </a:lnTo>
                <a:lnTo>
                  <a:pt x="1466" y="2071"/>
                </a:lnTo>
                <a:lnTo>
                  <a:pt x="1423" y="1989"/>
                </a:lnTo>
                <a:lnTo>
                  <a:pt x="1413" y="1921"/>
                </a:lnTo>
                <a:lnTo>
                  <a:pt x="1383" y="1878"/>
                </a:lnTo>
                <a:lnTo>
                  <a:pt x="1331" y="1825"/>
                </a:lnTo>
                <a:lnTo>
                  <a:pt x="1297" y="1803"/>
                </a:lnTo>
                <a:lnTo>
                  <a:pt x="1250" y="1794"/>
                </a:lnTo>
                <a:lnTo>
                  <a:pt x="1233" y="1765"/>
                </a:lnTo>
                <a:lnTo>
                  <a:pt x="1176" y="1744"/>
                </a:lnTo>
                <a:lnTo>
                  <a:pt x="1112" y="1745"/>
                </a:lnTo>
                <a:lnTo>
                  <a:pt x="1066" y="1746"/>
                </a:lnTo>
                <a:lnTo>
                  <a:pt x="1007" y="1733"/>
                </a:lnTo>
                <a:lnTo>
                  <a:pt x="968" y="1734"/>
                </a:lnTo>
                <a:lnTo>
                  <a:pt x="952" y="1748"/>
                </a:lnTo>
                <a:lnTo>
                  <a:pt x="920" y="1830"/>
                </a:lnTo>
                <a:lnTo>
                  <a:pt x="913" y="1846"/>
                </a:lnTo>
                <a:lnTo>
                  <a:pt x="870" y="1913"/>
                </a:lnTo>
                <a:lnTo>
                  <a:pt x="841" y="1946"/>
                </a:lnTo>
                <a:lnTo>
                  <a:pt x="824" y="1951"/>
                </a:lnTo>
                <a:lnTo>
                  <a:pt x="761" y="1911"/>
                </a:lnTo>
                <a:lnTo>
                  <a:pt x="731" y="1889"/>
                </a:lnTo>
                <a:lnTo>
                  <a:pt x="704" y="1890"/>
                </a:lnTo>
                <a:lnTo>
                  <a:pt x="637" y="1873"/>
                </a:lnTo>
                <a:lnTo>
                  <a:pt x="539" y="1853"/>
                </a:lnTo>
                <a:lnTo>
                  <a:pt x="385" y="1780"/>
                </a:lnTo>
                <a:lnTo>
                  <a:pt x="349" y="1740"/>
                </a:lnTo>
                <a:lnTo>
                  <a:pt x="317" y="1658"/>
                </a:lnTo>
                <a:lnTo>
                  <a:pt x="283" y="1616"/>
                </a:lnTo>
                <a:lnTo>
                  <a:pt x="256" y="1579"/>
                </a:lnTo>
                <a:lnTo>
                  <a:pt x="237" y="1489"/>
                </a:lnTo>
                <a:lnTo>
                  <a:pt x="196" y="1430"/>
                </a:lnTo>
                <a:lnTo>
                  <a:pt x="156" y="1408"/>
                </a:lnTo>
                <a:lnTo>
                  <a:pt x="121" y="1340"/>
                </a:lnTo>
                <a:lnTo>
                  <a:pt x="81" y="1303"/>
                </a:lnTo>
                <a:lnTo>
                  <a:pt x="59" y="1261"/>
                </a:lnTo>
                <a:lnTo>
                  <a:pt x="15" y="1207"/>
                </a:lnTo>
                <a:lnTo>
                  <a:pt x="0" y="1170"/>
                </a:lnTo>
                <a:lnTo>
                  <a:pt x="4" y="1097"/>
                </a:lnTo>
                <a:lnTo>
                  <a:pt x="955" y="1098"/>
                </a:lnTo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Freeform 22"/>
          <p:cNvSpPr/>
          <p:nvPr/>
        </p:nvSpPr>
        <p:spPr>
          <a:xfrm>
            <a:off x="4664160" y="1566720"/>
            <a:ext cx="1033200" cy="1068480"/>
          </a:xfrm>
          <a:custGeom>
            <a:avLst/>
            <a:gdLst>
              <a:gd name="textAreaLeft" fmla="*/ 0 w 1033200"/>
              <a:gd name="textAreaRight" fmla="*/ 1033560 w 1033200"/>
              <a:gd name="textAreaTop" fmla="*/ 0 h 1068480"/>
              <a:gd name="textAreaBottom" fmla="*/ 1068840 h 1068480"/>
            </a:gdLst>
            <a:ahLst/>
            <a:rect l="textAreaLeft" t="textAreaTop" r="textAreaRight" b="textAreaBottom"/>
            <a:pathLst>
              <a:path w="1315" h="1458">
                <a:moveTo>
                  <a:pt x="15" y="5"/>
                </a:moveTo>
                <a:lnTo>
                  <a:pt x="293" y="1"/>
                </a:lnTo>
                <a:lnTo>
                  <a:pt x="384" y="0"/>
                </a:lnTo>
                <a:lnTo>
                  <a:pt x="408" y="12"/>
                </a:lnTo>
                <a:lnTo>
                  <a:pt x="408" y="23"/>
                </a:lnTo>
                <a:lnTo>
                  <a:pt x="416" y="41"/>
                </a:lnTo>
                <a:lnTo>
                  <a:pt x="442" y="49"/>
                </a:lnTo>
                <a:lnTo>
                  <a:pt x="471" y="48"/>
                </a:lnTo>
                <a:lnTo>
                  <a:pt x="516" y="48"/>
                </a:lnTo>
                <a:lnTo>
                  <a:pt x="539" y="43"/>
                </a:lnTo>
                <a:lnTo>
                  <a:pt x="553" y="43"/>
                </a:lnTo>
                <a:lnTo>
                  <a:pt x="579" y="56"/>
                </a:lnTo>
                <a:lnTo>
                  <a:pt x="583" y="72"/>
                </a:lnTo>
                <a:lnTo>
                  <a:pt x="595" y="85"/>
                </a:lnTo>
                <a:lnTo>
                  <a:pt x="612" y="88"/>
                </a:lnTo>
                <a:lnTo>
                  <a:pt x="635" y="88"/>
                </a:lnTo>
                <a:lnTo>
                  <a:pt x="666" y="79"/>
                </a:lnTo>
                <a:lnTo>
                  <a:pt x="699" y="75"/>
                </a:lnTo>
                <a:lnTo>
                  <a:pt x="720" y="75"/>
                </a:lnTo>
                <a:lnTo>
                  <a:pt x="760" y="86"/>
                </a:lnTo>
                <a:lnTo>
                  <a:pt x="788" y="99"/>
                </a:lnTo>
                <a:lnTo>
                  <a:pt x="792" y="115"/>
                </a:lnTo>
                <a:lnTo>
                  <a:pt x="794" y="136"/>
                </a:lnTo>
                <a:lnTo>
                  <a:pt x="804" y="151"/>
                </a:lnTo>
                <a:lnTo>
                  <a:pt x="825" y="144"/>
                </a:lnTo>
                <a:lnTo>
                  <a:pt x="837" y="140"/>
                </a:lnTo>
                <a:lnTo>
                  <a:pt x="841" y="151"/>
                </a:lnTo>
                <a:lnTo>
                  <a:pt x="863" y="156"/>
                </a:lnTo>
                <a:lnTo>
                  <a:pt x="875" y="136"/>
                </a:lnTo>
                <a:lnTo>
                  <a:pt x="895" y="136"/>
                </a:lnTo>
                <a:lnTo>
                  <a:pt x="912" y="149"/>
                </a:lnTo>
                <a:lnTo>
                  <a:pt x="951" y="172"/>
                </a:lnTo>
                <a:lnTo>
                  <a:pt x="966" y="185"/>
                </a:lnTo>
                <a:lnTo>
                  <a:pt x="999" y="189"/>
                </a:lnTo>
                <a:lnTo>
                  <a:pt x="1017" y="184"/>
                </a:lnTo>
                <a:lnTo>
                  <a:pt x="1031" y="179"/>
                </a:lnTo>
                <a:lnTo>
                  <a:pt x="1048" y="179"/>
                </a:lnTo>
                <a:lnTo>
                  <a:pt x="1062" y="191"/>
                </a:lnTo>
                <a:lnTo>
                  <a:pt x="1086" y="183"/>
                </a:lnTo>
                <a:lnTo>
                  <a:pt x="1115" y="169"/>
                </a:lnTo>
                <a:lnTo>
                  <a:pt x="1129" y="161"/>
                </a:lnTo>
                <a:lnTo>
                  <a:pt x="1148" y="161"/>
                </a:lnTo>
                <a:lnTo>
                  <a:pt x="1167" y="176"/>
                </a:lnTo>
                <a:lnTo>
                  <a:pt x="1167" y="181"/>
                </a:lnTo>
                <a:lnTo>
                  <a:pt x="1184" y="185"/>
                </a:lnTo>
                <a:lnTo>
                  <a:pt x="1224" y="185"/>
                </a:lnTo>
                <a:lnTo>
                  <a:pt x="1244" y="179"/>
                </a:lnTo>
                <a:lnTo>
                  <a:pt x="1265" y="171"/>
                </a:lnTo>
                <a:lnTo>
                  <a:pt x="1299" y="171"/>
                </a:lnTo>
                <a:lnTo>
                  <a:pt x="1315" y="178"/>
                </a:lnTo>
                <a:lnTo>
                  <a:pt x="1262" y="219"/>
                </a:lnTo>
                <a:lnTo>
                  <a:pt x="1185" y="260"/>
                </a:lnTo>
                <a:lnTo>
                  <a:pt x="1106" y="319"/>
                </a:lnTo>
                <a:lnTo>
                  <a:pt x="1042" y="372"/>
                </a:lnTo>
                <a:lnTo>
                  <a:pt x="976" y="432"/>
                </a:lnTo>
                <a:lnTo>
                  <a:pt x="971" y="445"/>
                </a:lnTo>
                <a:lnTo>
                  <a:pt x="965" y="483"/>
                </a:lnTo>
                <a:lnTo>
                  <a:pt x="935" y="523"/>
                </a:lnTo>
                <a:lnTo>
                  <a:pt x="913" y="540"/>
                </a:lnTo>
                <a:lnTo>
                  <a:pt x="904" y="561"/>
                </a:lnTo>
                <a:lnTo>
                  <a:pt x="902" y="587"/>
                </a:lnTo>
                <a:lnTo>
                  <a:pt x="904" y="732"/>
                </a:lnTo>
                <a:lnTo>
                  <a:pt x="885" y="768"/>
                </a:lnTo>
                <a:lnTo>
                  <a:pt x="867" y="790"/>
                </a:lnTo>
                <a:lnTo>
                  <a:pt x="842" y="803"/>
                </a:lnTo>
                <a:lnTo>
                  <a:pt x="824" y="815"/>
                </a:lnTo>
                <a:lnTo>
                  <a:pt x="802" y="842"/>
                </a:lnTo>
                <a:lnTo>
                  <a:pt x="794" y="868"/>
                </a:lnTo>
                <a:lnTo>
                  <a:pt x="794" y="901"/>
                </a:lnTo>
                <a:lnTo>
                  <a:pt x="795" y="927"/>
                </a:lnTo>
                <a:lnTo>
                  <a:pt x="804" y="936"/>
                </a:lnTo>
                <a:lnTo>
                  <a:pt x="817" y="936"/>
                </a:lnTo>
                <a:lnTo>
                  <a:pt x="837" y="951"/>
                </a:lnTo>
                <a:lnTo>
                  <a:pt x="837" y="963"/>
                </a:lnTo>
                <a:lnTo>
                  <a:pt x="833" y="1028"/>
                </a:lnTo>
                <a:lnTo>
                  <a:pt x="842" y="1104"/>
                </a:lnTo>
                <a:lnTo>
                  <a:pt x="851" y="1155"/>
                </a:lnTo>
                <a:lnTo>
                  <a:pt x="865" y="1166"/>
                </a:lnTo>
                <a:lnTo>
                  <a:pt x="898" y="1170"/>
                </a:lnTo>
                <a:lnTo>
                  <a:pt x="925" y="1185"/>
                </a:lnTo>
                <a:lnTo>
                  <a:pt x="935" y="1187"/>
                </a:lnTo>
                <a:lnTo>
                  <a:pt x="947" y="1205"/>
                </a:lnTo>
                <a:lnTo>
                  <a:pt x="958" y="1228"/>
                </a:lnTo>
                <a:lnTo>
                  <a:pt x="966" y="1239"/>
                </a:lnTo>
                <a:lnTo>
                  <a:pt x="980" y="1243"/>
                </a:lnTo>
                <a:lnTo>
                  <a:pt x="1000" y="1257"/>
                </a:lnTo>
                <a:lnTo>
                  <a:pt x="1007" y="1259"/>
                </a:lnTo>
                <a:lnTo>
                  <a:pt x="1040" y="1305"/>
                </a:lnTo>
                <a:lnTo>
                  <a:pt x="1060" y="1335"/>
                </a:lnTo>
                <a:lnTo>
                  <a:pt x="1072" y="1372"/>
                </a:lnTo>
                <a:lnTo>
                  <a:pt x="1079" y="1412"/>
                </a:lnTo>
                <a:lnTo>
                  <a:pt x="1079" y="1433"/>
                </a:lnTo>
                <a:lnTo>
                  <a:pt x="165" y="1458"/>
                </a:lnTo>
                <a:lnTo>
                  <a:pt x="158" y="1043"/>
                </a:lnTo>
                <a:lnTo>
                  <a:pt x="152" y="1031"/>
                </a:lnTo>
                <a:lnTo>
                  <a:pt x="147" y="1024"/>
                </a:lnTo>
                <a:lnTo>
                  <a:pt x="142" y="1015"/>
                </a:lnTo>
                <a:lnTo>
                  <a:pt x="130" y="1009"/>
                </a:lnTo>
                <a:lnTo>
                  <a:pt x="120" y="998"/>
                </a:lnTo>
                <a:lnTo>
                  <a:pt x="109" y="992"/>
                </a:lnTo>
                <a:lnTo>
                  <a:pt x="106" y="978"/>
                </a:lnTo>
                <a:lnTo>
                  <a:pt x="106" y="945"/>
                </a:lnTo>
                <a:lnTo>
                  <a:pt x="101" y="930"/>
                </a:lnTo>
                <a:lnTo>
                  <a:pt x="101" y="911"/>
                </a:lnTo>
                <a:lnTo>
                  <a:pt x="101" y="897"/>
                </a:lnTo>
                <a:lnTo>
                  <a:pt x="100" y="851"/>
                </a:lnTo>
                <a:lnTo>
                  <a:pt x="90" y="813"/>
                </a:lnTo>
                <a:lnTo>
                  <a:pt x="84" y="767"/>
                </a:lnTo>
                <a:lnTo>
                  <a:pt x="82" y="715"/>
                </a:lnTo>
                <a:lnTo>
                  <a:pt x="89" y="689"/>
                </a:lnTo>
                <a:lnTo>
                  <a:pt x="84" y="678"/>
                </a:lnTo>
                <a:lnTo>
                  <a:pt x="78" y="647"/>
                </a:lnTo>
                <a:lnTo>
                  <a:pt x="67" y="614"/>
                </a:lnTo>
                <a:lnTo>
                  <a:pt x="58" y="577"/>
                </a:lnTo>
                <a:lnTo>
                  <a:pt x="58" y="561"/>
                </a:lnTo>
                <a:lnTo>
                  <a:pt x="61" y="533"/>
                </a:lnTo>
                <a:lnTo>
                  <a:pt x="70" y="480"/>
                </a:lnTo>
                <a:lnTo>
                  <a:pt x="74" y="432"/>
                </a:lnTo>
                <a:lnTo>
                  <a:pt x="74" y="412"/>
                </a:lnTo>
                <a:lnTo>
                  <a:pt x="67" y="387"/>
                </a:lnTo>
                <a:lnTo>
                  <a:pt x="67" y="365"/>
                </a:lnTo>
                <a:lnTo>
                  <a:pt x="63" y="349"/>
                </a:lnTo>
                <a:lnTo>
                  <a:pt x="44" y="325"/>
                </a:lnTo>
                <a:lnTo>
                  <a:pt x="39" y="318"/>
                </a:lnTo>
                <a:lnTo>
                  <a:pt x="21" y="308"/>
                </a:lnTo>
                <a:lnTo>
                  <a:pt x="10" y="295"/>
                </a:lnTo>
                <a:lnTo>
                  <a:pt x="5" y="283"/>
                </a:lnTo>
                <a:lnTo>
                  <a:pt x="0" y="269"/>
                </a:lnTo>
                <a:lnTo>
                  <a:pt x="0" y="257"/>
                </a:lnTo>
                <a:lnTo>
                  <a:pt x="3" y="235"/>
                </a:lnTo>
                <a:lnTo>
                  <a:pt x="7" y="208"/>
                </a:lnTo>
                <a:lnTo>
                  <a:pt x="15" y="184"/>
                </a:lnTo>
                <a:lnTo>
                  <a:pt x="21" y="140"/>
                </a:lnTo>
                <a:lnTo>
                  <a:pt x="17" y="33"/>
                </a:lnTo>
                <a:lnTo>
                  <a:pt x="15" y="5"/>
                </a:lnTo>
              </a:path>
            </a:pathLst>
          </a:custGeom>
          <a:solidFill>
            <a:srgbClr val="00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Freeform 23"/>
          <p:cNvSpPr/>
          <p:nvPr/>
        </p:nvSpPr>
        <p:spPr>
          <a:xfrm>
            <a:off x="4754520" y="2616120"/>
            <a:ext cx="947880" cy="641520"/>
          </a:xfrm>
          <a:custGeom>
            <a:avLst/>
            <a:gdLst>
              <a:gd name="textAreaLeft" fmla="*/ 0 w 947880"/>
              <a:gd name="textAreaRight" fmla="*/ 948240 w 947880"/>
              <a:gd name="textAreaTop" fmla="*/ 0 h 641520"/>
              <a:gd name="textAreaBottom" fmla="*/ 641520 h 641520"/>
            </a:gdLst>
            <a:ahLst/>
            <a:rect l="textAreaLeft" t="textAreaTop" r="textAreaRight" b="textAreaBottom"/>
            <a:pathLst>
              <a:path w="1210" h="873">
                <a:moveTo>
                  <a:pt x="15" y="27"/>
                </a:moveTo>
                <a:lnTo>
                  <a:pt x="763" y="3"/>
                </a:lnTo>
                <a:lnTo>
                  <a:pt x="965" y="0"/>
                </a:lnTo>
                <a:lnTo>
                  <a:pt x="972" y="23"/>
                </a:lnTo>
                <a:lnTo>
                  <a:pt x="972" y="33"/>
                </a:lnTo>
                <a:lnTo>
                  <a:pt x="973" y="39"/>
                </a:lnTo>
                <a:lnTo>
                  <a:pt x="985" y="46"/>
                </a:lnTo>
                <a:lnTo>
                  <a:pt x="997" y="57"/>
                </a:lnTo>
                <a:lnTo>
                  <a:pt x="998" y="70"/>
                </a:lnTo>
                <a:lnTo>
                  <a:pt x="988" y="87"/>
                </a:lnTo>
                <a:lnTo>
                  <a:pt x="986" y="92"/>
                </a:lnTo>
                <a:lnTo>
                  <a:pt x="986" y="112"/>
                </a:lnTo>
                <a:lnTo>
                  <a:pt x="999" y="132"/>
                </a:lnTo>
                <a:lnTo>
                  <a:pt x="1009" y="148"/>
                </a:lnTo>
                <a:lnTo>
                  <a:pt x="1023" y="166"/>
                </a:lnTo>
                <a:lnTo>
                  <a:pt x="1023" y="192"/>
                </a:lnTo>
                <a:lnTo>
                  <a:pt x="1040" y="207"/>
                </a:lnTo>
                <a:lnTo>
                  <a:pt x="1052" y="208"/>
                </a:lnTo>
                <a:lnTo>
                  <a:pt x="1066" y="216"/>
                </a:lnTo>
                <a:lnTo>
                  <a:pt x="1075" y="233"/>
                </a:lnTo>
                <a:lnTo>
                  <a:pt x="1088" y="246"/>
                </a:lnTo>
                <a:lnTo>
                  <a:pt x="1104" y="264"/>
                </a:lnTo>
                <a:lnTo>
                  <a:pt x="1127" y="279"/>
                </a:lnTo>
                <a:lnTo>
                  <a:pt x="1143" y="290"/>
                </a:lnTo>
                <a:lnTo>
                  <a:pt x="1159" y="318"/>
                </a:lnTo>
                <a:lnTo>
                  <a:pt x="1161" y="338"/>
                </a:lnTo>
                <a:lnTo>
                  <a:pt x="1173" y="349"/>
                </a:lnTo>
                <a:lnTo>
                  <a:pt x="1182" y="360"/>
                </a:lnTo>
                <a:lnTo>
                  <a:pt x="1191" y="378"/>
                </a:lnTo>
                <a:lnTo>
                  <a:pt x="1202" y="405"/>
                </a:lnTo>
                <a:lnTo>
                  <a:pt x="1202" y="417"/>
                </a:lnTo>
                <a:lnTo>
                  <a:pt x="1210" y="440"/>
                </a:lnTo>
                <a:lnTo>
                  <a:pt x="1204" y="463"/>
                </a:lnTo>
                <a:lnTo>
                  <a:pt x="1195" y="473"/>
                </a:lnTo>
                <a:lnTo>
                  <a:pt x="1191" y="484"/>
                </a:lnTo>
                <a:lnTo>
                  <a:pt x="1191" y="507"/>
                </a:lnTo>
                <a:lnTo>
                  <a:pt x="1177" y="521"/>
                </a:lnTo>
                <a:lnTo>
                  <a:pt x="1159" y="530"/>
                </a:lnTo>
                <a:lnTo>
                  <a:pt x="1141" y="537"/>
                </a:lnTo>
                <a:lnTo>
                  <a:pt x="1119" y="549"/>
                </a:lnTo>
                <a:lnTo>
                  <a:pt x="1098" y="561"/>
                </a:lnTo>
                <a:lnTo>
                  <a:pt x="1079" y="567"/>
                </a:lnTo>
                <a:lnTo>
                  <a:pt x="1069" y="572"/>
                </a:lnTo>
                <a:lnTo>
                  <a:pt x="1058" y="590"/>
                </a:lnTo>
                <a:lnTo>
                  <a:pt x="1058" y="609"/>
                </a:lnTo>
                <a:lnTo>
                  <a:pt x="1052" y="621"/>
                </a:lnTo>
                <a:lnTo>
                  <a:pt x="1052" y="631"/>
                </a:lnTo>
                <a:lnTo>
                  <a:pt x="1066" y="645"/>
                </a:lnTo>
                <a:lnTo>
                  <a:pt x="1078" y="676"/>
                </a:lnTo>
                <a:lnTo>
                  <a:pt x="1083" y="689"/>
                </a:lnTo>
                <a:lnTo>
                  <a:pt x="1082" y="715"/>
                </a:lnTo>
                <a:lnTo>
                  <a:pt x="1067" y="727"/>
                </a:lnTo>
                <a:lnTo>
                  <a:pt x="1066" y="739"/>
                </a:lnTo>
                <a:lnTo>
                  <a:pt x="1063" y="751"/>
                </a:lnTo>
                <a:lnTo>
                  <a:pt x="1058" y="766"/>
                </a:lnTo>
                <a:lnTo>
                  <a:pt x="1038" y="779"/>
                </a:lnTo>
                <a:lnTo>
                  <a:pt x="1023" y="795"/>
                </a:lnTo>
                <a:lnTo>
                  <a:pt x="1011" y="806"/>
                </a:lnTo>
                <a:lnTo>
                  <a:pt x="1005" y="820"/>
                </a:lnTo>
                <a:lnTo>
                  <a:pt x="1005" y="837"/>
                </a:lnTo>
                <a:lnTo>
                  <a:pt x="1005" y="856"/>
                </a:lnTo>
                <a:lnTo>
                  <a:pt x="995" y="868"/>
                </a:lnTo>
                <a:lnTo>
                  <a:pt x="995" y="873"/>
                </a:lnTo>
                <a:lnTo>
                  <a:pt x="991" y="873"/>
                </a:lnTo>
                <a:lnTo>
                  <a:pt x="980" y="859"/>
                </a:lnTo>
                <a:lnTo>
                  <a:pt x="964" y="838"/>
                </a:lnTo>
                <a:lnTo>
                  <a:pt x="954" y="821"/>
                </a:lnTo>
                <a:lnTo>
                  <a:pt x="945" y="811"/>
                </a:lnTo>
                <a:lnTo>
                  <a:pt x="937" y="807"/>
                </a:lnTo>
                <a:lnTo>
                  <a:pt x="927" y="803"/>
                </a:lnTo>
                <a:lnTo>
                  <a:pt x="750" y="806"/>
                </a:lnTo>
                <a:lnTo>
                  <a:pt x="445" y="806"/>
                </a:lnTo>
                <a:lnTo>
                  <a:pt x="256" y="806"/>
                </a:lnTo>
                <a:lnTo>
                  <a:pt x="211" y="806"/>
                </a:lnTo>
                <a:lnTo>
                  <a:pt x="201" y="794"/>
                </a:lnTo>
                <a:lnTo>
                  <a:pt x="191" y="780"/>
                </a:lnTo>
                <a:lnTo>
                  <a:pt x="187" y="775"/>
                </a:lnTo>
                <a:lnTo>
                  <a:pt x="182" y="767"/>
                </a:lnTo>
                <a:lnTo>
                  <a:pt x="182" y="745"/>
                </a:lnTo>
                <a:lnTo>
                  <a:pt x="182" y="739"/>
                </a:lnTo>
                <a:lnTo>
                  <a:pt x="187" y="728"/>
                </a:lnTo>
                <a:lnTo>
                  <a:pt x="194" y="711"/>
                </a:lnTo>
                <a:lnTo>
                  <a:pt x="194" y="707"/>
                </a:lnTo>
                <a:lnTo>
                  <a:pt x="194" y="699"/>
                </a:lnTo>
                <a:lnTo>
                  <a:pt x="190" y="685"/>
                </a:lnTo>
                <a:lnTo>
                  <a:pt x="181" y="679"/>
                </a:lnTo>
                <a:lnTo>
                  <a:pt x="172" y="660"/>
                </a:lnTo>
                <a:lnTo>
                  <a:pt x="154" y="641"/>
                </a:lnTo>
                <a:lnTo>
                  <a:pt x="149" y="620"/>
                </a:lnTo>
                <a:lnTo>
                  <a:pt x="146" y="605"/>
                </a:lnTo>
                <a:lnTo>
                  <a:pt x="143" y="590"/>
                </a:lnTo>
                <a:lnTo>
                  <a:pt x="142" y="579"/>
                </a:lnTo>
                <a:lnTo>
                  <a:pt x="134" y="561"/>
                </a:lnTo>
                <a:lnTo>
                  <a:pt x="126" y="538"/>
                </a:lnTo>
                <a:lnTo>
                  <a:pt x="113" y="521"/>
                </a:lnTo>
                <a:lnTo>
                  <a:pt x="100" y="497"/>
                </a:lnTo>
                <a:lnTo>
                  <a:pt x="89" y="481"/>
                </a:lnTo>
                <a:lnTo>
                  <a:pt x="82" y="462"/>
                </a:lnTo>
                <a:lnTo>
                  <a:pt x="73" y="449"/>
                </a:lnTo>
                <a:lnTo>
                  <a:pt x="72" y="435"/>
                </a:lnTo>
                <a:lnTo>
                  <a:pt x="72" y="431"/>
                </a:lnTo>
                <a:lnTo>
                  <a:pt x="67" y="418"/>
                </a:lnTo>
                <a:lnTo>
                  <a:pt x="61" y="408"/>
                </a:lnTo>
                <a:lnTo>
                  <a:pt x="50" y="397"/>
                </a:lnTo>
                <a:lnTo>
                  <a:pt x="44" y="382"/>
                </a:lnTo>
                <a:lnTo>
                  <a:pt x="35" y="375"/>
                </a:lnTo>
                <a:lnTo>
                  <a:pt x="35" y="371"/>
                </a:lnTo>
                <a:lnTo>
                  <a:pt x="40" y="349"/>
                </a:lnTo>
                <a:lnTo>
                  <a:pt x="44" y="320"/>
                </a:lnTo>
                <a:lnTo>
                  <a:pt x="49" y="281"/>
                </a:lnTo>
                <a:lnTo>
                  <a:pt x="49" y="262"/>
                </a:lnTo>
                <a:lnTo>
                  <a:pt x="44" y="246"/>
                </a:lnTo>
                <a:lnTo>
                  <a:pt x="32" y="229"/>
                </a:lnTo>
                <a:lnTo>
                  <a:pt x="32" y="212"/>
                </a:lnTo>
                <a:lnTo>
                  <a:pt x="31" y="206"/>
                </a:lnTo>
                <a:lnTo>
                  <a:pt x="30" y="196"/>
                </a:lnTo>
                <a:lnTo>
                  <a:pt x="37" y="189"/>
                </a:lnTo>
                <a:lnTo>
                  <a:pt x="44" y="178"/>
                </a:lnTo>
                <a:lnTo>
                  <a:pt x="43" y="162"/>
                </a:lnTo>
                <a:lnTo>
                  <a:pt x="40" y="156"/>
                </a:lnTo>
                <a:lnTo>
                  <a:pt x="32" y="140"/>
                </a:lnTo>
                <a:lnTo>
                  <a:pt x="30" y="131"/>
                </a:lnTo>
                <a:lnTo>
                  <a:pt x="21" y="125"/>
                </a:lnTo>
                <a:lnTo>
                  <a:pt x="10" y="116"/>
                </a:lnTo>
                <a:lnTo>
                  <a:pt x="5" y="113"/>
                </a:lnTo>
                <a:lnTo>
                  <a:pt x="4" y="108"/>
                </a:lnTo>
                <a:lnTo>
                  <a:pt x="2" y="99"/>
                </a:lnTo>
                <a:lnTo>
                  <a:pt x="0" y="95"/>
                </a:lnTo>
                <a:lnTo>
                  <a:pt x="9" y="88"/>
                </a:lnTo>
                <a:lnTo>
                  <a:pt x="23" y="82"/>
                </a:lnTo>
                <a:lnTo>
                  <a:pt x="23" y="77"/>
                </a:lnTo>
                <a:lnTo>
                  <a:pt x="21" y="74"/>
                </a:lnTo>
                <a:lnTo>
                  <a:pt x="21" y="71"/>
                </a:lnTo>
                <a:lnTo>
                  <a:pt x="21" y="65"/>
                </a:lnTo>
                <a:lnTo>
                  <a:pt x="23" y="61"/>
                </a:lnTo>
                <a:lnTo>
                  <a:pt x="23" y="59"/>
                </a:lnTo>
                <a:lnTo>
                  <a:pt x="22" y="56"/>
                </a:lnTo>
                <a:lnTo>
                  <a:pt x="20" y="53"/>
                </a:lnTo>
                <a:lnTo>
                  <a:pt x="16" y="48"/>
                </a:lnTo>
                <a:lnTo>
                  <a:pt x="16" y="39"/>
                </a:lnTo>
                <a:lnTo>
                  <a:pt x="15" y="27"/>
                </a:lnTo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Freeform 24"/>
          <p:cNvSpPr/>
          <p:nvPr/>
        </p:nvSpPr>
        <p:spPr>
          <a:xfrm>
            <a:off x="4919760" y="3203640"/>
            <a:ext cx="1050840" cy="898560"/>
          </a:xfrm>
          <a:custGeom>
            <a:avLst/>
            <a:gdLst>
              <a:gd name="textAreaLeft" fmla="*/ 0 w 1050840"/>
              <a:gd name="textAreaRight" fmla="*/ 1051200 w 1050840"/>
              <a:gd name="textAreaTop" fmla="*/ 0 h 898560"/>
              <a:gd name="textAreaBottom" fmla="*/ 898920 h 898560"/>
            </a:gdLst>
            <a:ahLst/>
            <a:rect l="textAreaLeft" t="textAreaTop" r="textAreaRight" b="textAreaBottom"/>
            <a:pathLst>
              <a:path w="1341" h="1224">
                <a:moveTo>
                  <a:pt x="173" y="996"/>
                </a:moveTo>
                <a:lnTo>
                  <a:pt x="155" y="427"/>
                </a:lnTo>
                <a:lnTo>
                  <a:pt x="161" y="420"/>
                </a:lnTo>
                <a:lnTo>
                  <a:pt x="165" y="413"/>
                </a:lnTo>
                <a:lnTo>
                  <a:pt x="166" y="406"/>
                </a:lnTo>
                <a:lnTo>
                  <a:pt x="166" y="403"/>
                </a:lnTo>
                <a:lnTo>
                  <a:pt x="166" y="400"/>
                </a:lnTo>
                <a:lnTo>
                  <a:pt x="154" y="391"/>
                </a:lnTo>
                <a:lnTo>
                  <a:pt x="144" y="388"/>
                </a:lnTo>
                <a:lnTo>
                  <a:pt x="132" y="386"/>
                </a:lnTo>
                <a:lnTo>
                  <a:pt x="125" y="382"/>
                </a:lnTo>
                <a:lnTo>
                  <a:pt x="115" y="374"/>
                </a:lnTo>
                <a:lnTo>
                  <a:pt x="113" y="360"/>
                </a:lnTo>
                <a:lnTo>
                  <a:pt x="115" y="351"/>
                </a:lnTo>
                <a:lnTo>
                  <a:pt x="116" y="343"/>
                </a:lnTo>
                <a:lnTo>
                  <a:pt x="114" y="334"/>
                </a:lnTo>
                <a:lnTo>
                  <a:pt x="114" y="330"/>
                </a:lnTo>
                <a:lnTo>
                  <a:pt x="98" y="328"/>
                </a:lnTo>
                <a:lnTo>
                  <a:pt x="86" y="318"/>
                </a:lnTo>
                <a:lnTo>
                  <a:pt x="81" y="313"/>
                </a:lnTo>
                <a:lnTo>
                  <a:pt x="63" y="306"/>
                </a:lnTo>
                <a:lnTo>
                  <a:pt x="63" y="298"/>
                </a:lnTo>
                <a:lnTo>
                  <a:pt x="75" y="294"/>
                </a:lnTo>
                <a:lnTo>
                  <a:pt x="78" y="291"/>
                </a:lnTo>
                <a:lnTo>
                  <a:pt x="83" y="288"/>
                </a:lnTo>
                <a:lnTo>
                  <a:pt x="90" y="282"/>
                </a:lnTo>
                <a:lnTo>
                  <a:pt x="98" y="274"/>
                </a:lnTo>
                <a:lnTo>
                  <a:pt x="100" y="270"/>
                </a:lnTo>
                <a:lnTo>
                  <a:pt x="92" y="264"/>
                </a:lnTo>
                <a:lnTo>
                  <a:pt x="90" y="257"/>
                </a:lnTo>
                <a:lnTo>
                  <a:pt x="90" y="250"/>
                </a:lnTo>
                <a:lnTo>
                  <a:pt x="90" y="245"/>
                </a:lnTo>
                <a:lnTo>
                  <a:pt x="78" y="238"/>
                </a:lnTo>
                <a:lnTo>
                  <a:pt x="60" y="235"/>
                </a:lnTo>
                <a:lnTo>
                  <a:pt x="52" y="230"/>
                </a:lnTo>
                <a:lnTo>
                  <a:pt x="44" y="229"/>
                </a:lnTo>
                <a:lnTo>
                  <a:pt x="40" y="214"/>
                </a:lnTo>
                <a:lnTo>
                  <a:pt x="31" y="184"/>
                </a:lnTo>
                <a:lnTo>
                  <a:pt x="24" y="155"/>
                </a:lnTo>
                <a:lnTo>
                  <a:pt x="20" y="130"/>
                </a:lnTo>
                <a:lnTo>
                  <a:pt x="20" y="117"/>
                </a:lnTo>
                <a:lnTo>
                  <a:pt x="23" y="95"/>
                </a:lnTo>
                <a:lnTo>
                  <a:pt x="18" y="62"/>
                </a:lnTo>
                <a:lnTo>
                  <a:pt x="14" y="40"/>
                </a:lnTo>
                <a:lnTo>
                  <a:pt x="6" y="17"/>
                </a:lnTo>
                <a:lnTo>
                  <a:pt x="5" y="11"/>
                </a:lnTo>
                <a:lnTo>
                  <a:pt x="0" y="3"/>
                </a:lnTo>
                <a:lnTo>
                  <a:pt x="165" y="4"/>
                </a:lnTo>
                <a:lnTo>
                  <a:pt x="701" y="0"/>
                </a:lnTo>
                <a:lnTo>
                  <a:pt x="716" y="0"/>
                </a:lnTo>
                <a:lnTo>
                  <a:pt x="736" y="10"/>
                </a:lnTo>
                <a:lnTo>
                  <a:pt x="743" y="23"/>
                </a:lnTo>
                <a:lnTo>
                  <a:pt x="760" y="44"/>
                </a:lnTo>
                <a:lnTo>
                  <a:pt x="769" y="57"/>
                </a:lnTo>
                <a:lnTo>
                  <a:pt x="781" y="70"/>
                </a:lnTo>
                <a:lnTo>
                  <a:pt x="796" y="97"/>
                </a:lnTo>
                <a:lnTo>
                  <a:pt x="805" y="115"/>
                </a:lnTo>
                <a:lnTo>
                  <a:pt x="804" y="137"/>
                </a:lnTo>
                <a:lnTo>
                  <a:pt x="804" y="146"/>
                </a:lnTo>
                <a:lnTo>
                  <a:pt x="806" y="167"/>
                </a:lnTo>
                <a:lnTo>
                  <a:pt x="815" y="185"/>
                </a:lnTo>
                <a:lnTo>
                  <a:pt x="829" y="191"/>
                </a:lnTo>
                <a:lnTo>
                  <a:pt x="843" y="205"/>
                </a:lnTo>
                <a:lnTo>
                  <a:pt x="847" y="221"/>
                </a:lnTo>
                <a:lnTo>
                  <a:pt x="855" y="239"/>
                </a:lnTo>
                <a:lnTo>
                  <a:pt x="865" y="250"/>
                </a:lnTo>
                <a:lnTo>
                  <a:pt x="885" y="281"/>
                </a:lnTo>
                <a:lnTo>
                  <a:pt x="909" y="290"/>
                </a:lnTo>
                <a:lnTo>
                  <a:pt x="926" y="305"/>
                </a:lnTo>
                <a:lnTo>
                  <a:pt x="939" y="336"/>
                </a:lnTo>
                <a:lnTo>
                  <a:pt x="939" y="368"/>
                </a:lnTo>
                <a:lnTo>
                  <a:pt x="950" y="400"/>
                </a:lnTo>
                <a:lnTo>
                  <a:pt x="971" y="426"/>
                </a:lnTo>
                <a:lnTo>
                  <a:pt x="987" y="434"/>
                </a:lnTo>
                <a:lnTo>
                  <a:pt x="1001" y="423"/>
                </a:lnTo>
                <a:lnTo>
                  <a:pt x="1004" y="405"/>
                </a:lnTo>
                <a:lnTo>
                  <a:pt x="1024" y="402"/>
                </a:lnTo>
                <a:lnTo>
                  <a:pt x="1046" y="403"/>
                </a:lnTo>
                <a:lnTo>
                  <a:pt x="1077" y="450"/>
                </a:lnTo>
                <a:lnTo>
                  <a:pt x="1097" y="480"/>
                </a:lnTo>
                <a:lnTo>
                  <a:pt x="1082" y="501"/>
                </a:lnTo>
                <a:lnTo>
                  <a:pt x="1078" y="518"/>
                </a:lnTo>
                <a:lnTo>
                  <a:pt x="1071" y="547"/>
                </a:lnTo>
                <a:lnTo>
                  <a:pt x="1063" y="575"/>
                </a:lnTo>
                <a:lnTo>
                  <a:pt x="1044" y="591"/>
                </a:lnTo>
                <a:lnTo>
                  <a:pt x="1044" y="623"/>
                </a:lnTo>
                <a:lnTo>
                  <a:pt x="1071" y="645"/>
                </a:lnTo>
                <a:lnTo>
                  <a:pt x="1097" y="661"/>
                </a:lnTo>
                <a:lnTo>
                  <a:pt x="1153" y="698"/>
                </a:lnTo>
                <a:lnTo>
                  <a:pt x="1185" y="720"/>
                </a:lnTo>
                <a:lnTo>
                  <a:pt x="1196" y="741"/>
                </a:lnTo>
                <a:lnTo>
                  <a:pt x="1196" y="766"/>
                </a:lnTo>
                <a:lnTo>
                  <a:pt x="1212" y="783"/>
                </a:lnTo>
                <a:lnTo>
                  <a:pt x="1227" y="792"/>
                </a:lnTo>
                <a:lnTo>
                  <a:pt x="1245" y="812"/>
                </a:lnTo>
                <a:lnTo>
                  <a:pt x="1260" y="842"/>
                </a:lnTo>
                <a:lnTo>
                  <a:pt x="1258" y="855"/>
                </a:lnTo>
                <a:lnTo>
                  <a:pt x="1247" y="873"/>
                </a:lnTo>
                <a:lnTo>
                  <a:pt x="1247" y="882"/>
                </a:lnTo>
                <a:lnTo>
                  <a:pt x="1261" y="898"/>
                </a:lnTo>
                <a:lnTo>
                  <a:pt x="1275" y="912"/>
                </a:lnTo>
                <a:lnTo>
                  <a:pt x="1290" y="925"/>
                </a:lnTo>
                <a:lnTo>
                  <a:pt x="1294" y="932"/>
                </a:lnTo>
                <a:lnTo>
                  <a:pt x="1304" y="927"/>
                </a:lnTo>
                <a:lnTo>
                  <a:pt x="1307" y="913"/>
                </a:lnTo>
                <a:lnTo>
                  <a:pt x="1322" y="916"/>
                </a:lnTo>
                <a:lnTo>
                  <a:pt x="1335" y="948"/>
                </a:lnTo>
                <a:lnTo>
                  <a:pt x="1340" y="969"/>
                </a:lnTo>
                <a:lnTo>
                  <a:pt x="1341" y="980"/>
                </a:lnTo>
                <a:lnTo>
                  <a:pt x="1323" y="996"/>
                </a:lnTo>
                <a:lnTo>
                  <a:pt x="1323" y="1016"/>
                </a:lnTo>
                <a:lnTo>
                  <a:pt x="1321" y="1031"/>
                </a:lnTo>
                <a:lnTo>
                  <a:pt x="1314" y="1034"/>
                </a:lnTo>
                <a:lnTo>
                  <a:pt x="1295" y="1040"/>
                </a:lnTo>
                <a:lnTo>
                  <a:pt x="1274" y="1048"/>
                </a:lnTo>
                <a:lnTo>
                  <a:pt x="1269" y="1054"/>
                </a:lnTo>
                <a:lnTo>
                  <a:pt x="1243" y="1057"/>
                </a:lnTo>
                <a:lnTo>
                  <a:pt x="1241" y="1065"/>
                </a:lnTo>
                <a:lnTo>
                  <a:pt x="1241" y="1088"/>
                </a:lnTo>
                <a:lnTo>
                  <a:pt x="1249" y="1118"/>
                </a:lnTo>
                <a:lnTo>
                  <a:pt x="1249" y="1133"/>
                </a:lnTo>
                <a:lnTo>
                  <a:pt x="1228" y="1146"/>
                </a:lnTo>
                <a:lnTo>
                  <a:pt x="1215" y="1158"/>
                </a:lnTo>
                <a:lnTo>
                  <a:pt x="1211" y="1181"/>
                </a:lnTo>
                <a:lnTo>
                  <a:pt x="1211" y="1196"/>
                </a:lnTo>
                <a:lnTo>
                  <a:pt x="1208" y="1205"/>
                </a:lnTo>
                <a:lnTo>
                  <a:pt x="1208" y="1216"/>
                </a:lnTo>
                <a:lnTo>
                  <a:pt x="1118" y="1221"/>
                </a:lnTo>
                <a:lnTo>
                  <a:pt x="1092" y="1224"/>
                </a:lnTo>
                <a:lnTo>
                  <a:pt x="1099" y="1181"/>
                </a:lnTo>
                <a:lnTo>
                  <a:pt x="1109" y="1152"/>
                </a:lnTo>
                <a:lnTo>
                  <a:pt x="1123" y="1126"/>
                </a:lnTo>
                <a:lnTo>
                  <a:pt x="1132" y="1111"/>
                </a:lnTo>
                <a:lnTo>
                  <a:pt x="1131" y="1094"/>
                </a:lnTo>
                <a:lnTo>
                  <a:pt x="1123" y="1082"/>
                </a:lnTo>
                <a:lnTo>
                  <a:pt x="1123" y="1071"/>
                </a:lnTo>
                <a:lnTo>
                  <a:pt x="178" y="1087"/>
                </a:lnTo>
                <a:lnTo>
                  <a:pt x="174" y="1002"/>
                </a:lnTo>
                <a:lnTo>
                  <a:pt x="173" y="996"/>
                </a:lnTo>
              </a:path>
            </a:pathLst>
          </a:custGeom>
          <a:solidFill>
            <a:srgbClr val="00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Freeform 25"/>
          <p:cNvSpPr/>
          <p:nvPr/>
        </p:nvSpPr>
        <p:spPr>
          <a:xfrm>
            <a:off x="3862440" y="3327480"/>
            <a:ext cx="1192320" cy="608040"/>
          </a:xfrm>
          <a:custGeom>
            <a:avLst/>
            <a:gdLst>
              <a:gd name="textAreaLeft" fmla="*/ 0 w 1192320"/>
              <a:gd name="textAreaRight" fmla="*/ 1192680 w 11923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1521" h="829">
                <a:moveTo>
                  <a:pt x="0" y="794"/>
                </a:moveTo>
                <a:lnTo>
                  <a:pt x="39" y="0"/>
                </a:lnTo>
                <a:lnTo>
                  <a:pt x="410" y="9"/>
                </a:lnTo>
                <a:lnTo>
                  <a:pt x="845" y="18"/>
                </a:lnTo>
                <a:lnTo>
                  <a:pt x="1379" y="21"/>
                </a:lnTo>
                <a:lnTo>
                  <a:pt x="1389" y="53"/>
                </a:lnTo>
                <a:lnTo>
                  <a:pt x="1393" y="63"/>
                </a:lnTo>
                <a:lnTo>
                  <a:pt x="1408" y="68"/>
                </a:lnTo>
                <a:lnTo>
                  <a:pt x="1420" y="71"/>
                </a:lnTo>
                <a:lnTo>
                  <a:pt x="1431" y="74"/>
                </a:lnTo>
                <a:lnTo>
                  <a:pt x="1438" y="80"/>
                </a:lnTo>
                <a:lnTo>
                  <a:pt x="1438" y="86"/>
                </a:lnTo>
                <a:lnTo>
                  <a:pt x="1440" y="91"/>
                </a:lnTo>
                <a:lnTo>
                  <a:pt x="1447" y="103"/>
                </a:lnTo>
                <a:lnTo>
                  <a:pt x="1439" y="114"/>
                </a:lnTo>
                <a:lnTo>
                  <a:pt x="1434" y="115"/>
                </a:lnTo>
                <a:lnTo>
                  <a:pt x="1426" y="124"/>
                </a:lnTo>
                <a:lnTo>
                  <a:pt x="1411" y="133"/>
                </a:lnTo>
                <a:lnTo>
                  <a:pt x="1419" y="143"/>
                </a:lnTo>
                <a:lnTo>
                  <a:pt x="1429" y="147"/>
                </a:lnTo>
                <a:lnTo>
                  <a:pt x="1434" y="150"/>
                </a:lnTo>
                <a:lnTo>
                  <a:pt x="1446" y="159"/>
                </a:lnTo>
                <a:lnTo>
                  <a:pt x="1460" y="165"/>
                </a:lnTo>
                <a:lnTo>
                  <a:pt x="1465" y="178"/>
                </a:lnTo>
                <a:lnTo>
                  <a:pt x="1461" y="184"/>
                </a:lnTo>
                <a:lnTo>
                  <a:pt x="1461" y="195"/>
                </a:lnTo>
                <a:lnTo>
                  <a:pt x="1463" y="207"/>
                </a:lnTo>
                <a:lnTo>
                  <a:pt x="1473" y="216"/>
                </a:lnTo>
                <a:lnTo>
                  <a:pt x="1490" y="221"/>
                </a:lnTo>
                <a:lnTo>
                  <a:pt x="1502" y="224"/>
                </a:lnTo>
                <a:lnTo>
                  <a:pt x="1514" y="233"/>
                </a:lnTo>
                <a:lnTo>
                  <a:pt x="1514" y="244"/>
                </a:lnTo>
                <a:lnTo>
                  <a:pt x="1509" y="250"/>
                </a:lnTo>
                <a:lnTo>
                  <a:pt x="1503" y="257"/>
                </a:lnTo>
                <a:lnTo>
                  <a:pt x="1521" y="829"/>
                </a:lnTo>
                <a:lnTo>
                  <a:pt x="901" y="813"/>
                </a:lnTo>
                <a:lnTo>
                  <a:pt x="432" y="800"/>
                </a:lnTo>
                <a:lnTo>
                  <a:pt x="51" y="792"/>
                </a:lnTo>
                <a:lnTo>
                  <a:pt x="0" y="794"/>
                </a:lnTo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Freeform 26"/>
          <p:cNvSpPr/>
          <p:nvPr/>
        </p:nvSpPr>
        <p:spPr>
          <a:xfrm>
            <a:off x="5059440" y="3989520"/>
            <a:ext cx="819000" cy="718920"/>
          </a:xfrm>
          <a:custGeom>
            <a:avLst/>
            <a:gdLst>
              <a:gd name="textAreaLeft" fmla="*/ 0 w 819000"/>
              <a:gd name="textAreaRight" fmla="*/ 819360 w 819000"/>
              <a:gd name="textAreaTop" fmla="*/ 0 h 718920"/>
              <a:gd name="textAreaBottom" fmla="*/ 719280 h 718920"/>
            </a:gdLst>
            <a:ahLst/>
            <a:rect l="textAreaLeft" t="textAreaTop" r="textAreaRight" b="textAreaBottom"/>
            <a:pathLst>
              <a:path w="1044" h="982">
                <a:moveTo>
                  <a:pt x="0" y="17"/>
                </a:moveTo>
                <a:lnTo>
                  <a:pt x="681" y="2"/>
                </a:lnTo>
                <a:lnTo>
                  <a:pt x="945" y="0"/>
                </a:lnTo>
                <a:lnTo>
                  <a:pt x="945" y="13"/>
                </a:lnTo>
                <a:lnTo>
                  <a:pt x="952" y="21"/>
                </a:lnTo>
                <a:lnTo>
                  <a:pt x="953" y="30"/>
                </a:lnTo>
                <a:lnTo>
                  <a:pt x="954" y="40"/>
                </a:lnTo>
                <a:lnTo>
                  <a:pt x="953" y="50"/>
                </a:lnTo>
                <a:lnTo>
                  <a:pt x="945" y="58"/>
                </a:lnTo>
                <a:lnTo>
                  <a:pt x="934" y="73"/>
                </a:lnTo>
                <a:lnTo>
                  <a:pt x="925" y="93"/>
                </a:lnTo>
                <a:lnTo>
                  <a:pt x="921" y="114"/>
                </a:lnTo>
                <a:lnTo>
                  <a:pt x="916" y="133"/>
                </a:lnTo>
                <a:lnTo>
                  <a:pt x="914" y="150"/>
                </a:lnTo>
                <a:lnTo>
                  <a:pt x="925" y="153"/>
                </a:lnTo>
                <a:lnTo>
                  <a:pt x="945" y="150"/>
                </a:lnTo>
                <a:lnTo>
                  <a:pt x="970" y="150"/>
                </a:lnTo>
                <a:lnTo>
                  <a:pt x="1027" y="145"/>
                </a:lnTo>
                <a:lnTo>
                  <a:pt x="1031" y="150"/>
                </a:lnTo>
                <a:lnTo>
                  <a:pt x="1038" y="160"/>
                </a:lnTo>
                <a:lnTo>
                  <a:pt x="1044" y="168"/>
                </a:lnTo>
                <a:lnTo>
                  <a:pt x="1043" y="179"/>
                </a:lnTo>
                <a:lnTo>
                  <a:pt x="1026" y="182"/>
                </a:lnTo>
                <a:lnTo>
                  <a:pt x="1018" y="186"/>
                </a:lnTo>
                <a:lnTo>
                  <a:pt x="1014" y="190"/>
                </a:lnTo>
                <a:lnTo>
                  <a:pt x="1014" y="209"/>
                </a:lnTo>
                <a:lnTo>
                  <a:pt x="1011" y="224"/>
                </a:lnTo>
                <a:lnTo>
                  <a:pt x="999" y="235"/>
                </a:lnTo>
                <a:lnTo>
                  <a:pt x="986" y="247"/>
                </a:lnTo>
                <a:lnTo>
                  <a:pt x="977" y="255"/>
                </a:lnTo>
                <a:lnTo>
                  <a:pt x="968" y="272"/>
                </a:lnTo>
                <a:lnTo>
                  <a:pt x="953" y="288"/>
                </a:lnTo>
                <a:lnTo>
                  <a:pt x="954" y="308"/>
                </a:lnTo>
                <a:lnTo>
                  <a:pt x="968" y="329"/>
                </a:lnTo>
                <a:lnTo>
                  <a:pt x="974" y="342"/>
                </a:lnTo>
                <a:lnTo>
                  <a:pt x="985" y="360"/>
                </a:lnTo>
                <a:lnTo>
                  <a:pt x="986" y="390"/>
                </a:lnTo>
                <a:lnTo>
                  <a:pt x="970" y="400"/>
                </a:lnTo>
                <a:lnTo>
                  <a:pt x="950" y="409"/>
                </a:lnTo>
                <a:lnTo>
                  <a:pt x="940" y="432"/>
                </a:lnTo>
                <a:lnTo>
                  <a:pt x="921" y="434"/>
                </a:lnTo>
                <a:lnTo>
                  <a:pt x="914" y="454"/>
                </a:lnTo>
                <a:lnTo>
                  <a:pt x="910" y="469"/>
                </a:lnTo>
                <a:lnTo>
                  <a:pt x="906" y="493"/>
                </a:lnTo>
                <a:lnTo>
                  <a:pt x="915" y="513"/>
                </a:lnTo>
                <a:lnTo>
                  <a:pt x="917" y="529"/>
                </a:lnTo>
                <a:lnTo>
                  <a:pt x="900" y="547"/>
                </a:lnTo>
                <a:lnTo>
                  <a:pt x="881" y="557"/>
                </a:lnTo>
                <a:lnTo>
                  <a:pt x="864" y="559"/>
                </a:lnTo>
                <a:lnTo>
                  <a:pt x="863" y="572"/>
                </a:lnTo>
                <a:lnTo>
                  <a:pt x="863" y="584"/>
                </a:lnTo>
                <a:lnTo>
                  <a:pt x="854" y="599"/>
                </a:lnTo>
                <a:lnTo>
                  <a:pt x="837" y="606"/>
                </a:lnTo>
                <a:lnTo>
                  <a:pt x="824" y="618"/>
                </a:lnTo>
                <a:lnTo>
                  <a:pt x="821" y="634"/>
                </a:lnTo>
                <a:lnTo>
                  <a:pt x="847" y="642"/>
                </a:lnTo>
                <a:lnTo>
                  <a:pt x="861" y="663"/>
                </a:lnTo>
                <a:lnTo>
                  <a:pt x="853" y="686"/>
                </a:lnTo>
                <a:lnTo>
                  <a:pt x="825" y="697"/>
                </a:lnTo>
                <a:lnTo>
                  <a:pt x="788" y="706"/>
                </a:lnTo>
                <a:lnTo>
                  <a:pt x="779" y="732"/>
                </a:lnTo>
                <a:lnTo>
                  <a:pt x="788" y="744"/>
                </a:lnTo>
                <a:lnTo>
                  <a:pt x="787" y="778"/>
                </a:lnTo>
                <a:lnTo>
                  <a:pt x="772" y="789"/>
                </a:lnTo>
                <a:lnTo>
                  <a:pt x="750" y="794"/>
                </a:lnTo>
                <a:lnTo>
                  <a:pt x="742" y="812"/>
                </a:lnTo>
                <a:lnTo>
                  <a:pt x="742" y="828"/>
                </a:lnTo>
                <a:lnTo>
                  <a:pt x="755" y="833"/>
                </a:lnTo>
                <a:lnTo>
                  <a:pt x="778" y="825"/>
                </a:lnTo>
                <a:lnTo>
                  <a:pt x="800" y="819"/>
                </a:lnTo>
                <a:lnTo>
                  <a:pt x="798" y="845"/>
                </a:lnTo>
                <a:lnTo>
                  <a:pt x="773" y="857"/>
                </a:lnTo>
                <a:lnTo>
                  <a:pt x="758" y="868"/>
                </a:lnTo>
                <a:lnTo>
                  <a:pt x="758" y="878"/>
                </a:lnTo>
                <a:lnTo>
                  <a:pt x="776" y="878"/>
                </a:lnTo>
                <a:lnTo>
                  <a:pt x="785" y="878"/>
                </a:lnTo>
                <a:lnTo>
                  <a:pt x="788" y="893"/>
                </a:lnTo>
                <a:lnTo>
                  <a:pt x="779" y="905"/>
                </a:lnTo>
                <a:lnTo>
                  <a:pt x="768" y="913"/>
                </a:lnTo>
                <a:lnTo>
                  <a:pt x="765" y="925"/>
                </a:lnTo>
                <a:lnTo>
                  <a:pt x="778" y="934"/>
                </a:lnTo>
                <a:lnTo>
                  <a:pt x="778" y="947"/>
                </a:lnTo>
                <a:lnTo>
                  <a:pt x="768" y="949"/>
                </a:lnTo>
                <a:lnTo>
                  <a:pt x="760" y="949"/>
                </a:lnTo>
                <a:lnTo>
                  <a:pt x="757" y="949"/>
                </a:lnTo>
                <a:lnTo>
                  <a:pt x="754" y="951"/>
                </a:lnTo>
                <a:lnTo>
                  <a:pt x="754" y="962"/>
                </a:lnTo>
                <a:lnTo>
                  <a:pt x="752" y="968"/>
                </a:lnTo>
                <a:lnTo>
                  <a:pt x="155" y="982"/>
                </a:lnTo>
                <a:lnTo>
                  <a:pt x="148" y="826"/>
                </a:lnTo>
                <a:lnTo>
                  <a:pt x="142" y="825"/>
                </a:lnTo>
                <a:lnTo>
                  <a:pt x="129" y="826"/>
                </a:lnTo>
                <a:lnTo>
                  <a:pt x="121" y="826"/>
                </a:lnTo>
                <a:lnTo>
                  <a:pt x="108" y="825"/>
                </a:lnTo>
                <a:lnTo>
                  <a:pt x="102" y="823"/>
                </a:lnTo>
                <a:lnTo>
                  <a:pt x="87" y="819"/>
                </a:lnTo>
                <a:lnTo>
                  <a:pt x="70" y="210"/>
                </a:lnTo>
                <a:lnTo>
                  <a:pt x="0" y="17"/>
                </a:lnTo>
              </a:path>
            </a:pathLst>
          </a:custGeom>
          <a:solidFill>
            <a:srgbClr val="ff99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Freeform 27"/>
          <p:cNvSpPr/>
          <p:nvPr/>
        </p:nvSpPr>
        <p:spPr>
          <a:xfrm>
            <a:off x="5180040" y="4699080"/>
            <a:ext cx="936720" cy="750960"/>
          </a:xfrm>
          <a:custGeom>
            <a:avLst/>
            <a:gdLst>
              <a:gd name="textAreaLeft" fmla="*/ 0 w 936720"/>
              <a:gd name="textAreaRight" fmla="*/ 937080 w 936720"/>
              <a:gd name="textAreaTop" fmla="*/ 0 h 750960"/>
              <a:gd name="textAreaBottom" fmla="*/ 751320 h 750960"/>
            </a:gdLst>
            <a:ahLst/>
            <a:rect l="textAreaLeft" t="textAreaTop" r="textAreaRight" b="textAreaBottom"/>
            <a:pathLst>
              <a:path w="1193" h="1025">
                <a:moveTo>
                  <a:pt x="69" y="852"/>
                </a:moveTo>
                <a:lnTo>
                  <a:pt x="77" y="834"/>
                </a:lnTo>
                <a:lnTo>
                  <a:pt x="83" y="824"/>
                </a:lnTo>
                <a:lnTo>
                  <a:pt x="83" y="820"/>
                </a:lnTo>
                <a:lnTo>
                  <a:pt x="73" y="797"/>
                </a:lnTo>
                <a:lnTo>
                  <a:pt x="73" y="786"/>
                </a:lnTo>
                <a:lnTo>
                  <a:pt x="73" y="773"/>
                </a:lnTo>
                <a:lnTo>
                  <a:pt x="73" y="756"/>
                </a:lnTo>
                <a:lnTo>
                  <a:pt x="81" y="740"/>
                </a:lnTo>
                <a:lnTo>
                  <a:pt x="86" y="722"/>
                </a:lnTo>
                <a:lnTo>
                  <a:pt x="87" y="708"/>
                </a:lnTo>
                <a:lnTo>
                  <a:pt x="88" y="703"/>
                </a:lnTo>
                <a:lnTo>
                  <a:pt x="81" y="683"/>
                </a:lnTo>
                <a:lnTo>
                  <a:pt x="72" y="668"/>
                </a:lnTo>
                <a:lnTo>
                  <a:pt x="71" y="653"/>
                </a:lnTo>
                <a:lnTo>
                  <a:pt x="71" y="638"/>
                </a:lnTo>
                <a:lnTo>
                  <a:pt x="71" y="632"/>
                </a:lnTo>
                <a:lnTo>
                  <a:pt x="77" y="617"/>
                </a:lnTo>
                <a:lnTo>
                  <a:pt x="87" y="605"/>
                </a:lnTo>
                <a:lnTo>
                  <a:pt x="90" y="587"/>
                </a:lnTo>
                <a:lnTo>
                  <a:pt x="100" y="567"/>
                </a:lnTo>
                <a:lnTo>
                  <a:pt x="102" y="552"/>
                </a:lnTo>
                <a:lnTo>
                  <a:pt x="102" y="536"/>
                </a:lnTo>
                <a:lnTo>
                  <a:pt x="101" y="530"/>
                </a:lnTo>
                <a:lnTo>
                  <a:pt x="96" y="521"/>
                </a:lnTo>
                <a:lnTo>
                  <a:pt x="85" y="507"/>
                </a:lnTo>
                <a:lnTo>
                  <a:pt x="81" y="495"/>
                </a:lnTo>
                <a:lnTo>
                  <a:pt x="77" y="490"/>
                </a:lnTo>
                <a:lnTo>
                  <a:pt x="83" y="486"/>
                </a:lnTo>
                <a:lnTo>
                  <a:pt x="86" y="476"/>
                </a:lnTo>
                <a:lnTo>
                  <a:pt x="91" y="472"/>
                </a:lnTo>
                <a:lnTo>
                  <a:pt x="90" y="463"/>
                </a:lnTo>
                <a:lnTo>
                  <a:pt x="84" y="442"/>
                </a:lnTo>
                <a:lnTo>
                  <a:pt x="64" y="420"/>
                </a:lnTo>
                <a:lnTo>
                  <a:pt x="49" y="407"/>
                </a:lnTo>
                <a:lnTo>
                  <a:pt x="18" y="377"/>
                </a:lnTo>
                <a:lnTo>
                  <a:pt x="0" y="15"/>
                </a:lnTo>
                <a:lnTo>
                  <a:pt x="526" y="1"/>
                </a:lnTo>
                <a:lnTo>
                  <a:pt x="600" y="0"/>
                </a:lnTo>
                <a:lnTo>
                  <a:pt x="600" y="9"/>
                </a:lnTo>
                <a:lnTo>
                  <a:pt x="608" y="18"/>
                </a:lnTo>
                <a:lnTo>
                  <a:pt x="616" y="31"/>
                </a:lnTo>
                <a:lnTo>
                  <a:pt x="619" y="41"/>
                </a:lnTo>
                <a:lnTo>
                  <a:pt x="608" y="53"/>
                </a:lnTo>
                <a:lnTo>
                  <a:pt x="603" y="62"/>
                </a:lnTo>
                <a:lnTo>
                  <a:pt x="610" y="75"/>
                </a:lnTo>
                <a:lnTo>
                  <a:pt x="641" y="78"/>
                </a:lnTo>
                <a:lnTo>
                  <a:pt x="641" y="92"/>
                </a:lnTo>
                <a:lnTo>
                  <a:pt x="626" y="101"/>
                </a:lnTo>
                <a:lnTo>
                  <a:pt x="612" y="120"/>
                </a:lnTo>
                <a:lnTo>
                  <a:pt x="614" y="140"/>
                </a:lnTo>
                <a:lnTo>
                  <a:pt x="639" y="169"/>
                </a:lnTo>
                <a:lnTo>
                  <a:pt x="686" y="181"/>
                </a:lnTo>
                <a:lnTo>
                  <a:pt x="686" y="193"/>
                </a:lnTo>
                <a:lnTo>
                  <a:pt x="670" y="218"/>
                </a:lnTo>
                <a:lnTo>
                  <a:pt x="644" y="245"/>
                </a:lnTo>
                <a:lnTo>
                  <a:pt x="608" y="242"/>
                </a:lnTo>
                <a:lnTo>
                  <a:pt x="600" y="257"/>
                </a:lnTo>
                <a:lnTo>
                  <a:pt x="630" y="271"/>
                </a:lnTo>
                <a:lnTo>
                  <a:pt x="650" y="291"/>
                </a:lnTo>
                <a:lnTo>
                  <a:pt x="645" y="305"/>
                </a:lnTo>
                <a:lnTo>
                  <a:pt x="639" y="314"/>
                </a:lnTo>
                <a:lnTo>
                  <a:pt x="642" y="333"/>
                </a:lnTo>
                <a:lnTo>
                  <a:pt x="639" y="346"/>
                </a:lnTo>
                <a:lnTo>
                  <a:pt x="617" y="359"/>
                </a:lnTo>
                <a:lnTo>
                  <a:pt x="614" y="384"/>
                </a:lnTo>
                <a:lnTo>
                  <a:pt x="607" y="403"/>
                </a:lnTo>
                <a:lnTo>
                  <a:pt x="616" y="420"/>
                </a:lnTo>
                <a:lnTo>
                  <a:pt x="593" y="443"/>
                </a:lnTo>
                <a:lnTo>
                  <a:pt x="601" y="462"/>
                </a:lnTo>
                <a:lnTo>
                  <a:pt x="604" y="476"/>
                </a:lnTo>
                <a:lnTo>
                  <a:pt x="612" y="487"/>
                </a:lnTo>
                <a:lnTo>
                  <a:pt x="611" y="502"/>
                </a:lnTo>
                <a:lnTo>
                  <a:pt x="604" y="517"/>
                </a:lnTo>
                <a:lnTo>
                  <a:pt x="592" y="521"/>
                </a:lnTo>
                <a:lnTo>
                  <a:pt x="589" y="538"/>
                </a:lnTo>
                <a:lnTo>
                  <a:pt x="595" y="549"/>
                </a:lnTo>
                <a:lnTo>
                  <a:pt x="581" y="559"/>
                </a:lnTo>
                <a:lnTo>
                  <a:pt x="564" y="574"/>
                </a:lnTo>
                <a:lnTo>
                  <a:pt x="940" y="564"/>
                </a:lnTo>
                <a:lnTo>
                  <a:pt x="940" y="577"/>
                </a:lnTo>
                <a:lnTo>
                  <a:pt x="944" y="600"/>
                </a:lnTo>
                <a:lnTo>
                  <a:pt x="959" y="614"/>
                </a:lnTo>
                <a:lnTo>
                  <a:pt x="985" y="638"/>
                </a:lnTo>
                <a:lnTo>
                  <a:pt x="1009" y="651"/>
                </a:lnTo>
                <a:lnTo>
                  <a:pt x="1035" y="663"/>
                </a:lnTo>
                <a:lnTo>
                  <a:pt x="982" y="675"/>
                </a:lnTo>
                <a:lnTo>
                  <a:pt x="950" y="689"/>
                </a:lnTo>
                <a:lnTo>
                  <a:pt x="919" y="680"/>
                </a:lnTo>
                <a:lnTo>
                  <a:pt x="921" y="663"/>
                </a:lnTo>
                <a:lnTo>
                  <a:pt x="960" y="652"/>
                </a:lnTo>
                <a:lnTo>
                  <a:pt x="911" y="639"/>
                </a:lnTo>
                <a:lnTo>
                  <a:pt x="872" y="636"/>
                </a:lnTo>
                <a:lnTo>
                  <a:pt x="831" y="616"/>
                </a:lnTo>
                <a:lnTo>
                  <a:pt x="799" y="614"/>
                </a:lnTo>
                <a:lnTo>
                  <a:pt x="782" y="638"/>
                </a:lnTo>
                <a:lnTo>
                  <a:pt x="775" y="668"/>
                </a:lnTo>
                <a:lnTo>
                  <a:pt x="798" y="689"/>
                </a:lnTo>
                <a:lnTo>
                  <a:pt x="871" y="674"/>
                </a:lnTo>
                <a:lnTo>
                  <a:pt x="905" y="669"/>
                </a:lnTo>
                <a:lnTo>
                  <a:pt x="915" y="680"/>
                </a:lnTo>
                <a:lnTo>
                  <a:pt x="915" y="690"/>
                </a:lnTo>
                <a:lnTo>
                  <a:pt x="887" y="703"/>
                </a:lnTo>
                <a:lnTo>
                  <a:pt x="880" y="714"/>
                </a:lnTo>
                <a:lnTo>
                  <a:pt x="884" y="733"/>
                </a:lnTo>
                <a:lnTo>
                  <a:pt x="948" y="737"/>
                </a:lnTo>
                <a:lnTo>
                  <a:pt x="957" y="746"/>
                </a:lnTo>
                <a:lnTo>
                  <a:pt x="989" y="746"/>
                </a:lnTo>
                <a:lnTo>
                  <a:pt x="1012" y="719"/>
                </a:lnTo>
                <a:lnTo>
                  <a:pt x="1025" y="712"/>
                </a:lnTo>
                <a:lnTo>
                  <a:pt x="1039" y="705"/>
                </a:lnTo>
                <a:lnTo>
                  <a:pt x="1044" y="697"/>
                </a:lnTo>
                <a:lnTo>
                  <a:pt x="1059" y="714"/>
                </a:lnTo>
                <a:lnTo>
                  <a:pt x="1043" y="738"/>
                </a:lnTo>
                <a:lnTo>
                  <a:pt x="1046" y="756"/>
                </a:lnTo>
                <a:lnTo>
                  <a:pt x="1067" y="772"/>
                </a:lnTo>
                <a:lnTo>
                  <a:pt x="1067" y="787"/>
                </a:lnTo>
                <a:lnTo>
                  <a:pt x="1073" y="814"/>
                </a:lnTo>
                <a:lnTo>
                  <a:pt x="1096" y="826"/>
                </a:lnTo>
                <a:lnTo>
                  <a:pt x="1122" y="842"/>
                </a:lnTo>
                <a:lnTo>
                  <a:pt x="1079" y="847"/>
                </a:lnTo>
                <a:lnTo>
                  <a:pt x="1038" y="846"/>
                </a:lnTo>
                <a:lnTo>
                  <a:pt x="993" y="848"/>
                </a:lnTo>
                <a:lnTo>
                  <a:pt x="1044" y="881"/>
                </a:lnTo>
                <a:lnTo>
                  <a:pt x="1085" y="888"/>
                </a:lnTo>
                <a:lnTo>
                  <a:pt x="1131" y="910"/>
                </a:lnTo>
                <a:lnTo>
                  <a:pt x="1154" y="927"/>
                </a:lnTo>
                <a:lnTo>
                  <a:pt x="1193" y="931"/>
                </a:lnTo>
                <a:lnTo>
                  <a:pt x="1168" y="965"/>
                </a:lnTo>
                <a:lnTo>
                  <a:pt x="1148" y="979"/>
                </a:lnTo>
                <a:lnTo>
                  <a:pt x="1094" y="1003"/>
                </a:lnTo>
                <a:lnTo>
                  <a:pt x="1073" y="980"/>
                </a:lnTo>
                <a:lnTo>
                  <a:pt x="1034" y="1023"/>
                </a:lnTo>
                <a:lnTo>
                  <a:pt x="1031" y="1011"/>
                </a:lnTo>
                <a:lnTo>
                  <a:pt x="1039" y="970"/>
                </a:lnTo>
                <a:lnTo>
                  <a:pt x="1029" y="955"/>
                </a:lnTo>
                <a:lnTo>
                  <a:pt x="987" y="948"/>
                </a:lnTo>
                <a:lnTo>
                  <a:pt x="963" y="920"/>
                </a:lnTo>
                <a:lnTo>
                  <a:pt x="945" y="893"/>
                </a:lnTo>
                <a:lnTo>
                  <a:pt x="919" y="877"/>
                </a:lnTo>
                <a:lnTo>
                  <a:pt x="897" y="867"/>
                </a:lnTo>
                <a:lnTo>
                  <a:pt x="869" y="848"/>
                </a:lnTo>
                <a:lnTo>
                  <a:pt x="820" y="790"/>
                </a:lnTo>
                <a:lnTo>
                  <a:pt x="797" y="806"/>
                </a:lnTo>
                <a:lnTo>
                  <a:pt x="771" y="805"/>
                </a:lnTo>
                <a:lnTo>
                  <a:pt x="700" y="768"/>
                </a:lnTo>
                <a:lnTo>
                  <a:pt x="710" y="794"/>
                </a:lnTo>
                <a:lnTo>
                  <a:pt x="767" y="821"/>
                </a:lnTo>
                <a:lnTo>
                  <a:pt x="805" y="824"/>
                </a:lnTo>
                <a:lnTo>
                  <a:pt x="877" y="867"/>
                </a:lnTo>
                <a:lnTo>
                  <a:pt x="897" y="902"/>
                </a:lnTo>
                <a:lnTo>
                  <a:pt x="936" y="970"/>
                </a:lnTo>
                <a:lnTo>
                  <a:pt x="906" y="973"/>
                </a:lnTo>
                <a:lnTo>
                  <a:pt x="891" y="960"/>
                </a:lnTo>
                <a:lnTo>
                  <a:pt x="889" y="1011"/>
                </a:lnTo>
                <a:lnTo>
                  <a:pt x="854" y="1025"/>
                </a:lnTo>
                <a:lnTo>
                  <a:pt x="826" y="1009"/>
                </a:lnTo>
                <a:lnTo>
                  <a:pt x="820" y="976"/>
                </a:lnTo>
                <a:lnTo>
                  <a:pt x="785" y="956"/>
                </a:lnTo>
                <a:lnTo>
                  <a:pt x="760" y="954"/>
                </a:lnTo>
                <a:lnTo>
                  <a:pt x="736" y="972"/>
                </a:lnTo>
                <a:lnTo>
                  <a:pt x="707" y="1003"/>
                </a:lnTo>
                <a:lnTo>
                  <a:pt x="657" y="993"/>
                </a:lnTo>
                <a:lnTo>
                  <a:pt x="631" y="976"/>
                </a:lnTo>
                <a:lnTo>
                  <a:pt x="608" y="943"/>
                </a:lnTo>
                <a:lnTo>
                  <a:pt x="574" y="924"/>
                </a:lnTo>
                <a:lnTo>
                  <a:pt x="532" y="916"/>
                </a:lnTo>
                <a:lnTo>
                  <a:pt x="515" y="875"/>
                </a:lnTo>
                <a:lnTo>
                  <a:pt x="493" y="847"/>
                </a:lnTo>
                <a:lnTo>
                  <a:pt x="473" y="826"/>
                </a:lnTo>
                <a:lnTo>
                  <a:pt x="467" y="794"/>
                </a:lnTo>
                <a:lnTo>
                  <a:pt x="472" y="786"/>
                </a:lnTo>
                <a:lnTo>
                  <a:pt x="480" y="772"/>
                </a:lnTo>
                <a:lnTo>
                  <a:pt x="434" y="728"/>
                </a:lnTo>
                <a:lnTo>
                  <a:pt x="401" y="682"/>
                </a:lnTo>
                <a:lnTo>
                  <a:pt x="381" y="682"/>
                </a:lnTo>
                <a:lnTo>
                  <a:pt x="351" y="655"/>
                </a:lnTo>
                <a:lnTo>
                  <a:pt x="352" y="682"/>
                </a:lnTo>
                <a:lnTo>
                  <a:pt x="384" y="703"/>
                </a:lnTo>
                <a:lnTo>
                  <a:pt x="411" y="723"/>
                </a:lnTo>
                <a:lnTo>
                  <a:pt x="427" y="759"/>
                </a:lnTo>
                <a:lnTo>
                  <a:pt x="450" y="778"/>
                </a:lnTo>
                <a:lnTo>
                  <a:pt x="454" y="797"/>
                </a:lnTo>
                <a:lnTo>
                  <a:pt x="467" y="834"/>
                </a:lnTo>
                <a:lnTo>
                  <a:pt x="467" y="847"/>
                </a:lnTo>
                <a:lnTo>
                  <a:pt x="481" y="870"/>
                </a:lnTo>
                <a:lnTo>
                  <a:pt x="468" y="887"/>
                </a:lnTo>
                <a:lnTo>
                  <a:pt x="444" y="898"/>
                </a:lnTo>
                <a:lnTo>
                  <a:pt x="416" y="865"/>
                </a:lnTo>
                <a:lnTo>
                  <a:pt x="399" y="851"/>
                </a:lnTo>
                <a:lnTo>
                  <a:pt x="376" y="835"/>
                </a:lnTo>
                <a:lnTo>
                  <a:pt x="369" y="821"/>
                </a:lnTo>
                <a:lnTo>
                  <a:pt x="369" y="806"/>
                </a:lnTo>
                <a:lnTo>
                  <a:pt x="342" y="825"/>
                </a:lnTo>
                <a:lnTo>
                  <a:pt x="322" y="806"/>
                </a:lnTo>
                <a:lnTo>
                  <a:pt x="307" y="807"/>
                </a:lnTo>
                <a:lnTo>
                  <a:pt x="313" y="835"/>
                </a:lnTo>
                <a:lnTo>
                  <a:pt x="342" y="852"/>
                </a:lnTo>
                <a:lnTo>
                  <a:pt x="344" y="863"/>
                </a:lnTo>
                <a:lnTo>
                  <a:pt x="348" y="880"/>
                </a:lnTo>
                <a:lnTo>
                  <a:pt x="293" y="878"/>
                </a:lnTo>
                <a:lnTo>
                  <a:pt x="222" y="864"/>
                </a:lnTo>
                <a:lnTo>
                  <a:pt x="183" y="839"/>
                </a:lnTo>
                <a:lnTo>
                  <a:pt x="134" y="833"/>
                </a:lnTo>
                <a:lnTo>
                  <a:pt x="101" y="840"/>
                </a:lnTo>
                <a:lnTo>
                  <a:pt x="83" y="849"/>
                </a:lnTo>
                <a:lnTo>
                  <a:pt x="69" y="852"/>
                </a:lnTo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Freeform 28"/>
          <p:cNvSpPr/>
          <p:nvPr/>
        </p:nvSpPr>
        <p:spPr>
          <a:xfrm>
            <a:off x="5457960" y="534348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54" h="54">
                <a:moveTo>
                  <a:pt x="3" y="7"/>
                </a:moveTo>
                <a:lnTo>
                  <a:pt x="0" y="12"/>
                </a:lnTo>
                <a:lnTo>
                  <a:pt x="0" y="30"/>
                </a:lnTo>
                <a:lnTo>
                  <a:pt x="10" y="38"/>
                </a:lnTo>
                <a:lnTo>
                  <a:pt x="22" y="51"/>
                </a:lnTo>
                <a:lnTo>
                  <a:pt x="35" y="54"/>
                </a:lnTo>
                <a:lnTo>
                  <a:pt x="40" y="38"/>
                </a:lnTo>
                <a:lnTo>
                  <a:pt x="44" y="30"/>
                </a:lnTo>
                <a:lnTo>
                  <a:pt x="54" y="30"/>
                </a:lnTo>
                <a:lnTo>
                  <a:pt x="54" y="18"/>
                </a:lnTo>
                <a:lnTo>
                  <a:pt x="40" y="7"/>
                </a:lnTo>
                <a:lnTo>
                  <a:pt x="24" y="0"/>
                </a:lnTo>
                <a:lnTo>
                  <a:pt x="10" y="0"/>
                </a:lnTo>
                <a:lnTo>
                  <a:pt x="3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Freeform 29"/>
          <p:cNvSpPr/>
          <p:nvPr/>
        </p:nvSpPr>
        <p:spPr>
          <a:xfrm>
            <a:off x="5286240" y="1930320"/>
            <a:ext cx="812880" cy="906480"/>
          </a:xfrm>
          <a:custGeom>
            <a:avLst/>
            <a:gdLst>
              <a:gd name="textAreaLeft" fmla="*/ 0 w 812880"/>
              <a:gd name="textAreaRight" fmla="*/ 813240 w 81288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1036" h="1236">
                <a:moveTo>
                  <a:pt x="923" y="583"/>
                </a:moveTo>
                <a:lnTo>
                  <a:pt x="919" y="558"/>
                </a:lnTo>
                <a:lnTo>
                  <a:pt x="927" y="520"/>
                </a:lnTo>
                <a:lnTo>
                  <a:pt x="930" y="483"/>
                </a:lnTo>
                <a:lnTo>
                  <a:pt x="931" y="463"/>
                </a:lnTo>
                <a:lnTo>
                  <a:pt x="937" y="451"/>
                </a:lnTo>
                <a:lnTo>
                  <a:pt x="941" y="444"/>
                </a:lnTo>
                <a:lnTo>
                  <a:pt x="943" y="438"/>
                </a:lnTo>
                <a:lnTo>
                  <a:pt x="943" y="430"/>
                </a:lnTo>
                <a:lnTo>
                  <a:pt x="926" y="425"/>
                </a:lnTo>
                <a:lnTo>
                  <a:pt x="898" y="413"/>
                </a:lnTo>
                <a:lnTo>
                  <a:pt x="897" y="397"/>
                </a:lnTo>
                <a:lnTo>
                  <a:pt x="908" y="377"/>
                </a:lnTo>
                <a:lnTo>
                  <a:pt x="919" y="368"/>
                </a:lnTo>
                <a:lnTo>
                  <a:pt x="903" y="345"/>
                </a:lnTo>
                <a:lnTo>
                  <a:pt x="880" y="346"/>
                </a:lnTo>
                <a:lnTo>
                  <a:pt x="862" y="362"/>
                </a:lnTo>
                <a:lnTo>
                  <a:pt x="857" y="364"/>
                </a:lnTo>
                <a:lnTo>
                  <a:pt x="853" y="352"/>
                </a:lnTo>
                <a:lnTo>
                  <a:pt x="852" y="338"/>
                </a:lnTo>
                <a:lnTo>
                  <a:pt x="857" y="323"/>
                </a:lnTo>
                <a:lnTo>
                  <a:pt x="857" y="311"/>
                </a:lnTo>
                <a:lnTo>
                  <a:pt x="851" y="299"/>
                </a:lnTo>
                <a:lnTo>
                  <a:pt x="835" y="283"/>
                </a:lnTo>
                <a:lnTo>
                  <a:pt x="830" y="270"/>
                </a:lnTo>
                <a:lnTo>
                  <a:pt x="814" y="253"/>
                </a:lnTo>
                <a:lnTo>
                  <a:pt x="802" y="243"/>
                </a:lnTo>
                <a:lnTo>
                  <a:pt x="776" y="241"/>
                </a:lnTo>
                <a:lnTo>
                  <a:pt x="753" y="241"/>
                </a:lnTo>
                <a:lnTo>
                  <a:pt x="740" y="230"/>
                </a:lnTo>
                <a:lnTo>
                  <a:pt x="748" y="222"/>
                </a:lnTo>
                <a:lnTo>
                  <a:pt x="741" y="211"/>
                </a:lnTo>
                <a:lnTo>
                  <a:pt x="728" y="211"/>
                </a:lnTo>
                <a:lnTo>
                  <a:pt x="690" y="212"/>
                </a:lnTo>
                <a:lnTo>
                  <a:pt x="655" y="224"/>
                </a:lnTo>
                <a:lnTo>
                  <a:pt x="642" y="227"/>
                </a:lnTo>
                <a:lnTo>
                  <a:pt x="468" y="160"/>
                </a:lnTo>
                <a:lnTo>
                  <a:pt x="440" y="131"/>
                </a:lnTo>
                <a:lnTo>
                  <a:pt x="419" y="107"/>
                </a:lnTo>
                <a:lnTo>
                  <a:pt x="413" y="96"/>
                </a:lnTo>
                <a:lnTo>
                  <a:pt x="404" y="95"/>
                </a:lnTo>
                <a:lnTo>
                  <a:pt x="379" y="92"/>
                </a:lnTo>
                <a:lnTo>
                  <a:pt x="362" y="59"/>
                </a:lnTo>
                <a:lnTo>
                  <a:pt x="350" y="54"/>
                </a:lnTo>
                <a:lnTo>
                  <a:pt x="350" y="71"/>
                </a:lnTo>
                <a:lnTo>
                  <a:pt x="357" y="86"/>
                </a:lnTo>
                <a:lnTo>
                  <a:pt x="350" y="89"/>
                </a:lnTo>
                <a:lnTo>
                  <a:pt x="331" y="89"/>
                </a:lnTo>
                <a:lnTo>
                  <a:pt x="307" y="97"/>
                </a:lnTo>
                <a:lnTo>
                  <a:pt x="304" y="97"/>
                </a:lnTo>
                <a:lnTo>
                  <a:pt x="303" y="86"/>
                </a:lnTo>
                <a:lnTo>
                  <a:pt x="315" y="71"/>
                </a:lnTo>
                <a:lnTo>
                  <a:pt x="315" y="56"/>
                </a:lnTo>
                <a:lnTo>
                  <a:pt x="324" y="45"/>
                </a:lnTo>
                <a:lnTo>
                  <a:pt x="336" y="34"/>
                </a:lnTo>
                <a:lnTo>
                  <a:pt x="345" y="25"/>
                </a:lnTo>
                <a:lnTo>
                  <a:pt x="345" y="12"/>
                </a:lnTo>
                <a:lnTo>
                  <a:pt x="337" y="3"/>
                </a:lnTo>
                <a:lnTo>
                  <a:pt x="320" y="0"/>
                </a:lnTo>
                <a:lnTo>
                  <a:pt x="294" y="14"/>
                </a:lnTo>
                <a:lnTo>
                  <a:pt x="274" y="31"/>
                </a:lnTo>
                <a:lnTo>
                  <a:pt x="255" y="39"/>
                </a:lnTo>
                <a:lnTo>
                  <a:pt x="240" y="50"/>
                </a:lnTo>
                <a:lnTo>
                  <a:pt x="218" y="57"/>
                </a:lnTo>
                <a:lnTo>
                  <a:pt x="200" y="69"/>
                </a:lnTo>
                <a:lnTo>
                  <a:pt x="183" y="74"/>
                </a:lnTo>
                <a:lnTo>
                  <a:pt x="176" y="68"/>
                </a:lnTo>
                <a:lnTo>
                  <a:pt x="176" y="57"/>
                </a:lnTo>
                <a:lnTo>
                  <a:pt x="176" y="44"/>
                </a:lnTo>
                <a:lnTo>
                  <a:pt x="150" y="51"/>
                </a:lnTo>
                <a:lnTo>
                  <a:pt x="142" y="63"/>
                </a:lnTo>
                <a:lnTo>
                  <a:pt x="132" y="74"/>
                </a:lnTo>
                <a:lnTo>
                  <a:pt x="124" y="84"/>
                </a:lnTo>
                <a:lnTo>
                  <a:pt x="119" y="84"/>
                </a:lnTo>
                <a:lnTo>
                  <a:pt x="108" y="84"/>
                </a:lnTo>
                <a:lnTo>
                  <a:pt x="110" y="236"/>
                </a:lnTo>
                <a:lnTo>
                  <a:pt x="96" y="265"/>
                </a:lnTo>
                <a:lnTo>
                  <a:pt x="83" y="283"/>
                </a:lnTo>
                <a:lnTo>
                  <a:pt x="71" y="298"/>
                </a:lnTo>
                <a:lnTo>
                  <a:pt x="50" y="304"/>
                </a:lnTo>
                <a:lnTo>
                  <a:pt x="27" y="321"/>
                </a:lnTo>
                <a:lnTo>
                  <a:pt x="13" y="339"/>
                </a:lnTo>
                <a:lnTo>
                  <a:pt x="4" y="349"/>
                </a:lnTo>
                <a:lnTo>
                  <a:pt x="0" y="371"/>
                </a:lnTo>
                <a:lnTo>
                  <a:pt x="0" y="412"/>
                </a:lnTo>
                <a:lnTo>
                  <a:pt x="0" y="425"/>
                </a:lnTo>
                <a:lnTo>
                  <a:pt x="4" y="438"/>
                </a:lnTo>
                <a:lnTo>
                  <a:pt x="16" y="442"/>
                </a:lnTo>
                <a:lnTo>
                  <a:pt x="30" y="447"/>
                </a:lnTo>
                <a:lnTo>
                  <a:pt x="43" y="453"/>
                </a:lnTo>
                <a:lnTo>
                  <a:pt x="40" y="468"/>
                </a:lnTo>
                <a:lnTo>
                  <a:pt x="40" y="535"/>
                </a:lnTo>
                <a:lnTo>
                  <a:pt x="45" y="569"/>
                </a:lnTo>
                <a:lnTo>
                  <a:pt x="47" y="601"/>
                </a:lnTo>
                <a:lnTo>
                  <a:pt x="55" y="641"/>
                </a:lnTo>
                <a:lnTo>
                  <a:pt x="61" y="662"/>
                </a:lnTo>
                <a:lnTo>
                  <a:pt x="80" y="670"/>
                </a:lnTo>
                <a:lnTo>
                  <a:pt x="108" y="677"/>
                </a:lnTo>
                <a:lnTo>
                  <a:pt x="131" y="688"/>
                </a:lnTo>
                <a:lnTo>
                  <a:pt x="150" y="704"/>
                </a:lnTo>
                <a:lnTo>
                  <a:pt x="153" y="716"/>
                </a:lnTo>
                <a:lnTo>
                  <a:pt x="167" y="728"/>
                </a:lnTo>
                <a:lnTo>
                  <a:pt x="172" y="742"/>
                </a:lnTo>
                <a:lnTo>
                  <a:pt x="205" y="757"/>
                </a:lnTo>
                <a:lnTo>
                  <a:pt x="215" y="763"/>
                </a:lnTo>
                <a:lnTo>
                  <a:pt x="231" y="786"/>
                </a:lnTo>
                <a:lnTo>
                  <a:pt x="261" y="830"/>
                </a:lnTo>
                <a:lnTo>
                  <a:pt x="275" y="863"/>
                </a:lnTo>
                <a:lnTo>
                  <a:pt x="280" y="893"/>
                </a:lnTo>
                <a:lnTo>
                  <a:pt x="285" y="917"/>
                </a:lnTo>
                <a:lnTo>
                  <a:pt x="285" y="932"/>
                </a:lnTo>
                <a:lnTo>
                  <a:pt x="292" y="952"/>
                </a:lnTo>
                <a:lnTo>
                  <a:pt x="294" y="974"/>
                </a:lnTo>
                <a:lnTo>
                  <a:pt x="306" y="984"/>
                </a:lnTo>
                <a:lnTo>
                  <a:pt x="318" y="993"/>
                </a:lnTo>
                <a:lnTo>
                  <a:pt x="319" y="1001"/>
                </a:lnTo>
                <a:lnTo>
                  <a:pt x="318" y="1008"/>
                </a:lnTo>
                <a:lnTo>
                  <a:pt x="309" y="1024"/>
                </a:lnTo>
                <a:lnTo>
                  <a:pt x="307" y="1034"/>
                </a:lnTo>
                <a:lnTo>
                  <a:pt x="307" y="1048"/>
                </a:lnTo>
                <a:lnTo>
                  <a:pt x="316" y="1064"/>
                </a:lnTo>
                <a:lnTo>
                  <a:pt x="332" y="1091"/>
                </a:lnTo>
                <a:lnTo>
                  <a:pt x="344" y="1105"/>
                </a:lnTo>
                <a:lnTo>
                  <a:pt x="344" y="1122"/>
                </a:lnTo>
                <a:lnTo>
                  <a:pt x="346" y="1130"/>
                </a:lnTo>
                <a:lnTo>
                  <a:pt x="357" y="1143"/>
                </a:lnTo>
                <a:lnTo>
                  <a:pt x="372" y="1144"/>
                </a:lnTo>
                <a:lnTo>
                  <a:pt x="379" y="1145"/>
                </a:lnTo>
                <a:lnTo>
                  <a:pt x="388" y="1154"/>
                </a:lnTo>
                <a:lnTo>
                  <a:pt x="391" y="1166"/>
                </a:lnTo>
                <a:lnTo>
                  <a:pt x="398" y="1172"/>
                </a:lnTo>
                <a:lnTo>
                  <a:pt x="407" y="1182"/>
                </a:lnTo>
                <a:lnTo>
                  <a:pt x="413" y="1185"/>
                </a:lnTo>
                <a:lnTo>
                  <a:pt x="419" y="1193"/>
                </a:lnTo>
                <a:lnTo>
                  <a:pt x="450" y="1219"/>
                </a:lnTo>
                <a:lnTo>
                  <a:pt x="458" y="1221"/>
                </a:lnTo>
                <a:lnTo>
                  <a:pt x="465" y="1228"/>
                </a:lnTo>
                <a:lnTo>
                  <a:pt x="468" y="1236"/>
                </a:lnTo>
                <a:lnTo>
                  <a:pt x="1004" y="1226"/>
                </a:lnTo>
                <a:lnTo>
                  <a:pt x="996" y="1204"/>
                </a:lnTo>
                <a:lnTo>
                  <a:pt x="984" y="1198"/>
                </a:lnTo>
                <a:lnTo>
                  <a:pt x="973" y="1183"/>
                </a:lnTo>
                <a:lnTo>
                  <a:pt x="960" y="1125"/>
                </a:lnTo>
                <a:lnTo>
                  <a:pt x="956" y="1050"/>
                </a:lnTo>
                <a:lnTo>
                  <a:pt x="961" y="958"/>
                </a:lnTo>
                <a:lnTo>
                  <a:pt x="958" y="921"/>
                </a:lnTo>
                <a:lnTo>
                  <a:pt x="958" y="876"/>
                </a:lnTo>
                <a:lnTo>
                  <a:pt x="945" y="849"/>
                </a:lnTo>
                <a:lnTo>
                  <a:pt x="945" y="823"/>
                </a:lnTo>
                <a:lnTo>
                  <a:pt x="961" y="780"/>
                </a:lnTo>
                <a:lnTo>
                  <a:pt x="978" y="746"/>
                </a:lnTo>
                <a:lnTo>
                  <a:pt x="976" y="727"/>
                </a:lnTo>
                <a:lnTo>
                  <a:pt x="987" y="709"/>
                </a:lnTo>
                <a:lnTo>
                  <a:pt x="1004" y="667"/>
                </a:lnTo>
                <a:lnTo>
                  <a:pt x="1024" y="588"/>
                </a:lnTo>
                <a:lnTo>
                  <a:pt x="1027" y="560"/>
                </a:lnTo>
                <a:lnTo>
                  <a:pt x="1032" y="544"/>
                </a:lnTo>
                <a:lnTo>
                  <a:pt x="1036" y="522"/>
                </a:lnTo>
                <a:lnTo>
                  <a:pt x="1036" y="513"/>
                </a:lnTo>
                <a:lnTo>
                  <a:pt x="1019" y="505"/>
                </a:lnTo>
                <a:lnTo>
                  <a:pt x="998" y="505"/>
                </a:lnTo>
                <a:lnTo>
                  <a:pt x="994" y="510"/>
                </a:lnTo>
                <a:lnTo>
                  <a:pt x="976" y="534"/>
                </a:lnTo>
                <a:lnTo>
                  <a:pt x="966" y="554"/>
                </a:lnTo>
                <a:lnTo>
                  <a:pt x="959" y="569"/>
                </a:lnTo>
                <a:lnTo>
                  <a:pt x="949" y="576"/>
                </a:lnTo>
                <a:lnTo>
                  <a:pt x="937" y="586"/>
                </a:lnTo>
                <a:lnTo>
                  <a:pt x="923" y="587"/>
                </a:lnTo>
                <a:lnTo>
                  <a:pt x="923" y="583"/>
                </a:lnTo>
              </a:path>
            </a:pathLst>
          </a:custGeom>
          <a:solidFill>
            <a:srgbClr val="00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Freeform 30"/>
          <p:cNvSpPr/>
          <p:nvPr/>
        </p:nvSpPr>
        <p:spPr>
          <a:xfrm>
            <a:off x="6076800" y="2208240"/>
            <a:ext cx="52560" cy="87120"/>
          </a:xfrm>
          <a:custGeom>
            <a:avLst/>
            <a:gdLst>
              <a:gd name="textAreaLeft" fmla="*/ 0 w 52560"/>
              <a:gd name="textAreaRight" fmla="*/ 52920 w 5256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66" h="121">
                <a:moveTo>
                  <a:pt x="27" y="121"/>
                </a:moveTo>
                <a:lnTo>
                  <a:pt x="32" y="121"/>
                </a:lnTo>
                <a:lnTo>
                  <a:pt x="44" y="111"/>
                </a:lnTo>
                <a:lnTo>
                  <a:pt x="48" y="85"/>
                </a:lnTo>
                <a:lnTo>
                  <a:pt x="58" y="59"/>
                </a:lnTo>
                <a:lnTo>
                  <a:pt x="66" y="43"/>
                </a:lnTo>
                <a:lnTo>
                  <a:pt x="64" y="17"/>
                </a:lnTo>
                <a:lnTo>
                  <a:pt x="64" y="0"/>
                </a:lnTo>
                <a:lnTo>
                  <a:pt x="47" y="3"/>
                </a:lnTo>
                <a:lnTo>
                  <a:pt x="25" y="29"/>
                </a:lnTo>
                <a:lnTo>
                  <a:pt x="21" y="47"/>
                </a:lnTo>
                <a:lnTo>
                  <a:pt x="9" y="70"/>
                </a:lnTo>
                <a:lnTo>
                  <a:pt x="4" y="97"/>
                </a:lnTo>
                <a:lnTo>
                  <a:pt x="0" y="111"/>
                </a:lnTo>
                <a:lnTo>
                  <a:pt x="5" y="115"/>
                </a:lnTo>
                <a:lnTo>
                  <a:pt x="16" y="118"/>
                </a:lnTo>
                <a:lnTo>
                  <a:pt x="27" y="12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Freeform 31"/>
          <p:cNvSpPr/>
          <p:nvPr/>
        </p:nvSpPr>
        <p:spPr>
          <a:xfrm>
            <a:off x="6113520" y="216072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36" h="31">
                <a:moveTo>
                  <a:pt x="15" y="31"/>
                </a:moveTo>
                <a:lnTo>
                  <a:pt x="28" y="21"/>
                </a:lnTo>
                <a:lnTo>
                  <a:pt x="36" y="7"/>
                </a:lnTo>
                <a:lnTo>
                  <a:pt x="23" y="0"/>
                </a:lnTo>
                <a:lnTo>
                  <a:pt x="14" y="0"/>
                </a:lnTo>
                <a:lnTo>
                  <a:pt x="5" y="11"/>
                </a:lnTo>
                <a:lnTo>
                  <a:pt x="0" y="23"/>
                </a:lnTo>
                <a:lnTo>
                  <a:pt x="9" y="31"/>
                </a:lnTo>
                <a:lnTo>
                  <a:pt x="15" y="3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Freeform 32"/>
          <p:cNvSpPr/>
          <p:nvPr/>
        </p:nvSpPr>
        <p:spPr>
          <a:xfrm>
            <a:off x="5597640" y="1784520"/>
            <a:ext cx="985680" cy="460080"/>
          </a:xfrm>
          <a:custGeom>
            <a:avLst/>
            <a:gdLst>
              <a:gd name="textAreaLeft" fmla="*/ 0 w 985680"/>
              <a:gd name="textAreaRight" fmla="*/ 986040 w 985680"/>
              <a:gd name="textAreaTop" fmla="*/ 0 h 460080"/>
              <a:gd name="textAreaBottom" fmla="*/ 460440 h 460080"/>
            </a:gdLst>
            <a:ahLst/>
            <a:rect l="textAreaLeft" t="textAreaTop" r="textAreaRight" b="textAreaBottom"/>
            <a:pathLst>
              <a:path w="1255" h="629">
                <a:moveTo>
                  <a:pt x="0" y="292"/>
                </a:moveTo>
                <a:lnTo>
                  <a:pt x="21" y="281"/>
                </a:lnTo>
                <a:lnTo>
                  <a:pt x="37" y="269"/>
                </a:lnTo>
                <a:lnTo>
                  <a:pt x="92" y="227"/>
                </a:lnTo>
                <a:lnTo>
                  <a:pt x="120" y="210"/>
                </a:lnTo>
                <a:lnTo>
                  <a:pt x="136" y="210"/>
                </a:lnTo>
                <a:lnTo>
                  <a:pt x="158" y="210"/>
                </a:lnTo>
                <a:lnTo>
                  <a:pt x="178" y="200"/>
                </a:lnTo>
                <a:lnTo>
                  <a:pt x="213" y="176"/>
                </a:lnTo>
                <a:lnTo>
                  <a:pt x="246" y="152"/>
                </a:lnTo>
                <a:lnTo>
                  <a:pt x="271" y="127"/>
                </a:lnTo>
                <a:lnTo>
                  <a:pt x="299" y="83"/>
                </a:lnTo>
                <a:lnTo>
                  <a:pt x="334" y="54"/>
                </a:lnTo>
                <a:lnTo>
                  <a:pt x="368" y="26"/>
                </a:lnTo>
                <a:lnTo>
                  <a:pt x="409" y="0"/>
                </a:lnTo>
                <a:lnTo>
                  <a:pt x="427" y="0"/>
                </a:lnTo>
                <a:lnTo>
                  <a:pt x="450" y="0"/>
                </a:lnTo>
                <a:lnTo>
                  <a:pt x="453" y="15"/>
                </a:lnTo>
                <a:lnTo>
                  <a:pt x="440" y="25"/>
                </a:lnTo>
                <a:lnTo>
                  <a:pt x="415" y="30"/>
                </a:lnTo>
                <a:lnTo>
                  <a:pt x="396" y="45"/>
                </a:lnTo>
                <a:lnTo>
                  <a:pt x="365" y="84"/>
                </a:lnTo>
                <a:lnTo>
                  <a:pt x="353" y="110"/>
                </a:lnTo>
                <a:lnTo>
                  <a:pt x="340" y="152"/>
                </a:lnTo>
                <a:lnTo>
                  <a:pt x="335" y="182"/>
                </a:lnTo>
                <a:lnTo>
                  <a:pt x="340" y="198"/>
                </a:lnTo>
                <a:lnTo>
                  <a:pt x="357" y="189"/>
                </a:lnTo>
                <a:lnTo>
                  <a:pt x="378" y="167"/>
                </a:lnTo>
                <a:lnTo>
                  <a:pt x="397" y="144"/>
                </a:lnTo>
                <a:lnTo>
                  <a:pt x="415" y="135"/>
                </a:lnTo>
                <a:lnTo>
                  <a:pt x="406" y="151"/>
                </a:lnTo>
                <a:lnTo>
                  <a:pt x="401" y="166"/>
                </a:lnTo>
                <a:lnTo>
                  <a:pt x="416" y="165"/>
                </a:lnTo>
                <a:lnTo>
                  <a:pt x="439" y="158"/>
                </a:lnTo>
                <a:lnTo>
                  <a:pt x="476" y="153"/>
                </a:lnTo>
                <a:lnTo>
                  <a:pt x="493" y="167"/>
                </a:lnTo>
                <a:lnTo>
                  <a:pt x="507" y="180"/>
                </a:lnTo>
                <a:lnTo>
                  <a:pt x="518" y="188"/>
                </a:lnTo>
                <a:lnTo>
                  <a:pt x="539" y="198"/>
                </a:lnTo>
                <a:lnTo>
                  <a:pt x="559" y="211"/>
                </a:lnTo>
                <a:lnTo>
                  <a:pt x="591" y="236"/>
                </a:lnTo>
                <a:lnTo>
                  <a:pt x="612" y="250"/>
                </a:lnTo>
                <a:lnTo>
                  <a:pt x="635" y="251"/>
                </a:lnTo>
                <a:lnTo>
                  <a:pt x="658" y="245"/>
                </a:lnTo>
                <a:lnTo>
                  <a:pt x="678" y="231"/>
                </a:lnTo>
                <a:lnTo>
                  <a:pt x="689" y="231"/>
                </a:lnTo>
                <a:lnTo>
                  <a:pt x="701" y="245"/>
                </a:lnTo>
                <a:lnTo>
                  <a:pt x="719" y="257"/>
                </a:lnTo>
                <a:lnTo>
                  <a:pt x="729" y="245"/>
                </a:lnTo>
                <a:lnTo>
                  <a:pt x="739" y="229"/>
                </a:lnTo>
                <a:lnTo>
                  <a:pt x="758" y="214"/>
                </a:lnTo>
                <a:lnTo>
                  <a:pt x="783" y="199"/>
                </a:lnTo>
                <a:lnTo>
                  <a:pt x="810" y="184"/>
                </a:lnTo>
                <a:lnTo>
                  <a:pt x="830" y="165"/>
                </a:lnTo>
                <a:lnTo>
                  <a:pt x="844" y="157"/>
                </a:lnTo>
                <a:lnTo>
                  <a:pt x="867" y="158"/>
                </a:lnTo>
                <a:lnTo>
                  <a:pt x="898" y="161"/>
                </a:lnTo>
                <a:lnTo>
                  <a:pt x="939" y="153"/>
                </a:lnTo>
                <a:lnTo>
                  <a:pt x="977" y="139"/>
                </a:lnTo>
                <a:lnTo>
                  <a:pt x="1017" y="127"/>
                </a:lnTo>
                <a:lnTo>
                  <a:pt x="1018" y="153"/>
                </a:lnTo>
                <a:lnTo>
                  <a:pt x="1026" y="190"/>
                </a:lnTo>
                <a:lnTo>
                  <a:pt x="1032" y="204"/>
                </a:lnTo>
                <a:lnTo>
                  <a:pt x="1055" y="210"/>
                </a:lnTo>
                <a:lnTo>
                  <a:pt x="1075" y="203"/>
                </a:lnTo>
                <a:lnTo>
                  <a:pt x="1093" y="200"/>
                </a:lnTo>
                <a:lnTo>
                  <a:pt x="1100" y="210"/>
                </a:lnTo>
                <a:lnTo>
                  <a:pt x="1126" y="210"/>
                </a:lnTo>
                <a:lnTo>
                  <a:pt x="1144" y="193"/>
                </a:lnTo>
                <a:lnTo>
                  <a:pt x="1159" y="193"/>
                </a:lnTo>
                <a:lnTo>
                  <a:pt x="1171" y="214"/>
                </a:lnTo>
                <a:lnTo>
                  <a:pt x="1171" y="239"/>
                </a:lnTo>
                <a:lnTo>
                  <a:pt x="1187" y="251"/>
                </a:lnTo>
                <a:lnTo>
                  <a:pt x="1202" y="257"/>
                </a:lnTo>
                <a:lnTo>
                  <a:pt x="1221" y="279"/>
                </a:lnTo>
                <a:lnTo>
                  <a:pt x="1238" y="291"/>
                </a:lnTo>
                <a:lnTo>
                  <a:pt x="1247" y="305"/>
                </a:lnTo>
                <a:lnTo>
                  <a:pt x="1255" y="320"/>
                </a:lnTo>
                <a:lnTo>
                  <a:pt x="1237" y="331"/>
                </a:lnTo>
                <a:lnTo>
                  <a:pt x="1201" y="344"/>
                </a:lnTo>
                <a:lnTo>
                  <a:pt x="1171" y="349"/>
                </a:lnTo>
                <a:lnTo>
                  <a:pt x="1129" y="352"/>
                </a:lnTo>
                <a:lnTo>
                  <a:pt x="1087" y="355"/>
                </a:lnTo>
                <a:lnTo>
                  <a:pt x="1087" y="360"/>
                </a:lnTo>
                <a:lnTo>
                  <a:pt x="1070" y="365"/>
                </a:lnTo>
                <a:lnTo>
                  <a:pt x="1035" y="351"/>
                </a:lnTo>
                <a:lnTo>
                  <a:pt x="1004" y="340"/>
                </a:lnTo>
                <a:lnTo>
                  <a:pt x="994" y="336"/>
                </a:lnTo>
                <a:lnTo>
                  <a:pt x="980" y="343"/>
                </a:lnTo>
                <a:lnTo>
                  <a:pt x="977" y="352"/>
                </a:lnTo>
                <a:lnTo>
                  <a:pt x="990" y="366"/>
                </a:lnTo>
                <a:lnTo>
                  <a:pt x="1002" y="381"/>
                </a:lnTo>
                <a:lnTo>
                  <a:pt x="990" y="390"/>
                </a:lnTo>
                <a:lnTo>
                  <a:pt x="962" y="385"/>
                </a:lnTo>
                <a:lnTo>
                  <a:pt x="939" y="366"/>
                </a:lnTo>
                <a:lnTo>
                  <a:pt x="921" y="354"/>
                </a:lnTo>
                <a:lnTo>
                  <a:pt x="894" y="349"/>
                </a:lnTo>
                <a:lnTo>
                  <a:pt x="872" y="349"/>
                </a:lnTo>
                <a:lnTo>
                  <a:pt x="852" y="352"/>
                </a:lnTo>
                <a:lnTo>
                  <a:pt x="836" y="374"/>
                </a:lnTo>
                <a:lnTo>
                  <a:pt x="815" y="387"/>
                </a:lnTo>
                <a:lnTo>
                  <a:pt x="777" y="396"/>
                </a:lnTo>
                <a:lnTo>
                  <a:pt x="762" y="398"/>
                </a:lnTo>
                <a:lnTo>
                  <a:pt x="754" y="418"/>
                </a:lnTo>
                <a:lnTo>
                  <a:pt x="750" y="425"/>
                </a:lnTo>
                <a:lnTo>
                  <a:pt x="744" y="432"/>
                </a:lnTo>
                <a:lnTo>
                  <a:pt x="724" y="443"/>
                </a:lnTo>
                <a:lnTo>
                  <a:pt x="707" y="447"/>
                </a:lnTo>
                <a:lnTo>
                  <a:pt x="689" y="468"/>
                </a:lnTo>
                <a:lnTo>
                  <a:pt x="674" y="499"/>
                </a:lnTo>
                <a:lnTo>
                  <a:pt x="656" y="521"/>
                </a:lnTo>
                <a:lnTo>
                  <a:pt x="643" y="506"/>
                </a:lnTo>
                <a:lnTo>
                  <a:pt x="651" y="480"/>
                </a:lnTo>
                <a:lnTo>
                  <a:pt x="656" y="455"/>
                </a:lnTo>
                <a:lnTo>
                  <a:pt x="655" y="445"/>
                </a:lnTo>
                <a:lnTo>
                  <a:pt x="640" y="463"/>
                </a:lnTo>
                <a:lnTo>
                  <a:pt x="628" y="469"/>
                </a:lnTo>
                <a:lnTo>
                  <a:pt x="626" y="455"/>
                </a:lnTo>
                <a:lnTo>
                  <a:pt x="618" y="455"/>
                </a:lnTo>
                <a:lnTo>
                  <a:pt x="610" y="465"/>
                </a:lnTo>
                <a:lnTo>
                  <a:pt x="580" y="547"/>
                </a:lnTo>
                <a:lnTo>
                  <a:pt x="559" y="590"/>
                </a:lnTo>
                <a:lnTo>
                  <a:pt x="547" y="629"/>
                </a:lnTo>
                <a:lnTo>
                  <a:pt x="530" y="625"/>
                </a:lnTo>
                <a:lnTo>
                  <a:pt x="517" y="622"/>
                </a:lnTo>
                <a:lnTo>
                  <a:pt x="507" y="614"/>
                </a:lnTo>
                <a:lnTo>
                  <a:pt x="500" y="614"/>
                </a:lnTo>
                <a:lnTo>
                  <a:pt x="500" y="602"/>
                </a:lnTo>
                <a:lnTo>
                  <a:pt x="500" y="597"/>
                </a:lnTo>
                <a:lnTo>
                  <a:pt x="506" y="589"/>
                </a:lnTo>
                <a:lnTo>
                  <a:pt x="515" y="574"/>
                </a:lnTo>
                <a:lnTo>
                  <a:pt x="518" y="570"/>
                </a:lnTo>
                <a:lnTo>
                  <a:pt x="518" y="557"/>
                </a:lnTo>
                <a:lnTo>
                  <a:pt x="509" y="546"/>
                </a:lnTo>
                <a:lnTo>
                  <a:pt x="504" y="545"/>
                </a:lnTo>
                <a:lnTo>
                  <a:pt x="489" y="545"/>
                </a:lnTo>
                <a:lnTo>
                  <a:pt x="481" y="549"/>
                </a:lnTo>
                <a:lnTo>
                  <a:pt x="471" y="557"/>
                </a:lnTo>
                <a:lnTo>
                  <a:pt x="466" y="562"/>
                </a:lnTo>
                <a:lnTo>
                  <a:pt x="461" y="564"/>
                </a:lnTo>
                <a:lnTo>
                  <a:pt x="457" y="556"/>
                </a:lnTo>
                <a:lnTo>
                  <a:pt x="457" y="547"/>
                </a:lnTo>
                <a:lnTo>
                  <a:pt x="456" y="539"/>
                </a:lnTo>
                <a:lnTo>
                  <a:pt x="458" y="529"/>
                </a:lnTo>
                <a:lnTo>
                  <a:pt x="461" y="523"/>
                </a:lnTo>
                <a:lnTo>
                  <a:pt x="461" y="516"/>
                </a:lnTo>
                <a:lnTo>
                  <a:pt x="461" y="509"/>
                </a:lnTo>
                <a:lnTo>
                  <a:pt x="456" y="502"/>
                </a:lnTo>
                <a:lnTo>
                  <a:pt x="448" y="493"/>
                </a:lnTo>
                <a:lnTo>
                  <a:pt x="439" y="483"/>
                </a:lnTo>
                <a:lnTo>
                  <a:pt x="431" y="469"/>
                </a:lnTo>
                <a:lnTo>
                  <a:pt x="418" y="453"/>
                </a:lnTo>
                <a:lnTo>
                  <a:pt x="415" y="448"/>
                </a:lnTo>
                <a:lnTo>
                  <a:pt x="404" y="443"/>
                </a:lnTo>
                <a:lnTo>
                  <a:pt x="381" y="443"/>
                </a:lnTo>
                <a:lnTo>
                  <a:pt x="364" y="443"/>
                </a:lnTo>
                <a:lnTo>
                  <a:pt x="357" y="441"/>
                </a:lnTo>
                <a:lnTo>
                  <a:pt x="349" y="440"/>
                </a:lnTo>
                <a:lnTo>
                  <a:pt x="345" y="435"/>
                </a:lnTo>
                <a:lnTo>
                  <a:pt x="344" y="431"/>
                </a:lnTo>
                <a:lnTo>
                  <a:pt x="344" y="428"/>
                </a:lnTo>
                <a:lnTo>
                  <a:pt x="349" y="423"/>
                </a:lnTo>
                <a:lnTo>
                  <a:pt x="352" y="418"/>
                </a:lnTo>
                <a:lnTo>
                  <a:pt x="351" y="417"/>
                </a:lnTo>
                <a:lnTo>
                  <a:pt x="345" y="415"/>
                </a:lnTo>
                <a:lnTo>
                  <a:pt x="336" y="412"/>
                </a:lnTo>
                <a:lnTo>
                  <a:pt x="294" y="412"/>
                </a:lnTo>
                <a:lnTo>
                  <a:pt x="288" y="415"/>
                </a:lnTo>
                <a:lnTo>
                  <a:pt x="258" y="426"/>
                </a:lnTo>
                <a:lnTo>
                  <a:pt x="246" y="427"/>
                </a:lnTo>
                <a:lnTo>
                  <a:pt x="71" y="360"/>
                </a:lnTo>
                <a:lnTo>
                  <a:pt x="48" y="336"/>
                </a:lnTo>
                <a:lnTo>
                  <a:pt x="32" y="322"/>
                </a:lnTo>
                <a:lnTo>
                  <a:pt x="23" y="307"/>
                </a:lnTo>
                <a:lnTo>
                  <a:pt x="18" y="296"/>
                </a:lnTo>
                <a:lnTo>
                  <a:pt x="7" y="296"/>
                </a:lnTo>
                <a:lnTo>
                  <a:pt x="0" y="292"/>
                </a:lnTo>
              </a:path>
            </a:pathLst>
          </a:custGeom>
          <a:solidFill>
            <a:srgbClr val="00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Freeform 33"/>
          <p:cNvSpPr/>
          <p:nvPr/>
        </p:nvSpPr>
        <p:spPr>
          <a:xfrm>
            <a:off x="6602400" y="1971720"/>
            <a:ext cx="90360" cy="60120"/>
          </a:xfrm>
          <a:custGeom>
            <a:avLst/>
            <a:gdLst>
              <a:gd name="textAreaLeft" fmla="*/ 0 w 90360"/>
              <a:gd name="textAreaRight" fmla="*/ 90720 w 90360"/>
              <a:gd name="textAreaTop" fmla="*/ 0 h 60120"/>
              <a:gd name="textAreaBottom" fmla="*/ 60480 h 60120"/>
            </a:gdLst>
            <a:ahLst/>
            <a:rect l="textAreaLeft" t="textAreaTop" r="textAreaRight" b="textAreaBottom"/>
            <a:pathLst>
              <a:path w="116" h="80">
                <a:moveTo>
                  <a:pt x="0" y="64"/>
                </a:moveTo>
                <a:lnTo>
                  <a:pt x="5" y="42"/>
                </a:lnTo>
                <a:lnTo>
                  <a:pt x="16" y="37"/>
                </a:lnTo>
                <a:lnTo>
                  <a:pt x="26" y="38"/>
                </a:lnTo>
                <a:lnTo>
                  <a:pt x="32" y="42"/>
                </a:lnTo>
                <a:lnTo>
                  <a:pt x="47" y="41"/>
                </a:lnTo>
                <a:lnTo>
                  <a:pt x="56" y="37"/>
                </a:lnTo>
                <a:lnTo>
                  <a:pt x="64" y="32"/>
                </a:lnTo>
                <a:lnTo>
                  <a:pt x="49" y="15"/>
                </a:lnTo>
                <a:lnTo>
                  <a:pt x="60" y="0"/>
                </a:lnTo>
                <a:lnTo>
                  <a:pt x="83" y="12"/>
                </a:lnTo>
                <a:lnTo>
                  <a:pt x="87" y="25"/>
                </a:lnTo>
                <a:lnTo>
                  <a:pt x="99" y="46"/>
                </a:lnTo>
                <a:lnTo>
                  <a:pt x="116" y="52"/>
                </a:lnTo>
                <a:lnTo>
                  <a:pt x="116" y="69"/>
                </a:lnTo>
                <a:lnTo>
                  <a:pt x="101" y="75"/>
                </a:lnTo>
                <a:lnTo>
                  <a:pt x="88" y="76"/>
                </a:lnTo>
                <a:lnTo>
                  <a:pt x="81" y="71"/>
                </a:lnTo>
                <a:lnTo>
                  <a:pt x="65" y="71"/>
                </a:lnTo>
                <a:lnTo>
                  <a:pt x="54" y="75"/>
                </a:lnTo>
                <a:lnTo>
                  <a:pt x="41" y="79"/>
                </a:lnTo>
                <a:lnTo>
                  <a:pt x="28" y="80"/>
                </a:lnTo>
                <a:lnTo>
                  <a:pt x="18" y="75"/>
                </a:lnTo>
                <a:lnTo>
                  <a:pt x="1" y="72"/>
                </a:lnTo>
                <a:lnTo>
                  <a:pt x="1" y="69"/>
                </a:lnTo>
                <a:lnTo>
                  <a:pt x="0" y="6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9080" bIns="19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Freeform 34"/>
          <p:cNvSpPr/>
          <p:nvPr/>
        </p:nvSpPr>
        <p:spPr>
          <a:xfrm>
            <a:off x="6203880" y="2073240"/>
            <a:ext cx="669960" cy="828720"/>
          </a:xfrm>
          <a:custGeom>
            <a:avLst/>
            <a:gdLst>
              <a:gd name="textAreaLeft" fmla="*/ 0 w 669960"/>
              <a:gd name="textAreaRight" fmla="*/ 669960 w 669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51" h="1132">
                <a:moveTo>
                  <a:pt x="0" y="1132"/>
                </a:moveTo>
                <a:lnTo>
                  <a:pt x="17" y="1094"/>
                </a:lnTo>
                <a:lnTo>
                  <a:pt x="90" y="998"/>
                </a:lnTo>
                <a:lnTo>
                  <a:pt x="119" y="910"/>
                </a:lnTo>
                <a:lnTo>
                  <a:pt x="121" y="857"/>
                </a:lnTo>
                <a:lnTo>
                  <a:pt x="107" y="812"/>
                </a:lnTo>
                <a:lnTo>
                  <a:pt x="93" y="790"/>
                </a:lnTo>
                <a:lnTo>
                  <a:pt x="78" y="765"/>
                </a:lnTo>
                <a:lnTo>
                  <a:pt x="96" y="744"/>
                </a:lnTo>
                <a:lnTo>
                  <a:pt x="101" y="730"/>
                </a:lnTo>
                <a:lnTo>
                  <a:pt x="101" y="716"/>
                </a:lnTo>
                <a:lnTo>
                  <a:pt x="83" y="681"/>
                </a:lnTo>
                <a:lnTo>
                  <a:pt x="37" y="621"/>
                </a:lnTo>
                <a:lnTo>
                  <a:pt x="37" y="615"/>
                </a:lnTo>
                <a:lnTo>
                  <a:pt x="47" y="606"/>
                </a:lnTo>
                <a:lnTo>
                  <a:pt x="44" y="595"/>
                </a:lnTo>
                <a:lnTo>
                  <a:pt x="26" y="597"/>
                </a:lnTo>
                <a:lnTo>
                  <a:pt x="22" y="572"/>
                </a:lnTo>
                <a:lnTo>
                  <a:pt x="43" y="515"/>
                </a:lnTo>
                <a:lnTo>
                  <a:pt x="48" y="458"/>
                </a:lnTo>
                <a:lnTo>
                  <a:pt x="44" y="428"/>
                </a:lnTo>
                <a:lnTo>
                  <a:pt x="26" y="410"/>
                </a:lnTo>
                <a:lnTo>
                  <a:pt x="40" y="395"/>
                </a:lnTo>
                <a:lnTo>
                  <a:pt x="56" y="389"/>
                </a:lnTo>
                <a:lnTo>
                  <a:pt x="61" y="367"/>
                </a:lnTo>
                <a:lnTo>
                  <a:pt x="56" y="352"/>
                </a:lnTo>
                <a:lnTo>
                  <a:pt x="55" y="329"/>
                </a:lnTo>
                <a:lnTo>
                  <a:pt x="67" y="314"/>
                </a:lnTo>
                <a:lnTo>
                  <a:pt x="79" y="298"/>
                </a:lnTo>
                <a:lnTo>
                  <a:pt x="96" y="297"/>
                </a:lnTo>
                <a:lnTo>
                  <a:pt x="96" y="269"/>
                </a:lnTo>
                <a:lnTo>
                  <a:pt x="114" y="226"/>
                </a:lnTo>
                <a:lnTo>
                  <a:pt x="128" y="185"/>
                </a:lnTo>
                <a:lnTo>
                  <a:pt x="136" y="185"/>
                </a:lnTo>
                <a:lnTo>
                  <a:pt x="142" y="204"/>
                </a:lnTo>
                <a:lnTo>
                  <a:pt x="131" y="214"/>
                </a:lnTo>
                <a:lnTo>
                  <a:pt x="131" y="226"/>
                </a:lnTo>
                <a:lnTo>
                  <a:pt x="137" y="244"/>
                </a:lnTo>
                <a:lnTo>
                  <a:pt x="137" y="272"/>
                </a:lnTo>
                <a:lnTo>
                  <a:pt x="149" y="282"/>
                </a:lnTo>
                <a:lnTo>
                  <a:pt x="151" y="259"/>
                </a:lnTo>
                <a:lnTo>
                  <a:pt x="153" y="231"/>
                </a:lnTo>
                <a:lnTo>
                  <a:pt x="159" y="248"/>
                </a:lnTo>
                <a:lnTo>
                  <a:pt x="165" y="268"/>
                </a:lnTo>
                <a:lnTo>
                  <a:pt x="169" y="286"/>
                </a:lnTo>
                <a:lnTo>
                  <a:pt x="173" y="274"/>
                </a:lnTo>
                <a:lnTo>
                  <a:pt x="176" y="235"/>
                </a:lnTo>
                <a:lnTo>
                  <a:pt x="181" y="206"/>
                </a:lnTo>
                <a:lnTo>
                  <a:pt x="183" y="185"/>
                </a:lnTo>
                <a:lnTo>
                  <a:pt x="195" y="177"/>
                </a:lnTo>
                <a:lnTo>
                  <a:pt x="213" y="180"/>
                </a:lnTo>
                <a:lnTo>
                  <a:pt x="233" y="181"/>
                </a:lnTo>
                <a:lnTo>
                  <a:pt x="260" y="178"/>
                </a:lnTo>
                <a:lnTo>
                  <a:pt x="260" y="173"/>
                </a:lnTo>
                <a:lnTo>
                  <a:pt x="240" y="155"/>
                </a:lnTo>
                <a:lnTo>
                  <a:pt x="230" y="135"/>
                </a:lnTo>
                <a:lnTo>
                  <a:pt x="230" y="107"/>
                </a:lnTo>
                <a:lnTo>
                  <a:pt x="244" y="56"/>
                </a:lnTo>
                <a:lnTo>
                  <a:pt x="273" y="16"/>
                </a:lnTo>
                <a:lnTo>
                  <a:pt x="295" y="0"/>
                </a:lnTo>
                <a:lnTo>
                  <a:pt x="327" y="15"/>
                </a:lnTo>
                <a:lnTo>
                  <a:pt x="382" y="45"/>
                </a:lnTo>
                <a:lnTo>
                  <a:pt x="398" y="71"/>
                </a:lnTo>
                <a:lnTo>
                  <a:pt x="413" y="76"/>
                </a:lnTo>
                <a:lnTo>
                  <a:pt x="425" y="70"/>
                </a:lnTo>
                <a:lnTo>
                  <a:pt x="432" y="68"/>
                </a:lnTo>
                <a:lnTo>
                  <a:pt x="460" y="89"/>
                </a:lnTo>
                <a:lnTo>
                  <a:pt x="476" y="105"/>
                </a:lnTo>
                <a:lnTo>
                  <a:pt x="496" y="114"/>
                </a:lnTo>
                <a:lnTo>
                  <a:pt x="533" y="128"/>
                </a:lnTo>
                <a:lnTo>
                  <a:pt x="561" y="144"/>
                </a:lnTo>
                <a:lnTo>
                  <a:pt x="584" y="169"/>
                </a:lnTo>
                <a:lnTo>
                  <a:pt x="586" y="173"/>
                </a:lnTo>
                <a:lnTo>
                  <a:pt x="571" y="180"/>
                </a:lnTo>
                <a:lnTo>
                  <a:pt x="601" y="203"/>
                </a:lnTo>
                <a:lnTo>
                  <a:pt x="622" y="234"/>
                </a:lnTo>
                <a:lnTo>
                  <a:pt x="625" y="249"/>
                </a:lnTo>
                <a:lnTo>
                  <a:pt x="591" y="250"/>
                </a:lnTo>
                <a:lnTo>
                  <a:pt x="572" y="260"/>
                </a:lnTo>
                <a:lnTo>
                  <a:pt x="574" y="272"/>
                </a:lnTo>
                <a:lnTo>
                  <a:pt x="570" y="304"/>
                </a:lnTo>
                <a:lnTo>
                  <a:pt x="566" y="336"/>
                </a:lnTo>
                <a:lnTo>
                  <a:pt x="547" y="372"/>
                </a:lnTo>
                <a:lnTo>
                  <a:pt x="526" y="382"/>
                </a:lnTo>
                <a:lnTo>
                  <a:pt x="522" y="395"/>
                </a:lnTo>
                <a:lnTo>
                  <a:pt x="521" y="416"/>
                </a:lnTo>
                <a:lnTo>
                  <a:pt x="521" y="441"/>
                </a:lnTo>
                <a:lnTo>
                  <a:pt x="506" y="450"/>
                </a:lnTo>
                <a:lnTo>
                  <a:pt x="506" y="464"/>
                </a:lnTo>
                <a:lnTo>
                  <a:pt x="489" y="476"/>
                </a:lnTo>
                <a:lnTo>
                  <a:pt x="481" y="504"/>
                </a:lnTo>
                <a:lnTo>
                  <a:pt x="484" y="530"/>
                </a:lnTo>
                <a:lnTo>
                  <a:pt x="502" y="560"/>
                </a:lnTo>
                <a:lnTo>
                  <a:pt x="508" y="576"/>
                </a:lnTo>
                <a:lnTo>
                  <a:pt x="530" y="579"/>
                </a:lnTo>
                <a:lnTo>
                  <a:pt x="566" y="563"/>
                </a:lnTo>
                <a:lnTo>
                  <a:pt x="575" y="546"/>
                </a:lnTo>
                <a:lnTo>
                  <a:pt x="591" y="516"/>
                </a:lnTo>
                <a:lnTo>
                  <a:pt x="605" y="502"/>
                </a:lnTo>
                <a:lnTo>
                  <a:pt x="612" y="502"/>
                </a:lnTo>
                <a:lnTo>
                  <a:pt x="618" y="493"/>
                </a:lnTo>
                <a:lnTo>
                  <a:pt x="627" y="475"/>
                </a:lnTo>
                <a:lnTo>
                  <a:pt x="625" y="464"/>
                </a:lnTo>
                <a:lnTo>
                  <a:pt x="616" y="460"/>
                </a:lnTo>
                <a:lnTo>
                  <a:pt x="620" y="455"/>
                </a:lnTo>
                <a:lnTo>
                  <a:pt x="640" y="448"/>
                </a:lnTo>
                <a:lnTo>
                  <a:pt x="658" y="426"/>
                </a:lnTo>
                <a:lnTo>
                  <a:pt x="661" y="410"/>
                </a:lnTo>
                <a:lnTo>
                  <a:pt x="684" y="393"/>
                </a:lnTo>
                <a:lnTo>
                  <a:pt x="695" y="393"/>
                </a:lnTo>
                <a:lnTo>
                  <a:pt x="712" y="413"/>
                </a:lnTo>
                <a:lnTo>
                  <a:pt x="737" y="447"/>
                </a:lnTo>
                <a:lnTo>
                  <a:pt x="796" y="547"/>
                </a:lnTo>
                <a:lnTo>
                  <a:pt x="839" y="681"/>
                </a:lnTo>
                <a:lnTo>
                  <a:pt x="851" y="727"/>
                </a:lnTo>
                <a:lnTo>
                  <a:pt x="850" y="744"/>
                </a:lnTo>
                <a:lnTo>
                  <a:pt x="837" y="761"/>
                </a:lnTo>
                <a:lnTo>
                  <a:pt x="837" y="784"/>
                </a:lnTo>
                <a:lnTo>
                  <a:pt x="835" y="791"/>
                </a:lnTo>
                <a:lnTo>
                  <a:pt x="821" y="801"/>
                </a:lnTo>
                <a:lnTo>
                  <a:pt x="807" y="801"/>
                </a:lnTo>
                <a:lnTo>
                  <a:pt x="792" y="790"/>
                </a:lnTo>
                <a:lnTo>
                  <a:pt x="772" y="801"/>
                </a:lnTo>
                <a:lnTo>
                  <a:pt x="759" y="813"/>
                </a:lnTo>
                <a:lnTo>
                  <a:pt x="764" y="829"/>
                </a:lnTo>
                <a:lnTo>
                  <a:pt x="759" y="840"/>
                </a:lnTo>
                <a:lnTo>
                  <a:pt x="735" y="867"/>
                </a:lnTo>
                <a:lnTo>
                  <a:pt x="720" y="893"/>
                </a:lnTo>
                <a:lnTo>
                  <a:pt x="708" y="922"/>
                </a:lnTo>
                <a:lnTo>
                  <a:pt x="706" y="946"/>
                </a:lnTo>
                <a:lnTo>
                  <a:pt x="704" y="949"/>
                </a:lnTo>
                <a:lnTo>
                  <a:pt x="692" y="962"/>
                </a:lnTo>
                <a:lnTo>
                  <a:pt x="684" y="975"/>
                </a:lnTo>
                <a:lnTo>
                  <a:pt x="684" y="991"/>
                </a:lnTo>
                <a:lnTo>
                  <a:pt x="686" y="1003"/>
                </a:lnTo>
                <a:lnTo>
                  <a:pt x="692" y="1014"/>
                </a:lnTo>
                <a:lnTo>
                  <a:pt x="695" y="1032"/>
                </a:lnTo>
                <a:lnTo>
                  <a:pt x="0" y="1132"/>
                </a:lnTo>
              </a:path>
            </a:pathLst>
          </a:custGeom>
          <a:solidFill>
            <a:srgbClr val="00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Freeform 35"/>
          <p:cNvSpPr/>
          <p:nvPr/>
        </p:nvSpPr>
        <p:spPr>
          <a:xfrm>
            <a:off x="5535720" y="2828880"/>
            <a:ext cx="645840" cy="1093680"/>
          </a:xfrm>
          <a:custGeom>
            <a:avLst/>
            <a:gdLst>
              <a:gd name="textAreaLeft" fmla="*/ 0 w 645840"/>
              <a:gd name="textAreaRight" fmla="*/ 646200 w 645840"/>
              <a:gd name="textAreaTop" fmla="*/ 0 h 1093680"/>
              <a:gd name="textAreaBottom" fmla="*/ 1093680 h 1093680"/>
            </a:gdLst>
            <a:ahLst/>
            <a:rect l="textAreaLeft" t="textAreaTop" r="textAreaRight" b="textAreaBottom"/>
            <a:pathLst>
              <a:path w="827" h="1493">
                <a:moveTo>
                  <a:pt x="155" y="12"/>
                </a:moveTo>
                <a:lnTo>
                  <a:pt x="686" y="0"/>
                </a:lnTo>
                <a:lnTo>
                  <a:pt x="686" y="21"/>
                </a:lnTo>
                <a:lnTo>
                  <a:pt x="691" y="55"/>
                </a:lnTo>
                <a:lnTo>
                  <a:pt x="697" y="63"/>
                </a:lnTo>
                <a:lnTo>
                  <a:pt x="705" y="76"/>
                </a:lnTo>
                <a:lnTo>
                  <a:pt x="718" y="91"/>
                </a:lnTo>
                <a:lnTo>
                  <a:pt x="733" y="103"/>
                </a:lnTo>
                <a:lnTo>
                  <a:pt x="743" y="113"/>
                </a:lnTo>
                <a:lnTo>
                  <a:pt x="827" y="946"/>
                </a:lnTo>
                <a:lnTo>
                  <a:pt x="817" y="949"/>
                </a:lnTo>
                <a:lnTo>
                  <a:pt x="805" y="952"/>
                </a:lnTo>
                <a:lnTo>
                  <a:pt x="793" y="969"/>
                </a:lnTo>
                <a:lnTo>
                  <a:pt x="789" y="977"/>
                </a:lnTo>
                <a:lnTo>
                  <a:pt x="789" y="985"/>
                </a:lnTo>
                <a:lnTo>
                  <a:pt x="800" y="993"/>
                </a:lnTo>
                <a:lnTo>
                  <a:pt x="800" y="1005"/>
                </a:lnTo>
                <a:lnTo>
                  <a:pt x="800" y="1017"/>
                </a:lnTo>
                <a:lnTo>
                  <a:pt x="800" y="1022"/>
                </a:lnTo>
                <a:lnTo>
                  <a:pt x="801" y="1028"/>
                </a:lnTo>
                <a:lnTo>
                  <a:pt x="807" y="1045"/>
                </a:lnTo>
                <a:lnTo>
                  <a:pt x="790" y="1062"/>
                </a:lnTo>
                <a:lnTo>
                  <a:pt x="782" y="1077"/>
                </a:lnTo>
                <a:lnTo>
                  <a:pt x="784" y="1091"/>
                </a:lnTo>
                <a:lnTo>
                  <a:pt x="775" y="1105"/>
                </a:lnTo>
                <a:lnTo>
                  <a:pt x="765" y="1123"/>
                </a:lnTo>
                <a:lnTo>
                  <a:pt x="765" y="1153"/>
                </a:lnTo>
                <a:lnTo>
                  <a:pt x="759" y="1183"/>
                </a:lnTo>
                <a:lnTo>
                  <a:pt x="755" y="1192"/>
                </a:lnTo>
                <a:lnTo>
                  <a:pt x="739" y="1233"/>
                </a:lnTo>
                <a:lnTo>
                  <a:pt x="732" y="1251"/>
                </a:lnTo>
                <a:lnTo>
                  <a:pt x="732" y="1285"/>
                </a:lnTo>
                <a:lnTo>
                  <a:pt x="721" y="1300"/>
                </a:lnTo>
                <a:lnTo>
                  <a:pt x="737" y="1325"/>
                </a:lnTo>
                <a:lnTo>
                  <a:pt x="721" y="1342"/>
                </a:lnTo>
                <a:lnTo>
                  <a:pt x="689" y="1340"/>
                </a:lnTo>
                <a:lnTo>
                  <a:pt x="672" y="1340"/>
                </a:lnTo>
                <a:lnTo>
                  <a:pt x="659" y="1358"/>
                </a:lnTo>
                <a:lnTo>
                  <a:pt x="668" y="1377"/>
                </a:lnTo>
                <a:lnTo>
                  <a:pt x="690" y="1399"/>
                </a:lnTo>
                <a:lnTo>
                  <a:pt x="694" y="1418"/>
                </a:lnTo>
                <a:lnTo>
                  <a:pt x="680" y="1429"/>
                </a:lnTo>
                <a:lnTo>
                  <a:pt x="644" y="1436"/>
                </a:lnTo>
                <a:lnTo>
                  <a:pt x="619" y="1446"/>
                </a:lnTo>
                <a:lnTo>
                  <a:pt x="598" y="1462"/>
                </a:lnTo>
                <a:lnTo>
                  <a:pt x="577" y="1493"/>
                </a:lnTo>
                <a:lnTo>
                  <a:pt x="570" y="1490"/>
                </a:lnTo>
                <a:lnTo>
                  <a:pt x="565" y="1476"/>
                </a:lnTo>
                <a:lnTo>
                  <a:pt x="557" y="1483"/>
                </a:lnTo>
                <a:lnTo>
                  <a:pt x="546" y="1452"/>
                </a:lnTo>
                <a:lnTo>
                  <a:pt x="540" y="1437"/>
                </a:lnTo>
                <a:lnTo>
                  <a:pt x="538" y="1431"/>
                </a:lnTo>
                <a:lnTo>
                  <a:pt x="535" y="1427"/>
                </a:lnTo>
                <a:lnTo>
                  <a:pt x="524" y="1426"/>
                </a:lnTo>
                <a:lnTo>
                  <a:pt x="522" y="1437"/>
                </a:lnTo>
                <a:lnTo>
                  <a:pt x="517" y="1446"/>
                </a:lnTo>
                <a:lnTo>
                  <a:pt x="514" y="1448"/>
                </a:lnTo>
                <a:lnTo>
                  <a:pt x="507" y="1440"/>
                </a:lnTo>
                <a:lnTo>
                  <a:pt x="499" y="1434"/>
                </a:lnTo>
                <a:lnTo>
                  <a:pt x="487" y="1423"/>
                </a:lnTo>
                <a:lnTo>
                  <a:pt x="472" y="1408"/>
                </a:lnTo>
                <a:lnTo>
                  <a:pt x="464" y="1398"/>
                </a:lnTo>
                <a:lnTo>
                  <a:pt x="464" y="1389"/>
                </a:lnTo>
                <a:lnTo>
                  <a:pt x="464" y="1386"/>
                </a:lnTo>
                <a:lnTo>
                  <a:pt x="472" y="1373"/>
                </a:lnTo>
                <a:lnTo>
                  <a:pt x="475" y="1360"/>
                </a:lnTo>
                <a:lnTo>
                  <a:pt x="475" y="1353"/>
                </a:lnTo>
                <a:lnTo>
                  <a:pt x="472" y="1340"/>
                </a:lnTo>
                <a:lnTo>
                  <a:pt x="459" y="1319"/>
                </a:lnTo>
                <a:lnTo>
                  <a:pt x="444" y="1305"/>
                </a:lnTo>
                <a:lnTo>
                  <a:pt x="425" y="1290"/>
                </a:lnTo>
                <a:lnTo>
                  <a:pt x="413" y="1278"/>
                </a:lnTo>
                <a:lnTo>
                  <a:pt x="413" y="1270"/>
                </a:lnTo>
                <a:lnTo>
                  <a:pt x="413" y="1254"/>
                </a:lnTo>
                <a:lnTo>
                  <a:pt x="403" y="1232"/>
                </a:lnTo>
                <a:lnTo>
                  <a:pt x="390" y="1221"/>
                </a:lnTo>
                <a:lnTo>
                  <a:pt x="369" y="1211"/>
                </a:lnTo>
                <a:lnTo>
                  <a:pt x="346" y="1194"/>
                </a:lnTo>
                <a:lnTo>
                  <a:pt x="301" y="1164"/>
                </a:lnTo>
                <a:lnTo>
                  <a:pt x="282" y="1153"/>
                </a:lnTo>
                <a:lnTo>
                  <a:pt x="265" y="1141"/>
                </a:lnTo>
                <a:lnTo>
                  <a:pt x="261" y="1131"/>
                </a:lnTo>
                <a:lnTo>
                  <a:pt x="261" y="1123"/>
                </a:lnTo>
                <a:lnTo>
                  <a:pt x="261" y="1107"/>
                </a:lnTo>
                <a:lnTo>
                  <a:pt x="261" y="1105"/>
                </a:lnTo>
                <a:lnTo>
                  <a:pt x="271" y="1089"/>
                </a:lnTo>
                <a:lnTo>
                  <a:pt x="279" y="1086"/>
                </a:lnTo>
                <a:lnTo>
                  <a:pt x="288" y="1059"/>
                </a:lnTo>
                <a:lnTo>
                  <a:pt x="293" y="1039"/>
                </a:lnTo>
                <a:lnTo>
                  <a:pt x="300" y="1015"/>
                </a:lnTo>
                <a:lnTo>
                  <a:pt x="300" y="1009"/>
                </a:lnTo>
                <a:lnTo>
                  <a:pt x="309" y="1002"/>
                </a:lnTo>
                <a:lnTo>
                  <a:pt x="314" y="993"/>
                </a:lnTo>
                <a:lnTo>
                  <a:pt x="294" y="963"/>
                </a:lnTo>
                <a:lnTo>
                  <a:pt x="279" y="942"/>
                </a:lnTo>
                <a:lnTo>
                  <a:pt x="266" y="923"/>
                </a:lnTo>
                <a:lnTo>
                  <a:pt x="254" y="918"/>
                </a:lnTo>
                <a:lnTo>
                  <a:pt x="242" y="916"/>
                </a:lnTo>
                <a:lnTo>
                  <a:pt x="224" y="919"/>
                </a:lnTo>
                <a:lnTo>
                  <a:pt x="219" y="932"/>
                </a:lnTo>
                <a:lnTo>
                  <a:pt x="214" y="940"/>
                </a:lnTo>
                <a:lnTo>
                  <a:pt x="202" y="947"/>
                </a:lnTo>
                <a:lnTo>
                  <a:pt x="194" y="944"/>
                </a:lnTo>
                <a:lnTo>
                  <a:pt x="183" y="936"/>
                </a:lnTo>
                <a:lnTo>
                  <a:pt x="174" y="923"/>
                </a:lnTo>
                <a:lnTo>
                  <a:pt x="166" y="908"/>
                </a:lnTo>
                <a:lnTo>
                  <a:pt x="160" y="894"/>
                </a:lnTo>
                <a:lnTo>
                  <a:pt x="156" y="880"/>
                </a:lnTo>
                <a:lnTo>
                  <a:pt x="156" y="863"/>
                </a:lnTo>
                <a:lnTo>
                  <a:pt x="156" y="854"/>
                </a:lnTo>
                <a:lnTo>
                  <a:pt x="152" y="846"/>
                </a:lnTo>
                <a:lnTo>
                  <a:pt x="149" y="833"/>
                </a:lnTo>
                <a:lnTo>
                  <a:pt x="144" y="822"/>
                </a:lnTo>
                <a:lnTo>
                  <a:pt x="136" y="813"/>
                </a:lnTo>
                <a:lnTo>
                  <a:pt x="123" y="801"/>
                </a:lnTo>
                <a:lnTo>
                  <a:pt x="102" y="794"/>
                </a:lnTo>
                <a:lnTo>
                  <a:pt x="98" y="794"/>
                </a:lnTo>
                <a:lnTo>
                  <a:pt x="83" y="763"/>
                </a:lnTo>
                <a:lnTo>
                  <a:pt x="70" y="750"/>
                </a:lnTo>
                <a:lnTo>
                  <a:pt x="66" y="735"/>
                </a:lnTo>
                <a:lnTo>
                  <a:pt x="62" y="722"/>
                </a:lnTo>
                <a:lnTo>
                  <a:pt x="53" y="711"/>
                </a:lnTo>
                <a:lnTo>
                  <a:pt x="37" y="701"/>
                </a:lnTo>
                <a:lnTo>
                  <a:pt x="35" y="701"/>
                </a:lnTo>
                <a:lnTo>
                  <a:pt x="31" y="695"/>
                </a:lnTo>
                <a:lnTo>
                  <a:pt x="23" y="680"/>
                </a:lnTo>
                <a:lnTo>
                  <a:pt x="21" y="663"/>
                </a:lnTo>
                <a:lnTo>
                  <a:pt x="21" y="651"/>
                </a:lnTo>
                <a:lnTo>
                  <a:pt x="21" y="644"/>
                </a:lnTo>
                <a:lnTo>
                  <a:pt x="21" y="635"/>
                </a:lnTo>
                <a:lnTo>
                  <a:pt x="23" y="631"/>
                </a:lnTo>
                <a:lnTo>
                  <a:pt x="17" y="616"/>
                </a:lnTo>
                <a:lnTo>
                  <a:pt x="7" y="599"/>
                </a:lnTo>
                <a:lnTo>
                  <a:pt x="0" y="588"/>
                </a:lnTo>
                <a:lnTo>
                  <a:pt x="0" y="583"/>
                </a:lnTo>
                <a:lnTo>
                  <a:pt x="6" y="573"/>
                </a:lnTo>
                <a:lnTo>
                  <a:pt x="12" y="559"/>
                </a:lnTo>
                <a:lnTo>
                  <a:pt x="12" y="530"/>
                </a:lnTo>
                <a:lnTo>
                  <a:pt x="16" y="519"/>
                </a:lnTo>
                <a:lnTo>
                  <a:pt x="29" y="505"/>
                </a:lnTo>
                <a:lnTo>
                  <a:pt x="47" y="484"/>
                </a:lnTo>
                <a:lnTo>
                  <a:pt x="57" y="478"/>
                </a:lnTo>
                <a:lnTo>
                  <a:pt x="64" y="474"/>
                </a:lnTo>
                <a:lnTo>
                  <a:pt x="70" y="457"/>
                </a:lnTo>
                <a:lnTo>
                  <a:pt x="72" y="438"/>
                </a:lnTo>
                <a:lnTo>
                  <a:pt x="75" y="433"/>
                </a:lnTo>
                <a:lnTo>
                  <a:pt x="81" y="432"/>
                </a:lnTo>
                <a:lnTo>
                  <a:pt x="87" y="426"/>
                </a:lnTo>
                <a:lnTo>
                  <a:pt x="89" y="414"/>
                </a:lnTo>
                <a:lnTo>
                  <a:pt x="89" y="398"/>
                </a:lnTo>
                <a:lnTo>
                  <a:pt x="84" y="386"/>
                </a:lnTo>
                <a:lnTo>
                  <a:pt x="75" y="368"/>
                </a:lnTo>
                <a:lnTo>
                  <a:pt x="69" y="351"/>
                </a:lnTo>
                <a:lnTo>
                  <a:pt x="59" y="342"/>
                </a:lnTo>
                <a:lnTo>
                  <a:pt x="59" y="335"/>
                </a:lnTo>
                <a:lnTo>
                  <a:pt x="68" y="300"/>
                </a:lnTo>
                <a:lnTo>
                  <a:pt x="75" y="282"/>
                </a:lnTo>
                <a:lnTo>
                  <a:pt x="83" y="278"/>
                </a:lnTo>
                <a:lnTo>
                  <a:pt x="108" y="265"/>
                </a:lnTo>
                <a:lnTo>
                  <a:pt x="134" y="254"/>
                </a:lnTo>
                <a:lnTo>
                  <a:pt x="150" y="245"/>
                </a:lnTo>
                <a:lnTo>
                  <a:pt x="170" y="236"/>
                </a:lnTo>
                <a:lnTo>
                  <a:pt x="190" y="225"/>
                </a:lnTo>
                <a:lnTo>
                  <a:pt x="196" y="218"/>
                </a:lnTo>
                <a:lnTo>
                  <a:pt x="196" y="206"/>
                </a:lnTo>
                <a:lnTo>
                  <a:pt x="196" y="195"/>
                </a:lnTo>
                <a:lnTo>
                  <a:pt x="201" y="182"/>
                </a:lnTo>
                <a:lnTo>
                  <a:pt x="214" y="159"/>
                </a:lnTo>
                <a:lnTo>
                  <a:pt x="216" y="150"/>
                </a:lnTo>
                <a:lnTo>
                  <a:pt x="208" y="138"/>
                </a:lnTo>
                <a:lnTo>
                  <a:pt x="206" y="125"/>
                </a:lnTo>
                <a:lnTo>
                  <a:pt x="208" y="118"/>
                </a:lnTo>
                <a:lnTo>
                  <a:pt x="204" y="107"/>
                </a:lnTo>
                <a:lnTo>
                  <a:pt x="202" y="98"/>
                </a:lnTo>
                <a:lnTo>
                  <a:pt x="191" y="81"/>
                </a:lnTo>
                <a:lnTo>
                  <a:pt x="173" y="58"/>
                </a:lnTo>
                <a:lnTo>
                  <a:pt x="168" y="48"/>
                </a:lnTo>
                <a:lnTo>
                  <a:pt x="155" y="12"/>
                </a:lnTo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Freeform 36"/>
          <p:cNvSpPr/>
          <p:nvPr/>
        </p:nvSpPr>
        <p:spPr>
          <a:xfrm>
            <a:off x="6116760" y="2865600"/>
            <a:ext cx="492120" cy="831600"/>
          </a:xfrm>
          <a:custGeom>
            <a:avLst/>
            <a:gdLst>
              <a:gd name="textAreaLeft" fmla="*/ 0 w 492120"/>
              <a:gd name="textAreaRight" fmla="*/ 492480 w 492120"/>
              <a:gd name="textAreaTop" fmla="*/ 0 h 831600"/>
              <a:gd name="textAreaBottom" fmla="*/ 831960 h 831600"/>
            </a:gdLst>
            <a:ahLst/>
            <a:rect l="textAreaLeft" t="textAreaTop" r="textAreaRight" b="textAreaBottom"/>
            <a:pathLst>
              <a:path w="628" h="1137">
                <a:moveTo>
                  <a:pt x="0" y="62"/>
                </a:moveTo>
                <a:lnTo>
                  <a:pt x="14" y="75"/>
                </a:lnTo>
                <a:lnTo>
                  <a:pt x="27" y="83"/>
                </a:lnTo>
                <a:lnTo>
                  <a:pt x="44" y="84"/>
                </a:lnTo>
                <a:lnTo>
                  <a:pt x="57" y="84"/>
                </a:lnTo>
                <a:lnTo>
                  <a:pt x="79" y="81"/>
                </a:lnTo>
                <a:lnTo>
                  <a:pt x="97" y="70"/>
                </a:lnTo>
                <a:lnTo>
                  <a:pt x="107" y="65"/>
                </a:lnTo>
                <a:lnTo>
                  <a:pt x="112" y="50"/>
                </a:lnTo>
                <a:lnTo>
                  <a:pt x="475" y="0"/>
                </a:lnTo>
                <a:lnTo>
                  <a:pt x="622" y="785"/>
                </a:lnTo>
                <a:lnTo>
                  <a:pt x="616" y="795"/>
                </a:lnTo>
                <a:lnTo>
                  <a:pt x="606" y="803"/>
                </a:lnTo>
                <a:lnTo>
                  <a:pt x="606" y="813"/>
                </a:lnTo>
                <a:lnTo>
                  <a:pt x="616" y="819"/>
                </a:lnTo>
                <a:lnTo>
                  <a:pt x="622" y="816"/>
                </a:lnTo>
                <a:lnTo>
                  <a:pt x="618" y="826"/>
                </a:lnTo>
                <a:lnTo>
                  <a:pt x="619" y="834"/>
                </a:lnTo>
                <a:lnTo>
                  <a:pt x="627" y="837"/>
                </a:lnTo>
                <a:lnTo>
                  <a:pt x="628" y="849"/>
                </a:lnTo>
                <a:lnTo>
                  <a:pt x="623" y="849"/>
                </a:lnTo>
                <a:lnTo>
                  <a:pt x="601" y="861"/>
                </a:lnTo>
                <a:lnTo>
                  <a:pt x="593" y="866"/>
                </a:lnTo>
                <a:lnTo>
                  <a:pt x="576" y="873"/>
                </a:lnTo>
                <a:lnTo>
                  <a:pt x="560" y="866"/>
                </a:lnTo>
                <a:lnTo>
                  <a:pt x="537" y="846"/>
                </a:lnTo>
                <a:lnTo>
                  <a:pt x="513" y="858"/>
                </a:lnTo>
                <a:lnTo>
                  <a:pt x="496" y="878"/>
                </a:lnTo>
                <a:lnTo>
                  <a:pt x="497" y="912"/>
                </a:lnTo>
                <a:lnTo>
                  <a:pt x="484" y="930"/>
                </a:lnTo>
                <a:lnTo>
                  <a:pt x="467" y="948"/>
                </a:lnTo>
                <a:lnTo>
                  <a:pt x="464" y="970"/>
                </a:lnTo>
                <a:lnTo>
                  <a:pt x="439" y="982"/>
                </a:lnTo>
                <a:lnTo>
                  <a:pt x="422" y="1008"/>
                </a:lnTo>
                <a:lnTo>
                  <a:pt x="408" y="1034"/>
                </a:lnTo>
                <a:lnTo>
                  <a:pt x="378" y="1042"/>
                </a:lnTo>
                <a:lnTo>
                  <a:pt x="361" y="1035"/>
                </a:lnTo>
                <a:lnTo>
                  <a:pt x="354" y="1009"/>
                </a:lnTo>
                <a:lnTo>
                  <a:pt x="342" y="998"/>
                </a:lnTo>
                <a:lnTo>
                  <a:pt x="334" y="998"/>
                </a:lnTo>
                <a:lnTo>
                  <a:pt x="330" y="1018"/>
                </a:lnTo>
                <a:lnTo>
                  <a:pt x="324" y="1033"/>
                </a:lnTo>
                <a:lnTo>
                  <a:pt x="311" y="1033"/>
                </a:lnTo>
                <a:lnTo>
                  <a:pt x="294" y="1051"/>
                </a:lnTo>
                <a:lnTo>
                  <a:pt x="286" y="1065"/>
                </a:lnTo>
                <a:lnTo>
                  <a:pt x="266" y="1062"/>
                </a:lnTo>
                <a:lnTo>
                  <a:pt x="247" y="1051"/>
                </a:lnTo>
                <a:lnTo>
                  <a:pt x="235" y="1051"/>
                </a:lnTo>
                <a:lnTo>
                  <a:pt x="210" y="1071"/>
                </a:lnTo>
                <a:lnTo>
                  <a:pt x="208" y="1091"/>
                </a:lnTo>
                <a:lnTo>
                  <a:pt x="193" y="1094"/>
                </a:lnTo>
                <a:lnTo>
                  <a:pt x="173" y="1087"/>
                </a:lnTo>
                <a:lnTo>
                  <a:pt x="165" y="1072"/>
                </a:lnTo>
                <a:lnTo>
                  <a:pt x="152" y="1062"/>
                </a:lnTo>
                <a:lnTo>
                  <a:pt x="138" y="1070"/>
                </a:lnTo>
                <a:lnTo>
                  <a:pt x="127" y="1079"/>
                </a:lnTo>
                <a:lnTo>
                  <a:pt x="117" y="1099"/>
                </a:lnTo>
                <a:lnTo>
                  <a:pt x="102" y="1113"/>
                </a:lnTo>
                <a:lnTo>
                  <a:pt x="84" y="1121"/>
                </a:lnTo>
                <a:lnTo>
                  <a:pt x="67" y="1124"/>
                </a:lnTo>
                <a:lnTo>
                  <a:pt x="49" y="1129"/>
                </a:lnTo>
                <a:lnTo>
                  <a:pt x="29" y="1137"/>
                </a:lnTo>
                <a:lnTo>
                  <a:pt x="14" y="1130"/>
                </a:lnTo>
                <a:lnTo>
                  <a:pt x="21" y="1114"/>
                </a:lnTo>
                <a:lnTo>
                  <a:pt x="22" y="1101"/>
                </a:lnTo>
                <a:lnTo>
                  <a:pt x="22" y="1073"/>
                </a:lnTo>
                <a:lnTo>
                  <a:pt x="28" y="1062"/>
                </a:lnTo>
                <a:lnTo>
                  <a:pt x="34" y="1049"/>
                </a:lnTo>
                <a:lnTo>
                  <a:pt x="39" y="1040"/>
                </a:lnTo>
                <a:lnTo>
                  <a:pt x="39" y="1031"/>
                </a:lnTo>
                <a:lnTo>
                  <a:pt x="41" y="1027"/>
                </a:lnTo>
                <a:lnTo>
                  <a:pt x="43" y="1019"/>
                </a:lnTo>
                <a:lnTo>
                  <a:pt x="50" y="1010"/>
                </a:lnTo>
                <a:lnTo>
                  <a:pt x="59" y="1003"/>
                </a:lnTo>
                <a:lnTo>
                  <a:pt x="62" y="998"/>
                </a:lnTo>
                <a:lnTo>
                  <a:pt x="62" y="993"/>
                </a:lnTo>
                <a:lnTo>
                  <a:pt x="62" y="990"/>
                </a:lnTo>
                <a:lnTo>
                  <a:pt x="58" y="978"/>
                </a:lnTo>
                <a:lnTo>
                  <a:pt x="57" y="959"/>
                </a:lnTo>
                <a:lnTo>
                  <a:pt x="57" y="947"/>
                </a:lnTo>
                <a:lnTo>
                  <a:pt x="58" y="943"/>
                </a:lnTo>
                <a:lnTo>
                  <a:pt x="52" y="941"/>
                </a:lnTo>
                <a:lnTo>
                  <a:pt x="49" y="940"/>
                </a:lnTo>
                <a:lnTo>
                  <a:pt x="45" y="935"/>
                </a:lnTo>
                <a:lnTo>
                  <a:pt x="45" y="928"/>
                </a:lnTo>
                <a:lnTo>
                  <a:pt x="49" y="922"/>
                </a:lnTo>
                <a:lnTo>
                  <a:pt x="61" y="905"/>
                </a:lnTo>
                <a:lnTo>
                  <a:pt x="64" y="902"/>
                </a:lnTo>
                <a:lnTo>
                  <a:pt x="70" y="899"/>
                </a:lnTo>
                <a:lnTo>
                  <a:pt x="81" y="897"/>
                </a:lnTo>
                <a:lnTo>
                  <a:pt x="83" y="896"/>
                </a:lnTo>
                <a:lnTo>
                  <a:pt x="83" y="892"/>
                </a:lnTo>
                <a:lnTo>
                  <a:pt x="1" y="77"/>
                </a:lnTo>
                <a:lnTo>
                  <a:pt x="0" y="62"/>
                </a:lnTo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Freeform 37"/>
          <p:cNvSpPr/>
          <p:nvPr/>
        </p:nvSpPr>
        <p:spPr>
          <a:xfrm>
            <a:off x="6458040" y="2643120"/>
            <a:ext cx="761760" cy="838440"/>
          </a:xfrm>
          <a:custGeom>
            <a:avLst/>
            <a:gdLst>
              <a:gd name="textAreaLeft" fmla="*/ 0 w 761760"/>
              <a:gd name="textAreaRight" fmla="*/ 762120 w 76176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924" h="1049">
                <a:moveTo>
                  <a:pt x="0" y="221"/>
                </a:moveTo>
                <a:lnTo>
                  <a:pt x="337" y="172"/>
                </a:lnTo>
                <a:lnTo>
                  <a:pt x="326" y="190"/>
                </a:lnTo>
                <a:lnTo>
                  <a:pt x="355" y="185"/>
                </a:lnTo>
                <a:lnTo>
                  <a:pt x="370" y="185"/>
                </a:lnTo>
                <a:lnTo>
                  <a:pt x="373" y="183"/>
                </a:lnTo>
                <a:lnTo>
                  <a:pt x="380" y="172"/>
                </a:lnTo>
                <a:lnTo>
                  <a:pt x="390" y="173"/>
                </a:lnTo>
                <a:lnTo>
                  <a:pt x="396" y="185"/>
                </a:lnTo>
                <a:lnTo>
                  <a:pt x="414" y="188"/>
                </a:lnTo>
                <a:lnTo>
                  <a:pt x="450" y="190"/>
                </a:lnTo>
                <a:lnTo>
                  <a:pt x="467" y="180"/>
                </a:lnTo>
                <a:lnTo>
                  <a:pt x="470" y="166"/>
                </a:lnTo>
                <a:lnTo>
                  <a:pt x="474" y="166"/>
                </a:lnTo>
                <a:lnTo>
                  <a:pt x="488" y="173"/>
                </a:lnTo>
                <a:lnTo>
                  <a:pt x="496" y="180"/>
                </a:lnTo>
                <a:lnTo>
                  <a:pt x="482" y="193"/>
                </a:lnTo>
                <a:lnTo>
                  <a:pt x="462" y="198"/>
                </a:lnTo>
                <a:lnTo>
                  <a:pt x="444" y="208"/>
                </a:lnTo>
                <a:lnTo>
                  <a:pt x="433" y="213"/>
                </a:lnTo>
                <a:lnTo>
                  <a:pt x="423" y="221"/>
                </a:lnTo>
                <a:lnTo>
                  <a:pt x="441" y="224"/>
                </a:lnTo>
                <a:lnTo>
                  <a:pt x="489" y="213"/>
                </a:lnTo>
                <a:lnTo>
                  <a:pt x="520" y="197"/>
                </a:lnTo>
                <a:lnTo>
                  <a:pt x="538" y="179"/>
                </a:lnTo>
                <a:lnTo>
                  <a:pt x="548" y="175"/>
                </a:lnTo>
                <a:lnTo>
                  <a:pt x="556" y="175"/>
                </a:lnTo>
                <a:lnTo>
                  <a:pt x="573" y="175"/>
                </a:lnTo>
                <a:lnTo>
                  <a:pt x="596" y="168"/>
                </a:lnTo>
                <a:lnTo>
                  <a:pt x="614" y="154"/>
                </a:lnTo>
                <a:lnTo>
                  <a:pt x="631" y="143"/>
                </a:lnTo>
                <a:lnTo>
                  <a:pt x="660" y="134"/>
                </a:lnTo>
                <a:lnTo>
                  <a:pt x="707" y="112"/>
                </a:lnTo>
                <a:lnTo>
                  <a:pt x="752" y="75"/>
                </a:lnTo>
                <a:lnTo>
                  <a:pt x="821" y="23"/>
                </a:lnTo>
                <a:lnTo>
                  <a:pt x="843" y="8"/>
                </a:lnTo>
                <a:lnTo>
                  <a:pt x="856" y="0"/>
                </a:lnTo>
                <a:lnTo>
                  <a:pt x="924" y="364"/>
                </a:lnTo>
                <a:lnTo>
                  <a:pt x="905" y="380"/>
                </a:lnTo>
                <a:lnTo>
                  <a:pt x="893" y="386"/>
                </a:lnTo>
                <a:lnTo>
                  <a:pt x="884" y="400"/>
                </a:lnTo>
                <a:lnTo>
                  <a:pt x="884" y="413"/>
                </a:lnTo>
                <a:lnTo>
                  <a:pt x="894" y="418"/>
                </a:lnTo>
                <a:lnTo>
                  <a:pt x="906" y="438"/>
                </a:lnTo>
                <a:lnTo>
                  <a:pt x="906" y="455"/>
                </a:lnTo>
                <a:lnTo>
                  <a:pt x="902" y="473"/>
                </a:lnTo>
                <a:lnTo>
                  <a:pt x="898" y="490"/>
                </a:lnTo>
                <a:lnTo>
                  <a:pt x="902" y="506"/>
                </a:lnTo>
                <a:lnTo>
                  <a:pt x="893" y="534"/>
                </a:lnTo>
                <a:lnTo>
                  <a:pt x="865" y="611"/>
                </a:lnTo>
                <a:lnTo>
                  <a:pt x="840" y="685"/>
                </a:lnTo>
                <a:lnTo>
                  <a:pt x="829" y="696"/>
                </a:lnTo>
                <a:lnTo>
                  <a:pt x="820" y="701"/>
                </a:lnTo>
                <a:lnTo>
                  <a:pt x="821" y="719"/>
                </a:lnTo>
                <a:lnTo>
                  <a:pt x="826" y="730"/>
                </a:lnTo>
                <a:lnTo>
                  <a:pt x="826" y="743"/>
                </a:lnTo>
                <a:lnTo>
                  <a:pt x="826" y="753"/>
                </a:lnTo>
                <a:lnTo>
                  <a:pt x="819" y="773"/>
                </a:lnTo>
                <a:lnTo>
                  <a:pt x="806" y="778"/>
                </a:lnTo>
                <a:lnTo>
                  <a:pt x="793" y="778"/>
                </a:lnTo>
                <a:lnTo>
                  <a:pt x="781" y="778"/>
                </a:lnTo>
                <a:lnTo>
                  <a:pt x="757" y="789"/>
                </a:lnTo>
                <a:lnTo>
                  <a:pt x="716" y="842"/>
                </a:lnTo>
                <a:lnTo>
                  <a:pt x="714" y="859"/>
                </a:lnTo>
                <a:lnTo>
                  <a:pt x="720" y="876"/>
                </a:lnTo>
                <a:lnTo>
                  <a:pt x="723" y="891"/>
                </a:lnTo>
                <a:lnTo>
                  <a:pt x="714" y="895"/>
                </a:lnTo>
                <a:lnTo>
                  <a:pt x="700" y="898"/>
                </a:lnTo>
                <a:lnTo>
                  <a:pt x="689" y="898"/>
                </a:lnTo>
                <a:lnTo>
                  <a:pt x="678" y="910"/>
                </a:lnTo>
                <a:lnTo>
                  <a:pt x="691" y="931"/>
                </a:lnTo>
                <a:lnTo>
                  <a:pt x="700" y="939"/>
                </a:lnTo>
                <a:lnTo>
                  <a:pt x="707" y="955"/>
                </a:lnTo>
                <a:lnTo>
                  <a:pt x="700" y="959"/>
                </a:lnTo>
                <a:lnTo>
                  <a:pt x="685" y="959"/>
                </a:lnTo>
                <a:lnTo>
                  <a:pt x="683" y="962"/>
                </a:lnTo>
                <a:lnTo>
                  <a:pt x="683" y="974"/>
                </a:lnTo>
                <a:lnTo>
                  <a:pt x="671" y="969"/>
                </a:lnTo>
                <a:lnTo>
                  <a:pt x="667" y="951"/>
                </a:lnTo>
                <a:lnTo>
                  <a:pt x="660" y="940"/>
                </a:lnTo>
                <a:lnTo>
                  <a:pt x="654" y="940"/>
                </a:lnTo>
                <a:lnTo>
                  <a:pt x="647" y="946"/>
                </a:lnTo>
                <a:lnTo>
                  <a:pt x="643" y="956"/>
                </a:lnTo>
                <a:lnTo>
                  <a:pt x="643" y="967"/>
                </a:lnTo>
                <a:lnTo>
                  <a:pt x="654" y="976"/>
                </a:lnTo>
                <a:lnTo>
                  <a:pt x="654" y="980"/>
                </a:lnTo>
                <a:lnTo>
                  <a:pt x="646" y="992"/>
                </a:lnTo>
                <a:lnTo>
                  <a:pt x="630" y="998"/>
                </a:lnTo>
                <a:lnTo>
                  <a:pt x="620" y="1030"/>
                </a:lnTo>
                <a:lnTo>
                  <a:pt x="615" y="1037"/>
                </a:lnTo>
                <a:lnTo>
                  <a:pt x="602" y="1044"/>
                </a:lnTo>
                <a:lnTo>
                  <a:pt x="587" y="1046"/>
                </a:lnTo>
                <a:lnTo>
                  <a:pt x="570" y="1049"/>
                </a:lnTo>
                <a:lnTo>
                  <a:pt x="549" y="1046"/>
                </a:lnTo>
                <a:lnTo>
                  <a:pt x="538" y="1043"/>
                </a:lnTo>
                <a:lnTo>
                  <a:pt x="525" y="1031"/>
                </a:lnTo>
                <a:lnTo>
                  <a:pt x="522" y="1026"/>
                </a:lnTo>
                <a:lnTo>
                  <a:pt x="507" y="1020"/>
                </a:lnTo>
                <a:lnTo>
                  <a:pt x="496" y="1020"/>
                </a:lnTo>
                <a:lnTo>
                  <a:pt x="490" y="1014"/>
                </a:lnTo>
                <a:lnTo>
                  <a:pt x="485" y="1007"/>
                </a:lnTo>
                <a:lnTo>
                  <a:pt x="481" y="1003"/>
                </a:lnTo>
                <a:lnTo>
                  <a:pt x="469" y="1008"/>
                </a:lnTo>
                <a:lnTo>
                  <a:pt x="463" y="1015"/>
                </a:lnTo>
                <a:lnTo>
                  <a:pt x="449" y="1026"/>
                </a:lnTo>
                <a:lnTo>
                  <a:pt x="443" y="1031"/>
                </a:lnTo>
                <a:lnTo>
                  <a:pt x="435" y="1037"/>
                </a:lnTo>
                <a:lnTo>
                  <a:pt x="429" y="1037"/>
                </a:lnTo>
                <a:lnTo>
                  <a:pt x="419" y="1033"/>
                </a:lnTo>
                <a:lnTo>
                  <a:pt x="412" y="1031"/>
                </a:lnTo>
                <a:lnTo>
                  <a:pt x="406" y="1035"/>
                </a:lnTo>
                <a:lnTo>
                  <a:pt x="399" y="1037"/>
                </a:lnTo>
                <a:lnTo>
                  <a:pt x="389" y="1037"/>
                </a:lnTo>
                <a:lnTo>
                  <a:pt x="383" y="1031"/>
                </a:lnTo>
                <a:lnTo>
                  <a:pt x="373" y="1020"/>
                </a:lnTo>
                <a:lnTo>
                  <a:pt x="367" y="1016"/>
                </a:lnTo>
                <a:lnTo>
                  <a:pt x="357" y="1014"/>
                </a:lnTo>
                <a:lnTo>
                  <a:pt x="344" y="1018"/>
                </a:lnTo>
                <a:lnTo>
                  <a:pt x="327" y="1026"/>
                </a:lnTo>
                <a:lnTo>
                  <a:pt x="318" y="1028"/>
                </a:lnTo>
                <a:lnTo>
                  <a:pt x="308" y="1031"/>
                </a:lnTo>
                <a:lnTo>
                  <a:pt x="299" y="1021"/>
                </a:lnTo>
                <a:lnTo>
                  <a:pt x="284" y="1012"/>
                </a:lnTo>
                <a:lnTo>
                  <a:pt x="283" y="1006"/>
                </a:lnTo>
                <a:lnTo>
                  <a:pt x="281" y="999"/>
                </a:lnTo>
                <a:lnTo>
                  <a:pt x="274" y="984"/>
                </a:lnTo>
                <a:lnTo>
                  <a:pt x="258" y="974"/>
                </a:lnTo>
                <a:lnTo>
                  <a:pt x="245" y="966"/>
                </a:lnTo>
                <a:lnTo>
                  <a:pt x="232" y="962"/>
                </a:lnTo>
                <a:lnTo>
                  <a:pt x="219" y="960"/>
                </a:lnTo>
                <a:lnTo>
                  <a:pt x="206" y="962"/>
                </a:lnTo>
                <a:lnTo>
                  <a:pt x="194" y="959"/>
                </a:lnTo>
                <a:lnTo>
                  <a:pt x="186" y="963"/>
                </a:lnTo>
                <a:lnTo>
                  <a:pt x="186" y="968"/>
                </a:lnTo>
                <a:lnTo>
                  <a:pt x="176" y="973"/>
                </a:lnTo>
                <a:lnTo>
                  <a:pt x="170" y="973"/>
                </a:lnTo>
                <a:lnTo>
                  <a:pt x="161" y="973"/>
                </a:lnTo>
                <a:lnTo>
                  <a:pt x="153" y="981"/>
                </a:lnTo>
                <a:lnTo>
                  <a:pt x="152" y="993"/>
                </a:lnTo>
                <a:lnTo>
                  <a:pt x="145" y="1012"/>
                </a:lnTo>
                <a:lnTo>
                  <a:pt x="0" y="221"/>
                </a:lnTo>
              </a:path>
            </a:pathLst>
          </a:custGeom>
          <a:solidFill>
            <a:srgbClr val="00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Freeform 38"/>
          <p:cNvSpPr/>
          <p:nvPr/>
        </p:nvSpPr>
        <p:spPr>
          <a:xfrm>
            <a:off x="5899320" y="3405240"/>
            <a:ext cx="1179360" cy="574560"/>
          </a:xfrm>
          <a:custGeom>
            <a:avLst/>
            <a:gdLst>
              <a:gd name="textAreaLeft" fmla="*/ 0 w 1179360"/>
              <a:gd name="textAreaRight" fmla="*/ 1179720 w 117936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1505" h="783">
                <a:moveTo>
                  <a:pt x="0" y="783"/>
                </a:moveTo>
                <a:lnTo>
                  <a:pt x="32" y="774"/>
                </a:lnTo>
                <a:lnTo>
                  <a:pt x="49" y="767"/>
                </a:lnTo>
                <a:lnTo>
                  <a:pt x="70" y="759"/>
                </a:lnTo>
                <a:lnTo>
                  <a:pt x="74" y="757"/>
                </a:lnTo>
                <a:lnTo>
                  <a:pt x="76" y="746"/>
                </a:lnTo>
                <a:lnTo>
                  <a:pt x="76" y="722"/>
                </a:lnTo>
                <a:lnTo>
                  <a:pt x="87" y="713"/>
                </a:lnTo>
                <a:lnTo>
                  <a:pt x="93" y="709"/>
                </a:lnTo>
                <a:lnTo>
                  <a:pt x="93" y="705"/>
                </a:lnTo>
                <a:lnTo>
                  <a:pt x="91" y="697"/>
                </a:lnTo>
                <a:lnTo>
                  <a:pt x="101" y="690"/>
                </a:lnTo>
                <a:lnTo>
                  <a:pt x="106" y="701"/>
                </a:lnTo>
                <a:lnTo>
                  <a:pt x="113" y="706"/>
                </a:lnTo>
                <a:lnTo>
                  <a:pt x="119" y="696"/>
                </a:lnTo>
                <a:lnTo>
                  <a:pt x="132" y="677"/>
                </a:lnTo>
                <a:lnTo>
                  <a:pt x="140" y="671"/>
                </a:lnTo>
                <a:lnTo>
                  <a:pt x="156" y="659"/>
                </a:lnTo>
                <a:lnTo>
                  <a:pt x="193" y="644"/>
                </a:lnTo>
                <a:lnTo>
                  <a:pt x="215" y="639"/>
                </a:lnTo>
                <a:lnTo>
                  <a:pt x="218" y="637"/>
                </a:lnTo>
                <a:lnTo>
                  <a:pt x="226" y="636"/>
                </a:lnTo>
                <a:lnTo>
                  <a:pt x="227" y="624"/>
                </a:lnTo>
                <a:lnTo>
                  <a:pt x="227" y="617"/>
                </a:lnTo>
                <a:lnTo>
                  <a:pt x="226" y="613"/>
                </a:lnTo>
                <a:lnTo>
                  <a:pt x="217" y="601"/>
                </a:lnTo>
                <a:lnTo>
                  <a:pt x="205" y="595"/>
                </a:lnTo>
                <a:lnTo>
                  <a:pt x="200" y="583"/>
                </a:lnTo>
                <a:lnTo>
                  <a:pt x="197" y="571"/>
                </a:lnTo>
                <a:lnTo>
                  <a:pt x="199" y="569"/>
                </a:lnTo>
                <a:lnTo>
                  <a:pt x="204" y="561"/>
                </a:lnTo>
                <a:lnTo>
                  <a:pt x="210" y="554"/>
                </a:lnTo>
                <a:lnTo>
                  <a:pt x="222" y="550"/>
                </a:lnTo>
                <a:lnTo>
                  <a:pt x="242" y="556"/>
                </a:lnTo>
                <a:lnTo>
                  <a:pt x="257" y="556"/>
                </a:lnTo>
                <a:lnTo>
                  <a:pt x="269" y="548"/>
                </a:lnTo>
                <a:lnTo>
                  <a:pt x="272" y="542"/>
                </a:lnTo>
                <a:lnTo>
                  <a:pt x="273" y="537"/>
                </a:lnTo>
                <a:lnTo>
                  <a:pt x="268" y="529"/>
                </a:lnTo>
                <a:lnTo>
                  <a:pt x="257" y="518"/>
                </a:lnTo>
                <a:lnTo>
                  <a:pt x="257" y="511"/>
                </a:lnTo>
                <a:lnTo>
                  <a:pt x="264" y="504"/>
                </a:lnTo>
                <a:lnTo>
                  <a:pt x="269" y="496"/>
                </a:lnTo>
                <a:lnTo>
                  <a:pt x="268" y="483"/>
                </a:lnTo>
                <a:lnTo>
                  <a:pt x="268" y="470"/>
                </a:lnTo>
                <a:lnTo>
                  <a:pt x="270" y="462"/>
                </a:lnTo>
                <a:lnTo>
                  <a:pt x="273" y="453"/>
                </a:lnTo>
                <a:lnTo>
                  <a:pt x="276" y="443"/>
                </a:lnTo>
                <a:lnTo>
                  <a:pt x="279" y="427"/>
                </a:lnTo>
                <a:lnTo>
                  <a:pt x="293" y="402"/>
                </a:lnTo>
                <a:lnTo>
                  <a:pt x="295" y="396"/>
                </a:lnTo>
                <a:lnTo>
                  <a:pt x="300" y="393"/>
                </a:lnTo>
                <a:lnTo>
                  <a:pt x="311" y="397"/>
                </a:lnTo>
                <a:lnTo>
                  <a:pt x="320" y="396"/>
                </a:lnTo>
                <a:lnTo>
                  <a:pt x="326" y="395"/>
                </a:lnTo>
                <a:lnTo>
                  <a:pt x="353" y="386"/>
                </a:lnTo>
                <a:lnTo>
                  <a:pt x="376" y="378"/>
                </a:lnTo>
                <a:lnTo>
                  <a:pt x="391" y="371"/>
                </a:lnTo>
                <a:lnTo>
                  <a:pt x="399" y="358"/>
                </a:lnTo>
                <a:lnTo>
                  <a:pt x="406" y="344"/>
                </a:lnTo>
                <a:lnTo>
                  <a:pt x="414" y="337"/>
                </a:lnTo>
                <a:lnTo>
                  <a:pt x="422" y="330"/>
                </a:lnTo>
                <a:lnTo>
                  <a:pt x="431" y="330"/>
                </a:lnTo>
                <a:lnTo>
                  <a:pt x="435" y="330"/>
                </a:lnTo>
                <a:lnTo>
                  <a:pt x="440" y="334"/>
                </a:lnTo>
                <a:lnTo>
                  <a:pt x="447" y="340"/>
                </a:lnTo>
                <a:lnTo>
                  <a:pt x="447" y="348"/>
                </a:lnTo>
                <a:lnTo>
                  <a:pt x="452" y="351"/>
                </a:lnTo>
                <a:lnTo>
                  <a:pt x="462" y="356"/>
                </a:lnTo>
                <a:lnTo>
                  <a:pt x="474" y="357"/>
                </a:lnTo>
                <a:lnTo>
                  <a:pt x="487" y="351"/>
                </a:lnTo>
                <a:lnTo>
                  <a:pt x="487" y="349"/>
                </a:lnTo>
                <a:lnTo>
                  <a:pt x="488" y="340"/>
                </a:lnTo>
                <a:lnTo>
                  <a:pt x="492" y="333"/>
                </a:lnTo>
                <a:lnTo>
                  <a:pt x="497" y="329"/>
                </a:lnTo>
                <a:lnTo>
                  <a:pt x="512" y="315"/>
                </a:lnTo>
                <a:lnTo>
                  <a:pt x="522" y="315"/>
                </a:lnTo>
                <a:lnTo>
                  <a:pt x="533" y="315"/>
                </a:lnTo>
                <a:lnTo>
                  <a:pt x="541" y="321"/>
                </a:lnTo>
                <a:lnTo>
                  <a:pt x="553" y="326"/>
                </a:lnTo>
                <a:lnTo>
                  <a:pt x="563" y="326"/>
                </a:lnTo>
                <a:lnTo>
                  <a:pt x="567" y="325"/>
                </a:lnTo>
                <a:lnTo>
                  <a:pt x="575" y="310"/>
                </a:lnTo>
                <a:lnTo>
                  <a:pt x="584" y="305"/>
                </a:lnTo>
                <a:lnTo>
                  <a:pt x="590" y="296"/>
                </a:lnTo>
                <a:lnTo>
                  <a:pt x="596" y="297"/>
                </a:lnTo>
                <a:lnTo>
                  <a:pt x="606" y="291"/>
                </a:lnTo>
                <a:lnTo>
                  <a:pt x="613" y="268"/>
                </a:lnTo>
                <a:lnTo>
                  <a:pt x="613" y="262"/>
                </a:lnTo>
                <a:lnTo>
                  <a:pt x="620" y="262"/>
                </a:lnTo>
                <a:lnTo>
                  <a:pt x="627" y="262"/>
                </a:lnTo>
                <a:lnTo>
                  <a:pt x="632" y="272"/>
                </a:lnTo>
                <a:lnTo>
                  <a:pt x="635" y="286"/>
                </a:lnTo>
                <a:lnTo>
                  <a:pt x="641" y="299"/>
                </a:lnTo>
                <a:lnTo>
                  <a:pt x="650" y="304"/>
                </a:lnTo>
                <a:lnTo>
                  <a:pt x="665" y="305"/>
                </a:lnTo>
                <a:lnTo>
                  <a:pt x="677" y="302"/>
                </a:lnTo>
                <a:lnTo>
                  <a:pt x="687" y="298"/>
                </a:lnTo>
                <a:lnTo>
                  <a:pt x="696" y="284"/>
                </a:lnTo>
                <a:lnTo>
                  <a:pt x="717" y="249"/>
                </a:lnTo>
                <a:lnTo>
                  <a:pt x="726" y="241"/>
                </a:lnTo>
                <a:lnTo>
                  <a:pt x="736" y="234"/>
                </a:lnTo>
                <a:lnTo>
                  <a:pt x="740" y="233"/>
                </a:lnTo>
                <a:lnTo>
                  <a:pt x="745" y="223"/>
                </a:lnTo>
                <a:lnTo>
                  <a:pt x="745" y="211"/>
                </a:lnTo>
                <a:lnTo>
                  <a:pt x="755" y="201"/>
                </a:lnTo>
                <a:lnTo>
                  <a:pt x="763" y="193"/>
                </a:lnTo>
                <a:lnTo>
                  <a:pt x="773" y="182"/>
                </a:lnTo>
                <a:lnTo>
                  <a:pt x="775" y="176"/>
                </a:lnTo>
                <a:lnTo>
                  <a:pt x="775" y="154"/>
                </a:lnTo>
                <a:lnTo>
                  <a:pt x="776" y="140"/>
                </a:lnTo>
                <a:lnTo>
                  <a:pt x="788" y="124"/>
                </a:lnTo>
                <a:lnTo>
                  <a:pt x="803" y="116"/>
                </a:lnTo>
                <a:lnTo>
                  <a:pt x="817" y="109"/>
                </a:lnTo>
                <a:lnTo>
                  <a:pt x="825" y="115"/>
                </a:lnTo>
                <a:lnTo>
                  <a:pt x="839" y="129"/>
                </a:lnTo>
                <a:lnTo>
                  <a:pt x="855" y="137"/>
                </a:lnTo>
                <a:lnTo>
                  <a:pt x="878" y="129"/>
                </a:lnTo>
                <a:lnTo>
                  <a:pt x="891" y="118"/>
                </a:lnTo>
                <a:lnTo>
                  <a:pt x="901" y="110"/>
                </a:lnTo>
                <a:lnTo>
                  <a:pt x="908" y="107"/>
                </a:lnTo>
                <a:lnTo>
                  <a:pt x="899" y="100"/>
                </a:lnTo>
                <a:lnTo>
                  <a:pt x="897" y="95"/>
                </a:lnTo>
                <a:lnTo>
                  <a:pt x="897" y="85"/>
                </a:lnTo>
                <a:lnTo>
                  <a:pt x="892" y="78"/>
                </a:lnTo>
                <a:lnTo>
                  <a:pt x="886" y="78"/>
                </a:lnTo>
                <a:lnTo>
                  <a:pt x="880" y="71"/>
                </a:lnTo>
                <a:lnTo>
                  <a:pt x="892" y="60"/>
                </a:lnTo>
                <a:lnTo>
                  <a:pt x="899" y="49"/>
                </a:lnTo>
                <a:lnTo>
                  <a:pt x="904" y="41"/>
                </a:lnTo>
                <a:lnTo>
                  <a:pt x="908" y="21"/>
                </a:lnTo>
                <a:lnTo>
                  <a:pt x="915" y="16"/>
                </a:lnTo>
                <a:lnTo>
                  <a:pt x="923" y="14"/>
                </a:lnTo>
                <a:lnTo>
                  <a:pt x="935" y="9"/>
                </a:lnTo>
                <a:lnTo>
                  <a:pt x="944" y="4"/>
                </a:lnTo>
                <a:lnTo>
                  <a:pt x="947" y="0"/>
                </a:lnTo>
                <a:lnTo>
                  <a:pt x="959" y="0"/>
                </a:lnTo>
                <a:lnTo>
                  <a:pt x="985" y="3"/>
                </a:lnTo>
                <a:lnTo>
                  <a:pt x="1013" y="15"/>
                </a:lnTo>
                <a:lnTo>
                  <a:pt x="1028" y="22"/>
                </a:lnTo>
                <a:lnTo>
                  <a:pt x="1034" y="27"/>
                </a:lnTo>
                <a:lnTo>
                  <a:pt x="1035" y="39"/>
                </a:lnTo>
                <a:lnTo>
                  <a:pt x="1038" y="53"/>
                </a:lnTo>
                <a:lnTo>
                  <a:pt x="1051" y="60"/>
                </a:lnTo>
                <a:lnTo>
                  <a:pt x="1062" y="71"/>
                </a:lnTo>
                <a:lnTo>
                  <a:pt x="1075" y="68"/>
                </a:lnTo>
                <a:lnTo>
                  <a:pt x="1099" y="57"/>
                </a:lnTo>
                <a:lnTo>
                  <a:pt x="1117" y="55"/>
                </a:lnTo>
                <a:lnTo>
                  <a:pt x="1126" y="57"/>
                </a:lnTo>
                <a:lnTo>
                  <a:pt x="1135" y="70"/>
                </a:lnTo>
                <a:lnTo>
                  <a:pt x="1153" y="80"/>
                </a:lnTo>
                <a:lnTo>
                  <a:pt x="1166" y="72"/>
                </a:lnTo>
                <a:lnTo>
                  <a:pt x="1179" y="76"/>
                </a:lnTo>
                <a:lnTo>
                  <a:pt x="1189" y="78"/>
                </a:lnTo>
                <a:lnTo>
                  <a:pt x="1203" y="69"/>
                </a:lnTo>
                <a:lnTo>
                  <a:pt x="1223" y="49"/>
                </a:lnTo>
                <a:lnTo>
                  <a:pt x="1230" y="47"/>
                </a:lnTo>
                <a:lnTo>
                  <a:pt x="1242" y="45"/>
                </a:lnTo>
                <a:lnTo>
                  <a:pt x="1250" y="56"/>
                </a:lnTo>
                <a:lnTo>
                  <a:pt x="1254" y="60"/>
                </a:lnTo>
                <a:lnTo>
                  <a:pt x="1264" y="60"/>
                </a:lnTo>
                <a:lnTo>
                  <a:pt x="1278" y="68"/>
                </a:lnTo>
                <a:lnTo>
                  <a:pt x="1281" y="72"/>
                </a:lnTo>
                <a:lnTo>
                  <a:pt x="1286" y="78"/>
                </a:lnTo>
                <a:lnTo>
                  <a:pt x="1301" y="86"/>
                </a:lnTo>
                <a:lnTo>
                  <a:pt x="1311" y="87"/>
                </a:lnTo>
                <a:lnTo>
                  <a:pt x="1327" y="94"/>
                </a:lnTo>
                <a:lnTo>
                  <a:pt x="1338" y="90"/>
                </a:lnTo>
                <a:lnTo>
                  <a:pt x="1361" y="100"/>
                </a:lnTo>
                <a:lnTo>
                  <a:pt x="1365" y="107"/>
                </a:lnTo>
                <a:lnTo>
                  <a:pt x="1371" y="121"/>
                </a:lnTo>
                <a:lnTo>
                  <a:pt x="1374" y="130"/>
                </a:lnTo>
                <a:lnTo>
                  <a:pt x="1391" y="142"/>
                </a:lnTo>
                <a:lnTo>
                  <a:pt x="1403" y="152"/>
                </a:lnTo>
                <a:lnTo>
                  <a:pt x="1423" y="167"/>
                </a:lnTo>
                <a:lnTo>
                  <a:pt x="1425" y="185"/>
                </a:lnTo>
                <a:lnTo>
                  <a:pt x="1439" y="206"/>
                </a:lnTo>
                <a:lnTo>
                  <a:pt x="1448" y="233"/>
                </a:lnTo>
                <a:lnTo>
                  <a:pt x="1460" y="257"/>
                </a:lnTo>
                <a:lnTo>
                  <a:pt x="1475" y="287"/>
                </a:lnTo>
                <a:lnTo>
                  <a:pt x="1488" y="325"/>
                </a:lnTo>
                <a:lnTo>
                  <a:pt x="1494" y="356"/>
                </a:lnTo>
                <a:lnTo>
                  <a:pt x="1505" y="365"/>
                </a:lnTo>
                <a:lnTo>
                  <a:pt x="1490" y="372"/>
                </a:lnTo>
                <a:lnTo>
                  <a:pt x="1443" y="426"/>
                </a:lnTo>
                <a:lnTo>
                  <a:pt x="1424" y="442"/>
                </a:lnTo>
                <a:lnTo>
                  <a:pt x="1391" y="461"/>
                </a:lnTo>
                <a:lnTo>
                  <a:pt x="1371" y="471"/>
                </a:lnTo>
                <a:lnTo>
                  <a:pt x="1368" y="485"/>
                </a:lnTo>
                <a:lnTo>
                  <a:pt x="1361" y="506"/>
                </a:lnTo>
                <a:lnTo>
                  <a:pt x="1341" y="524"/>
                </a:lnTo>
                <a:lnTo>
                  <a:pt x="1315" y="533"/>
                </a:lnTo>
                <a:lnTo>
                  <a:pt x="1299" y="549"/>
                </a:lnTo>
                <a:lnTo>
                  <a:pt x="1292" y="565"/>
                </a:lnTo>
                <a:lnTo>
                  <a:pt x="1283" y="574"/>
                </a:lnTo>
                <a:lnTo>
                  <a:pt x="1271" y="582"/>
                </a:lnTo>
                <a:lnTo>
                  <a:pt x="1256" y="594"/>
                </a:lnTo>
                <a:lnTo>
                  <a:pt x="1247" y="603"/>
                </a:lnTo>
                <a:lnTo>
                  <a:pt x="1228" y="614"/>
                </a:lnTo>
                <a:lnTo>
                  <a:pt x="664" y="662"/>
                </a:lnTo>
                <a:lnTo>
                  <a:pt x="637" y="677"/>
                </a:lnTo>
                <a:lnTo>
                  <a:pt x="334" y="705"/>
                </a:lnTo>
                <a:lnTo>
                  <a:pt x="332" y="689"/>
                </a:lnTo>
                <a:lnTo>
                  <a:pt x="277" y="693"/>
                </a:lnTo>
                <a:lnTo>
                  <a:pt x="281" y="741"/>
                </a:lnTo>
                <a:lnTo>
                  <a:pt x="281" y="747"/>
                </a:lnTo>
                <a:lnTo>
                  <a:pt x="23" y="783"/>
                </a:lnTo>
                <a:lnTo>
                  <a:pt x="11" y="783"/>
                </a:lnTo>
                <a:lnTo>
                  <a:pt x="0" y="783"/>
                </a:lnTo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Freeform 39"/>
          <p:cNvSpPr/>
          <p:nvPr/>
        </p:nvSpPr>
        <p:spPr>
          <a:xfrm>
            <a:off x="5805360" y="3811680"/>
            <a:ext cx="1362240" cy="436320"/>
          </a:xfrm>
          <a:custGeom>
            <a:avLst/>
            <a:gdLst>
              <a:gd name="textAreaLeft" fmla="*/ 0 w 1362240"/>
              <a:gd name="textAreaRight" fmla="*/ 1362600 w 1362240"/>
              <a:gd name="textAreaTop" fmla="*/ 0 h 436320"/>
              <a:gd name="textAreaBottom" fmla="*/ 436680 h 436320"/>
            </a:gdLst>
            <a:ahLst/>
            <a:rect l="textAreaLeft" t="textAreaTop" r="textAreaRight" b="textAreaBottom"/>
            <a:pathLst>
              <a:path w="1736" h="596">
                <a:moveTo>
                  <a:pt x="113" y="227"/>
                </a:moveTo>
                <a:lnTo>
                  <a:pt x="400" y="190"/>
                </a:lnTo>
                <a:lnTo>
                  <a:pt x="396" y="162"/>
                </a:lnTo>
                <a:lnTo>
                  <a:pt x="394" y="137"/>
                </a:lnTo>
                <a:lnTo>
                  <a:pt x="451" y="133"/>
                </a:lnTo>
                <a:lnTo>
                  <a:pt x="453" y="149"/>
                </a:lnTo>
                <a:lnTo>
                  <a:pt x="576" y="138"/>
                </a:lnTo>
                <a:lnTo>
                  <a:pt x="756" y="122"/>
                </a:lnTo>
                <a:lnTo>
                  <a:pt x="781" y="106"/>
                </a:lnTo>
                <a:lnTo>
                  <a:pt x="1306" y="60"/>
                </a:lnTo>
                <a:lnTo>
                  <a:pt x="1444" y="43"/>
                </a:lnTo>
                <a:lnTo>
                  <a:pt x="1736" y="0"/>
                </a:lnTo>
                <a:lnTo>
                  <a:pt x="1711" y="24"/>
                </a:lnTo>
                <a:lnTo>
                  <a:pt x="1704" y="38"/>
                </a:lnTo>
                <a:lnTo>
                  <a:pt x="1705" y="57"/>
                </a:lnTo>
                <a:lnTo>
                  <a:pt x="1700" y="64"/>
                </a:lnTo>
                <a:lnTo>
                  <a:pt x="1709" y="92"/>
                </a:lnTo>
                <a:lnTo>
                  <a:pt x="1709" y="105"/>
                </a:lnTo>
                <a:lnTo>
                  <a:pt x="1694" y="105"/>
                </a:lnTo>
                <a:lnTo>
                  <a:pt x="1686" y="99"/>
                </a:lnTo>
                <a:lnTo>
                  <a:pt x="1676" y="106"/>
                </a:lnTo>
                <a:lnTo>
                  <a:pt x="1659" y="124"/>
                </a:lnTo>
                <a:lnTo>
                  <a:pt x="1646" y="144"/>
                </a:lnTo>
                <a:lnTo>
                  <a:pt x="1629" y="163"/>
                </a:lnTo>
                <a:lnTo>
                  <a:pt x="1617" y="181"/>
                </a:lnTo>
                <a:lnTo>
                  <a:pt x="1606" y="194"/>
                </a:lnTo>
                <a:lnTo>
                  <a:pt x="1587" y="190"/>
                </a:lnTo>
                <a:lnTo>
                  <a:pt x="1575" y="181"/>
                </a:lnTo>
                <a:lnTo>
                  <a:pt x="1554" y="185"/>
                </a:lnTo>
                <a:lnTo>
                  <a:pt x="1538" y="202"/>
                </a:lnTo>
                <a:lnTo>
                  <a:pt x="1529" y="215"/>
                </a:lnTo>
                <a:lnTo>
                  <a:pt x="1516" y="234"/>
                </a:lnTo>
                <a:lnTo>
                  <a:pt x="1507" y="251"/>
                </a:lnTo>
                <a:lnTo>
                  <a:pt x="1491" y="259"/>
                </a:lnTo>
                <a:lnTo>
                  <a:pt x="1476" y="242"/>
                </a:lnTo>
                <a:lnTo>
                  <a:pt x="1456" y="242"/>
                </a:lnTo>
                <a:lnTo>
                  <a:pt x="1447" y="263"/>
                </a:lnTo>
                <a:lnTo>
                  <a:pt x="1416" y="318"/>
                </a:lnTo>
                <a:lnTo>
                  <a:pt x="1408" y="331"/>
                </a:lnTo>
                <a:lnTo>
                  <a:pt x="1382" y="347"/>
                </a:lnTo>
                <a:lnTo>
                  <a:pt x="1361" y="347"/>
                </a:lnTo>
                <a:lnTo>
                  <a:pt x="1338" y="356"/>
                </a:lnTo>
                <a:lnTo>
                  <a:pt x="1333" y="371"/>
                </a:lnTo>
                <a:lnTo>
                  <a:pt x="1323" y="391"/>
                </a:lnTo>
                <a:lnTo>
                  <a:pt x="1312" y="398"/>
                </a:lnTo>
                <a:lnTo>
                  <a:pt x="1315" y="410"/>
                </a:lnTo>
                <a:lnTo>
                  <a:pt x="1315" y="427"/>
                </a:lnTo>
                <a:lnTo>
                  <a:pt x="1304" y="431"/>
                </a:lnTo>
                <a:lnTo>
                  <a:pt x="1287" y="436"/>
                </a:lnTo>
                <a:lnTo>
                  <a:pt x="1281" y="490"/>
                </a:lnTo>
                <a:lnTo>
                  <a:pt x="1214" y="500"/>
                </a:lnTo>
                <a:lnTo>
                  <a:pt x="781" y="532"/>
                </a:lnTo>
                <a:lnTo>
                  <a:pt x="423" y="562"/>
                </a:lnTo>
                <a:lnTo>
                  <a:pt x="28" y="596"/>
                </a:lnTo>
                <a:lnTo>
                  <a:pt x="16" y="573"/>
                </a:lnTo>
                <a:lnTo>
                  <a:pt x="7" y="560"/>
                </a:lnTo>
                <a:lnTo>
                  <a:pt x="5" y="554"/>
                </a:lnTo>
                <a:lnTo>
                  <a:pt x="1" y="547"/>
                </a:lnTo>
                <a:lnTo>
                  <a:pt x="0" y="536"/>
                </a:lnTo>
                <a:lnTo>
                  <a:pt x="0" y="531"/>
                </a:lnTo>
                <a:lnTo>
                  <a:pt x="6" y="523"/>
                </a:lnTo>
                <a:lnTo>
                  <a:pt x="16" y="514"/>
                </a:lnTo>
                <a:lnTo>
                  <a:pt x="22" y="507"/>
                </a:lnTo>
                <a:lnTo>
                  <a:pt x="25" y="497"/>
                </a:lnTo>
                <a:lnTo>
                  <a:pt x="30" y="490"/>
                </a:lnTo>
                <a:lnTo>
                  <a:pt x="39" y="486"/>
                </a:lnTo>
                <a:lnTo>
                  <a:pt x="46" y="479"/>
                </a:lnTo>
                <a:lnTo>
                  <a:pt x="55" y="470"/>
                </a:lnTo>
                <a:lnTo>
                  <a:pt x="58" y="462"/>
                </a:lnTo>
                <a:lnTo>
                  <a:pt x="59" y="458"/>
                </a:lnTo>
                <a:lnTo>
                  <a:pt x="62" y="440"/>
                </a:lnTo>
                <a:lnTo>
                  <a:pt x="64" y="431"/>
                </a:lnTo>
                <a:lnTo>
                  <a:pt x="66" y="429"/>
                </a:lnTo>
                <a:lnTo>
                  <a:pt x="69" y="427"/>
                </a:lnTo>
                <a:lnTo>
                  <a:pt x="74" y="427"/>
                </a:lnTo>
                <a:lnTo>
                  <a:pt x="83" y="421"/>
                </a:lnTo>
                <a:lnTo>
                  <a:pt x="91" y="416"/>
                </a:lnTo>
                <a:lnTo>
                  <a:pt x="91" y="410"/>
                </a:lnTo>
                <a:lnTo>
                  <a:pt x="89" y="403"/>
                </a:lnTo>
                <a:lnTo>
                  <a:pt x="82" y="398"/>
                </a:lnTo>
                <a:lnTo>
                  <a:pt x="78" y="387"/>
                </a:lnTo>
                <a:lnTo>
                  <a:pt x="78" y="385"/>
                </a:lnTo>
                <a:lnTo>
                  <a:pt x="78" y="368"/>
                </a:lnTo>
                <a:lnTo>
                  <a:pt x="82" y="356"/>
                </a:lnTo>
                <a:lnTo>
                  <a:pt x="81" y="344"/>
                </a:lnTo>
                <a:lnTo>
                  <a:pt x="85" y="334"/>
                </a:lnTo>
                <a:lnTo>
                  <a:pt x="86" y="326"/>
                </a:lnTo>
                <a:lnTo>
                  <a:pt x="96" y="321"/>
                </a:lnTo>
                <a:lnTo>
                  <a:pt x="105" y="312"/>
                </a:lnTo>
                <a:lnTo>
                  <a:pt x="115" y="306"/>
                </a:lnTo>
                <a:lnTo>
                  <a:pt x="120" y="294"/>
                </a:lnTo>
                <a:lnTo>
                  <a:pt x="120" y="289"/>
                </a:lnTo>
                <a:lnTo>
                  <a:pt x="115" y="280"/>
                </a:lnTo>
                <a:lnTo>
                  <a:pt x="112" y="268"/>
                </a:lnTo>
                <a:lnTo>
                  <a:pt x="111" y="258"/>
                </a:lnTo>
                <a:lnTo>
                  <a:pt x="111" y="243"/>
                </a:lnTo>
                <a:lnTo>
                  <a:pt x="108" y="239"/>
                </a:lnTo>
                <a:lnTo>
                  <a:pt x="113" y="227"/>
                </a:lnTo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Freeform 40"/>
          <p:cNvSpPr/>
          <p:nvPr/>
        </p:nvSpPr>
        <p:spPr>
          <a:xfrm>
            <a:off x="5622840" y="4226040"/>
            <a:ext cx="538200" cy="966600"/>
          </a:xfrm>
          <a:custGeom>
            <a:avLst/>
            <a:gdLst>
              <a:gd name="textAreaLeft" fmla="*/ 0 w 538200"/>
              <a:gd name="textAreaRight" fmla="*/ 538560 w 538200"/>
              <a:gd name="textAreaTop" fmla="*/ 0 h 966600"/>
              <a:gd name="textAreaBottom" fmla="*/ 966960 h 966600"/>
            </a:gdLst>
            <a:ahLst/>
            <a:rect l="textAreaLeft" t="textAreaTop" r="textAreaRight" b="textAreaBottom"/>
            <a:pathLst>
              <a:path w="687" h="1319">
                <a:moveTo>
                  <a:pt x="263" y="31"/>
                </a:moveTo>
                <a:lnTo>
                  <a:pt x="621" y="0"/>
                </a:lnTo>
                <a:lnTo>
                  <a:pt x="637" y="9"/>
                </a:lnTo>
                <a:lnTo>
                  <a:pt x="646" y="16"/>
                </a:lnTo>
                <a:lnTo>
                  <a:pt x="649" y="29"/>
                </a:lnTo>
                <a:lnTo>
                  <a:pt x="654" y="40"/>
                </a:lnTo>
                <a:lnTo>
                  <a:pt x="658" y="57"/>
                </a:lnTo>
                <a:lnTo>
                  <a:pt x="651" y="849"/>
                </a:lnTo>
                <a:lnTo>
                  <a:pt x="687" y="1277"/>
                </a:lnTo>
                <a:lnTo>
                  <a:pt x="659" y="1290"/>
                </a:lnTo>
                <a:lnTo>
                  <a:pt x="651" y="1290"/>
                </a:lnTo>
                <a:lnTo>
                  <a:pt x="644" y="1285"/>
                </a:lnTo>
                <a:lnTo>
                  <a:pt x="639" y="1277"/>
                </a:lnTo>
                <a:lnTo>
                  <a:pt x="629" y="1282"/>
                </a:lnTo>
                <a:lnTo>
                  <a:pt x="620" y="1296"/>
                </a:lnTo>
                <a:lnTo>
                  <a:pt x="620" y="1303"/>
                </a:lnTo>
                <a:lnTo>
                  <a:pt x="607" y="1304"/>
                </a:lnTo>
                <a:lnTo>
                  <a:pt x="598" y="1308"/>
                </a:lnTo>
                <a:lnTo>
                  <a:pt x="583" y="1298"/>
                </a:lnTo>
                <a:lnTo>
                  <a:pt x="574" y="1284"/>
                </a:lnTo>
                <a:lnTo>
                  <a:pt x="559" y="1279"/>
                </a:lnTo>
                <a:lnTo>
                  <a:pt x="548" y="1279"/>
                </a:lnTo>
                <a:lnTo>
                  <a:pt x="560" y="1296"/>
                </a:lnTo>
                <a:lnTo>
                  <a:pt x="568" y="1304"/>
                </a:lnTo>
                <a:lnTo>
                  <a:pt x="568" y="1310"/>
                </a:lnTo>
                <a:lnTo>
                  <a:pt x="550" y="1313"/>
                </a:lnTo>
                <a:lnTo>
                  <a:pt x="541" y="1313"/>
                </a:lnTo>
                <a:lnTo>
                  <a:pt x="521" y="1304"/>
                </a:lnTo>
                <a:lnTo>
                  <a:pt x="518" y="1296"/>
                </a:lnTo>
                <a:lnTo>
                  <a:pt x="510" y="1296"/>
                </a:lnTo>
                <a:lnTo>
                  <a:pt x="506" y="1304"/>
                </a:lnTo>
                <a:lnTo>
                  <a:pt x="503" y="1319"/>
                </a:lnTo>
                <a:lnTo>
                  <a:pt x="500" y="1319"/>
                </a:lnTo>
                <a:lnTo>
                  <a:pt x="492" y="1319"/>
                </a:lnTo>
                <a:lnTo>
                  <a:pt x="487" y="1319"/>
                </a:lnTo>
                <a:lnTo>
                  <a:pt x="465" y="1307"/>
                </a:lnTo>
                <a:lnTo>
                  <a:pt x="426" y="1287"/>
                </a:lnTo>
                <a:lnTo>
                  <a:pt x="396" y="1259"/>
                </a:lnTo>
                <a:lnTo>
                  <a:pt x="379" y="1245"/>
                </a:lnTo>
                <a:lnTo>
                  <a:pt x="378" y="1230"/>
                </a:lnTo>
                <a:lnTo>
                  <a:pt x="374" y="1209"/>
                </a:lnTo>
                <a:lnTo>
                  <a:pt x="0" y="1219"/>
                </a:lnTo>
                <a:lnTo>
                  <a:pt x="17" y="1204"/>
                </a:lnTo>
                <a:lnTo>
                  <a:pt x="30" y="1198"/>
                </a:lnTo>
                <a:lnTo>
                  <a:pt x="31" y="1194"/>
                </a:lnTo>
                <a:lnTo>
                  <a:pt x="30" y="1186"/>
                </a:lnTo>
                <a:lnTo>
                  <a:pt x="25" y="1179"/>
                </a:lnTo>
                <a:lnTo>
                  <a:pt x="29" y="1169"/>
                </a:lnTo>
                <a:lnTo>
                  <a:pt x="31" y="1163"/>
                </a:lnTo>
                <a:lnTo>
                  <a:pt x="40" y="1161"/>
                </a:lnTo>
                <a:lnTo>
                  <a:pt x="43" y="1158"/>
                </a:lnTo>
                <a:lnTo>
                  <a:pt x="48" y="1140"/>
                </a:lnTo>
                <a:lnTo>
                  <a:pt x="48" y="1137"/>
                </a:lnTo>
                <a:lnTo>
                  <a:pt x="43" y="1124"/>
                </a:lnTo>
                <a:lnTo>
                  <a:pt x="38" y="1114"/>
                </a:lnTo>
                <a:lnTo>
                  <a:pt x="34" y="1106"/>
                </a:lnTo>
                <a:lnTo>
                  <a:pt x="30" y="1087"/>
                </a:lnTo>
                <a:lnTo>
                  <a:pt x="43" y="1075"/>
                </a:lnTo>
                <a:lnTo>
                  <a:pt x="50" y="1068"/>
                </a:lnTo>
                <a:lnTo>
                  <a:pt x="48" y="1060"/>
                </a:lnTo>
                <a:lnTo>
                  <a:pt x="43" y="1048"/>
                </a:lnTo>
                <a:lnTo>
                  <a:pt x="47" y="1034"/>
                </a:lnTo>
                <a:lnTo>
                  <a:pt x="50" y="1027"/>
                </a:lnTo>
                <a:lnTo>
                  <a:pt x="52" y="1014"/>
                </a:lnTo>
                <a:lnTo>
                  <a:pt x="52" y="1008"/>
                </a:lnTo>
                <a:lnTo>
                  <a:pt x="57" y="1000"/>
                </a:lnTo>
                <a:lnTo>
                  <a:pt x="74" y="991"/>
                </a:lnTo>
                <a:lnTo>
                  <a:pt x="77" y="986"/>
                </a:lnTo>
                <a:lnTo>
                  <a:pt x="80" y="979"/>
                </a:lnTo>
                <a:lnTo>
                  <a:pt x="75" y="972"/>
                </a:lnTo>
                <a:lnTo>
                  <a:pt x="75" y="963"/>
                </a:lnTo>
                <a:lnTo>
                  <a:pt x="75" y="956"/>
                </a:lnTo>
                <a:lnTo>
                  <a:pt x="80" y="950"/>
                </a:lnTo>
                <a:lnTo>
                  <a:pt x="86" y="939"/>
                </a:lnTo>
                <a:lnTo>
                  <a:pt x="84" y="936"/>
                </a:lnTo>
                <a:lnTo>
                  <a:pt x="81" y="928"/>
                </a:lnTo>
                <a:lnTo>
                  <a:pt x="75" y="925"/>
                </a:lnTo>
                <a:lnTo>
                  <a:pt x="70" y="917"/>
                </a:lnTo>
                <a:lnTo>
                  <a:pt x="63" y="914"/>
                </a:lnTo>
                <a:lnTo>
                  <a:pt x="47" y="910"/>
                </a:lnTo>
                <a:lnTo>
                  <a:pt x="36" y="906"/>
                </a:lnTo>
                <a:lnTo>
                  <a:pt x="38" y="896"/>
                </a:lnTo>
                <a:lnTo>
                  <a:pt x="40" y="895"/>
                </a:lnTo>
                <a:lnTo>
                  <a:pt x="47" y="886"/>
                </a:lnTo>
                <a:lnTo>
                  <a:pt x="50" y="886"/>
                </a:lnTo>
                <a:lnTo>
                  <a:pt x="65" y="889"/>
                </a:lnTo>
                <a:lnTo>
                  <a:pt x="69" y="889"/>
                </a:lnTo>
                <a:lnTo>
                  <a:pt x="78" y="889"/>
                </a:lnTo>
                <a:lnTo>
                  <a:pt x="84" y="883"/>
                </a:lnTo>
                <a:lnTo>
                  <a:pt x="108" y="861"/>
                </a:lnTo>
                <a:lnTo>
                  <a:pt x="118" y="847"/>
                </a:lnTo>
                <a:lnTo>
                  <a:pt x="128" y="841"/>
                </a:lnTo>
                <a:lnTo>
                  <a:pt x="126" y="834"/>
                </a:lnTo>
                <a:lnTo>
                  <a:pt x="126" y="828"/>
                </a:lnTo>
                <a:lnTo>
                  <a:pt x="121" y="828"/>
                </a:lnTo>
                <a:lnTo>
                  <a:pt x="106" y="821"/>
                </a:lnTo>
                <a:lnTo>
                  <a:pt x="95" y="820"/>
                </a:lnTo>
                <a:lnTo>
                  <a:pt x="81" y="817"/>
                </a:lnTo>
                <a:lnTo>
                  <a:pt x="68" y="810"/>
                </a:lnTo>
                <a:lnTo>
                  <a:pt x="61" y="800"/>
                </a:lnTo>
                <a:lnTo>
                  <a:pt x="53" y="791"/>
                </a:lnTo>
                <a:lnTo>
                  <a:pt x="48" y="784"/>
                </a:lnTo>
                <a:lnTo>
                  <a:pt x="48" y="773"/>
                </a:lnTo>
                <a:lnTo>
                  <a:pt x="48" y="766"/>
                </a:lnTo>
                <a:lnTo>
                  <a:pt x="48" y="764"/>
                </a:lnTo>
                <a:lnTo>
                  <a:pt x="55" y="755"/>
                </a:lnTo>
                <a:lnTo>
                  <a:pt x="60" y="749"/>
                </a:lnTo>
                <a:lnTo>
                  <a:pt x="67" y="743"/>
                </a:lnTo>
                <a:lnTo>
                  <a:pt x="77" y="736"/>
                </a:lnTo>
                <a:lnTo>
                  <a:pt x="77" y="729"/>
                </a:lnTo>
                <a:lnTo>
                  <a:pt x="77" y="723"/>
                </a:lnTo>
                <a:lnTo>
                  <a:pt x="62" y="723"/>
                </a:lnTo>
                <a:lnTo>
                  <a:pt x="52" y="720"/>
                </a:lnTo>
                <a:lnTo>
                  <a:pt x="48" y="720"/>
                </a:lnTo>
                <a:lnTo>
                  <a:pt x="44" y="716"/>
                </a:lnTo>
                <a:lnTo>
                  <a:pt x="42" y="709"/>
                </a:lnTo>
                <a:lnTo>
                  <a:pt x="40" y="703"/>
                </a:lnTo>
                <a:lnTo>
                  <a:pt x="43" y="699"/>
                </a:lnTo>
                <a:lnTo>
                  <a:pt x="52" y="692"/>
                </a:lnTo>
                <a:lnTo>
                  <a:pt x="54" y="688"/>
                </a:lnTo>
                <a:lnTo>
                  <a:pt x="54" y="685"/>
                </a:lnTo>
                <a:lnTo>
                  <a:pt x="48" y="676"/>
                </a:lnTo>
                <a:lnTo>
                  <a:pt x="47" y="668"/>
                </a:lnTo>
                <a:lnTo>
                  <a:pt x="43" y="663"/>
                </a:lnTo>
                <a:lnTo>
                  <a:pt x="36" y="652"/>
                </a:lnTo>
                <a:lnTo>
                  <a:pt x="37" y="645"/>
                </a:lnTo>
                <a:lnTo>
                  <a:pt x="34" y="630"/>
                </a:lnTo>
                <a:lnTo>
                  <a:pt x="39" y="626"/>
                </a:lnTo>
                <a:lnTo>
                  <a:pt x="52" y="626"/>
                </a:lnTo>
                <a:lnTo>
                  <a:pt x="60" y="624"/>
                </a:lnTo>
                <a:lnTo>
                  <a:pt x="60" y="620"/>
                </a:lnTo>
                <a:lnTo>
                  <a:pt x="58" y="610"/>
                </a:lnTo>
                <a:lnTo>
                  <a:pt x="50" y="605"/>
                </a:lnTo>
                <a:lnTo>
                  <a:pt x="46" y="599"/>
                </a:lnTo>
                <a:lnTo>
                  <a:pt x="50" y="590"/>
                </a:lnTo>
                <a:lnTo>
                  <a:pt x="58" y="586"/>
                </a:lnTo>
                <a:lnTo>
                  <a:pt x="67" y="575"/>
                </a:lnTo>
                <a:lnTo>
                  <a:pt x="74" y="570"/>
                </a:lnTo>
                <a:lnTo>
                  <a:pt x="67" y="561"/>
                </a:lnTo>
                <a:lnTo>
                  <a:pt x="60" y="555"/>
                </a:lnTo>
                <a:lnTo>
                  <a:pt x="42" y="555"/>
                </a:lnTo>
                <a:lnTo>
                  <a:pt x="42" y="550"/>
                </a:lnTo>
                <a:lnTo>
                  <a:pt x="42" y="541"/>
                </a:lnTo>
                <a:lnTo>
                  <a:pt x="67" y="527"/>
                </a:lnTo>
                <a:lnTo>
                  <a:pt x="80" y="518"/>
                </a:lnTo>
                <a:lnTo>
                  <a:pt x="81" y="508"/>
                </a:lnTo>
                <a:lnTo>
                  <a:pt x="78" y="501"/>
                </a:lnTo>
                <a:lnTo>
                  <a:pt x="77" y="497"/>
                </a:lnTo>
                <a:lnTo>
                  <a:pt x="48" y="505"/>
                </a:lnTo>
                <a:lnTo>
                  <a:pt x="37" y="510"/>
                </a:lnTo>
                <a:lnTo>
                  <a:pt x="28" y="508"/>
                </a:lnTo>
                <a:lnTo>
                  <a:pt x="24" y="502"/>
                </a:lnTo>
                <a:lnTo>
                  <a:pt x="25" y="487"/>
                </a:lnTo>
                <a:lnTo>
                  <a:pt x="32" y="471"/>
                </a:lnTo>
                <a:lnTo>
                  <a:pt x="48" y="469"/>
                </a:lnTo>
                <a:lnTo>
                  <a:pt x="62" y="461"/>
                </a:lnTo>
                <a:lnTo>
                  <a:pt x="70" y="455"/>
                </a:lnTo>
                <a:lnTo>
                  <a:pt x="69" y="432"/>
                </a:lnTo>
                <a:lnTo>
                  <a:pt x="69" y="420"/>
                </a:lnTo>
                <a:lnTo>
                  <a:pt x="65" y="414"/>
                </a:lnTo>
                <a:lnTo>
                  <a:pt x="61" y="405"/>
                </a:lnTo>
                <a:lnTo>
                  <a:pt x="65" y="394"/>
                </a:lnTo>
                <a:lnTo>
                  <a:pt x="75" y="382"/>
                </a:lnTo>
                <a:lnTo>
                  <a:pt x="88" y="379"/>
                </a:lnTo>
                <a:lnTo>
                  <a:pt x="111" y="373"/>
                </a:lnTo>
                <a:lnTo>
                  <a:pt x="134" y="363"/>
                </a:lnTo>
                <a:lnTo>
                  <a:pt x="135" y="356"/>
                </a:lnTo>
                <a:lnTo>
                  <a:pt x="139" y="344"/>
                </a:lnTo>
                <a:lnTo>
                  <a:pt x="136" y="338"/>
                </a:lnTo>
                <a:lnTo>
                  <a:pt x="134" y="326"/>
                </a:lnTo>
                <a:lnTo>
                  <a:pt x="120" y="321"/>
                </a:lnTo>
                <a:lnTo>
                  <a:pt x="114" y="314"/>
                </a:lnTo>
                <a:lnTo>
                  <a:pt x="105" y="313"/>
                </a:lnTo>
                <a:lnTo>
                  <a:pt x="99" y="310"/>
                </a:lnTo>
                <a:lnTo>
                  <a:pt x="104" y="297"/>
                </a:lnTo>
                <a:lnTo>
                  <a:pt x="110" y="290"/>
                </a:lnTo>
                <a:lnTo>
                  <a:pt x="119" y="284"/>
                </a:lnTo>
                <a:lnTo>
                  <a:pt x="135" y="276"/>
                </a:lnTo>
                <a:lnTo>
                  <a:pt x="139" y="274"/>
                </a:lnTo>
                <a:lnTo>
                  <a:pt x="144" y="261"/>
                </a:lnTo>
                <a:lnTo>
                  <a:pt x="144" y="251"/>
                </a:lnTo>
                <a:lnTo>
                  <a:pt x="146" y="245"/>
                </a:lnTo>
                <a:lnTo>
                  <a:pt x="146" y="235"/>
                </a:lnTo>
                <a:lnTo>
                  <a:pt x="157" y="235"/>
                </a:lnTo>
                <a:lnTo>
                  <a:pt x="166" y="231"/>
                </a:lnTo>
                <a:lnTo>
                  <a:pt x="181" y="224"/>
                </a:lnTo>
                <a:lnTo>
                  <a:pt x="192" y="214"/>
                </a:lnTo>
                <a:lnTo>
                  <a:pt x="198" y="205"/>
                </a:lnTo>
                <a:lnTo>
                  <a:pt x="197" y="194"/>
                </a:lnTo>
                <a:lnTo>
                  <a:pt x="194" y="183"/>
                </a:lnTo>
                <a:lnTo>
                  <a:pt x="189" y="175"/>
                </a:lnTo>
                <a:lnTo>
                  <a:pt x="187" y="167"/>
                </a:lnTo>
                <a:lnTo>
                  <a:pt x="192" y="156"/>
                </a:lnTo>
                <a:lnTo>
                  <a:pt x="196" y="130"/>
                </a:lnTo>
                <a:lnTo>
                  <a:pt x="201" y="115"/>
                </a:lnTo>
                <a:lnTo>
                  <a:pt x="204" y="111"/>
                </a:lnTo>
                <a:lnTo>
                  <a:pt x="220" y="109"/>
                </a:lnTo>
                <a:lnTo>
                  <a:pt x="222" y="106"/>
                </a:lnTo>
                <a:lnTo>
                  <a:pt x="230" y="91"/>
                </a:lnTo>
                <a:lnTo>
                  <a:pt x="239" y="80"/>
                </a:lnTo>
                <a:lnTo>
                  <a:pt x="254" y="75"/>
                </a:lnTo>
                <a:lnTo>
                  <a:pt x="264" y="69"/>
                </a:lnTo>
                <a:lnTo>
                  <a:pt x="267" y="67"/>
                </a:lnTo>
                <a:lnTo>
                  <a:pt x="267" y="52"/>
                </a:lnTo>
                <a:lnTo>
                  <a:pt x="267" y="40"/>
                </a:lnTo>
                <a:lnTo>
                  <a:pt x="263" y="31"/>
                </a:lnTo>
              </a:path>
            </a:pathLst>
          </a:custGeom>
          <a:solidFill>
            <a:srgbClr val="33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Freeform 41"/>
          <p:cNvSpPr/>
          <p:nvPr/>
        </p:nvSpPr>
        <p:spPr>
          <a:xfrm>
            <a:off x="6108840" y="4191120"/>
            <a:ext cx="688680" cy="984240"/>
          </a:xfrm>
          <a:custGeom>
            <a:avLst/>
            <a:gdLst>
              <a:gd name="textAreaLeft" fmla="*/ 0 w 688680"/>
              <a:gd name="textAreaRight" fmla="*/ 688680 w 688680"/>
              <a:gd name="textAreaTop" fmla="*/ 0 h 984240"/>
              <a:gd name="textAreaBottom" fmla="*/ 984600 h 984240"/>
            </a:gdLst>
            <a:ahLst/>
            <a:rect l="textAreaLeft" t="textAreaTop" r="textAreaRight" b="textAreaBottom"/>
            <a:pathLst>
              <a:path w="880" h="1341">
                <a:moveTo>
                  <a:pt x="68" y="1325"/>
                </a:moveTo>
                <a:lnTo>
                  <a:pt x="32" y="893"/>
                </a:lnTo>
                <a:lnTo>
                  <a:pt x="39" y="107"/>
                </a:lnTo>
                <a:lnTo>
                  <a:pt x="34" y="85"/>
                </a:lnTo>
                <a:lnTo>
                  <a:pt x="31" y="75"/>
                </a:lnTo>
                <a:lnTo>
                  <a:pt x="23" y="60"/>
                </a:lnTo>
                <a:lnTo>
                  <a:pt x="17" y="54"/>
                </a:lnTo>
                <a:lnTo>
                  <a:pt x="0" y="45"/>
                </a:lnTo>
                <a:lnTo>
                  <a:pt x="398" y="13"/>
                </a:lnTo>
                <a:lnTo>
                  <a:pt x="572" y="0"/>
                </a:lnTo>
                <a:lnTo>
                  <a:pt x="760" y="581"/>
                </a:lnTo>
                <a:lnTo>
                  <a:pt x="775" y="596"/>
                </a:lnTo>
                <a:lnTo>
                  <a:pt x="799" y="616"/>
                </a:lnTo>
                <a:lnTo>
                  <a:pt x="799" y="647"/>
                </a:lnTo>
                <a:lnTo>
                  <a:pt x="816" y="674"/>
                </a:lnTo>
                <a:lnTo>
                  <a:pt x="829" y="693"/>
                </a:lnTo>
                <a:lnTo>
                  <a:pt x="849" y="701"/>
                </a:lnTo>
                <a:lnTo>
                  <a:pt x="829" y="714"/>
                </a:lnTo>
                <a:lnTo>
                  <a:pt x="824" y="725"/>
                </a:lnTo>
                <a:lnTo>
                  <a:pt x="830" y="749"/>
                </a:lnTo>
                <a:lnTo>
                  <a:pt x="835" y="777"/>
                </a:lnTo>
                <a:lnTo>
                  <a:pt x="830" y="787"/>
                </a:lnTo>
                <a:lnTo>
                  <a:pt x="823" y="800"/>
                </a:lnTo>
                <a:lnTo>
                  <a:pt x="820" y="831"/>
                </a:lnTo>
                <a:lnTo>
                  <a:pt x="820" y="853"/>
                </a:lnTo>
                <a:lnTo>
                  <a:pt x="829" y="872"/>
                </a:lnTo>
                <a:lnTo>
                  <a:pt x="847" y="899"/>
                </a:lnTo>
                <a:lnTo>
                  <a:pt x="859" y="920"/>
                </a:lnTo>
                <a:lnTo>
                  <a:pt x="865" y="939"/>
                </a:lnTo>
                <a:lnTo>
                  <a:pt x="865" y="954"/>
                </a:lnTo>
                <a:lnTo>
                  <a:pt x="865" y="973"/>
                </a:lnTo>
                <a:lnTo>
                  <a:pt x="857" y="994"/>
                </a:lnTo>
                <a:lnTo>
                  <a:pt x="857" y="1011"/>
                </a:lnTo>
                <a:lnTo>
                  <a:pt x="868" y="1041"/>
                </a:lnTo>
                <a:lnTo>
                  <a:pt x="880" y="1086"/>
                </a:lnTo>
                <a:lnTo>
                  <a:pt x="263" y="1146"/>
                </a:lnTo>
                <a:lnTo>
                  <a:pt x="259" y="1179"/>
                </a:lnTo>
                <a:lnTo>
                  <a:pt x="259" y="1198"/>
                </a:lnTo>
                <a:lnTo>
                  <a:pt x="288" y="1212"/>
                </a:lnTo>
                <a:lnTo>
                  <a:pt x="299" y="1223"/>
                </a:lnTo>
                <a:lnTo>
                  <a:pt x="312" y="1237"/>
                </a:lnTo>
                <a:lnTo>
                  <a:pt x="316" y="1252"/>
                </a:lnTo>
                <a:lnTo>
                  <a:pt x="305" y="1268"/>
                </a:lnTo>
                <a:lnTo>
                  <a:pt x="297" y="1277"/>
                </a:lnTo>
                <a:lnTo>
                  <a:pt x="285" y="1296"/>
                </a:lnTo>
                <a:lnTo>
                  <a:pt x="278" y="1307"/>
                </a:lnTo>
                <a:lnTo>
                  <a:pt x="253" y="1329"/>
                </a:lnTo>
                <a:lnTo>
                  <a:pt x="213" y="1337"/>
                </a:lnTo>
                <a:lnTo>
                  <a:pt x="179" y="1341"/>
                </a:lnTo>
                <a:lnTo>
                  <a:pt x="167" y="1341"/>
                </a:lnTo>
                <a:lnTo>
                  <a:pt x="161" y="1337"/>
                </a:lnTo>
                <a:lnTo>
                  <a:pt x="176" y="1331"/>
                </a:lnTo>
                <a:lnTo>
                  <a:pt x="199" y="1327"/>
                </a:lnTo>
                <a:lnTo>
                  <a:pt x="212" y="1323"/>
                </a:lnTo>
                <a:lnTo>
                  <a:pt x="212" y="1319"/>
                </a:lnTo>
                <a:lnTo>
                  <a:pt x="199" y="1307"/>
                </a:lnTo>
                <a:lnTo>
                  <a:pt x="185" y="1296"/>
                </a:lnTo>
                <a:lnTo>
                  <a:pt x="178" y="1273"/>
                </a:lnTo>
                <a:lnTo>
                  <a:pt x="154" y="1250"/>
                </a:lnTo>
                <a:lnTo>
                  <a:pt x="151" y="1236"/>
                </a:lnTo>
                <a:lnTo>
                  <a:pt x="138" y="1229"/>
                </a:lnTo>
                <a:lnTo>
                  <a:pt x="122" y="1229"/>
                </a:lnTo>
                <a:lnTo>
                  <a:pt x="109" y="1244"/>
                </a:lnTo>
                <a:lnTo>
                  <a:pt x="115" y="1272"/>
                </a:lnTo>
                <a:lnTo>
                  <a:pt x="115" y="1292"/>
                </a:lnTo>
                <a:lnTo>
                  <a:pt x="115" y="1308"/>
                </a:lnTo>
                <a:lnTo>
                  <a:pt x="110" y="1313"/>
                </a:lnTo>
                <a:lnTo>
                  <a:pt x="99" y="1313"/>
                </a:lnTo>
                <a:lnTo>
                  <a:pt x="93" y="1308"/>
                </a:lnTo>
                <a:lnTo>
                  <a:pt x="80" y="1314"/>
                </a:lnTo>
                <a:lnTo>
                  <a:pt x="69" y="1320"/>
                </a:lnTo>
                <a:lnTo>
                  <a:pt x="68" y="1325"/>
                </a:lnTo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Freeform 42"/>
          <p:cNvSpPr/>
          <p:nvPr/>
        </p:nvSpPr>
        <p:spPr>
          <a:xfrm>
            <a:off x="6539040" y="4114800"/>
            <a:ext cx="898560" cy="912960"/>
          </a:xfrm>
          <a:custGeom>
            <a:avLst/>
            <a:gdLst/>
            <a:ahLst/>
            <a:rect l="l" t="t" r="r" b="b"/>
            <a:pathLst>
              <a:path w="1144" h="1246">
                <a:moveTo>
                  <a:pt x="0" y="79"/>
                </a:moveTo>
                <a:lnTo>
                  <a:pt x="188" y="660"/>
                </a:lnTo>
                <a:lnTo>
                  <a:pt x="210" y="680"/>
                </a:lnTo>
                <a:lnTo>
                  <a:pt x="227" y="695"/>
                </a:lnTo>
                <a:lnTo>
                  <a:pt x="227" y="707"/>
                </a:lnTo>
                <a:lnTo>
                  <a:pt x="226" y="715"/>
                </a:lnTo>
                <a:lnTo>
                  <a:pt x="227" y="723"/>
                </a:lnTo>
                <a:lnTo>
                  <a:pt x="228" y="728"/>
                </a:lnTo>
                <a:lnTo>
                  <a:pt x="231" y="735"/>
                </a:lnTo>
                <a:lnTo>
                  <a:pt x="244" y="751"/>
                </a:lnTo>
                <a:lnTo>
                  <a:pt x="250" y="763"/>
                </a:lnTo>
                <a:lnTo>
                  <a:pt x="252" y="769"/>
                </a:lnTo>
                <a:lnTo>
                  <a:pt x="252" y="771"/>
                </a:lnTo>
                <a:lnTo>
                  <a:pt x="269" y="777"/>
                </a:lnTo>
                <a:lnTo>
                  <a:pt x="269" y="780"/>
                </a:lnTo>
                <a:lnTo>
                  <a:pt x="263" y="787"/>
                </a:lnTo>
                <a:lnTo>
                  <a:pt x="257" y="793"/>
                </a:lnTo>
                <a:lnTo>
                  <a:pt x="252" y="801"/>
                </a:lnTo>
                <a:lnTo>
                  <a:pt x="255" y="813"/>
                </a:lnTo>
                <a:lnTo>
                  <a:pt x="260" y="836"/>
                </a:lnTo>
                <a:lnTo>
                  <a:pt x="260" y="860"/>
                </a:lnTo>
                <a:lnTo>
                  <a:pt x="251" y="879"/>
                </a:lnTo>
                <a:lnTo>
                  <a:pt x="248" y="900"/>
                </a:lnTo>
                <a:lnTo>
                  <a:pt x="248" y="925"/>
                </a:lnTo>
                <a:lnTo>
                  <a:pt x="248" y="935"/>
                </a:lnTo>
                <a:lnTo>
                  <a:pt x="252" y="943"/>
                </a:lnTo>
                <a:lnTo>
                  <a:pt x="263" y="960"/>
                </a:lnTo>
                <a:lnTo>
                  <a:pt x="271" y="974"/>
                </a:lnTo>
                <a:lnTo>
                  <a:pt x="284" y="992"/>
                </a:lnTo>
                <a:lnTo>
                  <a:pt x="288" y="1006"/>
                </a:lnTo>
                <a:lnTo>
                  <a:pt x="293" y="1021"/>
                </a:lnTo>
                <a:lnTo>
                  <a:pt x="293" y="1034"/>
                </a:lnTo>
                <a:lnTo>
                  <a:pt x="293" y="1046"/>
                </a:lnTo>
                <a:lnTo>
                  <a:pt x="288" y="1064"/>
                </a:lnTo>
                <a:lnTo>
                  <a:pt x="285" y="1073"/>
                </a:lnTo>
                <a:lnTo>
                  <a:pt x="285" y="1084"/>
                </a:lnTo>
                <a:lnTo>
                  <a:pt x="286" y="1098"/>
                </a:lnTo>
                <a:lnTo>
                  <a:pt x="294" y="1109"/>
                </a:lnTo>
                <a:lnTo>
                  <a:pt x="297" y="1120"/>
                </a:lnTo>
                <a:lnTo>
                  <a:pt x="303" y="1142"/>
                </a:lnTo>
                <a:lnTo>
                  <a:pt x="308" y="1164"/>
                </a:lnTo>
                <a:lnTo>
                  <a:pt x="308" y="1167"/>
                </a:lnTo>
                <a:lnTo>
                  <a:pt x="345" y="1203"/>
                </a:lnTo>
                <a:lnTo>
                  <a:pt x="352" y="1215"/>
                </a:lnTo>
                <a:lnTo>
                  <a:pt x="352" y="1228"/>
                </a:lnTo>
                <a:lnTo>
                  <a:pt x="352" y="1235"/>
                </a:lnTo>
                <a:lnTo>
                  <a:pt x="356" y="1239"/>
                </a:lnTo>
                <a:lnTo>
                  <a:pt x="865" y="1178"/>
                </a:lnTo>
                <a:lnTo>
                  <a:pt x="887" y="1175"/>
                </a:lnTo>
                <a:lnTo>
                  <a:pt x="893" y="1195"/>
                </a:lnTo>
                <a:lnTo>
                  <a:pt x="896" y="1205"/>
                </a:lnTo>
                <a:lnTo>
                  <a:pt x="907" y="1208"/>
                </a:lnTo>
                <a:lnTo>
                  <a:pt x="907" y="1230"/>
                </a:lnTo>
                <a:lnTo>
                  <a:pt x="925" y="1246"/>
                </a:lnTo>
                <a:lnTo>
                  <a:pt x="942" y="1246"/>
                </a:lnTo>
                <a:lnTo>
                  <a:pt x="963" y="1242"/>
                </a:lnTo>
                <a:lnTo>
                  <a:pt x="971" y="1231"/>
                </a:lnTo>
                <a:lnTo>
                  <a:pt x="983" y="1210"/>
                </a:lnTo>
                <a:lnTo>
                  <a:pt x="983" y="1190"/>
                </a:lnTo>
                <a:lnTo>
                  <a:pt x="968" y="1152"/>
                </a:lnTo>
                <a:lnTo>
                  <a:pt x="954" y="1128"/>
                </a:lnTo>
                <a:lnTo>
                  <a:pt x="953" y="1109"/>
                </a:lnTo>
                <a:lnTo>
                  <a:pt x="953" y="1098"/>
                </a:lnTo>
                <a:lnTo>
                  <a:pt x="961" y="1089"/>
                </a:lnTo>
                <a:lnTo>
                  <a:pt x="974" y="1097"/>
                </a:lnTo>
                <a:lnTo>
                  <a:pt x="982" y="1086"/>
                </a:lnTo>
                <a:lnTo>
                  <a:pt x="986" y="1086"/>
                </a:lnTo>
                <a:lnTo>
                  <a:pt x="1007" y="1101"/>
                </a:lnTo>
                <a:lnTo>
                  <a:pt x="1035" y="1109"/>
                </a:lnTo>
                <a:lnTo>
                  <a:pt x="1053" y="1109"/>
                </a:lnTo>
                <a:lnTo>
                  <a:pt x="1071" y="1109"/>
                </a:lnTo>
                <a:lnTo>
                  <a:pt x="1097" y="1106"/>
                </a:lnTo>
                <a:lnTo>
                  <a:pt x="1071" y="1061"/>
                </a:lnTo>
                <a:lnTo>
                  <a:pt x="1067" y="1058"/>
                </a:lnTo>
                <a:lnTo>
                  <a:pt x="1060" y="1058"/>
                </a:lnTo>
                <a:lnTo>
                  <a:pt x="1055" y="1053"/>
                </a:lnTo>
                <a:lnTo>
                  <a:pt x="1069" y="1046"/>
                </a:lnTo>
                <a:lnTo>
                  <a:pt x="1081" y="1029"/>
                </a:lnTo>
                <a:lnTo>
                  <a:pt x="1088" y="1019"/>
                </a:lnTo>
                <a:lnTo>
                  <a:pt x="1074" y="1019"/>
                </a:lnTo>
                <a:lnTo>
                  <a:pt x="1063" y="1021"/>
                </a:lnTo>
                <a:lnTo>
                  <a:pt x="1055" y="1018"/>
                </a:lnTo>
                <a:lnTo>
                  <a:pt x="1067" y="1010"/>
                </a:lnTo>
                <a:lnTo>
                  <a:pt x="1081" y="1003"/>
                </a:lnTo>
                <a:lnTo>
                  <a:pt x="1081" y="986"/>
                </a:lnTo>
                <a:lnTo>
                  <a:pt x="1088" y="985"/>
                </a:lnTo>
                <a:lnTo>
                  <a:pt x="1090" y="983"/>
                </a:lnTo>
                <a:lnTo>
                  <a:pt x="1081" y="963"/>
                </a:lnTo>
                <a:lnTo>
                  <a:pt x="1068" y="954"/>
                </a:lnTo>
                <a:lnTo>
                  <a:pt x="1068" y="939"/>
                </a:lnTo>
                <a:lnTo>
                  <a:pt x="1081" y="930"/>
                </a:lnTo>
                <a:lnTo>
                  <a:pt x="1089" y="914"/>
                </a:lnTo>
                <a:lnTo>
                  <a:pt x="1089" y="893"/>
                </a:lnTo>
                <a:lnTo>
                  <a:pt x="1105" y="890"/>
                </a:lnTo>
                <a:lnTo>
                  <a:pt x="1112" y="885"/>
                </a:lnTo>
                <a:lnTo>
                  <a:pt x="1120" y="875"/>
                </a:lnTo>
                <a:lnTo>
                  <a:pt x="1123" y="868"/>
                </a:lnTo>
                <a:lnTo>
                  <a:pt x="1123" y="862"/>
                </a:lnTo>
                <a:lnTo>
                  <a:pt x="1132" y="856"/>
                </a:lnTo>
                <a:lnTo>
                  <a:pt x="1127" y="840"/>
                </a:lnTo>
                <a:lnTo>
                  <a:pt x="1121" y="833"/>
                </a:lnTo>
                <a:lnTo>
                  <a:pt x="1111" y="828"/>
                </a:lnTo>
                <a:lnTo>
                  <a:pt x="1092" y="821"/>
                </a:lnTo>
                <a:lnTo>
                  <a:pt x="1088" y="816"/>
                </a:lnTo>
                <a:lnTo>
                  <a:pt x="1088" y="808"/>
                </a:lnTo>
                <a:lnTo>
                  <a:pt x="1107" y="799"/>
                </a:lnTo>
                <a:lnTo>
                  <a:pt x="1106" y="789"/>
                </a:lnTo>
                <a:lnTo>
                  <a:pt x="1093" y="787"/>
                </a:lnTo>
                <a:lnTo>
                  <a:pt x="1093" y="779"/>
                </a:lnTo>
                <a:lnTo>
                  <a:pt x="1093" y="770"/>
                </a:lnTo>
                <a:lnTo>
                  <a:pt x="1093" y="758"/>
                </a:lnTo>
                <a:lnTo>
                  <a:pt x="1098" y="751"/>
                </a:lnTo>
                <a:lnTo>
                  <a:pt x="1121" y="746"/>
                </a:lnTo>
                <a:lnTo>
                  <a:pt x="1109" y="732"/>
                </a:lnTo>
                <a:lnTo>
                  <a:pt x="1108" y="724"/>
                </a:lnTo>
                <a:lnTo>
                  <a:pt x="1130" y="716"/>
                </a:lnTo>
                <a:lnTo>
                  <a:pt x="1144" y="701"/>
                </a:lnTo>
                <a:lnTo>
                  <a:pt x="1144" y="694"/>
                </a:lnTo>
                <a:lnTo>
                  <a:pt x="1139" y="689"/>
                </a:lnTo>
                <a:lnTo>
                  <a:pt x="1130" y="681"/>
                </a:lnTo>
                <a:lnTo>
                  <a:pt x="1108" y="665"/>
                </a:lnTo>
                <a:lnTo>
                  <a:pt x="1098" y="648"/>
                </a:lnTo>
                <a:lnTo>
                  <a:pt x="1096" y="626"/>
                </a:lnTo>
                <a:lnTo>
                  <a:pt x="1081" y="617"/>
                </a:lnTo>
                <a:lnTo>
                  <a:pt x="1067" y="614"/>
                </a:lnTo>
                <a:lnTo>
                  <a:pt x="1056" y="609"/>
                </a:lnTo>
                <a:lnTo>
                  <a:pt x="1044" y="592"/>
                </a:lnTo>
                <a:lnTo>
                  <a:pt x="1044" y="559"/>
                </a:lnTo>
                <a:lnTo>
                  <a:pt x="1038" y="523"/>
                </a:lnTo>
                <a:lnTo>
                  <a:pt x="1021" y="505"/>
                </a:lnTo>
                <a:lnTo>
                  <a:pt x="1001" y="491"/>
                </a:lnTo>
                <a:lnTo>
                  <a:pt x="1001" y="474"/>
                </a:lnTo>
                <a:lnTo>
                  <a:pt x="986" y="453"/>
                </a:lnTo>
                <a:lnTo>
                  <a:pt x="967" y="438"/>
                </a:lnTo>
                <a:lnTo>
                  <a:pt x="934" y="435"/>
                </a:lnTo>
                <a:lnTo>
                  <a:pt x="912" y="428"/>
                </a:lnTo>
                <a:lnTo>
                  <a:pt x="901" y="417"/>
                </a:lnTo>
                <a:lnTo>
                  <a:pt x="885" y="401"/>
                </a:lnTo>
                <a:lnTo>
                  <a:pt x="862" y="377"/>
                </a:lnTo>
                <a:lnTo>
                  <a:pt x="849" y="370"/>
                </a:lnTo>
                <a:lnTo>
                  <a:pt x="820" y="345"/>
                </a:lnTo>
                <a:lnTo>
                  <a:pt x="795" y="333"/>
                </a:lnTo>
                <a:lnTo>
                  <a:pt x="767" y="308"/>
                </a:lnTo>
                <a:lnTo>
                  <a:pt x="741" y="292"/>
                </a:lnTo>
                <a:lnTo>
                  <a:pt x="726" y="279"/>
                </a:lnTo>
                <a:lnTo>
                  <a:pt x="709" y="248"/>
                </a:lnTo>
                <a:lnTo>
                  <a:pt x="690" y="212"/>
                </a:lnTo>
                <a:lnTo>
                  <a:pt x="660" y="193"/>
                </a:lnTo>
                <a:lnTo>
                  <a:pt x="634" y="165"/>
                </a:lnTo>
                <a:lnTo>
                  <a:pt x="601" y="151"/>
                </a:lnTo>
                <a:lnTo>
                  <a:pt x="568" y="145"/>
                </a:lnTo>
                <a:lnTo>
                  <a:pt x="534" y="132"/>
                </a:lnTo>
                <a:lnTo>
                  <a:pt x="513" y="113"/>
                </a:lnTo>
                <a:lnTo>
                  <a:pt x="494" y="88"/>
                </a:lnTo>
                <a:lnTo>
                  <a:pt x="499" y="65"/>
                </a:lnTo>
                <a:lnTo>
                  <a:pt x="542" y="35"/>
                </a:lnTo>
                <a:lnTo>
                  <a:pt x="551" y="14"/>
                </a:lnTo>
                <a:lnTo>
                  <a:pt x="562" y="0"/>
                </a:lnTo>
                <a:lnTo>
                  <a:pt x="446" y="22"/>
                </a:lnTo>
                <a:lnTo>
                  <a:pt x="438" y="34"/>
                </a:lnTo>
                <a:lnTo>
                  <a:pt x="319" y="50"/>
                </a:lnTo>
                <a:lnTo>
                  <a:pt x="0" y="79"/>
                </a:lnTo>
              </a:path>
            </a:pathLst>
          </a:custGeom>
          <a:solidFill>
            <a:srgbClr val="00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Freeform 43"/>
          <p:cNvSpPr/>
          <p:nvPr/>
        </p:nvSpPr>
        <p:spPr>
          <a:xfrm>
            <a:off x="6280200" y="4876920"/>
            <a:ext cx="1547640" cy="1050840"/>
          </a:xfrm>
          <a:custGeom>
            <a:avLst/>
            <a:gdLst>
              <a:gd name="textAreaLeft" fmla="*/ 0 w 1547640"/>
              <a:gd name="textAreaRight" fmla="*/ 1548000 w 1547640"/>
              <a:gd name="textAreaTop" fmla="*/ 0 h 1050840"/>
              <a:gd name="textAreaBottom" fmla="*/ 1051200 h 1050840"/>
            </a:gdLst>
            <a:ahLst/>
            <a:rect l="textAreaLeft" t="textAreaTop" r="textAreaRight" b="textAreaBottom"/>
            <a:pathLst>
              <a:path w="1972" h="1434">
                <a:moveTo>
                  <a:pt x="14" y="311"/>
                </a:moveTo>
                <a:lnTo>
                  <a:pt x="28" y="289"/>
                </a:lnTo>
                <a:lnTo>
                  <a:pt x="47" y="268"/>
                </a:lnTo>
                <a:lnTo>
                  <a:pt x="55" y="251"/>
                </a:lnTo>
                <a:lnTo>
                  <a:pt x="55" y="238"/>
                </a:lnTo>
                <a:lnTo>
                  <a:pt x="52" y="230"/>
                </a:lnTo>
                <a:lnTo>
                  <a:pt x="35" y="217"/>
                </a:lnTo>
                <a:lnTo>
                  <a:pt x="18" y="204"/>
                </a:lnTo>
                <a:lnTo>
                  <a:pt x="7" y="199"/>
                </a:lnTo>
                <a:lnTo>
                  <a:pt x="0" y="193"/>
                </a:lnTo>
                <a:lnTo>
                  <a:pt x="0" y="176"/>
                </a:lnTo>
                <a:lnTo>
                  <a:pt x="0" y="167"/>
                </a:lnTo>
                <a:lnTo>
                  <a:pt x="2" y="154"/>
                </a:lnTo>
                <a:lnTo>
                  <a:pt x="2" y="144"/>
                </a:lnTo>
                <a:lnTo>
                  <a:pt x="580" y="88"/>
                </a:lnTo>
                <a:lnTo>
                  <a:pt x="622" y="84"/>
                </a:lnTo>
                <a:lnTo>
                  <a:pt x="632" y="94"/>
                </a:lnTo>
                <a:lnTo>
                  <a:pt x="644" y="104"/>
                </a:lnTo>
                <a:lnTo>
                  <a:pt x="663" y="127"/>
                </a:lnTo>
                <a:lnTo>
                  <a:pt x="666" y="138"/>
                </a:lnTo>
                <a:lnTo>
                  <a:pt x="669" y="157"/>
                </a:lnTo>
                <a:lnTo>
                  <a:pt x="1197" y="92"/>
                </a:lnTo>
                <a:lnTo>
                  <a:pt x="1213" y="109"/>
                </a:lnTo>
                <a:lnTo>
                  <a:pt x="1214" y="124"/>
                </a:lnTo>
                <a:lnTo>
                  <a:pt x="1222" y="127"/>
                </a:lnTo>
                <a:lnTo>
                  <a:pt x="1221" y="143"/>
                </a:lnTo>
                <a:lnTo>
                  <a:pt x="1222" y="150"/>
                </a:lnTo>
                <a:lnTo>
                  <a:pt x="1239" y="158"/>
                </a:lnTo>
                <a:lnTo>
                  <a:pt x="1253" y="165"/>
                </a:lnTo>
                <a:lnTo>
                  <a:pt x="1277" y="164"/>
                </a:lnTo>
                <a:lnTo>
                  <a:pt x="1279" y="157"/>
                </a:lnTo>
                <a:lnTo>
                  <a:pt x="1291" y="134"/>
                </a:lnTo>
                <a:lnTo>
                  <a:pt x="1298" y="123"/>
                </a:lnTo>
                <a:lnTo>
                  <a:pt x="1296" y="109"/>
                </a:lnTo>
                <a:lnTo>
                  <a:pt x="1284" y="76"/>
                </a:lnTo>
                <a:lnTo>
                  <a:pt x="1279" y="66"/>
                </a:lnTo>
                <a:lnTo>
                  <a:pt x="1266" y="51"/>
                </a:lnTo>
                <a:lnTo>
                  <a:pt x="1264" y="36"/>
                </a:lnTo>
                <a:lnTo>
                  <a:pt x="1264" y="23"/>
                </a:lnTo>
                <a:lnTo>
                  <a:pt x="1264" y="20"/>
                </a:lnTo>
                <a:lnTo>
                  <a:pt x="1268" y="9"/>
                </a:lnTo>
                <a:lnTo>
                  <a:pt x="1278" y="9"/>
                </a:lnTo>
                <a:lnTo>
                  <a:pt x="1286" y="11"/>
                </a:lnTo>
                <a:lnTo>
                  <a:pt x="1286" y="7"/>
                </a:lnTo>
                <a:lnTo>
                  <a:pt x="1299" y="0"/>
                </a:lnTo>
                <a:lnTo>
                  <a:pt x="1308" y="7"/>
                </a:lnTo>
                <a:lnTo>
                  <a:pt x="1320" y="11"/>
                </a:lnTo>
                <a:lnTo>
                  <a:pt x="1343" y="24"/>
                </a:lnTo>
                <a:lnTo>
                  <a:pt x="1354" y="28"/>
                </a:lnTo>
                <a:lnTo>
                  <a:pt x="1377" y="28"/>
                </a:lnTo>
                <a:lnTo>
                  <a:pt x="1400" y="25"/>
                </a:lnTo>
                <a:lnTo>
                  <a:pt x="1411" y="25"/>
                </a:lnTo>
                <a:lnTo>
                  <a:pt x="1435" y="84"/>
                </a:lnTo>
                <a:lnTo>
                  <a:pt x="1464" y="137"/>
                </a:lnTo>
                <a:lnTo>
                  <a:pt x="1549" y="299"/>
                </a:lnTo>
                <a:lnTo>
                  <a:pt x="1605" y="377"/>
                </a:lnTo>
                <a:lnTo>
                  <a:pt x="1630" y="405"/>
                </a:lnTo>
                <a:lnTo>
                  <a:pt x="1670" y="450"/>
                </a:lnTo>
                <a:lnTo>
                  <a:pt x="1672" y="473"/>
                </a:lnTo>
                <a:lnTo>
                  <a:pt x="1691" y="531"/>
                </a:lnTo>
                <a:lnTo>
                  <a:pt x="1711" y="576"/>
                </a:lnTo>
                <a:lnTo>
                  <a:pt x="1745" y="630"/>
                </a:lnTo>
                <a:lnTo>
                  <a:pt x="1775" y="697"/>
                </a:lnTo>
                <a:lnTo>
                  <a:pt x="1904" y="848"/>
                </a:lnTo>
                <a:lnTo>
                  <a:pt x="1913" y="889"/>
                </a:lnTo>
                <a:lnTo>
                  <a:pt x="1965" y="1071"/>
                </a:lnTo>
                <a:lnTo>
                  <a:pt x="1972" y="1188"/>
                </a:lnTo>
                <a:lnTo>
                  <a:pt x="1958" y="1170"/>
                </a:lnTo>
                <a:lnTo>
                  <a:pt x="1958" y="1238"/>
                </a:lnTo>
                <a:lnTo>
                  <a:pt x="1941" y="1290"/>
                </a:lnTo>
                <a:lnTo>
                  <a:pt x="1920" y="1319"/>
                </a:lnTo>
                <a:lnTo>
                  <a:pt x="1904" y="1359"/>
                </a:lnTo>
                <a:lnTo>
                  <a:pt x="1892" y="1362"/>
                </a:lnTo>
                <a:lnTo>
                  <a:pt x="1812" y="1418"/>
                </a:lnTo>
                <a:lnTo>
                  <a:pt x="1772" y="1418"/>
                </a:lnTo>
                <a:lnTo>
                  <a:pt x="1753" y="1433"/>
                </a:lnTo>
                <a:lnTo>
                  <a:pt x="1708" y="1434"/>
                </a:lnTo>
                <a:lnTo>
                  <a:pt x="1670" y="1422"/>
                </a:lnTo>
                <a:lnTo>
                  <a:pt x="1680" y="1400"/>
                </a:lnTo>
                <a:lnTo>
                  <a:pt x="1700" y="1401"/>
                </a:lnTo>
                <a:lnTo>
                  <a:pt x="1724" y="1411"/>
                </a:lnTo>
                <a:lnTo>
                  <a:pt x="1738" y="1401"/>
                </a:lnTo>
                <a:lnTo>
                  <a:pt x="1710" y="1370"/>
                </a:lnTo>
                <a:lnTo>
                  <a:pt x="1717" y="1350"/>
                </a:lnTo>
                <a:lnTo>
                  <a:pt x="1737" y="1340"/>
                </a:lnTo>
                <a:lnTo>
                  <a:pt x="1743" y="1319"/>
                </a:lnTo>
                <a:lnTo>
                  <a:pt x="1717" y="1319"/>
                </a:lnTo>
                <a:lnTo>
                  <a:pt x="1717" y="1302"/>
                </a:lnTo>
                <a:lnTo>
                  <a:pt x="1725" y="1282"/>
                </a:lnTo>
                <a:lnTo>
                  <a:pt x="1711" y="1261"/>
                </a:lnTo>
                <a:lnTo>
                  <a:pt x="1624" y="1252"/>
                </a:lnTo>
                <a:lnTo>
                  <a:pt x="1523" y="1197"/>
                </a:lnTo>
                <a:lnTo>
                  <a:pt x="1487" y="1134"/>
                </a:lnTo>
                <a:lnTo>
                  <a:pt x="1491" y="1046"/>
                </a:lnTo>
                <a:lnTo>
                  <a:pt x="1490" y="1025"/>
                </a:lnTo>
                <a:lnTo>
                  <a:pt x="1467" y="1052"/>
                </a:lnTo>
                <a:lnTo>
                  <a:pt x="1446" y="1071"/>
                </a:lnTo>
                <a:lnTo>
                  <a:pt x="1438" y="1067"/>
                </a:lnTo>
                <a:lnTo>
                  <a:pt x="1422" y="975"/>
                </a:lnTo>
                <a:lnTo>
                  <a:pt x="1435" y="956"/>
                </a:lnTo>
                <a:lnTo>
                  <a:pt x="1435" y="939"/>
                </a:lnTo>
                <a:lnTo>
                  <a:pt x="1435" y="910"/>
                </a:lnTo>
                <a:lnTo>
                  <a:pt x="1425" y="935"/>
                </a:lnTo>
                <a:lnTo>
                  <a:pt x="1418" y="945"/>
                </a:lnTo>
                <a:lnTo>
                  <a:pt x="1402" y="953"/>
                </a:lnTo>
                <a:lnTo>
                  <a:pt x="1377" y="948"/>
                </a:lnTo>
                <a:lnTo>
                  <a:pt x="1373" y="946"/>
                </a:lnTo>
                <a:lnTo>
                  <a:pt x="1389" y="986"/>
                </a:lnTo>
                <a:lnTo>
                  <a:pt x="1374" y="991"/>
                </a:lnTo>
                <a:lnTo>
                  <a:pt x="1359" y="986"/>
                </a:lnTo>
                <a:lnTo>
                  <a:pt x="1324" y="950"/>
                </a:lnTo>
                <a:lnTo>
                  <a:pt x="1326" y="973"/>
                </a:lnTo>
                <a:lnTo>
                  <a:pt x="1288" y="901"/>
                </a:lnTo>
                <a:lnTo>
                  <a:pt x="1256" y="866"/>
                </a:lnTo>
                <a:lnTo>
                  <a:pt x="1240" y="857"/>
                </a:lnTo>
                <a:lnTo>
                  <a:pt x="1246" y="847"/>
                </a:lnTo>
                <a:lnTo>
                  <a:pt x="1274" y="824"/>
                </a:lnTo>
                <a:lnTo>
                  <a:pt x="1299" y="786"/>
                </a:lnTo>
                <a:lnTo>
                  <a:pt x="1298" y="760"/>
                </a:lnTo>
                <a:lnTo>
                  <a:pt x="1307" y="748"/>
                </a:lnTo>
                <a:lnTo>
                  <a:pt x="1307" y="729"/>
                </a:lnTo>
                <a:lnTo>
                  <a:pt x="1277" y="707"/>
                </a:lnTo>
                <a:lnTo>
                  <a:pt x="1271" y="753"/>
                </a:lnTo>
                <a:lnTo>
                  <a:pt x="1248" y="730"/>
                </a:lnTo>
                <a:lnTo>
                  <a:pt x="1239" y="736"/>
                </a:lnTo>
                <a:lnTo>
                  <a:pt x="1239" y="743"/>
                </a:lnTo>
                <a:lnTo>
                  <a:pt x="1253" y="770"/>
                </a:lnTo>
                <a:lnTo>
                  <a:pt x="1258" y="783"/>
                </a:lnTo>
                <a:lnTo>
                  <a:pt x="1245" y="793"/>
                </a:lnTo>
                <a:lnTo>
                  <a:pt x="1235" y="802"/>
                </a:lnTo>
                <a:lnTo>
                  <a:pt x="1221" y="799"/>
                </a:lnTo>
                <a:lnTo>
                  <a:pt x="1193" y="732"/>
                </a:lnTo>
                <a:lnTo>
                  <a:pt x="1199" y="672"/>
                </a:lnTo>
                <a:lnTo>
                  <a:pt x="1197" y="587"/>
                </a:lnTo>
                <a:lnTo>
                  <a:pt x="1180" y="493"/>
                </a:lnTo>
                <a:lnTo>
                  <a:pt x="1141" y="446"/>
                </a:lnTo>
                <a:lnTo>
                  <a:pt x="1043" y="386"/>
                </a:lnTo>
                <a:lnTo>
                  <a:pt x="1000" y="366"/>
                </a:lnTo>
                <a:lnTo>
                  <a:pt x="990" y="363"/>
                </a:lnTo>
                <a:lnTo>
                  <a:pt x="990" y="327"/>
                </a:lnTo>
                <a:lnTo>
                  <a:pt x="985" y="311"/>
                </a:lnTo>
                <a:lnTo>
                  <a:pt x="945" y="309"/>
                </a:lnTo>
                <a:lnTo>
                  <a:pt x="926" y="295"/>
                </a:lnTo>
                <a:lnTo>
                  <a:pt x="902" y="291"/>
                </a:lnTo>
                <a:lnTo>
                  <a:pt x="888" y="282"/>
                </a:lnTo>
                <a:lnTo>
                  <a:pt x="873" y="259"/>
                </a:lnTo>
                <a:lnTo>
                  <a:pt x="835" y="242"/>
                </a:lnTo>
                <a:lnTo>
                  <a:pt x="815" y="242"/>
                </a:lnTo>
                <a:lnTo>
                  <a:pt x="799" y="248"/>
                </a:lnTo>
                <a:lnTo>
                  <a:pt x="776" y="268"/>
                </a:lnTo>
                <a:lnTo>
                  <a:pt x="724" y="323"/>
                </a:lnTo>
                <a:lnTo>
                  <a:pt x="697" y="329"/>
                </a:lnTo>
                <a:lnTo>
                  <a:pt x="657" y="369"/>
                </a:lnTo>
                <a:lnTo>
                  <a:pt x="624" y="377"/>
                </a:lnTo>
                <a:lnTo>
                  <a:pt x="580" y="402"/>
                </a:lnTo>
                <a:lnTo>
                  <a:pt x="534" y="408"/>
                </a:lnTo>
                <a:lnTo>
                  <a:pt x="516" y="397"/>
                </a:lnTo>
                <a:lnTo>
                  <a:pt x="493" y="386"/>
                </a:lnTo>
                <a:lnTo>
                  <a:pt x="485" y="340"/>
                </a:lnTo>
                <a:lnTo>
                  <a:pt x="485" y="343"/>
                </a:lnTo>
                <a:lnTo>
                  <a:pt x="493" y="352"/>
                </a:lnTo>
                <a:lnTo>
                  <a:pt x="498" y="374"/>
                </a:lnTo>
                <a:lnTo>
                  <a:pt x="517" y="386"/>
                </a:lnTo>
                <a:lnTo>
                  <a:pt x="532" y="379"/>
                </a:lnTo>
                <a:lnTo>
                  <a:pt x="532" y="329"/>
                </a:lnTo>
                <a:lnTo>
                  <a:pt x="525" y="302"/>
                </a:lnTo>
                <a:lnTo>
                  <a:pt x="508" y="283"/>
                </a:lnTo>
                <a:lnTo>
                  <a:pt x="473" y="286"/>
                </a:lnTo>
                <a:lnTo>
                  <a:pt x="457" y="286"/>
                </a:lnTo>
                <a:lnTo>
                  <a:pt x="457" y="276"/>
                </a:lnTo>
                <a:lnTo>
                  <a:pt x="457" y="272"/>
                </a:lnTo>
                <a:lnTo>
                  <a:pt x="508" y="259"/>
                </a:lnTo>
                <a:lnTo>
                  <a:pt x="490" y="248"/>
                </a:lnTo>
                <a:lnTo>
                  <a:pt x="414" y="250"/>
                </a:lnTo>
                <a:lnTo>
                  <a:pt x="389" y="250"/>
                </a:lnTo>
                <a:lnTo>
                  <a:pt x="384" y="248"/>
                </a:lnTo>
                <a:lnTo>
                  <a:pt x="384" y="233"/>
                </a:lnTo>
                <a:lnTo>
                  <a:pt x="398" y="223"/>
                </a:lnTo>
                <a:lnTo>
                  <a:pt x="398" y="215"/>
                </a:lnTo>
                <a:lnTo>
                  <a:pt x="375" y="215"/>
                </a:lnTo>
                <a:lnTo>
                  <a:pt x="360" y="227"/>
                </a:lnTo>
                <a:lnTo>
                  <a:pt x="346" y="234"/>
                </a:lnTo>
                <a:lnTo>
                  <a:pt x="360" y="255"/>
                </a:lnTo>
                <a:lnTo>
                  <a:pt x="335" y="248"/>
                </a:lnTo>
                <a:lnTo>
                  <a:pt x="328" y="244"/>
                </a:lnTo>
                <a:lnTo>
                  <a:pt x="249" y="252"/>
                </a:lnTo>
                <a:lnTo>
                  <a:pt x="221" y="265"/>
                </a:lnTo>
                <a:lnTo>
                  <a:pt x="178" y="271"/>
                </a:lnTo>
                <a:lnTo>
                  <a:pt x="168" y="276"/>
                </a:lnTo>
                <a:lnTo>
                  <a:pt x="168" y="268"/>
                </a:lnTo>
                <a:lnTo>
                  <a:pt x="171" y="253"/>
                </a:lnTo>
                <a:lnTo>
                  <a:pt x="168" y="241"/>
                </a:lnTo>
                <a:lnTo>
                  <a:pt x="155" y="232"/>
                </a:lnTo>
                <a:lnTo>
                  <a:pt x="118" y="248"/>
                </a:lnTo>
                <a:lnTo>
                  <a:pt x="118" y="255"/>
                </a:lnTo>
                <a:lnTo>
                  <a:pt x="124" y="270"/>
                </a:lnTo>
                <a:lnTo>
                  <a:pt x="124" y="276"/>
                </a:lnTo>
                <a:lnTo>
                  <a:pt x="109" y="290"/>
                </a:lnTo>
                <a:lnTo>
                  <a:pt x="24" y="310"/>
                </a:lnTo>
                <a:lnTo>
                  <a:pt x="14" y="311"/>
                </a:lnTo>
              </a:path>
            </a:pathLst>
          </a:custGeom>
          <a:solidFill>
            <a:srgbClr val="00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Freeform 44"/>
          <p:cNvSpPr/>
          <p:nvPr/>
        </p:nvSpPr>
        <p:spPr>
          <a:xfrm>
            <a:off x="7594560" y="5241960"/>
            <a:ext cx="106560" cy="119160"/>
          </a:xfrm>
          <a:custGeom>
            <a:avLst/>
            <a:gdLst>
              <a:gd name="textAreaLeft" fmla="*/ 0 w 106560"/>
              <a:gd name="textAreaRight" fmla="*/ 106920 w 10656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37" h="160">
                <a:moveTo>
                  <a:pt x="0" y="0"/>
                </a:moveTo>
                <a:lnTo>
                  <a:pt x="15" y="8"/>
                </a:lnTo>
                <a:lnTo>
                  <a:pt x="34" y="31"/>
                </a:lnTo>
                <a:lnTo>
                  <a:pt x="54" y="54"/>
                </a:lnTo>
                <a:lnTo>
                  <a:pt x="69" y="71"/>
                </a:lnTo>
                <a:lnTo>
                  <a:pt x="87" y="105"/>
                </a:lnTo>
                <a:lnTo>
                  <a:pt x="100" y="117"/>
                </a:lnTo>
                <a:lnTo>
                  <a:pt x="116" y="136"/>
                </a:lnTo>
                <a:lnTo>
                  <a:pt x="126" y="150"/>
                </a:lnTo>
                <a:lnTo>
                  <a:pt x="137" y="16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Freeform 45"/>
          <p:cNvSpPr/>
          <p:nvPr/>
        </p:nvSpPr>
        <p:spPr>
          <a:xfrm>
            <a:off x="6810480" y="3619440"/>
            <a:ext cx="1371600" cy="601560"/>
          </a:xfrm>
          <a:custGeom>
            <a:avLst/>
            <a:gdLst>
              <a:gd name="textAreaLeft" fmla="*/ 0 w 1371600"/>
              <a:gd name="textAreaRight" fmla="*/ 1371600 w 1371600"/>
              <a:gd name="textAreaTop" fmla="*/ 0 h 601560"/>
              <a:gd name="textAreaBottom" fmla="*/ 601920 h 601560"/>
            </a:gdLst>
            <a:ahLst/>
            <a:rect l="textAreaLeft" t="textAreaTop" r="textAreaRight" b="textAreaBottom"/>
            <a:pathLst>
              <a:path w="1751" h="823">
                <a:moveTo>
                  <a:pt x="1275" y="822"/>
                </a:moveTo>
                <a:lnTo>
                  <a:pt x="1305" y="797"/>
                </a:lnTo>
                <a:lnTo>
                  <a:pt x="1368" y="761"/>
                </a:lnTo>
                <a:lnTo>
                  <a:pt x="1376" y="746"/>
                </a:lnTo>
                <a:lnTo>
                  <a:pt x="1359" y="720"/>
                </a:lnTo>
                <a:lnTo>
                  <a:pt x="1352" y="715"/>
                </a:lnTo>
                <a:lnTo>
                  <a:pt x="1376" y="739"/>
                </a:lnTo>
                <a:lnTo>
                  <a:pt x="1389" y="743"/>
                </a:lnTo>
                <a:lnTo>
                  <a:pt x="1395" y="733"/>
                </a:lnTo>
                <a:lnTo>
                  <a:pt x="1412" y="697"/>
                </a:lnTo>
                <a:lnTo>
                  <a:pt x="1398" y="706"/>
                </a:lnTo>
                <a:lnTo>
                  <a:pt x="1391" y="711"/>
                </a:lnTo>
                <a:lnTo>
                  <a:pt x="1394" y="687"/>
                </a:lnTo>
                <a:lnTo>
                  <a:pt x="1426" y="628"/>
                </a:lnTo>
                <a:lnTo>
                  <a:pt x="1487" y="547"/>
                </a:lnTo>
                <a:lnTo>
                  <a:pt x="1589" y="485"/>
                </a:lnTo>
                <a:lnTo>
                  <a:pt x="1610" y="470"/>
                </a:lnTo>
                <a:lnTo>
                  <a:pt x="1624" y="442"/>
                </a:lnTo>
                <a:lnTo>
                  <a:pt x="1623" y="417"/>
                </a:lnTo>
                <a:lnTo>
                  <a:pt x="1611" y="417"/>
                </a:lnTo>
                <a:lnTo>
                  <a:pt x="1579" y="428"/>
                </a:lnTo>
                <a:lnTo>
                  <a:pt x="1539" y="437"/>
                </a:lnTo>
                <a:lnTo>
                  <a:pt x="1508" y="438"/>
                </a:lnTo>
                <a:lnTo>
                  <a:pt x="1468" y="417"/>
                </a:lnTo>
                <a:lnTo>
                  <a:pt x="1489" y="417"/>
                </a:lnTo>
                <a:lnTo>
                  <a:pt x="1523" y="417"/>
                </a:lnTo>
                <a:lnTo>
                  <a:pt x="1562" y="401"/>
                </a:lnTo>
                <a:lnTo>
                  <a:pt x="1572" y="377"/>
                </a:lnTo>
                <a:lnTo>
                  <a:pt x="1564" y="362"/>
                </a:lnTo>
                <a:lnTo>
                  <a:pt x="1571" y="348"/>
                </a:lnTo>
                <a:lnTo>
                  <a:pt x="1564" y="341"/>
                </a:lnTo>
                <a:lnTo>
                  <a:pt x="1548" y="341"/>
                </a:lnTo>
                <a:lnTo>
                  <a:pt x="1536" y="329"/>
                </a:lnTo>
                <a:lnTo>
                  <a:pt x="1536" y="316"/>
                </a:lnTo>
                <a:lnTo>
                  <a:pt x="1576" y="323"/>
                </a:lnTo>
                <a:lnTo>
                  <a:pt x="1608" y="340"/>
                </a:lnTo>
                <a:lnTo>
                  <a:pt x="1645" y="340"/>
                </a:lnTo>
                <a:lnTo>
                  <a:pt x="1683" y="346"/>
                </a:lnTo>
                <a:lnTo>
                  <a:pt x="1706" y="333"/>
                </a:lnTo>
                <a:lnTo>
                  <a:pt x="1706" y="301"/>
                </a:lnTo>
                <a:lnTo>
                  <a:pt x="1718" y="259"/>
                </a:lnTo>
                <a:lnTo>
                  <a:pt x="1733" y="230"/>
                </a:lnTo>
                <a:lnTo>
                  <a:pt x="1751" y="211"/>
                </a:lnTo>
                <a:lnTo>
                  <a:pt x="1751" y="186"/>
                </a:lnTo>
                <a:lnTo>
                  <a:pt x="1724" y="149"/>
                </a:lnTo>
                <a:lnTo>
                  <a:pt x="1708" y="141"/>
                </a:lnTo>
                <a:lnTo>
                  <a:pt x="1686" y="141"/>
                </a:lnTo>
                <a:lnTo>
                  <a:pt x="1683" y="166"/>
                </a:lnTo>
                <a:lnTo>
                  <a:pt x="1684" y="194"/>
                </a:lnTo>
                <a:lnTo>
                  <a:pt x="1684" y="231"/>
                </a:lnTo>
                <a:lnTo>
                  <a:pt x="1668" y="218"/>
                </a:lnTo>
                <a:lnTo>
                  <a:pt x="1649" y="178"/>
                </a:lnTo>
                <a:lnTo>
                  <a:pt x="1633" y="158"/>
                </a:lnTo>
                <a:lnTo>
                  <a:pt x="1620" y="158"/>
                </a:lnTo>
                <a:lnTo>
                  <a:pt x="1595" y="171"/>
                </a:lnTo>
                <a:lnTo>
                  <a:pt x="1565" y="175"/>
                </a:lnTo>
                <a:lnTo>
                  <a:pt x="1529" y="193"/>
                </a:lnTo>
                <a:lnTo>
                  <a:pt x="1514" y="198"/>
                </a:lnTo>
                <a:lnTo>
                  <a:pt x="1524" y="180"/>
                </a:lnTo>
                <a:lnTo>
                  <a:pt x="1506" y="156"/>
                </a:lnTo>
                <a:lnTo>
                  <a:pt x="1444" y="115"/>
                </a:lnTo>
                <a:lnTo>
                  <a:pt x="1465" y="115"/>
                </a:lnTo>
                <a:lnTo>
                  <a:pt x="1503" y="124"/>
                </a:lnTo>
                <a:lnTo>
                  <a:pt x="1527" y="114"/>
                </a:lnTo>
                <a:lnTo>
                  <a:pt x="1552" y="110"/>
                </a:lnTo>
                <a:lnTo>
                  <a:pt x="1589" y="115"/>
                </a:lnTo>
                <a:lnTo>
                  <a:pt x="1617" y="113"/>
                </a:lnTo>
                <a:lnTo>
                  <a:pt x="1658" y="106"/>
                </a:lnTo>
                <a:lnTo>
                  <a:pt x="1687" y="98"/>
                </a:lnTo>
                <a:lnTo>
                  <a:pt x="1687" y="76"/>
                </a:lnTo>
                <a:lnTo>
                  <a:pt x="1685" y="48"/>
                </a:lnTo>
                <a:lnTo>
                  <a:pt x="1669" y="44"/>
                </a:lnTo>
                <a:lnTo>
                  <a:pt x="1669" y="38"/>
                </a:lnTo>
                <a:lnTo>
                  <a:pt x="1680" y="30"/>
                </a:lnTo>
                <a:lnTo>
                  <a:pt x="1691" y="30"/>
                </a:lnTo>
                <a:lnTo>
                  <a:pt x="1699" y="19"/>
                </a:lnTo>
                <a:lnTo>
                  <a:pt x="1695" y="9"/>
                </a:lnTo>
                <a:lnTo>
                  <a:pt x="1695" y="6"/>
                </a:lnTo>
                <a:lnTo>
                  <a:pt x="1691" y="0"/>
                </a:lnTo>
                <a:lnTo>
                  <a:pt x="1400" y="59"/>
                </a:lnTo>
                <a:lnTo>
                  <a:pt x="1400" y="71"/>
                </a:lnTo>
                <a:lnTo>
                  <a:pt x="1115" y="136"/>
                </a:lnTo>
                <a:lnTo>
                  <a:pt x="781" y="211"/>
                </a:lnTo>
                <a:lnTo>
                  <a:pt x="505" y="259"/>
                </a:lnTo>
                <a:lnTo>
                  <a:pt x="456" y="265"/>
                </a:lnTo>
                <a:lnTo>
                  <a:pt x="431" y="292"/>
                </a:lnTo>
                <a:lnTo>
                  <a:pt x="422" y="303"/>
                </a:lnTo>
                <a:lnTo>
                  <a:pt x="418" y="318"/>
                </a:lnTo>
                <a:lnTo>
                  <a:pt x="419" y="331"/>
                </a:lnTo>
                <a:lnTo>
                  <a:pt x="424" y="346"/>
                </a:lnTo>
                <a:lnTo>
                  <a:pt x="427" y="371"/>
                </a:lnTo>
                <a:lnTo>
                  <a:pt x="410" y="369"/>
                </a:lnTo>
                <a:lnTo>
                  <a:pt x="405" y="363"/>
                </a:lnTo>
                <a:lnTo>
                  <a:pt x="391" y="376"/>
                </a:lnTo>
                <a:lnTo>
                  <a:pt x="378" y="389"/>
                </a:lnTo>
                <a:lnTo>
                  <a:pt x="372" y="403"/>
                </a:lnTo>
                <a:lnTo>
                  <a:pt x="356" y="420"/>
                </a:lnTo>
                <a:lnTo>
                  <a:pt x="342" y="432"/>
                </a:lnTo>
                <a:lnTo>
                  <a:pt x="331" y="450"/>
                </a:lnTo>
                <a:lnTo>
                  <a:pt x="328" y="456"/>
                </a:lnTo>
                <a:lnTo>
                  <a:pt x="325" y="456"/>
                </a:lnTo>
                <a:lnTo>
                  <a:pt x="307" y="453"/>
                </a:lnTo>
                <a:lnTo>
                  <a:pt x="298" y="450"/>
                </a:lnTo>
                <a:lnTo>
                  <a:pt x="291" y="446"/>
                </a:lnTo>
                <a:lnTo>
                  <a:pt x="275" y="451"/>
                </a:lnTo>
                <a:lnTo>
                  <a:pt x="262" y="461"/>
                </a:lnTo>
                <a:lnTo>
                  <a:pt x="251" y="473"/>
                </a:lnTo>
                <a:lnTo>
                  <a:pt x="240" y="488"/>
                </a:lnTo>
                <a:lnTo>
                  <a:pt x="234" y="501"/>
                </a:lnTo>
                <a:lnTo>
                  <a:pt x="232" y="511"/>
                </a:lnTo>
                <a:lnTo>
                  <a:pt x="220" y="519"/>
                </a:lnTo>
                <a:lnTo>
                  <a:pt x="212" y="523"/>
                </a:lnTo>
                <a:lnTo>
                  <a:pt x="205" y="520"/>
                </a:lnTo>
                <a:lnTo>
                  <a:pt x="201" y="514"/>
                </a:lnTo>
                <a:lnTo>
                  <a:pt x="197" y="508"/>
                </a:lnTo>
                <a:lnTo>
                  <a:pt x="192" y="506"/>
                </a:lnTo>
                <a:lnTo>
                  <a:pt x="182" y="506"/>
                </a:lnTo>
                <a:lnTo>
                  <a:pt x="172" y="506"/>
                </a:lnTo>
                <a:lnTo>
                  <a:pt x="162" y="535"/>
                </a:lnTo>
                <a:lnTo>
                  <a:pt x="145" y="565"/>
                </a:lnTo>
                <a:lnTo>
                  <a:pt x="141" y="576"/>
                </a:lnTo>
                <a:lnTo>
                  <a:pt x="130" y="594"/>
                </a:lnTo>
                <a:lnTo>
                  <a:pt x="115" y="603"/>
                </a:lnTo>
                <a:lnTo>
                  <a:pt x="100" y="606"/>
                </a:lnTo>
                <a:lnTo>
                  <a:pt x="87" y="612"/>
                </a:lnTo>
                <a:lnTo>
                  <a:pt x="81" y="613"/>
                </a:lnTo>
                <a:lnTo>
                  <a:pt x="67" y="617"/>
                </a:lnTo>
                <a:lnTo>
                  <a:pt x="58" y="621"/>
                </a:lnTo>
                <a:lnTo>
                  <a:pt x="53" y="633"/>
                </a:lnTo>
                <a:lnTo>
                  <a:pt x="47" y="649"/>
                </a:lnTo>
                <a:lnTo>
                  <a:pt x="39" y="657"/>
                </a:lnTo>
                <a:lnTo>
                  <a:pt x="32" y="663"/>
                </a:lnTo>
                <a:lnTo>
                  <a:pt x="32" y="666"/>
                </a:lnTo>
                <a:lnTo>
                  <a:pt x="32" y="673"/>
                </a:lnTo>
                <a:lnTo>
                  <a:pt x="35" y="680"/>
                </a:lnTo>
                <a:lnTo>
                  <a:pt x="35" y="688"/>
                </a:lnTo>
                <a:lnTo>
                  <a:pt x="32" y="692"/>
                </a:lnTo>
                <a:lnTo>
                  <a:pt x="20" y="695"/>
                </a:lnTo>
                <a:lnTo>
                  <a:pt x="7" y="700"/>
                </a:lnTo>
                <a:lnTo>
                  <a:pt x="7" y="717"/>
                </a:lnTo>
                <a:lnTo>
                  <a:pt x="0" y="749"/>
                </a:lnTo>
                <a:lnTo>
                  <a:pt x="0" y="754"/>
                </a:lnTo>
                <a:lnTo>
                  <a:pt x="117" y="739"/>
                </a:lnTo>
                <a:lnTo>
                  <a:pt x="126" y="733"/>
                </a:lnTo>
                <a:lnTo>
                  <a:pt x="297" y="703"/>
                </a:lnTo>
                <a:lnTo>
                  <a:pt x="337" y="697"/>
                </a:lnTo>
                <a:lnTo>
                  <a:pt x="416" y="653"/>
                </a:lnTo>
                <a:lnTo>
                  <a:pt x="493" y="645"/>
                </a:lnTo>
                <a:lnTo>
                  <a:pt x="500" y="645"/>
                </a:lnTo>
                <a:lnTo>
                  <a:pt x="504" y="636"/>
                </a:lnTo>
                <a:lnTo>
                  <a:pt x="712" y="621"/>
                </a:lnTo>
                <a:lnTo>
                  <a:pt x="718" y="621"/>
                </a:lnTo>
                <a:lnTo>
                  <a:pt x="722" y="628"/>
                </a:lnTo>
                <a:lnTo>
                  <a:pt x="722" y="641"/>
                </a:lnTo>
                <a:lnTo>
                  <a:pt x="735" y="641"/>
                </a:lnTo>
                <a:lnTo>
                  <a:pt x="750" y="641"/>
                </a:lnTo>
                <a:lnTo>
                  <a:pt x="765" y="670"/>
                </a:lnTo>
                <a:lnTo>
                  <a:pt x="773" y="681"/>
                </a:lnTo>
                <a:lnTo>
                  <a:pt x="998" y="643"/>
                </a:lnTo>
                <a:lnTo>
                  <a:pt x="1273" y="823"/>
                </a:lnTo>
                <a:lnTo>
                  <a:pt x="1275" y="822"/>
                </a:lnTo>
              </a:path>
            </a:pathLst>
          </a:custGeom>
          <a:solidFill>
            <a:srgbClr val="00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Freeform 46"/>
          <p:cNvSpPr/>
          <p:nvPr/>
        </p:nvSpPr>
        <p:spPr>
          <a:xfrm>
            <a:off x="6932520" y="4062240"/>
            <a:ext cx="863640" cy="563760"/>
          </a:xfrm>
          <a:custGeom>
            <a:avLst/>
            <a:gdLst>
              <a:gd name="textAreaLeft" fmla="*/ 0 w 863640"/>
              <a:gd name="textAreaRight" fmla="*/ 864000 w 863640"/>
              <a:gd name="textAreaTop" fmla="*/ 0 h 563760"/>
              <a:gd name="textAreaBottom" fmla="*/ 564120 h 563760"/>
            </a:gdLst>
            <a:ahLst/>
            <a:rect l="textAreaLeft" t="textAreaTop" r="textAreaRight" b="textAreaBottom"/>
            <a:pathLst>
              <a:path w="1103" h="771">
                <a:moveTo>
                  <a:pt x="61" y="94"/>
                </a:moveTo>
                <a:lnTo>
                  <a:pt x="170" y="76"/>
                </a:lnTo>
                <a:lnTo>
                  <a:pt x="246" y="31"/>
                </a:lnTo>
                <a:lnTo>
                  <a:pt x="327" y="24"/>
                </a:lnTo>
                <a:lnTo>
                  <a:pt x="333" y="18"/>
                </a:lnTo>
                <a:lnTo>
                  <a:pt x="546" y="0"/>
                </a:lnTo>
                <a:lnTo>
                  <a:pt x="551" y="3"/>
                </a:lnTo>
                <a:lnTo>
                  <a:pt x="553" y="19"/>
                </a:lnTo>
                <a:lnTo>
                  <a:pt x="572" y="19"/>
                </a:lnTo>
                <a:lnTo>
                  <a:pt x="574" y="19"/>
                </a:lnTo>
                <a:lnTo>
                  <a:pt x="602" y="60"/>
                </a:lnTo>
                <a:lnTo>
                  <a:pt x="829" y="22"/>
                </a:lnTo>
                <a:lnTo>
                  <a:pt x="1103" y="201"/>
                </a:lnTo>
                <a:lnTo>
                  <a:pt x="1060" y="241"/>
                </a:lnTo>
                <a:lnTo>
                  <a:pt x="1036" y="272"/>
                </a:lnTo>
                <a:lnTo>
                  <a:pt x="1019" y="296"/>
                </a:lnTo>
                <a:lnTo>
                  <a:pt x="998" y="339"/>
                </a:lnTo>
                <a:lnTo>
                  <a:pt x="990" y="357"/>
                </a:lnTo>
                <a:lnTo>
                  <a:pt x="990" y="375"/>
                </a:lnTo>
                <a:lnTo>
                  <a:pt x="979" y="417"/>
                </a:lnTo>
                <a:lnTo>
                  <a:pt x="966" y="432"/>
                </a:lnTo>
                <a:lnTo>
                  <a:pt x="945" y="432"/>
                </a:lnTo>
                <a:lnTo>
                  <a:pt x="926" y="430"/>
                </a:lnTo>
                <a:lnTo>
                  <a:pt x="915" y="435"/>
                </a:lnTo>
                <a:lnTo>
                  <a:pt x="903" y="462"/>
                </a:lnTo>
                <a:lnTo>
                  <a:pt x="890" y="492"/>
                </a:lnTo>
                <a:lnTo>
                  <a:pt x="864" y="505"/>
                </a:lnTo>
                <a:lnTo>
                  <a:pt x="846" y="511"/>
                </a:lnTo>
                <a:lnTo>
                  <a:pt x="839" y="511"/>
                </a:lnTo>
                <a:lnTo>
                  <a:pt x="831" y="492"/>
                </a:lnTo>
                <a:lnTo>
                  <a:pt x="831" y="485"/>
                </a:lnTo>
                <a:lnTo>
                  <a:pt x="822" y="505"/>
                </a:lnTo>
                <a:lnTo>
                  <a:pt x="818" y="541"/>
                </a:lnTo>
                <a:lnTo>
                  <a:pt x="811" y="564"/>
                </a:lnTo>
                <a:lnTo>
                  <a:pt x="806" y="577"/>
                </a:lnTo>
                <a:lnTo>
                  <a:pt x="799" y="588"/>
                </a:lnTo>
                <a:lnTo>
                  <a:pt x="772" y="582"/>
                </a:lnTo>
                <a:lnTo>
                  <a:pt x="765" y="575"/>
                </a:lnTo>
                <a:lnTo>
                  <a:pt x="765" y="561"/>
                </a:lnTo>
                <a:lnTo>
                  <a:pt x="744" y="568"/>
                </a:lnTo>
                <a:lnTo>
                  <a:pt x="733" y="584"/>
                </a:lnTo>
                <a:lnTo>
                  <a:pt x="726" y="590"/>
                </a:lnTo>
                <a:lnTo>
                  <a:pt x="741" y="614"/>
                </a:lnTo>
                <a:lnTo>
                  <a:pt x="741" y="640"/>
                </a:lnTo>
                <a:lnTo>
                  <a:pt x="734" y="652"/>
                </a:lnTo>
                <a:lnTo>
                  <a:pt x="725" y="664"/>
                </a:lnTo>
                <a:lnTo>
                  <a:pt x="705" y="656"/>
                </a:lnTo>
                <a:lnTo>
                  <a:pt x="690" y="645"/>
                </a:lnTo>
                <a:lnTo>
                  <a:pt x="689" y="629"/>
                </a:lnTo>
                <a:lnTo>
                  <a:pt x="674" y="630"/>
                </a:lnTo>
                <a:lnTo>
                  <a:pt x="666" y="645"/>
                </a:lnTo>
                <a:lnTo>
                  <a:pt x="674" y="670"/>
                </a:lnTo>
                <a:lnTo>
                  <a:pt x="690" y="696"/>
                </a:lnTo>
                <a:lnTo>
                  <a:pt x="677" y="708"/>
                </a:lnTo>
                <a:lnTo>
                  <a:pt x="667" y="716"/>
                </a:lnTo>
                <a:lnTo>
                  <a:pt x="651" y="717"/>
                </a:lnTo>
                <a:lnTo>
                  <a:pt x="645" y="724"/>
                </a:lnTo>
                <a:lnTo>
                  <a:pt x="640" y="739"/>
                </a:lnTo>
                <a:lnTo>
                  <a:pt x="638" y="751"/>
                </a:lnTo>
                <a:lnTo>
                  <a:pt x="638" y="764"/>
                </a:lnTo>
                <a:lnTo>
                  <a:pt x="638" y="771"/>
                </a:lnTo>
                <a:lnTo>
                  <a:pt x="627" y="762"/>
                </a:lnTo>
                <a:lnTo>
                  <a:pt x="617" y="756"/>
                </a:lnTo>
                <a:lnTo>
                  <a:pt x="609" y="739"/>
                </a:lnTo>
                <a:lnTo>
                  <a:pt x="598" y="719"/>
                </a:lnTo>
                <a:lnTo>
                  <a:pt x="597" y="710"/>
                </a:lnTo>
                <a:lnTo>
                  <a:pt x="594" y="706"/>
                </a:lnTo>
                <a:lnTo>
                  <a:pt x="584" y="701"/>
                </a:lnTo>
                <a:lnTo>
                  <a:pt x="569" y="696"/>
                </a:lnTo>
                <a:lnTo>
                  <a:pt x="561" y="693"/>
                </a:lnTo>
                <a:lnTo>
                  <a:pt x="550" y="681"/>
                </a:lnTo>
                <a:lnTo>
                  <a:pt x="550" y="674"/>
                </a:lnTo>
                <a:lnTo>
                  <a:pt x="550" y="641"/>
                </a:lnTo>
                <a:lnTo>
                  <a:pt x="546" y="623"/>
                </a:lnTo>
                <a:lnTo>
                  <a:pt x="543" y="606"/>
                </a:lnTo>
                <a:lnTo>
                  <a:pt x="541" y="602"/>
                </a:lnTo>
                <a:lnTo>
                  <a:pt x="529" y="589"/>
                </a:lnTo>
                <a:lnTo>
                  <a:pt x="519" y="581"/>
                </a:lnTo>
                <a:lnTo>
                  <a:pt x="511" y="577"/>
                </a:lnTo>
                <a:lnTo>
                  <a:pt x="507" y="572"/>
                </a:lnTo>
                <a:lnTo>
                  <a:pt x="507" y="559"/>
                </a:lnTo>
                <a:lnTo>
                  <a:pt x="504" y="554"/>
                </a:lnTo>
                <a:lnTo>
                  <a:pt x="476" y="526"/>
                </a:lnTo>
                <a:lnTo>
                  <a:pt x="468" y="521"/>
                </a:lnTo>
                <a:lnTo>
                  <a:pt x="442" y="519"/>
                </a:lnTo>
                <a:lnTo>
                  <a:pt x="425" y="517"/>
                </a:lnTo>
                <a:lnTo>
                  <a:pt x="415" y="508"/>
                </a:lnTo>
                <a:lnTo>
                  <a:pt x="398" y="490"/>
                </a:lnTo>
                <a:lnTo>
                  <a:pt x="372" y="467"/>
                </a:lnTo>
                <a:lnTo>
                  <a:pt x="333" y="435"/>
                </a:lnTo>
                <a:lnTo>
                  <a:pt x="296" y="414"/>
                </a:lnTo>
                <a:lnTo>
                  <a:pt x="235" y="370"/>
                </a:lnTo>
                <a:lnTo>
                  <a:pt x="215" y="338"/>
                </a:lnTo>
                <a:lnTo>
                  <a:pt x="196" y="301"/>
                </a:lnTo>
                <a:lnTo>
                  <a:pt x="186" y="291"/>
                </a:lnTo>
                <a:lnTo>
                  <a:pt x="166" y="277"/>
                </a:lnTo>
                <a:lnTo>
                  <a:pt x="149" y="261"/>
                </a:lnTo>
                <a:lnTo>
                  <a:pt x="136" y="249"/>
                </a:lnTo>
                <a:lnTo>
                  <a:pt x="117" y="239"/>
                </a:lnTo>
                <a:lnTo>
                  <a:pt x="97" y="233"/>
                </a:lnTo>
                <a:lnTo>
                  <a:pt x="80" y="231"/>
                </a:lnTo>
                <a:lnTo>
                  <a:pt x="63" y="221"/>
                </a:lnTo>
                <a:lnTo>
                  <a:pt x="50" y="218"/>
                </a:lnTo>
                <a:lnTo>
                  <a:pt x="37" y="217"/>
                </a:lnTo>
                <a:lnTo>
                  <a:pt x="25" y="202"/>
                </a:lnTo>
                <a:lnTo>
                  <a:pt x="12" y="188"/>
                </a:lnTo>
                <a:lnTo>
                  <a:pt x="0" y="176"/>
                </a:lnTo>
                <a:lnTo>
                  <a:pt x="0" y="171"/>
                </a:lnTo>
                <a:lnTo>
                  <a:pt x="1" y="155"/>
                </a:lnTo>
                <a:lnTo>
                  <a:pt x="11" y="145"/>
                </a:lnTo>
                <a:lnTo>
                  <a:pt x="20" y="135"/>
                </a:lnTo>
                <a:lnTo>
                  <a:pt x="37" y="127"/>
                </a:lnTo>
                <a:lnTo>
                  <a:pt x="44" y="120"/>
                </a:lnTo>
                <a:lnTo>
                  <a:pt x="49" y="113"/>
                </a:lnTo>
                <a:lnTo>
                  <a:pt x="57" y="99"/>
                </a:lnTo>
                <a:lnTo>
                  <a:pt x="61" y="94"/>
                </a:lnTo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Freeform 47"/>
          <p:cNvSpPr/>
          <p:nvPr/>
        </p:nvSpPr>
        <p:spPr>
          <a:xfrm>
            <a:off x="6869160" y="3165480"/>
            <a:ext cx="1266840" cy="687240"/>
          </a:xfrm>
          <a:custGeom>
            <a:avLst/>
            <a:gdLst>
              <a:gd name="textAreaLeft" fmla="*/ 0 w 1266840"/>
              <a:gd name="textAreaRight" fmla="*/ 1267200 w 1266840"/>
              <a:gd name="textAreaTop" fmla="*/ 0 h 687240"/>
              <a:gd name="textAreaBottom" fmla="*/ 687600 h 687240"/>
            </a:gdLst>
            <a:ahLst/>
            <a:rect l="textAreaLeft" t="textAreaTop" r="textAreaRight" b="textAreaBottom"/>
            <a:pathLst>
              <a:path w="1618" h="938">
                <a:moveTo>
                  <a:pt x="0" y="938"/>
                </a:moveTo>
                <a:lnTo>
                  <a:pt x="22" y="916"/>
                </a:lnTo>
                <a:lnTo>
                  <a:pt x="35" y="905"/>
                </a:lnTo>
                <a:lnTo>
                  <a:pt x="55" y="896"/>
                </a:lnTo>
                <a:lnTo>
                  <a:pt x="59" y="886"/>
                </a:lnTo>
                <a:lnTo>
                  <a:pt x="63" y="878"/>
                </a:lnTo>
                <a:lnTo>
                  <a:pt x="74" y="867"/>
                </a:lnTo>
                <a:lnTo>
                  <a:pt x="93" y="854"/>
                </a:lnTo>
                <a:lnTo>
                  <a:pt x="106" y="850"/>
                </a:lnTo>
                <a:lnTo>
                  <a:pt x="114" y="841"/>
                </a:lnTo>
                <a:lnTo>
                  <a:pt x="126" y="829"/>
                </a:lnTo>
                <a:lnTo>
                  <a:pt x="132" y="809"/>
                </a:lnTo>
                <a:lnTo>
                  <a:pt x="134" y="795"/>
                </a:lnTo>
                <a:lnTo>
                  <a:pt x="142" y="791"/>
                </a:lnTo>
                <a:lnTo>
                  <a:pt x="173" y="776"/>
                </a:lnTo>
                <a:lnTo>
                  <a:pt x="199" y="760"/>
                </a:lnTo>
                <a:lnTo>
                  <a:pt x="220" y="736"/>
                </a:lnTo>
                <a:lnTo>
                  <a:pt x="237" y="715"/>
                </a:lnTo>
                <a:lnTo>
                  <a:pt x="253" y="698"/>
                </a:lnTo>
                <a:lnTo>
                  <a:pt x="269" y="688"/>
                </a:lnTo>
                <a:lnTo>
                  <a:pt x="280" y="702"/>
                </a:lnTo>
                <a:lnTo>
                  <a:pt x="287" y="713"/>
                </a:lnTo>
                <a:lnTo>
                  <a:pt x="311" y="726"/>
                </a:lnTo>
                <a:lnTo>
                  <a:pt x="345" y="712"/>
                </a:lnTo>
                <a:lnTo>
                  <a:pt x="372" y="692"/>
                </a:lnTo>
                <a:lnTo>
                  <a:pt x="397" y="697"/>
                </a:lnTo>
                <a:lnTo>
                  <a:pt x="417" y="703"/>
                </a:lnTo>
                <a:lnTo>
                  <a:pt x="458" y="692"/>
                </a:lnTo>
                <a:lnTo>
                  <a:pt x="504" y="662"/>
                </a:lnTo>
                <a:lnTo>
                  <a:pt x="513" y="639"/>
                </a:lnTo>
                <a:lnTo>
                  <a:pt x="520" y="624"/>
                </a:lnTo>
                <a:lnTo>
                  <a:pt x="541" y="629"/>
                </a:lnTo>
                <a:lnTo>
                  <a:pt x="571" y="631"/>
                </a:lnTo>
                <a:lnTo>
                  <a:pt x="616" y="612"/>
                </a:lnTo>
                <a:lnTo>
                  <a:pt x="633" y="596"/>
                </a:lnTo>
                <a:lnTo>
                  <a:pt x="667" y="570"/>
                </a:lnTo>
                <a:lnTo>
                  <a:pt x="671" y="556"/>
                </a:lnTo>
                <a:lnTo>
                  <a:pt x="645" y="539"/>
                </a:lnTo>
                <a:lnTo>
                  <a:pt x="649" y="501"/>
                </a:lnTo>
                <a:lnTo>
                  <a:pt x="685" y="439"/>
                </a:lnTo>
                <a:lnTo>
                  <a:pt x="711" y="397"/>
                </a:lnTo>
                <a:lnTo>
                  <a:pt x="716" y="358"/>
                </a:lnTo>
                <a:lnTo>
                  <a:pt x="719" y="316"/>
                </a:lnTo>
                <a:lnTo>
                  <a:pt x="734" y="261"/>
                </a:lnTo>
                <a:lnTo>
                  <a:pt x="754" y="259"/>
                </a:lnTo>
                <a:lnTo>
                  <a:pt x="770" y="281"/>
                </a:lnTo>
                <a:lnTo>
                  <a:pt x="787" y="321"/>
                </a:lnTo>
                <a:lnTo>
                  <a:pt x="814" y="332"/>
                </a:lnTo>
                <a:lnTo>
                  <a:pt x="831" y="310"/>
                </a:lnTo>
                <a:lnTo>
                  <a:pt x="852" y="242"/>
                </a:lnTo>
                <a:lnTo>
                  <a:pt x="863" y="208"/>
                </a:lnTo>
                <a:lnTo>
                  <a:pt x="880" y="192"/>
                </a:lnTo>
                <a:lnTo>
                  <a:pt x="904" y="202"/>
                </a:lnTo>
                <a:lnTo>
                  <a:pt x="935" y="150"/>
                </a:lnTo>
                <a:lnTo>
                  <a:pt x="945" y="129"/>
                </a:lnTo>
                <a:lnTo>
                  <a:pt x="961" y="121"/>
                </a:lnTo>
                <a:lnTo>
                  <a:pt x="990" y="87"/>
                </a:lnTo>
                <a:lnTo>
                  <a:pt x="1022" y="52"/>
                </a:lnTo>
                <a:lnTo>
                  <a:pt x="1035" y="40"/>
                </a:lnTo>
                <a:lnTo>
                  <a:pt x="1058" y="0"/>
                </a:lnTo>
                <a:lnTo>
                  <a:pt x="1201" y="96"/>
                </a:lnTo>
                <a:lnTo>
                  <a:pt x="1228" y="49"/>
                </a:lnTo>
                <a:lnTo>
                  <a:pt x="1253" y="48"/>
                </a:lnTo>
                <a:lnTo>
                  <a:pt x="1270" y="53"/>
                </a:lnTo>
                <a:lnTo>
                  <a:pt x="1291" y="70"/>
                </a:lnTo>
                <a:lnTo>
                  <a:pt x="1297" y="86"/>
                </a:lnTo>
                <a:lnTo>
                  <a:pt x="1279" y="93"/>
                </a:lnTo>
                <a:lnTo>
                  <a:pt x="1279" y="102"/>
                </a:lnTo>
                <a:lnTo>
                  <a:pt x="1300" y="116"/>
                </a:lnTo>
                <a:lnTo>
                  <a:pt x="1327" y="119"/>
                </a:lnTo>
                <a:lnTo>
                  <a:pt x="1367" y="129"/>
                </a:lnTo>
                <a:lnTo>
                  <a:pt x="1400" y="140"/>
                </a:lnTo>
                <a:lnTo>
                  <a:pt x="1413" y="167"/>
                </a:lnTo>
                <a:lnTo>
                  <a:pt x="1405" y="183"/>
                </a:lnTo>
                <a:lnTo>
                  <a:pt x="1369" y="199"/>
                </a:lnTo>
                <a:lnTo>
                  <a:pt x="1347" y="200"/>
                </a:lnTo>
                <a:lnTo>
                  <a:pt x="1322" y="229"/>
                </a:lnTo>
                <a:lnTo>
                  <a:pt x="1299" y="271"/>
                </a:lnTo>
                <a:lnTo>
                  <a:pt x="1344" y="270"/>
                </a:lnTo>
                <a:lnTo>
                  <a:pt x="1371" y="251"/>
                </a:lnTo>
                <a:lnTo>
                  <a:pt x="1410" y="250"/>
                </a:lnTo>
                <a:lnTo>
                  <a:pt x="1422" y="266"/>
                </a:lnTo>
                <a:lnTo>
                  <a:pt x="1414" y="291"/>
                </a:lnTo>
                <a:lnTo>
                  <a:pt x="1392" y="304"/>
                </a:lnTo>
                <a:lnTo>
                  <a:pt x="1400" y="328"/>
                </a:lnTo>
                <a:lnTo>
                  <a:pt x="1441" y="352"/>
                </a:lnTo>
                <a:lnTo>
                  <a:pt x="1474" y="378"/>
                </a:lnTo>
                <a:lnTo>
                  <a:pt x="1479" y="393"/>
                </a:lnTo>
                <a:lnTo>
                  <a:pt x="1486" y="422"/>
                </a:lnTo>
                <a:lnTo>
                  <a:pt x="1490" y="443"/>
                </a:lnTo>
                <a:lnTo>
                  <a:pt x="1474" y="458"/>
                </a:lnTo>
                <a:lnTo>
                  <a:pt x="1456" y="468"/>
                </a:lnTo>
                <a:lnTo>
                  <a:pt x="1405" y="463"/>
                </a:lnTo>
                <a:lnTo>
                  <a:pt x="1371" y="461"/>
                </a:lnTo>
                <a:lnTo>
                  <a:pt x="1360" y="471"/>
                </a:lnTo>
                <a:lnTo>
                  <a:pt x="1407" y="490"/>
                </a:lnTo>
                <a:lnTo>
                  <a:pt x="1445" y="508"/>
                </a:lnTo>
                <a:lnTo>
                  <a:pt x="1448" y="524"/>
                </a:lnTo>
                <a:lnTo>
                  <a:pt x="1479" y="524"/>
                </a:lnTo>
                <a:lnTo>
                  <a:pt x="1514" y="507"/>
                </a:lnTo>
                <a:lnTo>
                  <a:pt x="1531" y="507"/>
                </a:lnTo>
                <a:lnTo>
                  <a:pt x="1542" y="519"/>
                </a:lnTo>
                <a:lnTo>
                  <a:pt x="1577" y="562"/>
                </a:lnTo>
                <a:lnTo>
                  <a:pt x="1607" y="585"/>
                </a:lnTo>
                <a:lnTo>
                  <a:pt x="1618" y="609"/>
                </a:lnTo>
                <a:lnTo>
                  <a:pt x="1618" y="616"/>
                </a:lnTo>
                <a:lnTo>
                  <a:pt x="1327" y="675"/>
                </a:lnTo>
                <a:lnTo>
                  <a:pt x="1330" y="687"/>
                </a:lnTo>
                <a:lnTo>
                  <a:pt x="918" y="782"/>
                </a:lnTo>
                <a:lnTo>
                  <a:pt x="629" y="841"/>
                </a:lnTo>
                <a:lnTo>
                  <a:pt x="381" y="881"/>
                </a:lnTo>
                <a:lnTo>
                  <a:pt x="20" y="934"/>
                </a:lnTo>
                <a:lnTo>
                  <a:pt x="0" y="938"/>
                </a:lnTo>
              </a:path>
            </a:pathLst>
          </a:custGeom>
          <a:solidFill>
            <a:srgbClr val="00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Freeform 48"/>
          <p:cNvSpPr/>
          <p:nvPr/>
        </p:nvSpPr>
        <p:spPr>
          <a:xfrm>
            <a:off x="8346960" y="1293840"/>
            <a:ext cx="574920" cy="968400"/>
          </a:xfrm>
          <a:custGeom>
            <a:avLst/>
            <a:gdLst>
              <a:gd name="textAreaLeft" fmla="*/ 0 w 574920"/>
              <a:gd name="textAreaRight" fmla="*/ 575280 w 574920"/>
              <a:gd name="textAreaTop" fmla="*/ 0 h 968400"/>
              <a:gd name="textAreaBottom" fmla="*/ 968760 h 968400"/>
            </a:gdLst>
            <a:ahLst/>
            <a:rect l="textAreaLeft" t="textAreaTop" r="textAreaRight" b="textAreaBottom"/>
            <a:pathLst>
              <a:path w="733" h="1321">
                <a:moveTo>
                  <a:pt x="0" y="675"/>
                </a:moveTo>
                <a:lnTo>
                  <a:pt x="20" y="667"/>
                </a:lnTo>
                <a:lnTo>
                  <a:pt x="36" y="667"/>
                </a:lnTo>
                <a:lnTo>
                  <a:pt x="44" y="682"/>
                </a:lnTo>
                <a:lnTo>
                  <a:pt x="62" y="661"/>
                </a:lnTo>
                <a:lnTo>
                  <a:pt x="62" y="638"/>
                </a:lnTo>
                <a:lnTo>
                  <a:pt x="52" y="624"/>
                </a:lnTo>
                <a:lnTo>
                  <a:pt x="56" y="610"/>
                </a:lnTo>
                <a:lnTo>
                  <a:pt x="72" y="616"/>
                </a:lnTo>
                <a:lnTo>
                  <a:pt x="82" y="609"/>
                </a:lnTo>
                <a:lnTo>
                  <a:pt x="92" y="578"/>
                </a:lnTo>
                <a:lnTo>
                  <a:pt x="99" y="533"/>
                </a:lnTo>
                <a:lnTo>
                  <a:pt x="117" y="514"/>
                </a:lnTo>
                <a:lnTo>
                  <a:pt x="125" y="504"/>
                </a:lnTo>
                <a:lnTo>
                  <a:pt x="123" y="482"/>
                </a:lnTo>
                <a:lnTo>
                  <a:pt x="111" y="449"/>
                </a:lnTo>
                <a:lnTo>
                  <a:pt x="110" y="388"/>
                </a:lnTo>
                <a:lnTo>
                  <a:pt x="100" y="359"/>
                </a:lnTo>
                <a:lnTo>
                  <a:pt x="92" y="335"/>
                </a:lnTo>
                <a:lnTo>
                  <a:pt x="95" y="313"/>
                </a:lnTo>
                <a:lnTo>
                  <a:pt x="99" y="299"/>
                </a:lnTo>
                <a:lnTo>
                  <a:pt x="99" y="270"/>
                </a:lnTo>
                <a:lnTo>
                  <a:pt x="147" y="20"/>
                </a:lnTo>
                <a:lnTo>
                  <a:pt x="162" y="33"/>
                </a:lnTo>
                <a:lnTo>
                  <a:pt x="178" y="44"/>
                </a:lnTo>
                <a:lnTo>
                  <a:pt x="182" y="48"/>
                </a:lnTo>
                <a:lnTo>
                  <a:pt x="196" y="48"/>
                </a:lnTo>
                <a:lnTo>
                  <a:pt x="204" y="39"/>
                </a:lnTo>
                <a:lnTo>
                  <a:pt x="217" y="21"/>
                </a:lnTo>
                <a:lnTo>
                  <a:pt x="229" y="21"/>
                </a:lnTo>
                <a:lnTo>
                  <a:pt x="249" y="27"/>
                </a:lnTo>
                <a:lnTo>
                  <a:pt x="264" y="32"/>
                </a:lnTo>
                <a:lnTo>
                  <a:pt x="284" y="27"/>
                </a:lnTo>
                <a:lnTo>
                  <a:pt x="304" y="8"/>
                </a:lnTo>
                <a:lnTo>
                  <a:pt x="327" y="0"/>
                </a:lnTo>
                <a:lnTo>
                  <a:pt x="357" y="0"/>
                </a:lnTo>
                <a:lnTo>
                  <a:pt x="380" y="11"/>
                </a:lnTo>
                <a:lnTo>
                  <a:pt x="390" y="21"/>
                </a:lnTo>
                <a:lnTo>
                  <a:pt x="410" y="33"/>
                </a:lnTo>
                <a:lnTo>
                  <a:pt x="496" y="385"/>
                </a:lnTo>
                <a:lnTo>
                  <a:pt x="514" y="412"/>
                </a:lnTo>
                <a:lnTo>
                  <a:pt x="532" y="428"/>
                </a:lnTo>
                <a:lnTo>
                  <a:pt x="550" y="438"/>
                </a:lnTo>
                <a:lnTo>
                  <a:pt x="577" y="437"/>
                </a:lnTo>
                <a:lnTo>
                  <a:pt x="606" y="437"/>
                </a:lnTo>
                <a:lnTo>
                  <a:pt x="623" y="442"/>
                </a:lnTo>
                <a:lnTo>
                  <a:pt x="623" y="456"/>
                </a:lnTo>
                <a:lnTo>
                  <a:pt x="614" y="474"/>
                </a:lnTo>
                <a:lnTo>
                  <a:pt x="619" y="481"/>
                </a:lnTo>
                <a:lnTo>
                  <a:pt x="635" y="487"/>
                </a:lnTo>
                <a:lnTo>
                  <a:pt x="636" y="512"/>
                </a:lnTo>
                <a:lnTo>
                  <a:pt x="653" y="523"/>
                </a:lnTo>
                <a:lnTo>
                  <a:pt x="664" y="523"/>
                </a:lnTo>
                <a:lnTo>
                  <a:pt x="681" y="506"/>
                </a:lnTo>
                <a:lnTo>
                  <a:pt x="694" y="506"/>
                </a:lnTo>
                <a:lnTo>
                  <a:pt x="694" y="523"/>
                </a:lnTo>
                <a:lnTo>
                  <a:pt x="727" y="528"/>
                </a:lnTo>
                <a:lnTo>
                  <a:pt x="733" y="559"/>
                </a:lnTo>
                <a:lnTo>
                  <a:pt x="728" y="587"/>
                </a:lnTo>
                <a:lnTo>
                  <a:pt x="716" y="596"/>
                </a:lnTo>
                <a:lnTo>
                  <a:pt x="691" y="609"/>
                </a:lnTo>
                <a:lnTo>
                  <a:pt x="691" y="616"/>
                </a:lnTo>
                <a:lnTo>
                  <a:pt x="693" y="632"/>
                </a:lnTo>
                <a:lnTo>
                  <a:pt x="681" y="640"/>
                </a:lnTo>
                <a:lnTo>
                  <a:pt x="663" y="648"/>
                </a:lnTo>
                <a:lnTo>
                  <a:pt x="646" y="655"/>
                </a:lnTo>
                <a:lnTo>
                  <a:pt x="631" y="668"/>
                </a:lnTo>
                <a:lnTo>
                  <a:pt x="631" y="686"/>
                </a:lnTo>
                <a:lnTo>
                  <a:pt x="628" y="702"/>
                </a:lnTo>
                <a:lnTo>
                  <a:pt x="611" y="702"/>
                </a:lnTo>
                <a:lnTo>
                  <a:pt x="599" y="710"/>
                </a:lnTo>
                <a:lnTo>
                  <a:pt x="592" y="737"/>
                </a:lnTo>
                <a:lnTo>
                  <a:pt x="577" y="750"/>
                </a:lnTo>
                <a:lnTo>
                  <a:pt x="557" y="751"/>
                </a:lnTo>
                <a:lnTo>
                  <a:pt x="540" y="747"/>
                </a:lnTo>
                <a:lnTo>
                  <a:pt x="515" y="747"/>
                </a:lnTo>
                <a:lnTo>
                  <a:pt x="528" y="762"/>
                </a:lnTo>
                <a:lnTo>
                  <a:pt x="520" y="777"/>
                </a:lnTo>
                <a:lnTo>
                  <a:pt x="502" y="799"/>
                </a:lnTo>
                <a:lnTo>
                  <a:pt x="485" y="793"/>
                </a:lnTo>
                <a:lnTo>
                  <a:pt x="474" y="776"/>
                </a:lnTo>
                <a:lnTo>
                  <a:pt x="451" y="747"/>
                </a:lnTo>
                <a:lnTo>
                  <a:pt x="446" y="741"/>
                </a:lnTo>
                <a:lnTo>
                  <a:pt x="428" y="773"/>
                </a:lnTo>
                <a:lnTo>
                  <a:pt x="423" y="786"/>
                </a:lnTo>
                <a:lnTo>
                  <a:pt x="439" y="799"/>
                </a:lnTo>
                <a:lnTo>
                  <a:pt x="433" y="845"/>
                </a:lnTo>
                <a:lnTo>
                  <a:pt x="426" y="897"/>
                </a:lnTo>
                <a:lnTo>
                  <a:pt x="390" y="937"/>
                </a:lnTo>
                <a:lnTo>
                  <a:pt x="371" y="950"/>
                </a:lnTo>
                <a:lnTo>
                  <a:pt x="347" y="937"/>
                </a:lnTo>
                <a:lnTo>
                  <a:pt x="332" y="947"/>
                </a:lnTo>
                <a:lnTo>
                  <a:pt x="330" y="973"/>
                </a:lnTo>
                <a:lnTo>
                  <a:pt x="341" y="995"/>
                </a:lnTo>
                <a:lnTo>
                  <a:pt x="345" y="1005"/>
                </a:lnTo>
                <a:lnTo>
                  <a:pt x="330" y="1017"/>
                </a:lnTo>
                <a:lnTo>
                  <a:pt x="314" y="1018"/>
                </a:lnTo>
                <a:lnTo>
                  <a:pt x="301" y="1018"/>
                </a:lnTo>
                <a:lnTo>
                  <a:pt x="292" y="1003"/>
                </a:lnTo>
                <a:lnTo>
                  <a:pt x="280" y="1018"/>
                </a:lnTo>
                <a:lnTo>
                  <a:pt x="293" y="1047"/>
                </a:lnTo>
                <a:lnTo>
                  <a:pt x="293" y="1070"/>
                </a:lnTo>
                <a:lnTo>
                  <a:pt x="266" y="1072"/>
                </a:lnTo>
                <a:lnTo>
                  <a:pt x="249" y="1094"/>
                </a:lnTo>
                <a:lnTo>
                  <a:pt x="258" y="1109"/>
                </a:lnTo>
                <a:lnTo>
                  <a:pt x="258" y="1132"/>
                </a:lnTo>
                <a:lnTo>
                  <a:pt x="238" y="1145"/>
                </a:lnTo>
                <a:lnTo>
                  <a:pt x="226" y="1168"/>
                </a:lnTo>
                <a:lnTo>
                  <a:pt x="226" y="1202"/>
                </a:lnTo>
                <a:lnTo>
                  <a:pt x="229" y="1218"/>
                </a:lnTo>
                <a:lnTo>
                  <a:pt x="227" y="1247"/>
                </a:lnTo>
                <a:lnTo>
                  <a:pt x="218" y="1278"/>
                </a:lnTo>
                <a:lnTo>
                  <a:pt x="220" y="1321"/>
                </a:lnTo>
                <a:lnTo>
                  <a:pt x="197" y="1298"/>
                </a:lnTo>
                <a:lnTo>
                  <a:pt x="185" y="1293"/>
                </a:lnTo>
                <a:lnTo>
                  <a:pt x="168" y="1283"/>
                </a:lnTo>
                <a:lnTo>
                  <a:pt x="163" y="1268"/>
                </a:lnTo>
                <a:lnTo>
                  <a:pt x="158" y="1254"/>
                </a:lnTo>
                <a:lnTo>
                  <a:pt x="145" y="1239"/>
                </a:lnTo>
                <a:lnTo>
                  <a:pt x="3" y="686"/>
                </a:lnTo>
                <a:lnTo>
                  <a:pt x="0" y="675"/>
                </a:lnTo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Freeform 49"/>
          <p:cNvSpPr/>
          <p:nvPr/>
        </p:nvSpPr>
        <p:spPr>
          <a:xfrm>
            <a:off x="8253360" y="1787400"/>
            <a:ext cx="266760" cy="598680"/>
          </a:xfrm>
          <a:custGeom>
            <a:avLst/>
            <a:gdLst>
              <a:gd name="textAreaLeft" fmla="*/ 0 w 266760"/>
              <a:gd name="textAreaRight" fmla="*/ 267120 w 266760"/>
              <a:gd name="textAreaTop" fmla="*/ 0 h 598680"/>
              <a:gd name="textAreaBottom" fmla="*/ 599040 h 598680"/>
            </a:gdLst>
            <a:ahLst/>
            <a:rect l="textAreaLeft" t="textAreaTop" r="textAreaRight" b="textAreaBottom"/>
            <a:pathLst>
              <a:path w="342" h="817">
                <a:moveTo>
                  <a:pt x="122" y="0"/>
                </a:moveTo>
                <a:lnTo>
                  <a:pt x="112" y="10"/>
                </a:lnTo>
                <a:lnTo>
                  <a:pt x="104" y="25"/>
                </a:lnTo>
                <a:lnTo>
                  <a:pt x="105" y="41"/>
                </a:lnTo>
                <a:lnTo>
                  <a:pt x="105" y="57"/>
                </a:lnTo>
                <a:lnTo>
                  <a:pt x="95" y="72"/>
                </a:lnTo>
                <a:lnTo>
                  <a:pt x="82" y="74"/>
                </a:lnTo>
                <a:lnTo>
                  <a:pt x="72" y="74"/>
                </a:lnTo>
                <a:lnTo>
                  <a:pt x="63" y="80"/>
                </a:lnTo>
                <a:lnTo>
                  <a:pt x="59" y="87"/>
                </a:lnTo>
                <a:lnTo>
                  <a:pt x="46" y="85"/>
                </a:lnTo>
                <a:lnTo>
                  <a:pt x="40" y="82"/>
                </a:lnTo>
                <a:lnTo>
                  <a:pt x="31" y="88"/>
                </a:lnTo>
                <a:lnTo>
                  <a:pt x="19" y="101"/>
                </a:lnTo>
                <a:lnTo>
                  <a:pt x="14" y="109"/>
                </a:lnTo>
                <a:lnTo>
                  <a:pt x="5" y="112"/>
                </a:lnTo>
                <a:lnTo>
                  <a:pt x="2" y="119"/>
                </a:lnTo>
                <a:lnTo>
                  <a:pt x="9" y="126"/>
                </a:lnTo>
                <a:lnTo>
                  <a:pt x="20" y="132"/>
                </a:lnTo>
                <a:lnTo>
                  <a:pt x="31" y="161"/>
                </a:lnTo>
                <a:lnTo>
                  <a:pt x="44" y="181"/>
                </a:lnTo>
                <a:lnTo>
                  <a:pt x="43" y="200"/>
                </a:lnTo>
                <a:lnTo>
                  <a:pt x="38" y="208"/>
                </a:lnTo>
                <a:lnTo>
                  <a:pt x="44" y="221"/>
                </a:lnTo>
                <a:lnTo>
                  <a:pt x="47" y="235"/>
                </a:lnTo>
                <a:lnTo>
                  <a:pt x="45" y="248"/>
                </a:lnTo>
                <a:lnTo>
                  <a:pt x="34" y="265"/>
                </a:lnTo>
                <a:lnTo>
                  <a:pt x="27" y="282"/>
                </a:lnTo>
                <a:lnTo>
                  <a:pt x="25" y="292"/>
                </a:lnTo>
                <a:lnTo>
                  <a:pt x="38" y="303"/>
                </a:lnTo>
                <a:lnTo>
                  <a:pt x="55" y="322"/>
                </a:lnTo>
                <a:lnTo>
                  <a:pt x="55" y="327"/>
                </a:lnTo>
                <a:lnTo>
                  <a:pt x="49" y="344"/>
                </a:lnTo>
                <a:lnTo>
                  <a:pt x="40" y="369"/>
                </a:lnTo>
                <a:lnTo>
                  <a:pt x="19" y="393"/>
                </a:lnTo>
                <a:lnTo>
                  <a:pt x="4" y="412"/>
                </a:lnTo>
                <a:lnTo>
                  <a:pt x="0" y="424"/>
                </a:lnTo>
                <a:lnTo>
                  <a:pt x="14" y="446"/>
                </a:lnTo>
                <a:lnTo>
                  <a:pt x="16" y="471"/>
                </a:lnTo>
                <a:lnTo>
                  <a:pt x="16" y="514"/>
                </a:lnTo>
                <a:lnTo>
                  <a:pt x="8" y="565"/>
                </a:lnTo>
                <a:lnTo>
                  <a:pt x="11" y="591"/>
                </a:lnTo>
                <a:lnTo>
                  <a:pt x="17" y="619"/>
                </a:lnTo>
                <a:lnTo>
                  <a:pt x="24" y="654"/>
                </a:lnTo>
                <a:lnTo>
                  <a:pt x="24" y="677"/>
                </a:lnTo>
                <a:lnTo>
                  <a:pt x="25" y="691"/>
                </a:lnTo>
                <a:lnTo>
                  <a:pt x="23" y="699"/>
                </a:lnTo>
                <a:lnTo>
                  <a:pt x="27" y="712"/>
                </a:lnTo>
                <a:lnTo>
                  <a:pt x="29" y="723"/>
                </a:lnTo>
                <a:lnTo>
                  <a:pt x="27" y="731"/>
                </a:lnTo>
                <a:lnTo>
                  <a:pt x="27" y="742"/>
                </a:lnTo>
                <a:lnTo>
                  <a:pt x="32" y="750"/>
                </a:lnTo>
                <a:lnTo>
                  <a:pt x="28" y="763"/>
                </a:lnTo>
                <a:lnTo>
                  <a:pt x="20" y="783"/>
                </a:lnTo>
                <a:lnTo>
                  <a:pt x="24" y="794"/>
                </a:lnTo>
                <a:lnTo>
                  <a:pt x="28" y="803"/>
                </a:lnTo>
                <a:lnTo>
                  <a:pt x="39" y="817"/>
                </a:lnTo>
                <a:lnTo>
                  <a:pt x="218" y="768"/>
                </a:lnTo>
                <a:lnTo>
                  <a:pt x="229" y="746"/>
                </a:lnTo>
                <a:lnTo>
                  <a:pt x="229" y="739"/>
                </a:lnTo>
                <a:lnTo>
                  <a:pt x="241" y="739"/>
                </a:lnTo>
                <a:lnTo>
                  <a:pt x="252" y="737"/>
                </a:lnTo>
                <a:lnTo>
                  <a:pt x="262" y="727"/>
                </a:lnTo>
                <a:lnTo>
                  <a:pt x="262" y="718"/>
                </a:lnTo>
                <a:lnTo>
                  <a:pt x="264" y="710"/>
                </a:lnTo>
                <a:lnTo>
                  <a:pt x="271" y="700"/>
                </a:lnTo>
                <a:lnTo>
                  <a:pt x="284" y="700"/>
                </a:lnTo>
                <a:lnTo>
                  <a:pt x="289" y="694"/>
                </a:lnTo>
                <a:lnTo>
                  <a:pt x="298" y="688"/>
                </a:lnTo>
                <a:lnTo>
                  <a:pt x="308" y="682"/>
                </a:lnTo>
                <a:lnTo>
                  <a:pt x="342" y="686"/>
                </a:lnTo>
                <a:lnTo>
                  <a:pt x="340" y="664"/>
                </a:lnTo>
                <a:lnTo>
                  <a:pt x="342" y="647"/>
                </a:lnTo>
                <a:lnTo>
                  <a:pt x="326" y="634"/>
                </a:lnTo>
                <a:lnTo>
                  <a:pt x="319" y="624"/>
                </a:lnTo>
                <a:lnTo>
                  <a:pt x="302" y="619"/>
                </a:lnTo>
                <a:lnTo>
                  <a:pt x="292" y="610"/>
                </a:lnTo>
                <a:lnTo>
                  <a:pt x="285" y="598"/>
                </a:lnTo>
                <a:lnTo>
                  <a:pt x="282" y="588"/>
                </a:lnTo>
                <a:lnTo>
                  <a:pt x="280" y="579"/>
                </a:lnTo>
                <a:lnTo>
                  <a:pt x="271" y="572"/>
                </a:lnTo>
                <a:lnTo>
                  <a:pt x="269" y="564"/>
                </a:lnTo>
                <a:lnTo>
                  <a:pt x="260" y="534"/>
                </a:lnTo>
                <a:lnTo>
                  <a:pt x="198" y="295"/>
                </a:lnTo>
                <a:lnTo>
                  <a:pt x="123" y="7"/>
                </a:lnTo>
                <a:lnTo>
                  <a:pt x="122" y="0"/>
                </a:lnTo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Freeform 50"/>
          <p:cNvSpPr/>
          <p:nvPr/>
        </p:nvSpPr>
        <p:spPr>
          <a:xfrm>
            <a:off x="8012160" y="1874880"/>
            <a:ext cx="284040" cy="546120"/>
          </a:xfrm>
          <a:custGeom>
            <a:avLst/>
            <a:gdLst>
              <a:gd name="textAreaLeft" fmla="*/ 0 w 284040"/>
              <a:gd name="textAreaRight" fmla="*/ 284400 w 284040"/>
              <a:gd name="textAreaTop" fmla="*/ 0 h 546120"/>
              <a:gd name="textAreaBottom" fmla="*/ 546120 h 546120"/>
            </a:gdLst>
            <a:ahLst/>
            <a:rect l="textAreaLeft" t="textAreaTop" r="textAreaRight" b="textAreaBottom"/>
            <a:pathLst>
              <a:path w="362" h="743">
                <a:moveTo>
                  <a:pt x="307" y="0"/>
                </a:moveTo>
                <a:lnTo>
                  <a:pt x="166" y="41"/>
                </a:lnTo>
                <a:lnTo>
                  <a:pt x="45" y="69"/>
                </a:lnTo>
                <a:lnTo>
                  <a:pt x="11" y="81"/>
                </a:lnTo>
                <a:lnTo>
                  <a:pt x="19" y="104"/>
                </a:lnTo>
                <a:lnTo>
                  <a:pt x="15" y="105"/>
                </a:lnTo>
                <a:lnTo>
                  <a:pt x="6" y="110"/>
                </a:lnTo>
                <a:lnTo>
                  <a:pt x="0" y="115"/>
                </a:lnTo>
                <a:lnTo>
                  <a:pt x="0" y="128"/>
                </a:lnTo>
                <a:lnTo>
                  <a:pt x="14" y="188"/>
                </a:lnTo>
                <a:lnTo>
                  <a:pt x="17" y="202"/>
                </a:lnTo>
                <a:lnTo>
                  <a:pt x="28" y="192"/>
                </a:lnTo>
                <a:lnTo>
                  <a:pt x="33" y="194"/>
                </a:lnTo>
                <a:lnTo>
                  <a:pt x="33" y="208"/>
                </a:lnTo>
                <a:lnTo>
                  <a:pt x="48" y="239"/>
                </a:lnTo>
                <a:lnTo>
                  <a:pt x="44" y="251"/>
                </a:lnTo>
                <a:lnTo>
                  <a:pt x="34" y="254"/>
                </a:lnTo>
                <a:lnTo>
                  <a:pt x="31" y="263"/>
                </a:lnTo>
                <a:lnTo>
                  <a:pt x="33" y="278"/>
                </a:lnTo>
                <a:lnTo>
                  <a:pt x="41" y="288"/>
                </a:lnTo>
                <a:lnTo>
                  <a:pt x="44" y="303"/>
                </a:lnTo>
                <a:lnTo>
                  <a:pt x="40" y="312"/>
                </a:lnTo>
                <a:lnTo>
                  <a:pt x="34" y="334"/>
                </a:lnTo>
                <a:lnTo>
                  <a:pt x="43" y="393"/>
                </a:lnTo>
                <a:lnTo>
                  <a:pt x="46" y="404"/>
                </a:lnTo>
                <a:lnTo>
                  <a:pt x="51" y="421"/>
                </a:lnTo>
                <a:lnTo>
                  <a:pt x="47" y="455"/>
                </a:lnTo>
                <a:lnTo>
                  <a:pt x="57" y="493"/>
                </a:lnTo>
                <a:lnTo>
                  <a:pt x="63" y="499"/>
                </a:lnTo>
                <a:lnTo>
                  <a:pt x="71" y="512"/>
                </a:lnTo>
                <a:lnTo>
                  <a:pt x="71" y="519"/>
                </a:lnTo>
                <a:lnTo>
                  <a:pt x="59" y="535"/>
                </a:lnTo>
                <a:lnTo>
                  <a:pt x="59" y="541"/>
                </a:lnTo>
                <a:lnTo>
                  <a:pt x="59" y="556"/>
                </a:lnTo>
                <a:lnTo>
                  <a:pt x="71" y="560"/>
                </a:lnTo>
                <a:lnTo>
                  <a:pt x="82" y="545"/>
                </a:lnTo>
                <a:lnTo>
                  <a:pt x="91" y="544"/>
                </a:lnTo>
                <a:lnTo>
                  <a:pt x="100" y="553"/>
                </a:lnTo>
                <a:lnTo>
                  <a:pt x="100" y="556"/>
                </a:lnTo>
                <a:lnTo>
                  <a:pt x="112" y="559"/>
                </a:lnTo>
                <a:lnTo>
                  <a:pt x="119" y="566"/>
                </a:lnTo>
                <a:lnTo>
                  <a:pt x="122" y="566"/>
                </a:lnTo>
                <a:lnTo>
                  <a:pt x="161" y="725"/>
                </a:lnTo>
                <a:lnTo>
                  <a:pt x="163" y="730"/>
                </a:lnTo>
                <a:lnTo>
                  <a:pt x="163" y="743"/>
                </a:lnTo>
                <a:lnTo>
                  <a:pt x="343" y="697"/>
                </a:lnTo>
                <a:lnTo>
                  <a:pt x="330" y="677"/>
                </a:lnTo>
                <a:lnTo>
                  <a:pt x="325" y="666"/>
                </a:lnTo>
                <a:lnTo>
                  <a:pt x="325" y="663"/>
                </a:lnTo>
                <a:lnTo>
                  <a:pt x="333" y="645"/>
                </a:lnTo>
                <a:lnTo>
                  <a:pt x="337" y="633"/>
                </a:lnTo>
                <a:lnTo>
                  <a:pt x="334" y="625"/>
                </a:lnTo>
                <a:lnTo>
                  <a:pt x="332" y="620"/>
                </a:lnTo>
                <a:lnTo>
                  <a:pt x="332" y="612"/>
                </a:lnTo>
                <a:lnTo>
                  <a:pt x="332" y="607"/>
                </a:lnTo>
                <a:lnTo>
                  <a:pt x="334" y="607"/>
                </a:lnTo>
                <a:lnTo>
                  <a:pt x="334" y="598"/>
                </a:lnTo>
                <a:lnTo>
                  <a:pt x="332" y="590"/>
                </a:lnTo>
                <a:lnTo>
                  <a:pt x="326" y="577"/>
                </a:lnTo>
                <a:lnTo>
                  <a:pt x="326" y="576"/>
                </a:lnTo>
                <a:lnTo>
                  <a:pt x="329" y="573"/>
                </a:lnTo>
                <a:lnTo>
                  <a:pt x="328" y="550"/>
                </a:lnTo>
                <a:lnTo>
                  <a:pt x="328" y="535"/>
                </a:lnTo>
                <a:lnTo>
                  <a:pt x="325" y="519"/>
                </a:lnTo>
                <a:lnTo>
                  <a:pt x="321" y="496"/>
                </a:lnTo>
                <a:lnTo>
                  <a:pt x="314" y="473"/>
                </a:lnTo>
                <a:lnTo>
                  <a:pt x="314" y="444"/>
                </a:lnTo>
                <a:lnTo>
                  <a:pt x="316" y="425"/>
                </a:lnTo>
                <a:lnTo>
                  <a:pt x="320" y="398"/>
                </a:lnTo>
                <a:lnTo>
                  <a:pt x="321" y="368"/>
                </a:lnTo>
                <a:lnTo>
                  <a:pt x="320" y="346"/>
                </a:lnTo>
                <a:lnTo>
                  <a:pt x="319" y="329"/>
                </a:lnTo>
                <a:lnTo>
                  <a:pt x="314" y="321"/>
                </a:lnTo>
                <a:lnTo>
                  <a:pt x="307" y="311"/>
                </a:lnTo>
                <a:lnTo>
                  <a:pt x="306" y="307"/>
                </a:lnTo>
                <a:lnTo>
                  <a:pt x="304" y="303"/>
                </a:lnTo>
                <a:lnTo>
                  <a:pt x="319" y="286"/>
                </a:lnTo>
                <a:lnTo>
                  <a:pt x="325" y="271"/>
                </a:lnTo>
                <a:lnTo>
                  <a:pt x="334" y="259"/>
                </a:lnTo>
                <a:lnTo>
                  <a:pt x="345" y="247"/>
                </a:lnTo>
                <a:lnTo>
                  <a:pt x="354" y="225"/>
                </a:lnTo>
                <a:lnTo>
                  <a:pt x="362" y="207"/>
                </a:lnTo>
                <a:lnTo>
                  <a:pt x="362" y="204"/>
                </a:lnTo>
                <a:lnTo>
                  <a:pt x="347" y="186"/>
                </a:lnTo>
                <a:lnTo>
                  <a:pt x="333" y="175"/>
                </a:lnTo>
                <a:lnTo>
                  <a:pt x="330" y="173"/>
                </a:lnTo>
                <a:lnTo>
                  <a:pt x="330" y="168"/>
                </a:lnTo>
                <a:lnTo>
                  <a:pt x="332" y="155"/>
                </a:lnTo>
                <a:lnTo>
                  <a:pt x="343" y="144"/>
                </a:lnTo>
                <a:lnTo>
                  <a:pt x="350" y="129"/>
                </a:lnTo>
                <a:lnTo>
                  <a:pt x="352" y="118"/>
                </a:lnTo>
                <a:lnTo>
                  <a:pt x="352" y="111"/>
                </a:lnTo>
                <a:lnTo>
                  <a:pt x="347" y="95"/>
                </a:lnTo>
                <a:lnTo>
                  <a:pt x="344" y="91"/>
                </a:lnTo>
                <a:lnTo>
                  <a:pt x="339" y="86"/>
                </a:lnTo>
                <a:lnTo>
                  <a:pt x="347" y="82"/>
                </a:lnTo>
                <a:lnTo>
                  <a:pt x="349" y="77"/>
                </a:lnTo>
                <a:lnTo>
                  <a:pt x="349" y="69"/>
                </a:lnTo>
                <a:lnTo>
                  <a:pt x="349" y="60"/>
                </a:lnTo>
                <a:lnTo>
                  <a:pt x="339" y="50"/>
                </a:lnTo>
                <a:lnTo>
                  <a:pt x="332" y="34"/>
                </a:lnTo>
                <a:lnTo>
                  <a:pt x="328" y="23"/>
                </a:lnTo>
                <a:lnTo>
                  <a:pt x="324" y="12"/>
                </a:lnTo>
                <a:lnTo>
                  <a:pt x="320" y="12"/>
                </a:lnTo>
                <a:lnTo>
                  <a:pt x="314" y="6"/>
                </a:lnTo>
                <a:lnTo>
                  <a:pt x="307" y="0"/>
                </a:lnTo>
              </a:path>
            </a:pathLst>
          </a:custGeom>
          <a:solidFill>
            <a:srgbClr val="33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Freeform 51"/>
          <p:cNvSpPr/>
          <p:nvPr/>
        </p:nvSpPr>
        <p:spPr>
          <a:xfrm>
            <a:off x="8140680" y="2287440"/>
            <a:ext cx="588960" cy="235080"/>
          </a:xfrm>
          <a:custGeom>
            <a:avLst/>
            <a:gdLst>
              <a:gd name="textAreaLeft" fmla="*/ 0 w 588960"/>
              <a:gd name="textAreaRight" fmla="*/ 589320 w 58896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749" h="322">
                <a:moveTo>
                  <a:pt x="0" y="181"/>
                </a:moveTo>
                <a:lnTo>
                  <a:pt x="33" y="315"/>
                </a:lnTo>
                <a:lnTo>
                  <a:pt x="48" y="322"/>
                </a:lnTo>
                <a:lnTo>
                  <a:pt x="165" y="292"/>
                </a:lnTo>
                <a:lnTo>
                  <a:pt x="169" y="308"/>
                </a:lnTo>
                <a:lnTo>
                  <a:pt x="182" y="305"/>
                </a:lnTo>
                <a:lnTo>
                  <a:pt x="185" y="297"/>
                </a:lnTo>
                <a:lnTo>
                  <a:pt x="186" y="292"/>
                </a:lnTo>
                <a:lnTo>
                  <a:pt x="196" y="284"/>
                </a:lnTo>
                <a:lnTo>
                  <a:pt x="204" y="278"/>
                </a:lnTo>
                <a:lnTo>
                  <a:pt x="369" y="232"/>
                </a:lnTo>
                <a:lnTo>
                  <a:pt x="375" y="241"/>
                </a:lnTo>
                <a:lnTo>
                  <a:pt x="489" y="207"/>
                </a:lnTo>
                <a:lnTo>
                  <a:pt x="511" y="233"/>
                </a:lnTo>
                <a:lnTo>
                  <a:pt x="520" y="231"/>
                </a:lnTo>
                <a:lnTo>
                  <a:pt x="534" y="254"/>
                </a:lnTo>
                <a:lnTo>
                  <a:pt x="542" y="260"/>
                </a:lnTo>
                <a:lnTo>
                  <a:pt x="551" y="264"/>
                </a:lnTo>
                <a:lnTo>
                  <a:pt x="556" y="264"/>
                </a:lnTo>
                <a:lnTo>
                  <a:pt x="564" y="264"/>
                </a:lnTo>
                <a:lnTo>
                  <a:pt x="569" y="264"/>
                </a:lnTo>
                <a:lnTo>
                  <a:pt x="573" y="259"/>
                </a:lnTo>
                <a:lnTo>
                  <a:pt x="579" y="250"/>
                </a:lnTo>
                <a:lnTo>
                  <a:pt x="584" y="245"/>
                </a:lnTo>
                <a:lnTo>
                  <a:pt x="594" y="245"/>
                </a:lnTo>
                <a:lnTo>
                  <a:pt x="610" y="233"/>
                </a:lnTo>
                <a:lnTo>
                  <a:pt x="618" y="247"/>
                </a:lnTo>
                <a:lnTo>
                  <a:pt x="634" y="256"/>
                </a:lnTo>
                <a:lnTo>
                  <a:pt x="639" y="261"/>
                </a:lnTo>
                <a:lnTo>
                  <a:pt x="637" y="270"/>
                </a:lnTo>
                <a:lnTo>
                  <a:pt x="631" y="280"/>
                </a:lnTo>
                <a:lnTo>
                  <a:pt x="621" y="297"/>
                </a:lnTo>
                <a:lnTo>
                  <a:pt x="613" y="299"/>
                </a:lnTo>
                <a:lnTo>
                  <a:pt x="635" y="285"/>
                </a:lnTo>
                <a:lnTo>
                  <a:pt x="656" y="272"/>
                </a:lnTo>
                <a:lnTo>
                  <a:pt x="677" y="255"/>
                </a:lnTo>
                <a:lnTo>
                  <a:pt x="702" y="233"/>
                </a:lnTo>
                <a:lnTo>
                  <a:pt x="717" y="216"/>
                </a:lnTo>
                <a:lnTo>
                  <a:pt x="730" y="208"/>
                </a:lnTo>
                <a:lnTo>
                  <a:pt x="739" y="201"/>
                </a:lnTo>
                <a:lnTo>
                  <a:pt x="743" y="216"/>
                </a:lnTo>
                <a:lnTo>
                  <a:pt x="743" y="231"/>
                </a:lnTo>
                <a:lnTo>
                  <a:pt x="743" y="236"/>
                </a:lnTo>
                <a:lnTo>
                  <a:pt x="749" y="219"/>
                </a:lnTo>
                <a:lnTo>
                  <a:pt x="743" y="181"/>
                </a:lnTo>
                <a:lnTo>
                  <a:pt x="743" y="141"/>
                </a:lnTo>
                <a:lnTo>
                  <a:pt x="732" y="112"/>
                </a:lnTo>
                <a:lnTo>
                  <a:pt x="716" y="95"/>
                </a:lnTo>
                <a:lnTo>
                  <a:pt x="704" y="77"/>
                </a:lnTo>
                <a:lnTo>
                  <a:pt x="690" y="68"/>
                </a:lnTo>
                <a:lnTo>
                  <a:pt x="675" y="63"/>
                </a:lnTo>
                <a:lnTo>
                  <a:pt x="666" y="63"/>
                </a:lnTo>
                <a:lnTo>
                  <a:pt x="662" y="75"/>
                </a:lnTo>
                <a:lnTo>
                  <a:pt x="662" y="81"/>
                </a:lnTo>
                <a:lnTo>
                  <a:pt x="671" y="87"/>
                </a:lnTo>
                <a:lnTo>
                  <a:pt x="674" y="80"/>
                </a:lnTo>
                <a:lnTo>
                  <a:pt x="680" y="78"/>
                </a:lnTo>
                <a:lnTo>
                  <a:pt x="688" y="80"/>
                </a:lnTo>
                <a:lnTo>
                  <a:pt x="697" y="95"/>
                </a:lnTo>
                <a:lnTo>
                  <a:pt x="703" y="106"/>
                </a:lnTo>
                <a:lnTo>
                  <a:pt x="703" y="127"/>
                </a:lnTo>
                <a:lnTo>
                  <a:pt x="703" y="135"/>
                </a:lnTo>
                <a:lnTo>
                  <a:pt x="709" y="134"/>
                </a:lnTo>
                <a:lnTo>
                  <a:pt x="715" y="131"/>
                </a:lnTo>
                <a:lnTo>
                  <a:pt x="715" y="141"/>
                </a:lnTo>
                <a:lnTo>
                  <a:pt x="716" y="153"/>
                </a:lnTo>
                <a:lnTo>
                  <a:pt x="716" y="161"/>
                </a:lnTo>
                <a:lnTo>
                  <a:pt x="707" y="170"/>
                </a:lnTo>
                <a:lnTo>
                  <a:pt x="684" y="181"/>
                </a:lnTo>
                <a:lnTo>
                  <a:pt x="663" y="181"/>
                </a:lnTo>
                <a:lnTo>
                  <a:pt x="658" y="187"/>
                </a:lnTo>
                <a:lnTo>
                  <a:pt x="650" y="189"/>
                </a:lnTo>
                <a:lnTo>
                  <a:pt x="643" y="184"/>
                </a:lnTo>
                <a:lnTo>
                  <a:pt x="649" y="181"/>
                </a:lnTo>
                <a:lnTo>
                  <a:pt x="654" y="179"/>
                </a:lnTo>
                <a:lnTo>
                  <a:pt x="641" y="179"/>
                </a:lnTo>
                <a:lnTo>
                  <a:pt x="619" y="172"/>
                </a:lnTo>
                <a:lnTo>
                  <a:pt x="597" y="157"/>
                </a:lnTo>
                <a:lnTo>
                  <a:pt x="581" y="135"/>
                </a:lnTo>
                <a:lnTo>
                  <a:pt x="571" y="121"/>
                </a:lnTo>
                <a:lnTo>
                  <a:pt x="568" y="106"/>
                </a:lnTo>
                <a:lnTo>
                  <a:pt x="559" y="95"/>
                </a:lnTo>
                <a:lnTo>
                  <a:pt x="548" y="83"/>
                </a:lnTo>
                <a:lnTo>
                  <a:pt x="534" y="78"/>
                </a:lnTo>
                <a:lnTo>
                  <a:pt x="528" y="78"/>
                </a:lnTo>
                <a:lnTo>
                  <a:pt x="525" y="78"/>
                </a:lnTo>
                <a:lnTo>
                  <a:pt x="519" y="75"/>
                </a:lnTo>
                <a:lnTo>
                  <a:pt x="512" y="72"/>
                </a:lnTo>
                <a:lnTo>
                  <a:pt x="513" y="66"/>
                </a:lnTo>
                <a:lnTo>
                  <a:pt x="517" y="63"/>
                </a:lnTo>
                <a:lnTo>
                  <a:pt x="511" y="60"/>
                </a:lnTo>
                <a:lnTo>
                  <a:pt x="502" y="55"/>
                </a:lnTo>
                <a:lnTo>
                  <a:pt x="511" y="48"/>
                </a:lnTo>
                <a:lnTo>
                  <a:pt x="513" y="42"/>
                </a:lnTo>
                <a:lnTo>
                  <a:pt x="507" y="40"/>
                </a:lnTo>
                <a:lnTo>
                  <a:pt x="497" y="30"/>
                </a:lnTo>
                <a:lnTo>
                  <a:pt x="489" y="25"/>
                </a:lnTo>
                <a:lnTo>
                  <a:pt x="484" y="14"/>
                </a:lnTo>
                <a:lnTo>
                  <a:pt x="484" y="4"/>
                </a:lnTo>
                <a:lnTo>
                  <a:pt x="451" y="0"/>
                </a:lnTo>
                <a:lnTo>
                  <a:pt x="446" y="3"/>
                </a:lnTo>
                <a:lnTo>
                  <a:pt x="438" y="9"/>
                </a:lnTo>
                <a:lnTo>
                  <a:pt x="427" y="14"/>
                </a:lnTo>
                <a:lnTo>
                  <a:pt x="424" y="17"/>
                </a:lnTo>
                <a:lnTo>
                  <a:pt x="417" y="18"/>
                </a:lnTo>
                <a:lnTo>
                  <a:pt x="412" y="18"/>
                </a:lnTo>
                <a:lnTo>
                  <a:pt x="408" y="26"/>
                </a:lnTo>
                <a:lnTo>
                  <a:pt x="404" y="30"/>
                </a:lnTo>
                <a:lnTo>
                  <a:pt x="404" y="36"/>
                </a:lnTo>
                <a:lnTo>
                  <a:pt x="404" y="44"/>
                </a:lnTo>
                <a:lnTo>
                  <a:pt x="399" y="48"/>
                </a:lnTo>
                <a:lnTo>
                  <a:pt x="394" y="55"/>
                </a:lnTo>
                <a:lnTo>
                  <a:pt x="387" y="55"/>
                </a:lnTo>
                <a:lnTo>
                  <a:pt x="370" y="57"/>
                </a:lnTo>
                <a:lnTo>
                  <a:pt x="370" y="65"/>
                </a:lnTo>
                <a:lnTo>
                  <a:pt x="364" y="81"/>
                </a:lnTo>
                <a:lnTo>
                  <a:pt x="358" y="86"/>
                </a:lnTo>
                <a:lnTo>
                  <a:pt x="0" y="181"/>
                </a:lnTo>
              </a:path>
            </a:pathLst>
          </a:custGeom>
          <a:solidFill>
            <a:srgbClr val="00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Freeform 52"/>
          <p:cNvSpPr/>
          <p:nvPr/>
        </p:nvSpPr>
        <p:spPr>
          <a:xfrm>
            <a:off x="8432640" y="2438280"/>
            <a:ext cx="155880" cy="136800"/>
          </a:xfrm>
          <a:custGeom>
            <a:avLst/>
            <a:gdLst>
              <a:gd name="textAreaLeft" fmla="*/ 0 w 155880"/>
              <a:gd name="textAreaRight" fmla="*/ 156240 w 155880"/>
              <a:gd name="textAreaTop" fmla="*/ 0 h 136800"/>
              <a:gd name="textAreaBottom" fmla="*/ 136800 h 136800"/>
            </a:gdLst>
            <a:ahLst/>
            <a:rect l="textAreaLeft" t="textAreaTop" r="textAreaRight" b="textAreaBottom"/>
            <a:pathLst>
              <a:path w="196" h="185">
                <a:moveTo>
                  <a:pt x="27" y="185"/>
                </a:moveTo>
                <a:lnTo>
                  <a:pt x="27" y="176"/>
                </a:lnTo>
                <a:lnTo>
                  <a:pt x="27" y="170"/>
                </a:lnTo>
                <a:lnTo>
                  <a:pt x="19" y="164"/>
                </a:lnTo>
                <a:lnTo>
                  <a:pt x="18" y="161"/>
                </a:lnTo>
                <a:lnTo>
                  <a:pt x="18" y="155"/>
                </a:lnTo>
                <a:lnTo>
                  <a:pt x="22" y="147"/>
                </a:lnTo>
                <a:lnTo>
                  <a:pt x="27" y="147"/>
                </a:lnTo>
                <a:lnTo>
                  <a:pt x="27" y="141"/>
                </a:lnTo>
                <a:lnTo>
                  <a:pt x="10" y="70"/>
                </a:lnTo>
                <a:lnTo>
                  <a:pt x="0" y="34"/>
                </a:lnTo>
                <a:lnTo>
                  <a:pt x="63" y="16"/>
                </a:lnTo>
                <a:lnTo>
                  <a:pt x="114" y="0"/>
                </a:lnTo>
                <a:lnTo>
                  <a:pt x="136" y="30"/>
                </a:lnTo>
                <a:lnTo>
                  <a:pt x="145" y="25"/>
                </a:lnTo>
                <a:lnTo>
                  <a:pt x="156" y="42"/>
                </a:lnTo>
                <a:lnTo>
                  <a:pt x="162" y="49"/>
                </a:lnTo>
                <a:lnTo>
                  <a:pt x="173" y="60"/>
                </a:lnTo>
                <a:lnTo>
                  <a:pt x="183" y="61"/>
                </a:lnTo>
                <a:lnTo>
                  <a:pt x="196" y="60"/>
                </a:lnTo>
                <a:lnTo>
                  <a:pt x="177" y="80"/>
                </a:lnTo>
                <a:lnTo>
                  <a:pt x="174" y="84"/>
                </a:lnTo>
                <a:lnTo>
                  <a:pt x="166" y="84"/>
                </a:lnTo>
                <a:lnTo>
                  <a:pt x="161" y="87"/>
                </a:lnTo>
                <a:lnTo>
                  <a:pt x="162" y="95"/>
                </a:lnTo>
                <a:lnTo>
                  <a:pt x="163" y="100"/>
                </a:lnTo>
                <a:lnTo>
                  <a:pt x="167" y="108"/>
                </a:lnTo>
                <a:lnTo>
                  <a:pt x="161" y="109"/>
                </a:lnTo>
                <a:lnTo>
                  <a:pt x="153" y="111"/>
                </a:lnTo>
                <a:lnTo>
                  <a:pt x="116" y="136"/>
                </a:lnTo>
                <a:lnTo>
                  <a:pt x="80" y="160"/>
                </a:lnTo>
                <a:lnTo>
                  <a:pt x="64" y="164"/>
                </a:lnTo>
                <a:lnTo>
                  <a:pt x="53" y="174"/>
                </a:lnTo>
                <a:lnTo>
                  <a:pt x="42" y="182"/>
                </a:lnTo>
                <a:lnTo>
                  <a:pt x="30" y="183"/>
                </a:lnTo>
                <a:lnTo>
                  <a:pt x="27" y="185"/>
                </a:lnTo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Freeform 53"/>
          <p:cNvSpPr/>
          <p:nvPr/>
        </p:nvSpPr>
        <p:spPr>
          <a:xfrm>
            <a:off x="8164440" y="2455920"/>
            <a:ext cx="290520" cy="241200"/>
          </a:xfrm>
          <a:custGeom>
            <a:avLst/>
            <a:gdLst>
              <a:gd name="textAreaLeft" fmla="*/ 0 w 290520"/>
              <a:gd name="textAreaRight" fmla="*/ 290880 w 29052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369" h="328">
                <a:moveTo>
                  <a:pt x="38" y="328"/>
                </a:moveTo>
                <a:lnTo>
                  <a:pt x="20" y="306"/>
                </a:lnTo>
                <a:lnTo>
                  <a:pt x="60" y="278"/>
                </a:lnTo>
                <a:lnTo>
                  <a:pt x="40" y="261"/>
                </a:lnTo>
                <a:lnTo>
                  <a:pt x="0" y="84"/>
                </a:lnTo>
                <a:lnTo>
                  <a:pt x="14" y="92"/>
                </a:lnTo>
                <a:lnTo>
                  <a:pt x="132" y="61"/>
                </a:lnTo>
                <a:lnTo>
                  <a:pt x="136" y="77"/>
                </a:lnTo>
                <a:lnTo>
                  <a:pt x="151" y="76"/>
                </a:lnTo>
                <a:lnTo>
                  <a:pt x="152" y="66"/>
                </a:lnTo>
                <a:lnTo>
                  <a:pt x="155" y="59"/>
                </a:lnTo>
                <a:lnTo>
                  <a:pt x="164" y="52"/>
                </a:lnTo>
                <a:lnTo>
                  <a:pt x="183" y="43"/>
                </a:lnTo>
                <a:lnTo>
                  <a:pt x="337" y="0"/>
                </a:lnTo>
                <a:lnTo>
                  <a:pt x="369" y="112"/>
                </a:lnTo>
                <a:lnTo>
                  <a:pt x="367" y="120"/>
                </a:lnTo>
                <a:lnTo>
                  <a:pt x="367" y="121"/>
                </a:lnTo>
                <a:lnTo>
                  <a:pt x="361" y="123"/>
                </a:lnTo>
                <a:lnTo>
                  <a:pt x="359" y="135"/>
                </a:lnTo>
                <a:lnTo>
                  <a:pt x="359" y="137"/>
                </a:lnTo>
                <a:lnTo>
                  <a:pt x="361" y="140"/>
                </a:lnTo>
                <a:lnTo>
                  <a:pt x="367" y="144"/>
                </a:lnTo>
                <a:lnTo>
                  <a:pt x="369" y="150"/>
                </a:lnTo>
                <a:lnTo>
                  <a:pt x="367" y="161"/>
                </a:lnTo>
                <a:lnTo>
                  <a:pt x="356" y="167"/>
                </a:lnTo>
                <a:lnTo>
                  <a:pt x="352" y="162"/>
                </a:lnTo>
                <a:lnTo>
                  <a:pt x="349" y="159"/>
                </a:lnTo>
                <a:lnTo>
                  <a:pt x="341" y="165"/>
                </a:lnTo>
                <a:lnTo>
                  <a:pt x="336" y="173"/>
                </a:lnTo>
                <a:lnTo>
                  <a:pt x="330" y="180"/>
                </a:lnTo>
                <a:lnTo>
                  <a:pt x="323" y="180"/>
                </a:lnTo>
                <a:lnTo>
                  <a:pt x="313" y="180"/>
                </a:lnTo>
                <a:lnTo>
                  <a:pt x="307" y="183"/>
                </a:lnTo>
                <a:lnTo>
                  <a:pt x="296" y="182"/>
                </a:lnTo>
                <a:lnTo>
                  <a:pt x="285" y="190"/>
                </a:lnTo>
                <a:lnTo>
                  <a:pt x="275" y="200"/>
                </a:lnTo>
                <a:lnTo>
                  <a:pt x="269" y="204"/>
                </a:lnTo>
                <a:lnTo>
                  <a:pt x="254" y="210"/>
                </a:lnTo>
                <a:lnTo>
                  <a:pt x="246" y="221"/>
                </a:lnTo>
                <a:lnTo>
                  <a:pt x="236" y="225"/>
                </a:lnTo>
                <a:lnTo>
                  <a:pt x="232" y="227"/>
                </a:lnTo>
                <a:lnTo>
                  <a:pt x="221" y="227"/>
                </a:lnTo>
                <a:lnTo>
                  <a:pt x="204" y="227"/>
                </a:lnTo>
                <a:lnTo>
                  <a:pt x="196" y="233"/>
                </a:lnTo>
                <a:lnTo>
                  <a:pt x="187" y="241"/>
                </a:lnTo>
                <a:lnTo>
                  <a:pt x="172" y="243"/>
                </a:lnTo>
                <a:lnTo>
                  <a:pt x="156" y="252"/>
                </a:lnTo>
                <a:lnTo>
                  <a:pt x="143" y="263"/>
                </a:lnTo>
                <a:lnTo>
                  <a:pt x="129" y="272"/>
                </a:lnTo>
                <a:lnTo>
                  <a:pt x="124" y="278"/>
                </a:lnTo>
                <a:lnTo>
                  <a:pt x="117" y="280"/>
                </a:lnTo>
                <a:lnTo>
                  <a:pt x="111" y="275"/>
                </a:lnTo>
                <a:lnTo>
                  <a:pt x="101" y="284"/>
                </a:lnTo>
                <a:lnTo>
                  <a:pt x="99" y="290"/>
                </a:lnTo>
                <a:lnTo>
                  <a:pt x="94" y="290"/>
                </a:lnTo>
                <a:lnTo>
                  <a:pt x="87" y="290"/>
                </a:lnTo>
                <a:lnTo>
                  <a:pt x="78" y="297"/>
                </a:lnTo>
                <a:lnTo>
                  <a:pt x="70" y="302"/>
                </a:lnTo>
                <a:lnTo>
                  <a:pt x="63" y="311"/>
                </a:lnTo>
                <a:lnTo>
                  <a:pt x="56" y="318"/>
                </a:lnTo>
                <a:lnTo>
                  <a:pt x="47" y="322"/>
                </a:lnTo>
                <a:lnTo>
                  <a:pt x="41" y="327"/>
                </a:lnTo>
                <a:lnTo>
                  <a:pt x="38" y="328"/>
                </a:lnTo>
              </a:path>
            </a:pathLst>
          </a:custGeom>
          <a:solidFill>
            <a:srgbClr val="00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Freeform 54"/>
          <p:cNvSpPr/>
          <p:nvPr/>
        </p:nvSpPr>
        <p:spPr>
          <a:xfrm>
            <a:off x="7256520" y="1933560"/>
            <a:ext cx="957240" cy="841320"/>
          </a:xfrm>
          <a:custGeom>
            <a:avLst/>
            <a:gdLst>
              <a:gd name="textAreaLeft" fmla="*/ 0 w 957240"/>
              <a:gd name="textAreaRight" fmla="*/ 957600 w 957240"/>
              <a:gd name="textAreaTop" fmla="*/ 0 h 841320"/>
              <a:gd name="textAreaBottom" fmla="*/ 841680 h 841320"/>
            </a:gdLst>
            <a:ahLst/>
            <a:rect l="textAreaLeft" t="textAreaTop" r="textAreaRight" b="textAreaBottom"/>
            <a:pathLst>
              <a:path w="1219" h="1147">
                <a:moveTo>
                  <a:pt x="0" y="992"/>
                </a:moveTo>
                <a:lnTo>
                  <a:pt x="32" y="959"/>
                </a:lnTo>
                <a:lnTo>
                  <a:pt x="91" y="901"/>
                </a:lnTo>
                <a:lnTo>
                  <a:pt x="129" y="863"/>
                </a:lnTo>
                <a:lnTo>
                  <a:pt x="143" y="847"/>
                </a:lnTo>
                <a:lnTo>
                  <a:pt x="145" y="805"/>
                </a:lnTo>
                <a:lnTo>
                  <a:pt x="136" y="727"/>
                </a:lnTo>
                <a:lnTo>
                  <a:pt x="122" y="692"/>
                </a:lnTo>
                <a:lnTo>
                  <a:pt x="113" y="666"/>
                </a:lnTo>
                <a:lnTo>
                  <a:pt x="113" y="650"/>
                </a:lnTo>
                <a:lnTo>
                  <a:pt x="142" y="629"/>
                </a:lnTo>
                <a:lnTo>
                  <a:pt x="204" y="602"/>
                </a:lnTo>
                <a:lnTo>
                  <a:pt x="275" y="588"/>
                </a:lnTo>
                <a:lnTo>
                  <a:pt x="349" y="583"/>
                </a:lnTo>
                <a:lnTo>
                  <a:pt x="369" y="586"/>
                </a:lnTo>
                <a:lnTo>
                  <a:pt x="381" y="600"/>
                </a:lnTo>
                <a:lnTo>
                  <a:pt x="400" y="600"/>
                </a:lnTo>
                <a:lnTo>
                  <a:pt x="464" y="577"/>
                </a:lnTo>
                <a:lnTo>
                  <a:pt x="498" y="565"/>
                </a:lnTo>
                <a:lnTo>
                  <a:pt x="514" y="577"/>
                </a:lnTo>
                <a:lnTo>
                  <a:pt x="527" y="570"/>
                </a:lnTo>
                <a:lnTo>
                  <a:pt x="526" y="561"/>
                </a:lnTo>
                <a:lnTo>
                  <a:pt x="545" y="532"/>
                </a:lnTo>
                <a:lnTo>
                  <a:pt x="556" y="507"/>
                </a:lnTo>
                <a:lnTo>
                  <a:pt x="568" y="504"/>
                </a:lnTo>
                <a:lnTo>
                  <a:pt x="585" y="510"/>
                </a:lnTo>
                <a:lnTo>
                  <a:pt x="598" y="502"/>
                </a:lnTo>
                <a:lnTo>
                  <a:pt x="610" y="479"/>
                </a:lnTo>
                <a:lnTo>
                  <a:pt x="605" y="398"/>
                </a:lnTo>
                <a:lnTo>
                  <a:pt x="592" y="374"/>
                </a:lnTo>
                <a:lnTo>
                  <a:pt x="585" y="367"/>
                </a:lnTo>
                <a:lnTo>
                  <a:pt x="569" y="357"/>
                </a:lnTo>
                <a:lnTo>
                  <a:pt x="593" y="341"/>
                </a:lnTo>
                <a:lnTo>
                  <a:pt x="607" y="341"/>
                </a:lnTo>
                <a:lnTo>
                  <a:pt x="607" y="324"/>
                </a:lnTo>
                <a:lnTo>
                  <a:pt x="593" y="318"/>
                </a:lnTo>
                <a:lnTo>
                  <a:pt x="591" y="312"/>
                </a:lnTo>
                <a:lnTo>
                  <a:pt x="586" y="307"/>
                </a:lnTo>
                <a:lnTo>
                  <a:pt x="574" y="311"/>
                </a:lnTo>
                <a:lnTo>
                  <a:pt x="569" y="311"/>
                </a:lnTo>
                <a:lnTo>
                  <a:pt x="565" y="289"/>
                </a:lnTo>
                <a:lnTo>
                  <a:pt x="591" y="254"/>
                </a:lnTo>
                <a:lnTo>
                  <a:pt x="600" y="226"/>
                </a:lnTo>
                <a:lnTo>
                  <a:pt x="622" y="198"/>
                </a:lnTo>
                <a:lnTo>
                  <a:pt x="639" y="175"/>
                </a:lnTo>
                <a:lnTo>
                  <a:pt x="650" y="145"/>
                </a:lnTo>
                <a:lnTo>
                  <a:pt x="677" y="113"/>
                </a:lnTo>
                <a:lnTo>
                  <a:pt x="722" y="77"/>
                </a:lnTo>
                <a:lnTo>
                  <a:pt x="772" y="60"/>
                </a:lnTo>
                <a:lnTo>
                  <a:pt x="837" y="40"/>
                </a:lnTo>
                <a:lnTo>
                  <a:pt x="876" y="34"/>
                </a:lnTo>
                <a:lnTo>
                  <a:pt x="900" y="23"/>
                </a:lnTo>
                <a:lnTo>
                  <a:pt x="929" y="8"/>
                </a:lnTo>
                <a:lnTo>
                  <a:pt x="974" y="0"/>
                </a:lnTo>
                <a:lnTo>
                  <a:pt x="982" y="25"/>
                </a:lnTo>
                <a:lnTo>
                  <a:pt x="977" y="30"/>
                </a:lnTo>
                <a:lnTo>
                  <a:pt x="969" y="30"/>
                </a:lnTo>
                <a:lnTo>
                  <a:pt x="966" y="39"/>
                </a:lnTo>
                <a:lnTo>
                  <a:pt x="966" y="59"/>
                </a:lnTo>
                <a:lnTo>
                  <a:pt x="970" y="91"/>
                </a:lnTo>
                <a:lnTo>
                  <a:pt x="978" y="116"/>
                </a:lnTo>
                <a:lnTo>
                  <a:pt x="978" y="122"/>
                </a:lnTo>
                <a:lnTo>
                  <a:pt x="985" y="121"/>
                </a:lnTo>
                <a:lnTo>
                  <a:pt x="989" y="114"/>
                </a:lnTo>
                <a:lnTo>
                  <a:pt x="993" y="110"/>
                </a:lnTo>
                <a:lnTo>
                  <a:pt x="995" y="114"/>
                </a:lnTo>
                <a:lnTo>
                  <a:pt x="995" y="124"/>
                </a:lnTo>
                <a:lnTo>
                  <a:pt x="1003" y="148"/>
                </a:lnTo>
                <a:lnTo>
                  <a:pt x="1010" y="156"/>
                </a:lnTo>
                <a:lnTo>
                  <a:pt x="1010" y="165"/>
                </a:lnTo>
                <a:lnTo>
                  <a:pt x="1008" y="173"/>
                </a:lnTo>
                <a:lnTo>
                  <a:pt x="996" y="178"/>
                </a:lnTo>
                <a:lnTo>
                  <a:pt x="994" y="178"/>
                </a:lnTo>
                <a:lnTo>
                  <a:pt x="994" y="185"/>
                </a:lnTo>
                <a:lnTo>
                  <a:pt x="996" y="201"/>
                </a:lnTo>
                <a:lnTo>
                  <a:pt x="1004" y="213"/>
                </a:lnTo>
                <a:lnTo>
                  <a:pt x="1008" y="220"/>
                </a:lnTo>
                <a:lnTo>
                  <a:pt x="1006" y="232"/>
                </a:lnTo>
                <a:lnTo>
                  <a:pt x="1002" y="244"/>
                </a:lnTo>
                <a:lnTo>
                  <a:pt x="997" y="252"/>
                </a:lnTo>
                <a:lnTo>
                  <a:pt x="1006" y="306"/>
                </a:lnTo>
                <a:lnTo>
                  <a:pt x="1015" y="337"/>
                </a:lnTo>
                <a:lnTo>
                  <a:pt x="1015" y="357"/>
                </a:lnTo>
                <a:lnTo>
                  <a:pt x="1016" y="365"/>
                </a:lnTo>
                <a:lnTo>
                  <a:pt x="1007" y="372"/>
                </a:lnTo>
                <a:lnTo>
                  <a:pt x="1019" y="398"/>
                </a:lnTo>
                <a:lnTo>
                  <a:pt x="1029" y="423"/>
                </a:lnTo>
                <a:lnTo>
                  <a:pt x="1035" y="434"/>
                </a:lnTo>
                <a:lnTo>
                  <a:pt x="1035" y="438"/>
                </a:lnTo>
                <a:lnTo>
                  <a:pt x="1026" y="447"/>
                </a:lnTo>
                <a:lnTo>
                  <a:pt x="1023" y="455"/>
                </a:lnTo>
                <a:lnTo>
                  <a:pt x="1023" y="463"/>
                </a:lnTo>
                <a:lnTo>
                  <a:pt x="1023" y="470"/>
                </a:lnTo>
                <a:lnTo>
                  <a:pt x="1026" y="479"/>
                </a:lnTo>
                <a:lnTo>
                  <a:pt x="1035" y="480"/>
                </a:lnTo>
                <a:lnTo>
                  <a:pt x="1040" y="480"/>
                </a:lnTo>
                <a:lnTo>
                  <a:pt x="1042" y="476"/>
                </a:lnTo>
                <a:lnTo>
                  <a:pt x="1046" y="466"/>
                </a:lnTo>
                <a:lnTo>
                  <a:pt x="1048" y="466"/>
                </a:lnTo>
                <a:lnTo>
                  <a:pt x="1057" y="469"/>
                </a:lnTo>
                <a:lnTo>
                  <a:pt x="1071" y="477"/>
                </a:lnTo>
                <a:lnTo>
                  <a:pt x="1080" y="487"/>
                </a:lnTo>
                <a:lnTo>
                  <a:pt x="1084" y="487"/>
                </a:lnTo>
                <a:lnTo>
                  <a:pt x="1126" y="658"/>
                </a:lnTo>
                <a:lnTo>
                  <a:pt x="1200" y="974"/>
                </a:lnTo>
                <a:lnTo>
                  <a:pt x="1219" y="991"/>
                </a:lnTo>
                <a:lnTo>
                  <a:pt x="1178" y="1019"/>
                </a:lnTo>
                <a:lnTo>
                  <a:pt x="1197" y="1038"/>
                </a:lnTo>
                <a:lnTo>
                  <a:pt x="1190" y="1060"/>
                </a:lnTo>
                <a:lnTo>
                  <a:pt x="1190" y="1079"/>
                </a:lnTo>
                <a:lnTo>
                  <a:pt x="1199" y="1097"/>
                </a:lnTo>
                <a:lnTo>
                  <a:pt x="1196" y="1100"/>
                </a:lnTo>
                <a:lnTo>
                  <a:pt x="1189" y="1115"/>
                </a:lnTo>
                <a:lnTo>
                  <a:pt x="1189" y="1124"/>
                </a:lnTo>
                <a:lnTo>
                  <a:pt x="1189" y="1147"/>
                </a:lnTo>
                <a:lnTo>
                  <a:pt x="1169" y="1138"/>
                </a:lnTo>
                <a:lnTo>
                  <a:pt x="1166" y="1126"/>
                </a:lnTo>
                <a:lnTo>
                  <a:pt x="1154" y="1124"/>
                </a:lnTo>
                <a:lnTo>
                  <a:pt x="1147" y="1124"/>
                </a:lnTo>
                <a:lnTo>
                  <a:pt x="994" y="1090"/>
                </a:lnTo>
                <a:lnTo>
                  <a:pt x="982" y="1072"/>
                </a:lnTo>
                <a:lnTo>
                  <a:pt x="951" y="1063"/>
                </a:lnTo>
                <a:lnTo>
                  <a:pt x="931" y="1048"/>
                </a:lnTo>
                <a:lnTo>
                  <a:pt x="929" y="1027"/>
                </a:lnTo>
                <a:lnTo>
                  <a:pt x="925" y="1014"/>
                </a:lnTo>
                <a:lnTo>
                  <a:pt x="908" y="1003"/>
                </a:lnTo>
                <a:lnTo>
                  <a:pt x="898" y="986"/>
                </a:lnTo>
                <a:lnTo>
                  <a:pt x="896" y="963"/>
                </a:lnTo>
                <a:lnTo>
                  <a:pt x="872" y="941"/>
                </a:lnTo>
                <a:lnTo>
                  <a:pt x="855" y="928"/>
                </a:lnTo>
                <a:lnTo>
                  <a:pt x="838" y="917"/>
                </a:lnTo>
                <a:lnTo>
                  <a:pt x="828" y="910"/>
                </a:lnTo>
                <a:lnTo>
                  <a:pt x="16" y="1042"/>
                </a:lnTo>
                <a:lnTo>
                  <a:pt x="0" y="992"/>
                </a:lnTo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Freeform 55"/>
          <p:cNvSpPr/>
          <p:nvPr/>
        </p:nvSpPr>
        <p:spPr>
          <a:xfrm>
            <a:off x="8201160" y="2610000"/>
            <a:ext cx="291960" cy="160200"/>
          </a:xfrm>
          <a:custGeom>
            <a:avLst/>
            <a:gdLst>
              <a:gd name="textAreaLeft" fmla="*/ 0 w 291960"/>
              <a:gd name="textAreaRight" fmla="*/ 292320 w 29196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371" h="218">
                <a:moveTo>
                  <a:pt x="0" y="194"/>
                </a:moveTo>
                <a:lnTo>
                  <a:pt x="3" y="178"/>
                </a:lnTo>
                <a:lnTo>
                  <a:pt x="15" y="167"/>
                </a:lnTo>
                <a:lnTo>
                  <a:pt x="26" y="162"/>
                </a:lnTo>
                <a:lnTo>
                  <a:pt x="42" y="152"/>
                </a:lnTo>
                <a:lnTo>
                  <a:pt x="57" y="140"/>
                </a:lnTo>
                <a:lnTo>
                  <a:pt x="71" y="126"/>
                </a:lnTo>
                <a:lnTo>
                  <a:pt x="83" y="110"/>
                </a:lnTo>
                <a:lnTo>
                  <a:pt x="92" y="101"/>
                </a:lnTo>
                <a:lnTo>
                  <a:pt x="116" y="101"/>
                </a:lnTo>
                <a:lnTo>
                  <a:pt x="133" y="85"/>
                </a:lnTo>
                <a:lnTo>
                  <a:pt x="158" y="72"/>
                </a:lnTo>
                <a:lnTo>
                  <a:pt x="193" y="74"/>
                </a:lnTo>
                <a:lnTo>
                  <a:pt x="214" y="68"/>
                </a:lnTo>
                <a:lnTo>
                  <a:pt x="238" y="54"/>
                </a:lnTo>
                <a:lnTo>
                  <a:pt x="277" y="25"/>
                </a:lnTo>
                <a:lnTo>
                  <a:pt x="310" y="0"/>
                </a:lnTo>
                <a:lnTo>
                  <a:pt x="320" y="2"/>
                </a:lnTo>
                <a:lnTo>
                  <a:pt x="291" y="43"/>
                </a:lnTo>
                <a:lnTo>
                  <a:pt x="256" y="62"/>
                </a:lnTo>
                <a:lnTo>
                  <a:pt x="264" y="71"/>
                </a:lnTo>
                <a:lnTo>
                  <a:pt x="303" y="53"/>
                </a:lnTo>
                <a:lnTo>
                  <a:pt x="332" y="28"/>
                </a:lnTo>
                <a:lnTo>
                  <a:pt x="371" y="19"/>
                </a:lnTo>
                <a:lnTo>
                  <a:pt x="334" y="49"/>
                </a:lnTo>
                <a:lnTo>
                  <a:pt x="289" y="86"/>
                </a:lnTo>
                <a:lnTo>
                  <a:pt x="227" y="127"/>
                </a:lnTo>
                <a:lnTo>
                  <a:pt x="204" y="146"/>
                </a:lnTo>
                <a:lnTo>
                  <a:pt x="138" y="178"/>
                </a:lnTo>
                <a:lnTo>
                  <a:pt x="103" y="201"/>
                </a:lnTo>
                <a:lnTo>
                  <a:pt x="97" y="206"/>
                </a:lnTo>
                <a:lnTo>
                  <a:pt x="87" y="206"/>
                </a:lnTo>
                <a:lnTo>
                  <a:pt x="94" y="195"/>
                </a:lnTo>
                <a:lnTo>
                  <a:pt x="103" y="180"/>
                </a:lnTo>
                <a:lnTo>
                  <a:pt x="83" y="180"/>
                </a:lnTo>
                <a:lnTo>
                  <a:pt x="69" y="195"/>
                </a:lnTo>
                <a:lnTo>
                  <a:pt x="65" y="201"/>
                </a:lnTo>
                <a:lnTo>
                  <a:pt x="53" y="213"/>
                </a:lnTo>
                <a:lnTo>
                  <a:pt x="42" y="218"/>
                </a:lnTo>
                <a:lnTo>
                  <a:pt x="15" y="216"/>
                </a:lnTo>
                <a:lnTo>
                  <a:pt x="9" y="202"/>
                </a:lnTo>
                <a:lnTo>
                  <a:pt x="3" y="202"/>
                </a:lnTo>
                <a:lnTo>
                  <a:pt x="0" y="194"/>
                </a:lnTo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Freeform 56"/>
          <p:cNvSpPr/>
          <p:nvPr/>
        </p:nvSpPr>
        <p:spPr>
          <a:xfrm>
            <a:off x="7161120" y="2600280"/>
            <a:ext cx="927360" cy="558720"/>
          </a:xfrm>
          <a:custGeom>
            <a:avLst/>
            <a:gdLst>
              <a:gd name="textAreaLeft" fmla="*/ 0 w 927360"/>
              <a:gd name="textAreaRight" fmla="*/ 927720 w 927360"/>
              <a:gd name="textAreaTop" fmla="*/ 0 h 558720"/>
              <a:gd name="textAreaBottom" fmla="*/ 559080 h 558720"/>
            </a:gdLst>
            <a:ahLst/>
            <a:rect l="textAreaLeft" t="textAreaTop" r="textAreaRight" b="textAreaBottom"/>
            <a:pathLst>
              <a:path w="1181" h="761">
                <a:moveTo>
                  <a:pt x="0" y="138"/>
                </a:moveTo>
                <a:lnTo>
                  <a:pt x="23" y="134"/>
                </a:lnTo>
                <a:lnTo>
                  <a:pt x="46" y="124"/>
                </a:lnTo>
                <a:lnTo>
                  <a:pt x="79" y="110"/>
                </a:lnTo>
                <a:lnTo>
                  <a:pt x="98" y="105"/>
                </a:lnTo>
                <a:lnTo>
                  <a:pt x="115" y="90"/>
                </a:lnTo>
                <a:lnTo>
                  <a:pt x="123" y="81"/>
                </a:lnTo>
                <a:lnTo>
                  <a:pt x="139" y="131"/>
                </a:lnTo>
                <a:lnTo>
                  <a:pt x="949" y="0"/>
                </a:lnTo>
                <a:lnTo>
                  <a:pt x="966" y="7"/>
                </a:lnTo>
                <a:lnTo>
                  <a:pt x="994" y="30"/>
                </a:lnTo>
                <a:lnTo>
                  <a:pt x="1011" y="47"/>
                </a:lnTo>
                <a:lnTo>
                  <a:pt x="1014" y="55"/>
                </a:lnTo>
                <a:lnTo>
                  <a:pt x="1019" y="70"/>
                </a:lnTo>
                <a:lnTo>
                  <a:pt x="1025" y="83"/>
                </a:lnTo>
                <a:lnTo>
                  <a:pt x="1031" y="93"/>
                </a:lnTo>
                <a:lnTo>
                  <a:pt x="1036" y="94"/>
                </a:lnTo>
                <a:lnTo>
                  <a:pt x="1046" y="100"/>
                </a:lnTo>
                <a:lnTo>
                  <a:pt x="1048" y="110"/>
                </a:lnTo>
                <a:lnTo>
                  <a:pt x="1050" y="114"/>
                </a:lnTo>
                <a:lnTo>
                  <a:pt x="1054" y="128"/>
                </a:lnTo>
                <a:lnTo>
                  <a:pt x="1054" y="135"/>
                </a:lnTo>
                <a:lnTo>
                  <a:pt x="1056" y="138"/>
                </a:lnTo>
                <a:lnTo>
                  <a:pt x="1067" y="147"/>
                </a:lnTo>
                <a:lnTo>
                  <a:pt x="1079" y="157"/>
                </a:lnTo>
                <a:lnTo>
                  <a:pt x="1094" y="160"/>
                </a:lnTo>
                <a:lnTo>
                  <a:pt x="1103" y="162"/>
                </a:lnTo>
                <a:lnTo>
                  <a:pt x="1108" y="166"/>
                </a:lnTo>
                <a:lnTo>
                  <a:pt x="1111" y="173"/>
                </a:lnTo>
                <a:lnTo>
                  <a:pt x="1115" y="180"/>
                </a:lnTo>
                <a:lnTo>
                  <a:pt x="1117" y="189"/>
                </a:lnTo>
                <a:lnTo>
                  <a:pt x="1112" y="226"/>
                </a:lnTo>
                <a:lnTo>
                  <a:pt x="1111" y="237"/>
                </a:lnTo>
                <a:lnTo>
                  <a:pt x="1101" y="258"/>
                </a:lnTo>
                <a:lnTo>
                  <a:pt x="1092" y="279"/>
                </a:lnTo>
                <a:lnTo>
                  <a:pt x="1100" y="283"/>
                </a:lnTo>
                <a:lnTo>
                  <a:pt x="1111" y="293"/>
                </a:lnTo>
                <a:lnTo>
                  <a:pt x="1111" y="318"/>
                </a:lnTo>
                <a:lnTo>
                  <a:pt x="1111" y="335"/>
                </a:lnTo>
                <a:lnTo>
                  <a:pt x="1117" y="343"/>
                </a:lnTo>
                <a:lnTo>
                  <a:pt x="1131" y="342"/>
                </a:lnTo>
                <a:lnTo>
                  <a:pt x="1149" y="367"/>
                </a:lnTo>
                <a:lnTo>
                  <a:pt x="1181" y="400"/>
                </a:lnTo>
                <a:lnTo>
                  <a:pt x="1176" y="423"/>
                </a:lnTo>
                <a:lnTo>
                  <a:pt x="1161" y="433"/>
                </a:lnTo>
                <a:lnTo>
                  <a:pt x="1133" y="464"/>
                </a:lnTo>
                <a:lnTo>
                  <a:pt x="1124" y="485"/>
                </a:lnTo>
                <a:lnTo>
                  <a:pt x="1112" y="494"/>
                </a:lnTo>
                <a:lnTo>
                  <a:pt x="1101" y="496"/>
                </a:lnTo>
                <a:lnTo>
                  <a:pt x="1102" y="514"/>
                </a:lnTo>
                <a:lnTo>
                  <a:pt x="1092" y="522"/>
                </a:lnTo>
                <a:lnTo>
                  <a:pt x="1080" y="525"/>
                </a:lnTo>
                <a:lnTo>
                  <a:pt x="1072" y="525"/>
                </a:lnTo>
                <a:lnTo>
                  <a:pt x="1059" y="533"/>
                </a:lnTo>
                <a:lnTo>
                  <a:pt x="1050" y="548"/>
                </a:lnTo>
                <a:lnTo>
                  <a:pt x="1043" y="560"/>
                </a:lnTo>
                <a:lnTo>
                  <a:pt x="1041" y="561"/>
                </a:lnTo>
                <a:lnTo>
                  <a:pt x="110" y="761"/>
                </a:lnTo>
                <a:lnTo>
                  <a:pt x="0" y="138"/>
                </a:lnTo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Freeform 57"/>
          <p:cNvSpPr/>
          <p:nvPr/>
        </p:nvSpPr>
        <p:spPr>
          <a:xfrm>
            <a:off x="8001000" y="2743200"/>
            <a:ext cx="263520" cy="446040"/>
          </a:xfrm>
          <a:custGeom>
            <a:avLst/>
            <a:gdLst>
              <a:gd name="textAreaLeft" fmla="*/ 0 w 263520"/>
              <a:gd name="textAreaRight" fmla="*/ 263880 w 263520"/>
              <a:gd name="textAreaTop" fmla="*/ 0 h 446040"/>
              <a:gd name="textAreaBottom" fmla="*/ 446400 h 446040"/>
            </a:gdLst>
            <a:ahLst/>
            <a:rect l="textAreaLeft" t="textAreaTop" r="textAreaRight" b="textAreaBottom"/>
            <a:pathLst>
              <a:path w="334" h="609">
                <a:moveTo>
                  <a:pt x="37" y="0"/>
                </a:moveTo>
                <a:lnTo>
                  <a:pt x="190" y="35"/>
                </a:lnTo>
                <a:lnTo>
                  <a:pt x="191" y="51"/>
                </a:lnTo>
                <a:lnTo>
                  <a:pt x="205" y="75"/>
                </a:lnTo>
                <a:lnTo>
                  <a:pt x="208" y="83"/>
                </a:lnTo>
                <a:lnTo>
                  <a:pt x="205" y="89"/>
                </a:lnTo>
                <a:lnTo>
                  <a:pt x="195" y="89"/>
                </a:lnTo>
                <a:lnTo>
                  <a:pt x="192" y="90"/>
                </a:lnTo>
                <a:lnTo>
                  <a:pt x="192" y="98"/>
                </a:lnTo>
                <a:lnTo>
                  <a:pt x="200" y="101"/>
                </a:lnTo>
                <a:lnTo>
                  <a:pt x="205" y="108"/>
                </a:lnTo>
                <a:lnTo>
                  <a:pt x="212" y="109"/>
                </a:lnTo>
                <a:lnTo>
                  <a:pt x="219" y="104"/>
                </a:lnTo>
                <a:lnTo>
                  <a:pt x="225" y="104"/>
                </a:lnTo>
                <a:lnTo>
                  <a:pt x="234" y="105"/>
                </a:lnTo>
                <a:lnTo>
                  <a:pt x="236" y="108"/>
                </a:lnTo>
                <a:lnTo>
                  <a:pt x="239" y="101"/>
                </a:lnTo>
                <a:lnTo>
                  <a:pt x="239" y="100"/>
                </a:lnTo>
                <a:lnTo>
                  <a:pt x="269" y="128"/>
                </a:lnTo>
                <a:lnTo>
                  <a:pt x="288" y="169"/>
                </a:lnTo>
                <a:lnTo>
                  <a:pt x="305" y="209"/>
                </a:lnTo>
                <a:lnTo>
                  <a:pt x="325" y="257"/>
                </a:lnTo>
                <a:lnTo>
                  <a:pt x="334" y="286"/>
                </a:lnTo>
                <a:lnTo>
                  <a:pt x="333" y="340"/>
                </a:lnTo>
                <a:lnTo>
                  <a:pt x="320" y="359"/>
                </a:lnTo>
                <a:lnTo>
                  <a:pt x="306" y="376"/>
                </a:lnTo>
                <a:lnTo>
                  <a:pt x="288" y="400"/>
                </a:lnTo>
                <a:lnTo>
                  <a:pt x="265" y="434"/>
                </a:lnTo>
                <a:lnTo>
                  <a:pt x="225" y="491"/>
                </a:lnTo>
                <a:lnTo>
                  <a:pt x="213" y="499"/>
                </a:lnTo>
                <a:lnTo>
                  <a:pt x="184" y="522"/>
                </a:lnTo>
                <a:lnTo>
                  <a:pt x="171" y="543"/>
                </a:lnTo>
                <a:lnTo>
                  <a:pt x="153" y="571"/>
                </a:lnTo>
                <a:lnTo>
                  <a:pt x="148" y="595"/>
                </a:lnTo>
                <a:lnTo>
                  <a:pt x="148" y="606"/>
                </a:lnTo>
                <a:lnTo>
                  <a:pt x="144" y="609"/>
                </a:lnTo>
                <a:lnTo>
                  <a:pt x="133" y="606"/>
                </a:lnTo>
                <a:lnTo>
                  <a:pt x="130" y="595"/>
                </a:lnTo>
                <a:lnTo>
                  <a:pt x="126" y="583"/>
                </a:lnTo>
                <a:lnTo>
                  <a:pt x="126" y="567"/>
                </a:lnTo>
                <a:lnTo>
                  <a:pt x="128" y="553"/>
                </a:lnTo>
                <a:lnTo>
                  <a:pt x="128" y="538"/>
                </a:lnTo>
                <a:lnTo>
                  <a:pt x="125" y="532"/>
                </a:lnTo>
                <a:lnTo>
                  <a:pt x="113" y="526"/>
                </a:lnTo>
                <a:lnTo>
                  <a:pt x="102" y="522"/>
                </a:lnTo>
                <a:lnTo>
                  <a:pt x="90" y="515"/>
                </a:lnTo>
                <a:lnTo>
                  <a:pt x="62" y="482"/>
                </a:lnTo>
                <a:lnTo>
                  <a:pt x="37" y="443"/>
                </a:lnTo>
                <a:lnTo>
                  <a:pt x="37" y="432"/>
                </a:lnTo>
                <a:lnTo>
                  <a:pt x="26" y="419"/>
                </a:lnTo>
                <a:lnTo>
                  <a:pt x="18" y="405"/>
                </a:lnTo>
                <a:lnTo>
                  <a:pt x="8" y="394"/>
                </a:lnTo>
                <a:lnTo>
                  <a:pt x="8" y="381"/>
                </a:lnTo>
                <a:lnTo>
                  <a:pt x="8" y="377"/>
                </a:lnTo>
                <a:lnTo>
                  <a:pt x="0" y="373"/>
                </a:lnTo>
                <a:lnTo>
                  <a:pt x="0" y="368"/>
                </a:lnTo>
                <a:lnTo>
                  <a:pt x="0" y="358"/>
                </a:lnTo>
                <a:lnTo>
                  <a:pt x="0" y="351"/>
                </a:lnTo>
                <a:lnTo>
                  <a:pt x="23" y="341"/>
                </a:lnTo>
                <a:lnTo>
                  <a:pt x="24" y="338"/>
                </a:lnTo>
                <a:lnTo>
                  <a:pt x="25" y="336"/>
                </a:lnTo>
                <a:lnTo>
                  <a:pt x="24" y="323"/>
                </a:lnTo>
                <a:lnTo>
                  <a:pt x="24" y="317"/>
                </a:lnTo>
                <a:lnTo>
                  <a:pt x="38" y="315"/>
                </a:lnTo>
                <a:lnTo>
                  <a:pt x="46" y="307"/>
                </a:lnTo>
                <a:lnTo>
                  <a:pt x="48" y="305"/>
                </a:lnTo>
                <a:lnTo>
                  <a:pt x="55" y="291"/>
                </a:lnTo>
                <a:lnTo>
                  <a:pt x="75" y="260"/>
                </a:lnTo>
                <a:lnTo>
                  <a:pt x="86" y="253"/>
                </a:lnTo>
                <a:lnTo>
                  <a:pt x="92" y="246"/>
                </a:lnTo>
                <a:lnTo>
                  <a:pt x="96" y="246"/>
                </a:lnTo>
                <a:lnTo>
                  <a:pt x="102" y="238"/>
                </a:lnTo>
                <a:lnTo>
                  <a:pt x="107" y="222"/>
                </a:lnTo>
                <a:lnTo>
                  <a:pt x="86" y="201"/>
                </a:lnTo>
                <a:lnTo>
                  <a:pt x="71" y="187"/>
                </a:lnTo>
                <a:lnTo>
                  <a:pt x="62" y="174"/>
                </a:lnTo>
                <a:lnTo>
                  <a:pt x="55" y="164"/>
                </a:lnTo>
                <a:lnTo>
                  <a:pt x="49" y="164"/>
                </a:lnTo>
                <a:lnTo>
                  <a:pt x="40" y="165"/>
                </a:lnTo>
                <a:lnTo>
                  <a:pt x="34" y="164"/>
                </a:lnTo>
                <a:lnTo>
                  <a:pt x="34" y="155"/>
                </a:lnTo>
                <a:lnTo>
                  <a:pt x="34" y="140"/>
                </a:lnTo>
                <a:lnTo>
                  <a:pt x="34" y="117"/>
                </a:lnTo>
                <a:lnTo>
                  <a:pt x="31" y="112"/>
                </a:lnTo>
                <a:lnTo>
                  <a:pt x="24" y="106"/>
                </a:lnTo>
                <a:lnTo>
                  <a:pt x="18" y="101"/>
                </a:lnTo>
                <a:lnTo>
                  <a:pt x="17" y="101"/>
                </a:lnTo>
                <a:lnTo>
                  <a:pt x="15" y="100"/>
                </a:lnTo>
                <a:lnTo>
                  <a:pt x="30" y="65"/>
                </a:lnTo>
                <a:lnTo>
                  <a:pt x="35" y="52"/>
                </a:lnTo>
                <a:lnTo>
                  <a:pt x="39" y="25"/>
                </a:lnTo>
                <a:lnTo>
                  <a:pt x="40" y="18"/>
                </a:lnTo>
                <a:lnTo>
                  <a:pt x="40" y="13"/>
                </a:lnTo>
                <a:lnTo>
                  <a:pt x="38" y="3"/>
                </a:lnTo>
                <a:lnTo>
                  <a:pt x="37" y="0"/>
                </a:lnTo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Freeform 58"/>
          <p:cNvSpPr/>
          <p:nvPr/>
        </p:nvSpPr>
        <p:spPr>
          <a:xfrm>
            <a:off x="7978680" y="2986200"/>
            <a:ext cx="144720" cy="244440"/>
          </a:xfrm>
          <a:custGeom>
            <a:avLst/>
            <a:gdLst>
              <a:gd name="textAreaLeft" fmla="*/ 0 w 144720"/>
              <a:gd name="textAreaRight" fmla="*/ 145080 w 14472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83" h="335">
                <a:moveTo>
                  <a:pt x="35" y="0"/>
                </a:moveTo>
                <a:lnTo>
                  <a:pt x="23" y="5"/>
                </a:lnTo>
                <a:lnTo>
                  <a:pt x="13" y="16"/>
                </a:lnTo>
                <a:lnTo>
                  <a:pt x="0" y="35"/>
                </a:lnTo>
                <a:lnTo>
                  <a:pt x="65" y="335"/>
                </a:lnTo>
                <a:lnTo>
                  <a:pt x="183" y="326"/>
                </a:lnTo>
                <a:lnTo>
                  <a:pt x="178" y="291"/>
                </a:lnTo>
                <a:lnTo>
                  <a:pt x="164" y="278"/>
                </a:lnTo>
                <a:lnTo>
                  <a:pt x="155" y="269"/>
                </a:lnTo>
                <a:lnTo>
                  <a:pt x="135" y="247"/>
                </a:lnTo>
                <a:lnTo>
                  <a:pt x="127" y="233"/>
                </a:lnTo>
                <a:lnTo>
                  <a:pt x="120" y="216"/>
                </a:lnTo>
                <a:lnTo>
                  <a:pt x="99" y="185"/>
                </a:lnTo>
                <a:lnTo>
                  <a:pt x="86" y="165"/>
                </a:lnTo>
                <a:lnTo>
                  <a:pt x="81" y="125"/>
                </a:lnTo>
                <a:lnTo>
                  <a:pt x="60" y="100"/>
                </a:lnTo>
                <a:lnTo>
                  <a:pt x="56" y="84"/>
                </a:lnTo>
                <a:lnTo>
                  <a:pt x="42" y="64"/>
                </a:lnTo>
                <a:lnTo>
                  <a:pt x="42" y="51"/>
                </a:lnTo>
                <a:lnTo>
                  <a:pt x="42" y="47"/>
                </a:lnTo>
                <a:lnTo>
                  <a:pt x="42" y="34"/>
                </a:lnTo>
                <a:lnTo>
                  <a:pt x="42" y="31"/>
                </a:lnTo>
                <a:lnTo>
                  <a:pt x="35" y="28"/>
                </a:lnTo>
                <a:lnTo>
                  <a:pt x="34" y="21"/>
                </a:lnTo>
                <a:lnTo>
                  <a:pt x="34" y="5"/>
                </a:lnTo>
                <a:lnTo>
                  <a:pt x="35" y="0"/>
                </a:lnTo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Freeform 59"/>
          <p:cNvSpPr/>
          <p:nvPr/>
        </p:nvSpPr>
        <p:spPr>
          <a:xfrm>
            <a:off x="7412040" y="3011400"/>
            <a:ext cx="711360" cy="338400"/>
          </a:xfrm>
          <a:custGeom>
            <a:avLst/>
            <a:gdLst>
              <a:gd name="textAreaLeft" fmla="*/ 0 w 711360"/>
              <a:gd name="textAreaRight" fmla="*/ 711360 w 711360"/>
              <a:gd name="textAreaTop" fmla="*/ 0 h 338400"/>
              <a:gd name="textAreaBottom" fmla="*/ 338760 h 338400"/>
            </a:gdLst>
            <a:ahLst/>
            <a:rect l="textAreaLeft" t="textAreaTop" r="textAreaRight" b="textAreaBottom"/>
            <a:pathLst>
              <a:path w="907" h="463">
                <a:moveTo>
                  <a:pt x="0" y="156"/>
                </a:moveTo>
                <a:lnTo>
                  <a:pt x="724" y="0"/>
                </a:lnTo>
                <a:lnTo>
                  <a:pt x="789" y="300"/>
                </a:lnTo>
                <a:lnTo>
                  <a:pt x="907" y="291"/>
                </a:lnTo>
                <a:lnTo>
                  <a:pt x="902" y="349"/>
                </a:lnTo>
                <a:lnTo>
                  <a:pt x="897" y="374"/>
                </a:lnTo>
                <a:lnTo>
                  <a:pt x="897" y="386"/>
                </a:lnTo>
                <a:lnTo>
                  <a:pt x="891" y="393"/>
                </a:lnTo>
                <a:lnTo>
                  <a:pt x="890" y="398"/>
                </a:lnTo>
                <a:lnTo>
                  <a:pt x="884" y="410"/>
                </a:lnTo>
                <a:lnTo>
                  <a:pt x="886" y="428"/>
                </a:lnTo>
                <a:lnTo>
                  <a:pt x="886" y="433"/>
                </a:lnTo>
                <a:lnTo>
                  <a:pt x="884" y="444"/>
                </a:lnTo>
                <a:lnTo>
                  <a:pt x="812" y="463"/>
                </a:lnTo>
                <a:lnTo>
                  <a:pt x="810" y="434"/>
                </a:lnTo>
                <a:lnTo>
                  <a:pt x="799" y="419"/>
                </a:lnTo>
                <a:lnTo>
                  <a:pt x="788" y="409"/>
                </a:lnTo>
                <a:lnTo>
                  <a:pt x="784" y="403"/>
                </a:lnTo>
                <a:lnTo>
                  <a:pt x="781" y="401"/>
                </a:lnTo>
                <a:lnTo>
                  <a:pt x="781" y="382"/>
                </a:lnTo>
                <a:lnTo>
                  <a:pt x="781" y="364"/>
                </a:lnTo>
                <a:lnTo>
                  <a:pt x="786" y="355"/>
                </a:lnTo>
                <a:lnTo>
                  <a:pt x="798" y="341"/>
                </a:lnTo>
                <a:lnTo>
                  <a:pt x="786" y="328"/>
                </a:lnTo>
                <a:lnTo>
                  <a:pt x="771" y="305"/>
                </a:lnTo>
                <a:lnTo>
                  <a:pt x="754" y="283"/>
                </a:lnTo>
                <a:lnTo>
                  <a:pt x="721" y="265"/>
                </a:lnTo>
                <a:lnTo>
                  <a:pt x="708" y="230"/>
                </a:lnTo>
                <a:lnTo>
                  <a:pt x="694" y="221"/>
                </a:lnTo>
                <a:lnTo>
                  <a:pt x="694" y="207"/>
                </a:lnTo>
                <a:lnTo>
                  <a:pt x="704" y="198"/>
                </a:lnTo>
                <a:lnTo>
                  <a:pt x="682" y="186"/>
                </a:lnTo>
                <a:lnTo>
                  <a:pt x="671" y="167"/>
                </a:lnTo>
                <a:lnTo>
                  <a:pt x="670" y="135"/>
                </a:lnTo>
                <a:lnTo>
                  <a:pt x="659" y="109"/>
                </a:lnTo>
                <a:lnTo>
                  <a:pt x="661" y="100"/>
                </a:lnTo>
                <a:lnTo>
                  <a:pt x="666" y="84"/>
                </a:lnTo>
                <a:lnTo>
                  <a:pt x="664" y="71"/>
                </a:lnTo>
                <a:lnTo>
                  <a:pt x="660" y="57"/>
                </a:lnTo>
                <a:lnTo>
                  <a:pt x="659" y="44"/>
                </a:lnTo>
                <a:lnTo>
                  <a:pt x="639" y="25"/>
                </a:lnTo>
                <a:lnTo>
                  <a:pt x="636" y="32"/>
                </a:lnTo>
                <a:lnTo>
                  <a:pt x="630" y="44"/>
                </a:lnTo>
                <a:lnTo>
                  <a:pt x="615" y="80"/>
                </a:lnTo>
                <a:lnTo>
                  <a:pt x="618" y="109"/>
                </a:lnTo>
                <a:lnTo>
                  <a:pt x="624" y="132"/>
                </a:lnTo>
                <a:lnTo>
                  <a:pt x="613" y="133"/>
                </a:lnTo>
                <a:lnTo>
                  <a:pt x="602" y="138"/>
                </a:lnTo>
                <a:lnTo>
                  <a:pt x="619" y="155"/>
                </a:lnTo>
                <a:lnTo>
                  <a:pt x="638" y="184"/>
                </a:lnTo>
                <a:lnTo>
                  <a:pt x="630" y="190"/>
                </a:lnTo>
                <a:lnTo>
                  <a:pt x="619" y="207"/>
                </a:lnTo>
                <a:lnTo>
                  <a:pt x="637" y="215"/>
                </a:lnTo>
                <a:lnTo>
                  <a:pt x="648" y="228"/>
                </a:lnTo>
                <a:lnTo>
                  <a:pt x="646" y="241"/>
                </a:lnTo>
                <a:lnTo>
                  <a:pt x="652" y="264"/>
                </a:lnTo>
                <a:lnTo>
                  <a:pt x="661" y="289"/>
                </a:lnTo>
                <a:lnTo>
                  <a:pt x="671" y="310"/>
                </a:lnTo>
                <a:lnTo>
                  <a:pt x="694" y="328"/>
                </a:lnTo>
                <a:lnTo>
                  <a:pt x="706" y="343"/>
                </a:lnTo>
                <a:lnTo>
                  <a:pt x="708" y="357"/>
                </a:lnTo>
                <a:lnTo>
                  <a:pt x="692" y="347"/>
                </a:lnTo>
                <a:lnTo>
                  <a:pt x="666" y="340"/>
                </a:lnTo>
                <a:lnTo>
                  <a:pt x="628" y="330"/>
                </a:lnTo>
                <a:lnTo>
                  <a:pt x="611" y="329"/>
                </a:lnTo>
                <a:lnTo>
                  <a:pt x="604" y="328"/>
                </a:lnTo>
                <a:lnTo>
                  <a:pt x="599" y="324"/>
                </a:lnTo>
                <a:lnTo>
                  <a:pt x="593" y="321"/>
                </a:lnTo>
                <a:lnTo>
                  <a:pt x="586" y="313"/>
                </a:lnTo>
                <a:lnTo>
                  <a:pt x="586" y="309"/>
                </a:lnTo>
                <a:lnTo>
                  <a:pt x="586" y="307"/>
                </a:lnTo>
                <a:lnTo>
                  <a:pt x="599" y="302"/>
                </a:lnTo>
                <a:lnTo>
                  <a:pt x="604" y="299"/>
                </a:lnTo>
                <a:lnTo>
                  <a:pt x="604" y="294"/>
                </a:lnTo>
                <a:lnTo>
                  <a:pt x="589" y="279"/>
                </a:lnTo>
                <a:lnTo>
                  <a:pt x="580" y="269"/>
                </a:lnTo>
                <a:lnTo>
                  <a:pt x="562" y="262"/>
                </a:lnTo>
                <a:lnTo>
                  <a:pt x="549" y="262"/>
                </a:lnTo>
                <a:lnTo>
                  <a:pt x="539" y="264"/>
                </a:lnTo>
                <a:lnTo>
                  <a:pt x="535" y="268"/>
                </a:lnTo>
                <a:lnTo>
                  <a:pt x="526" y="282"/>
                </a:lnTo>
                <a:lnTo>
                  <a:pt x="508" y="310"/>
                </a:lnTo>
                <a:lnTo>
                  <a:pt x="365" y="213"/>
                </a:lnTo>
                <a:lnTo>
                  <a:pt x="350" y="206"/>
                </a:lnTo>
                <a:lnTo>
                  <a:pt x="320" y="194"/>
                </a:lnTo>
                <a:lnTo>
                  <a:pt x="300" y="190"/>
                </a:lnTo>
                <a:lnTo>
                  <a:pt x="288" y="189"/>
                </a:lnTo>
                <a:lnTo>
                  <a:pt x="283" y="178"/>
                </a:lnTo>
                <a:lnTo>
                  <a:pt x="277" y="169"/>
                </a:lnTo>
                <a:lnTo>
                  <a:pt x="259" y="169"/>
                </a:lnTo>
                <a:lnTo>
                  <a:pt x="251" y="163"/>
                </a:lnTo>
                <a:lnTo>
                  <a:pt x="251" y="154"/>
                </a:lnTo>
                <a:lnTo>
                  <a:pt x="242" y="146"/>
                </a:lnTo>
                <a:lnTo>
                  <a:pt x="225" y="144"/>
                </a:lnTo>
                <a:lnTo>
                  <a:pt x="214" y="143"/>
                </a:lnTo>
                <a:lnTo>
                  <a:pt x="208" y="141"/>
                </a:lnTo>
                <a:lnTo>
                  <a:pt x="204" y="135"/>
                </a:lnTo>
                <a:lnTo>
                  <a:pt x="189" y="133"/>
                </a:lnTo>
                <a:lnTo>
                  <a:pt x="174" y="133"/>
                </a:lnTo>
                <a:lnTo>
                  <a:pt x="163" y="141"/>
                </a:lnTo>
                <a:lnTo>
                  <a:pt x="161" y="153"/>
                </a:lnTo>
                <a:lnTo>
                  <a:pt x="155" y="160"/>
                </a:lnTo>
                <a:lnTo>
                  <a:pt x="147" y="161"/>
                </a:lnTo>
                <a:lnTo>
                  <a:pt x="141" y="166"/>
                </a:lnTo>
                <a:lnTo>
                  <a:pt x="141" y="173"/>
                </a:lnTo>
                <a:lnTo>
                  <a:pt x="139" y="183"/>
                </a:lnTo>
                <a:lnTo>
                  <a:pt x="124" y="190"/>
                </a:lnTo>
                <a:lnTo>
                  <a:pt x="121" y="199"/>
                </a:lnTo>
                <a:lnTo>
                  <a:pt x="113" y="204"/>
                </a:lnTo>
                <a:lnTo>
                  <a:pt x="102" y="204"/>
                </a:lnTo>
                <a:lnTo>
                  <a:pt x="95" y="198"/>
                </a:lnTo>
                <a:lnTo>
                  <a:pt x="87" y="198"/>
                </a:lnTo>
                <a:lnTo>
                  <a:pt x="84" y="213"/>
                </a:lnTo>
                <a:lnTo>
                  <a:pt x="85" y="227"/>
                </a:lnTo>
                <a:lnTo>
                  <a:pt x="71" y="237"/>
                </a:lnTo>
                <a:lnTo>
                  <a:pt x="56" y="257"/>
                </a:lnTo>
                <a:lnTo>
                  <a:pt x="55" y="264"/>
                </a:lnTo>
                <a:lnTo>
                  <a:pt x="49" y="279"/>
                </a:lnTo>
                <a:lnTo>
                  <a:pt x="34" y="299"/>
                </a:lnTo>
                <a:lnTo>
                  <a:pt x="1" y="328"/>
                </a:lnTo>
                <a:lnTo>
                  <a:pt x="0" y="156"/>
                </a:lnTo>
              </a:path>
            </a:pathLst>
          </a:custGeom>
          <a:solidFill>
            <a:srgbClr val="00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Freeform 60"/>
          <p:cNvSpPr/>
          <p:nvPr/>
        </p:nvSpPr>
        <p:spPr>
          <a:xfrm>
            <a:off x="8050320" y="3335400"/>
            <a:ext cx="54000" cy="131760"/>
          </a:xfrm>
          <a:custGeom>
            <a:avLst/>
            <a:gdLst>
              <a:gd name="textAreaLeft" fmla="*/ 0 w 54000"/>
              <a:gd name="textAreaRight" fmla="*/ 54360 w 540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70" h="180">
                <a:moveTo>
                  <a:pt x="0" y="18"/>
                </a:moveTo>
                <a:lnTo>
                  <a:pt x="5" y="71"/>
                </a:lnTo>
                <a:lnTo>
                  <a:pt x="17" y="142"/>
                </a:lnTo>
                <a:lnTo>
                  <a:pt x="29" y="166"/>
                </a:lnTo>
                <a:lnTo>
                  <a:pt x="34" y="180"/>
                </a:lnTo>
                <a:lnTo>
                  <a:pt x="46" y="172"/>
                </a:lnTo>
                <a:lnTo>
                  <a:pt x="48" y="161"/>
                </a:lnTo>
                <a:lnTo>
                  <a:pt x="60" y="143"/>
                </a:lnTo>
                <a:lnTo>
                  <a:pt x="70" y="131"/>
                </a:lnTo>
                <a:lnTo>
                  <a:pt x="70" y="104"/>
                </a:lnTo>
                <a:lnTo>
                  <a:pt x="70" y="59"/>
                </a:lnTo>
                <a:lnTo>
                  <a:pt x="70" y="9"/>
                </a:lnTo>
                <a:lnTo>
                  <a:pt x="70" y="0"/>
                </a:lnTo>
                <a:lnTo>
                  <a:pt x="0" y="18"/>
                </a:lnTo>
              </a:path>
            </a:pathLst>
          </a:custGeom>
          <a:solidFill>
            <a:srgbClr val="00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Freeform 61"/>
          <p:cNvSpPr/>
          <p:nvPr/>
        </p:nvSpPr>
        <p:spPr>
          <a:xfrm>
            <a:off x="6940440" y="2970360"/>
            <a:ext cx="757440" cy="728640"/>
          </a:xfrm>
          <a:custGeom>
            <a:avLst/>
            <a:gdLst>
              <a:gd name="textAreaLeft" fmla="*/ 0 w 757440"/>
              <a:gd name="textAreaRight" fmla="*/ 757800 w 7574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964" h="997">
                <a:moveTo>
                  <a:pt x="348" y="0"/>
                </a:moveTo>
                <a:lnTo>
                  <a:pt x="390" y="258"/>
                </a:lnTo>
                <a:lnTo>
                  <a:pt x="598" y="213"/>
                </a:lnTo>
                <a:lnTo>
                  <a:pt x="601" y="385"/>
                </a:lnTo>
                <a:lnTo>
                  <a:pt x="619" y="370"/>
                </a:lnTo>
                <a:lnTo>
                  <a:pt x="633" y="357"/>
                </a:lnTo>
                <a:lnTo>
                  <a:pt x="648" y="333"/>
                </a:lnTo>
                <a:lnTo>
                  <a:pt x="655" y="315"/>
                </a:lnTo>
                <a:lnTo>
                  <a:pt x="666" y="295"/>
                </a:lnTo>
                <a:lnTo>
                  <a:pt x="668" y="293"/>
                </a:lnTo>
                <a:lnTo>
                  <a:pt x="677" y="287"/>
                </a:lnTo>
                <a:lnTo>
                  <a:pt x="681" y="287"/>
                </a:lnTo>
                <a:lnTo>
                  <a:pt x="683" y="266"/>
                </a:lnTo>
                <a:lnTo>
                  <a:pt x="687" y="260"/>
                </a:lnTo>
                <a:lnTo>
                  <a:pt x="689" y="256"/>
                </a:lnTo>
                <a:lnTo>
                  <a:pt x="693" y="256"/>
                </a:lnTo>
                <a:lnTo>
                  <a:pt x="706" y="260"/>
                </a:lnTo>
                <a:lnTo>
                  <a:pt x="712" y="260"/>
                </a:lnTo>
                <a:lnTo>
                  <a:pt x="717" y="260"/>
                </a:lnTo>
                <a:lnTo>
                  <a:pt x="721" y="253"/>
                </a:lnTo>
                <a:lnTo>
                  <a:pt x="727" y="245"/>
                </a:lnTo>
                <a:lnTo>
                  <a:pt x="735" y="240"/>
                </a:lnTo>
                <a:lnTo>
                  <a:pt x="737" y="240"/>
                </a:lnTo>
                <a:lnTo>
                  <a:pt x="740" y="231"/>
                </a:lnTo>
                <a:lnTo>
                  <a:pt x="740" y="223"/>
                </a:lnTo>
                <a:lnTo>
                  <a:pt x="745" y="220"/>
                </a:lnTo>
                <a:lnTo>
                  <a:pt x="754" y="216"/>
                </a:lnTo>
                <a:lnTo>
                  <a:pt x="755" y="212"/>
                </a:lnTo>
                <a:lnTo>
                  <a:pt x="763" y="202"/>
                </a:lnTo>
                <a:lnTo>
                  <a:pt x="763" y="195"/>
                </a:lnTo>
                <a:lnTo>
                  <a:pt x="774" y="192"/>
                </a:lnTo>
                <a:lnTo>
                  <a:pt x="784" y="189"/>
                </a:lnTo>
                <a:lnTo>
                  <a:pt x="796" y="189"/>
                </a:lnTo>
                <a:lnTo>
                  <a:pt x="807" y="195"/>
                </a:lnTo>
                <a:lnTo>
                  <a:pt x="813" y="201"/>
                </a:lnTo>
                <a:lnTo>
                  <a:pt x="821" y="200"/>
                </a:lnTo>
                <a:lnTo>
                  <a:pt x="838" y="204"/>
                </a:lnTo>
                <a:lnTo>
                  <a:pt x="846" y="208"/>
                </a:lnTo>
                <a:lnTo>
                  <a:pt x="850" y="211"/>
                </a:lnTo>
                <a:lnTo>
                  <a:pt x="856" y="220"/>
                </a:lnTo>
                <a:lnTo>
                  <a:pt x="856" y="223"/>
                </a:lnTo>
                <a:lnTo>
                  <a:pt x="864" y="226"/>
                </a:lnTo>
                <a:lnTo>
                  <a:pt x="876" y="226"/>
                </a:lnTo>
                <a:lnTo>
                  <a:pt x="879" y="231"/>
                </a:lnTo>
                <a:lnTo>
                  <a:pt x="888" y="245"/>
                </a:lnTo>
                <a:lnTo>
                  <a:pt x="896" y="247"/>
                </a:lnTo>
                <a:lnTo>
                  <a:pt x="927" y="253"/>
                </a:lnTo>
                <a:lnTo>
                  <a:pt x="944" y="265"/>
                </a:lnTo>
                <a:lnTo>
                  <a:pt x="964" y="270"/>
                </a:lnTo>
                <a:lnTo>
                  <a:pt x="959" y="278"/>
                </a:lnTo>
                <a:lnTo>
                  <a:pt x="945" y="311"/>
                </a:lnTo>
                <a:lnTo>
                  <a:pt x="933" y="318"/>
                </a:lnTo>
                <a:lnTo>
                  <a:pt x="907" y="340"/>
                </a:lnTo>
                <a:lnTo>
                  <a:pt x="879" y="386"/>
                </a:lnTo>
                <a:lnTo>
                  <a:pt x="867" y="392"/>
                </a:lnTo>
                <a:lnTo>
                  <a:pt x="846" y="407"/>
                </a:lnTo>
                <a:lnTo>
                  <a:pt x="841" y="419"/>
                </a:lnTo>
                <a:lnTo>
                  <a:pt x="814" y="469"/>
                </a:lnTo>
                <a:lnTo>
                  <a:pt x="811" y="476"/>
                </a:lnTo>
                <a:lnTo>
                  <a:pt x="799" y="472"/>
                </a:lnTo>
                <a:lnTo>
                  <a:pt x="786" y="466"/>
                </a:lnTo>
                <a:lnTo>
                  <a:pt x="781" y="466"/>
                </a:lnTo>
                <a:lnTo>
                  <a:pt x="775" y="480"/>
                </a:lnTo>
                <a:lnTo>
                  <a:pt x="769" y="489"/>
                </a:lnTo>
                <a:lnTo>
                  <a:pt x="746" y="551"/>
                </a:lnTo>
                <a:lnTo>
                  <a:pt x="729" y="586"/>
                </a:lnTo>
                <a:lnTo>
                  <a:pt x="721" y="601"/>
                </a:lnTo>
                <a:lnTo>
                  <a:pt x="716" y="602"/>
                </a:lnTo>
                <a:lnTo>
                  <a:pt x="699" y="601"/>
                </a:lnTo>
                <a:lnTo>
                  <a:pt x="689" y="590"/>
                </a:lnTo>
                <a:lnTo>
                  <a:pt x="674" y="559"/>
                </a:lnTo>
                <a:lnTo>
                  <a:pt x="663" y="541"/>
                </a:lnTo>
                <a:lnTo>
                  <a:pt x="656" y="531"/>
                </a:lnTo>
                <a:lnTo>
                  <a:pt x="640" y="537"/>
                </a:lnTo>
                <a:lnTo>
                  <a:pt x="639" y="559"/>
                </a:lnTo>
                <a:lnTo>
                  <a:pt x="628" y="583"/>
                </a:lnTo>
                <a:lnTo>
                  <a:pt x="625" y="637"/>
                </a:lnTo>
                <a:lnTo>
                  <a:pt x="616" y="672"/>
                </a:lnTo>
                <a:lnTo>
                  <a:pt x="596" y="698"/>
                </a:lnTo>
                <a:lnTo>
                  <a:pt x="577" y="737"/>
                </a:lnTo>
                <a:lnTo>
                  <a:pt x="565" y="757"/>
                </a:lnTo>
                <a:lnTo>
                  <a:pt x="560" y="778"/>
                </a:lnTo>
                <a:lnTo>
                  <a:pt x="557" y="795"/>
                </a:lnTo>
                <a:lnTo>
                  <a:pt x="557" y="809"/>
                </a:lnTo>
                <a:lnTo>
                  <a:pt x="566" y="814"/>
                </a:lnTo>
                <a:lnTo>
                  <a:pt x="583" y="829"/>
                </a:lnTo>
                <a:lnTo>
                  <a:pt x="578" y="840"/>
                </a:lnTo>
                <a:lnTo>
                  <a:pt x="533" y="877"/>
                </a:lnTo>
                <a:lnTo>
                  <a:pt x="501" y="899"/>
                </a:lnTo>
                <a:lnTo>
                  <a:pt x="475" y="907"/>
                </a:lnTo>
                <a:lnTo>
                  <a:pt x="454" y="904"/>
                </a:lnTo>
                <a:lnTo>
                  <a:pt x="435" y="900"/>
                </a:lnTo>
                <a:lnTo>
                  <a:pt x="429" y="900"/>
                </a:lnTo>
                <a:lnTo>
                  <a:pt x="424" y="908"/>
                </a:lnTo>
                <a:lnTo>
                  <a:pt x="412" y="928"/>
                </a:lnTo>
                <a:lnTo>
                  <a:pt x="404" y="939"/>
                </a:lnTo>
                <a:lnTo>
                  <a:pt x="360" y="962"/>
                </a:lnTo>
                <a:lnTo>
                  <a:pt x="331" y="978"/>
                </a:lnTo>
                <a:lnTo>
                  <a:pt x="303" y="970"/>
                </a:lnTo>
                <a:lnTo>
                  <a:pt x="283" y="967"/>
                </a:lnTo>
                <a:lnTo>
                  <a:pt x="278" y="967"/>
                </a:lnTo>
                <a:lnTo>
                  <a:pt x="264" y="974"/>
                </a:lnTo>
                <a:lnTo>
                  <a:pt x="245" y="983"/>
                </a:lnTo>
                <a:lnTo>
                  <a:pt x="226" y="997"/>
                </a:lnTo>
                <a:lnTo>
                  <a:pt x="208" y="997"/>
                </a:lnTo>
                <a:lnTo>
                  <a:pt x="190" y="988"/>
                </a:lnTo>
                <a:lnTo>
                  <a:pt x="177" y="966"/>
                </a:lnTo>
                <a:lnTo>
                  <a:pt x="171" y="960"/>
                </a:lnTo>
                <a:lnTo>
                  <a:pt x="160" y="953"/>
                </a:lnTo>
                <a:lnTo>
                  <a:pt x="147" y="920"/>
                </a:lnTo>
                <a:lnTo>
                  <a:pt x="144" y="886"/>
                </a:lnTo>
                <a:lnTo>
                  <a:pt x="131" y="861"/>
                </a:lnTo>
                <a:lnTo>
                  <a:pt x="107" y="809"/>
                </a:lnTo>
                <a:lnTo>
                  <a:pt x="107" y="802"/>
                </a:lnTo>
                <a:lnTo>
                  <a:pt x="94" y="786"/>
                </a:lnTo>
                <a:lnTo>
                  <a:pt x="90" y="777"/>
                </a:lnTo>
                <a:lnTo>
                  <a:pt x="90" y="762"/>
                </a:lnTo>
                <a:lnTo>
                  <a:pt x="72" y="749"/>
                </a:lnTo>
                <a:lnTo>
                  <a:pt x="57" y="737"/>
                </a:lnTo>
                <a:lnTo>
                  <a:pt x="40" y="725"/>
                </a:lnTo>
                <a:lnTo>
                  <a:pt x="38" y="717"/>
                </a:lnTo>
                <a:lnTo>
                  <a:pt x="38" y="708"/>
                </a:lnTo>
                <a:lnTo>
                  <a:pt x="23" y="697"/>
                </a:lnTo>
                <a:lnTo>
                  <a:pt x="15" y="692"/>
                </a:lnTo>
                <a:lnTo>
                  <a:pt x="0" y="682"/>
                </a:lnTo>
                <a:lnTo>
                  <a:pt x="20" y="673"/>
                </a:lnTo>
                <a:lnTo>
                  <a:pt x="35" y="666"/>
                </a:lnTo>
                <a:lnTo>
                  <a:pt x="41" y="657"/>
                </a:lnTo>
                <a:lnTo>
                  <a:pt x="47" y="648"/>
                </a:lnTo>
                <a:lnTo>
                  <a:pt x="52" y="634"/>
                </a:lnTo>
                <a:lnTo>
                  <a:pt x="60" y="628"/>
                </a:lnTo>
                <a:lnTo>
                  <a:pt x="65" y="620"/>
                </a:lnTo>
                <a:lnTo>
                  <a:pt x="71" y="612"/>
                </a:lnTo>
                <a:lnTo>
                  <a:pt x="65" y="612"/>
                </a:lnTo>
                <a:lnTo>
                  <a:pt x="61" y="603"/>
                </a:lnTo>
                <a:lnTo>
                  <a:pt x="61" y="592"/>
                </a:lnTo>
                <a:lnTo>
                  <a:pt x="68" y="576"/>
                </a:lnTo>
                <a:lnTo>
                  <a:pt x="78" y="574"/>
                </a:lnTo>
                <a:lnTo>
                  <a:pt x="86" y="574"/>
                </a:lnTo>
                <a:lnTo>
                  <a:pt x="93" y="582"/>
                </a:lnTo>
                <a:lnTo>
                  <a:pt x="93" y="596"/>
                </a:lnTo>
                <a:lnTo>
                  <a:pt x="100" y="604"/>
                </a:lnTo>
                <a:lnTo>
                  <a:pt x="103" y="604"/>
                </a:lnTo>
                <a:lnTo>
                  <a:pt x="103" y="595"/>
                </a:lnTo>
                <a:lnTo>
                  <a:pt x="103" y="591"/>
                </a:lnTo>
                <a:lnTo>
                  <a:pt x="113" y="591"/>
                </a:lnTo>
                <a:lnTo>
                  <a:pt x="124" y="591"/>
                </a:lnTo>
                <a:lnTo>
                  <a:pt x="126" y="589"/>
                </a:lnTo>
                <a:lnTo>
                  <a:pt x="121" y="578"/>
                </a:lnTo>
                <a:lnTo>
                  <a:pt x="106" y="561"/>
                </a:lnTo>
                <a:lnTo>
                  <a:pt x="102" y="551"/>
                </a:lnTo>
                <a:lnTo>
                  <a:pt x="102" y="543"/>
                </a:lnTo>
                <a:lnTo>
                  <a:pt x="110" y="534"/>
                </a:lnTo>
                <a:lnTo>
                  <a:pt x="124" y="530"/>
                </a:lnTo>
                <a:lnTo>
                  <a:pt x="131" y="530"/>
                </a:lnTo>
                <a:lnTo>
                  <a:pt x="141" y="527"/>
                </a:lnTo>
                <a:lnTo>
                  <a:pt x="141" y="516"/>
                </a:lnTo>
                <a:lnTo>
                  <a:pt x="136" y="497"/>
                </a:lnTo>
                <a:lnTo>
                  <a:pt x="136" y="491"/>
                </a:lnTo>
                <a:lnTo>
                  <a:pt x="144" y="472"/>
                </a:lnTo>
                <a:lnTo>
                  <a:pt x="170" y="429"/>
                </a:lnTo>
                <a:lnTo>
                  <a:pt x="186" y="416"/>
                </a:lnTo>
                <a:lnTo>
                  <a:pt x="199" y="412"/>
                </a:lnTo>
                <a:lnTo>
                  <a:pt x="216" y="408"/>
                </a:lnTo>
                <a:lnTo>
                  <a:pt x="231" y="407"/>
                </a:lnTo>
                <a:lnTo>
                  <a:pt x="238" y="402"/>
                </a:lnTo>
                <a:lnTo>
                  <a:pt x="242" y="392"/>
                </a:lnTo>
                <a:lnTo>
                  <a:pt x="245" y="376"/>
                </a:lnTo>
                <a:lnTo>
                  <a:pt x="237" y="352"/>
                </a:lnTo>
                <a:lnTo>
                  <a:pt x="244" y="334"/>
                </a:lnTo>
                <a:lnTo>
                  <a:pt x="251" y="330"/>
                </a:lnTo>
                <a:lnTo>
                  <a:pt x="255" y="322"/>
                </a:lnTo>
                <a:lnTo>
                  <a:pt x="300" y="208"/>
                </a:lnTo>
                <a:lnTo>
                  <a:pt x="318" y="150"/>
                </a:lnTo>
                <a:lnTo>
                  <a:pt x="321" y="133"/>
                </a:lnTo>
                <a:lnTo>
                  <a:pt x="318" y="118"/>
                </a:lnTo>
                <a:lnTo>
                  <a:pt x="325" y="101"/>
                </a:lnTo>
                <a:lnTo>
                  <a:pt x="329" y="91"/>
                </a:lnTo>
                <a:lnTo>
                  <a:pt x="326" y="80"/>
                </a:lnTo>
                <a:lnTo>
                  <a:pt x="323" y="69"/>
                </a:lnTo>
                <a:lnTo>
                  <a:pt x="317" y="57"/>
                </a:lnTo>
                <a:lnTo>
                  <a:pt x="311" y="56"/>
                </a:lnTo>
                <a:lnTo>
                  <a:pt x="308" y="52"/>
                </a:lnTo>
                <a:lnTo>
                  <a:pt x="305" y="43"/>
                </a:lnTo>
                <a:lnTo>
                  <a:pt x="305" y="34"/>
                </a:lnTo>
                <a:lnTo>
                  <a:pt x="312" y="22"/>
                </a:lnTo>
                <a:lnTo>
                  <a:pt x="329" y="12"/>
                </a:lnTo>
                <a:lnTo>
                  <a:pt x="340" y="0"/>
                </a:lnTo>
                <a:lnTo>
                  <a:pt x="348" y="0"/>
                </a:lnTo>
              </a:path>
            </a:pathLst>
          </a:custGeom>
          <a:solidFill>
            <a:srgbClr val="33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Freeform 62"/>
          <p:cNvSpPr/>
          <p:nvPr/>
        </p:nvSpPr>
        <p:spPr>
          <a:xfrm>
            <a:off x="8418600" y="198288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7625" h="7">
                <a:moveTo>
                  <a:pt x="0" y="7"/>
                </a:moveTo>
                <a:lnTo>
                  <a:pt x="0" y="7"/>
                </a:lnTo>
                <a:lnTo>
                  <a:pt x="0" y="6"/>
                </a:lnTo>
                <a:lnTo>
                  <a:pt x="0" y="4"/>
                </a:lnTo>
                <a:lnTo>
                  <a:pt x="0" y="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Freeform 63"/>
          <p:cNvSpPr/>
          <p:nvPr/>
        </p:nvSpPr>
        <p:spPr>
          <a:xfrm>
            <a:off x="8609040" y="233676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7625" h="7">
                <a:moveTo>
                  <a:pt x="0" y="7"/>
                </a:moveTo>
                <a:lnTo>
                  <a:pt x="0" y="7"/>
                </a:lnTo>
                <a:lnTo>
                  <a:pt x="0" y="6"/>
                </a:lnTo>
                <a:lnTo>
                  <a:pt x="0" y="3"/>
                </a:lnTo>
                <a:lnTo>
                  <a:pt x="0" y="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Freeform 64"/>
          <p:cNvSpPr/>
          <p:nvPr/>
        </p:nvSpPr>
        <p:spPr>
          <a:xfrm>
            <a:off x="8113680" y="276552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6037" h="7">
                <a:moveTo>
                  <a:pt x="0" y="7"/>
                </a:moveTo>
                <a:lnTo>
                  <a:pt x="0" y="7"/>
                </a:lnTo>
                <a:lnTo>
                  <a:pt x="0" y="6"/>
                </a:lnTo>
                <a:lnTo>
                  <a:pt x="0" y="4"/>
                </a:lnTo>
                <a:lnTo>
                  <a:pt x="0" y="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Freeform 65"/>
          <p:cNvSpPr/>
          <p:nvPr/>
        </p:nvSpPr>
        <p:spPr>
          <a:xfrm>
            <a:off x="8169120" y="276552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7625" h="7">
                <a:moveTo>
                  <a:pt x="0" y="7"/>
                </a:moveTo>
                <a:lnTo>
                  <a:pt x="0" y="7"/>
                </a:lnTo>
                <a:lnTo>
                  <a:pt x="0" y="6"/>
                </a:lnTo>
                <a:lnTo>
                  <a:pt x="0" y="4"/>
                </a:lnTo>
                <a:lnTo>
                  <a:pt x="0" y="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Freeform 66"/>
          <p:cNvSpPr/>
          <p:nvPr/>
        </p:nvSpPr>
        <p:spPr>
          <a:xfrm>
            <a:off x="7174080" y="309564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7625" h="7">
                <a:moveTo>
                  <a:pt x="0" y="7"/>
                </a:moveTo>
                <a:lnTo>
                  <a:pt x="0" y="7"/>
                </a:lnTo>
                <a:lnTo>
                  <a:pt x="0" y="5"/>
                </a:lnTo>
                <a:lnTo>
                  <a:pt x="0" y="3"/>
                </a:lnTo>
                <a:lnTo>
                  <a:pt x="0" y="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Text Box 67"/>
          <p:cNvSpPr/>
          <p:nvPr/>
        </p:nvSpPr>
        <p:spPr>
          <a:xfrm>
            <a:off x="5540400" y="5918040"/>
            <a:ext cx="3009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Lucida Sans Unicode"/>
              </a:rPr>
              <a:t>1,000 – 2,999 Compan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Text Box 68"/>
          <p:cNvSpPr/>
          <p:nvPr/>
        </p:nvSpPr>
        <p:spPr>
          <a:xfrm>
            <a:off x="3673440" y="6124680"/>
            <a:ext cx="23479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Lucida Sans Unicode"/>
              </a:rPr>
              <a:t>500 - 999 Compan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Text Box 69"/>
          <p:cNvSpPr/>
          <p:nvPr/>
        </p:nvSpPr>
        <p:spPr>
          <a:xfrm>
            <a:off x="5470560" y="5710320"/>
            <a:ext cx="2506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Lucida Sans Unicode"/>
              </a:rPr>
              <a:t>100 - 499 Companies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Lucida Sans Unicode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Text Box 70"/>
          <p:cNvSpPr/>
          <p:nvPr/>
        </p:nvSpPr>
        <p:spPr>
          <a:xfrm>
            <a:off x="521640" y="3430440"/>
            <a:ext cx="88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10,76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Text Box 71"/>
          <p:cNvSpPr/>
          <p:nvPr/>
        </p:nvSpPr>
        <p:spPr>
          <a:xfrm>
            <a:off x="3888720" y="4802040"/>
            <a:ext cx="75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5,2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Text Box 72"/>
          <p:cNvSpPr/>
          <p:nvPr/>
        </p:nvSpPr>
        <p:spPr>
          <a:xfrm>
            <a:off x="5478120" y="3059280"/>
            <a:ext cx="75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4,05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Text Box 73"/>
          <p:cNvSpPr/>
          <p:nvPr/>
        </p:nvSpPr>
        <p:spPr>
          <a:xfrm>
            <a:off x="7449480" y="2306520"/>
            <a:ext cx="75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5,12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Text Box 74"/>
          <p:cNvSpPr/>
          <p:nvPr/>
        </p:nvSpPr>
        <p:spPr>
          <a:xfrm>
            <a:off x="2963520" y="3297240"/>
            <a:ext cx="75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1,23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Text Box 75"/>
          <p:cNvSpPr/>
          <p:nvPr/>
        </p:nvSpPr>
        <p:spPr>
          <a:xfrm>
            <a:off x="4982760" y="3540240"/>
            <a:ext cx="75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1,34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Text Box 76"/>
          <p:cNvSpPr/>
          <p:nvPr/>
        </p:nvSpPr>
        <p:spPr>
          <a:xfrm>
            <a:off x="4649400" y="1758960"/>
            <a:ext cx="75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1,63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Text Box 77"/>
          <p:cNvSpPr/>
          <p:nvPr/>
        </p:nvSpPr>
        <p:spPr>
          <a:xfrm>
            <a:off x="7925760" y="5445000"/>
            <a:ext cx="75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2,16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Text Box 78"/>
          <p:cNvSpPr/>
          <p:nvPr/>
        </p:nvSpPr>
        <p:spPr>
          <a:xfrm>
            <a:off x="6681240" y="4449600"/>
            <a:ext cx="75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2,08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Text Box 79"/>
          <p:cNvSpPr/>
          <p:nvPr/>
        </p:nvSpPr>
        <p:spPr>
          <a:xfrm>
            <a:off x="7183080" y="3749760"/>
            <a:ext cx="75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1,38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Text Box 80"/>
          <p:cNvSpPr/>
          <p:nvPr/>
        </p:nvSpPr>
        <p:spPr>
          <a:xfrm>
            <a:off x="7306920" y="3368520"/>
            <a:ext cx="75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2,8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Text Box 81"/>
          <p:cNvSpPr/>
          <p:nvPr/>
        </p:nvSpPr>
        <p:spPr>
          <a:xfrm>
            <a:off x="6144840" y="2387520"/>
            <a:ext cx="75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1,08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Text Box 82"/>
          <p:cNvSpPr/>
          <p:nvPr/>
        </p:nvSpPr>
        <p:spPr>
          <a:xfrm>
            <a:off x="6478200" y="2863800"/>
            <a:ext cx="75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2,45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Text Box 83"/>
          <p:cNvSpPr/>
          <p:nvPr/>
        </p:nvSpPr>
        <p:spPr>
          <a:xfrm>
            <a:off x="7268760" y="2690640"/>
            <a:ext cx="75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3,51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Text Box 84"/>
          <p:cNvSpPr/>
          <p:nvPr/>
        </p:nvSpPr>
        <p:spPr>
          <a:xfrm>
            <a:off x="8389440" y="3016080"/>
            <a:ext cx="75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3,36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Text Box 85"/>
          <p:cNvSpPr/>
          <p:nvPr/>
        </p:nvSpPr>
        <p:spPr>
          <a:xfrm>
            <a:off x="8218440" y="2776680"/>
            <a:ext cx="8287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Lucida Sans Unicode"/>
              </a:rPr>
              <a:t>1,46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Line 86"/>
          <p:cNvSpPr/>
          <p:nvPr/>
        </p:nvSpPr>
        <p:spPr>
          <a:xfrm flipH="1" flipV="1">
            <a:off x="8153280" y="2971800"/>
            <a:ext cx="324000" cy="1332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Line 87"/>
          <p:cNvSpPr/>
          <p:nvPr/>
        </p:nvSpPr>
        <p:spPr>
          <a:xfrm flipH="1" flipV="1">
            <a:off x="8442000" y="2530080"/>
            <a:ext cx="190440" cy="304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Text Box 88"/>
          <p:cNvSpPr/>
          <p:nvPr/>
        </p:nvSpPr>
        <p:spPr>
          <a:xfrm>
            <a:off x="972720" y="1387440"/>
            <a:ext cx="75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1,22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Text Box 89"/>
          <p:cNvSpPr/>
          <p:nvPr/>
        </p:nvSpPr>
        <p:spPr>
          <a:xfrm>
            <a:off x="8511480" y="2009880"/>
            <a:ext cx="63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Lucida Sans Unicode"/>
              </a:rPr>
              <a:t>2,1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Line 90"/>
          <p:cNvSpPr/>
          <p:nvPr/>
        </p:nvSpPr>
        <p:spPr>
          <a:xfrm flipH="1">
            <a:off x="8477280" y="2257560"/>
            <a:ext cx="333360" cy="15228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Text Box 91"/>
          <p:cNvSpPr/>
          <p:nvPr/>
        </p:nvSpPr>
        <p:spPr>
          <a:xfrm>
            <a:off x="1858320" y="4111560"/>
            <a:ext cx="56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67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Text Box 92"/>
          <p:cNvSpPr/>
          <p:nvPr/>
        </p:nvSpPr>
        <p:spPr>
          <a:xfrm>
            <a:off x="3963600" y="2882880"/>
            <a:ext cx="56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17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Text Box 93"/>
          <p:cNvSpPr/>
          <p:nvPr/>
        </p:nvSpPr>
        <p:spPr>
          <a:xfrm>
            <a:off x="6144480" y="3859200"/>
            <a:ext cx="56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89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Text Box 94"/>
          <p:cNvSpPr/>
          <p:nvPr/>
        </p:nvSpPr>
        <p:spPr>
          <a:xfrm>
            <a:off x="6077880" y="3164040"/>
            <a:ext cx="56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76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Line 95"/>
          <p:cNvSpPr/>
          <p:nvPr/>
        </p:nvSpPr>
        <p:spPr>
          <a:xfrm flipH="1" flipV="1">
            <a:off x="7848360" y="3123720"/>
            <a:ext cx="561960" cy="5050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Text Box 96"/>
          <p:cNvSpPr/>
          <p:nvPr/>
        </p:nvSpPr>
        <p:spPr>
          <a:xfrm>
            <a:off x="8199000" y="3568680"/>
            <a:ext cx="75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1,06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Text Box 97"/>
          <p:cNvSpPr/>
          <p:nvPr/>
        </p:nvSpPr>
        <p:spPr>
          <a:xfrm>
            <a:off x="5286240" y="2152800"/>
            <a:ext cx="1028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1,09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Rectangle 98"/>
          <p:cNvSpPr/>
          <p:nvPr/>
        </p:nvSpPr>
        <p:spPr>
          <a:xfrm>
            <a:off x="1281240" y="2940120"/>
            <a:ext cx="52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MS PGothic"/>
              </a:rPr>
              <a:t>26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1" name="Group 99"/>
          <p:cNvGrpSpPr/>
          <p:nvPr/>
        </p:nvGrpSpPr>
        <p:grpSpPr>
          <a:xfrm>
            <a:off x="493560" y="4811760"/>
            <a:ext cx="1947600" cy="1350720"/>
            <a:chOff x="493560" y="4811760"/>
            <a:chExt cx="1947600" cy="1350720"/>
          </a:xfrm>
        </p:grpSpPr>
        <p:sp>
          <p:nvSpPr>
            <p:cNvPr id="412" name="Freeform 100"/>
            <p:cNvSpPr/>
            <p:nvPr/>
          </p:nvSpPr>
          <p:spPr>
            <a:xfrm>
              <a:off x="1043640" y="4811760"/>
              <a:ext cx="1397520" cy="1184040"/>
            </a:xfrm>
            <a:custGeom>
              <a:avLst/>
              <a:gdLst>
                <a:gd name="textAreaLeft" fmla="*/ 0 w 1397520"/>
                <a:gd name="textAreaRight" fmla="*/ 1397880 w 1397520"/>
                <a:gd name="textAreaTop" fmla="*/ 0 h 1184040"/>
                <a:gd name="textAreaBottom" fmla="*/ 1184400 h 1184040"/>
              </a:gdLst>
              <a:ahLst/>
              <a:rect l="textAreaLeft" t="textAreaTop" r="textAreaRight" b="textAreaBottom"/>
              <a:pathLst>
                <a:path w="752" h="624">
                  <a:moveTo>
                    <a:pt x="744" y="480"/>
                  </a:moveTo>
                  <a:lnTo>
                    <a:pt x="752" y="472"/>
                  </a:lnTo>
                  <a:lnTo>
                    <a:pt x="752" y="464"/>
                  </a:lnTo>
                  <a:lnTo>
                    <a:pt x="752" y="456"/>
                  </a:lnTo>
                  <a:lnTo>
                    <a:pt x="752" y="440"/>
                  </a:lnTo>
                  <a:lnTo>
                    <a:pt x="736" y="432"/>
                  </a:lnTo>
                  <a:lnTo>
                    <a:pt x="720" y="432"/>
                  </a:lnTo>
                  <a:lnTo>
                    <a:pt x="712" y="424"/>
                  </a:lnTo>
                  <a:lnTo>
                    <a:pt x="696" y="424"/>
                  </a:lnTo>
                  <a:lnTo>
                    <a:pt x="624" y="368"/>
                  </a:lnTo>
                  <a:lnTo>
                    <a:pt x="600" y="360"/>
                  </a:lnTo>
                  <a:lnTo>
                    <a:pt x="584" y="344"/>
                  </a:lnTo>
                  <a:lnTo>
                    <a:pt x="568" y="360"/>
                  </a:lnTo>
                  <a:lnTo>
                    <a:pt x="576" y="368"/>
                  </a:lnTo>
                  <a:lnTo>
                    <a:pt x="560" y="384"/>
                  </a:lnTo>
                  <a:lnTo>
                    <a:pt x="528" y="368"/>
                  </a:lnTo>
                  <a:lnTo>
                    <a:pt x="528" y="360"/>
                  </a:lnTo>
                  <a:lnTo>
                    <a:pt x="512" y="352"/>
                  </a:lnTo>
                  <a:lnTo>
                    <a:pt x="496" y="352"/>
                  </a:lnTo>
                  <a:lnTo>
                    <a:pt x="488" y="360"/>
                  </a:lnTo>
                  <a:lnTo>
                    <a:pt x="480" y="360"/>
                  </a:lnTo>
                  <a:lnTo>
                    <a:pt x="480" y="368"/>
                  </a:lnTo>
                  <a:lnTo>
                    <a:pt x="376" y="24"/>
                  </a:lnTo>
                  <a:lnTo>
                    <a:pt x="368" y="24"/>
                  </a:lnTo>
                  <a:lnTo>
                    <a:pt x="352" y="16"/>
                  </a:lnTo>
                  <a:lnTo>
                    <a:pt x="328" y="16"/>
                  </a:lnTo>
                  <a:lnTo>
                    <a:pt x="320" y="24"/>
                  </a:lnTo>
                  <a:lnTo>
                    <a:pt x="312" y="24"/>
                  </a:lnTo>
                  <a:lnTo>
                    <a:pt x="280" y="24"/>
                  </a:lnTo>
                  <a:lnTo>
                    <a:pt x="264" y="24"/>
                  </a:lnTo>
                  <a:lnTo>
                    <a:pt x="256" y="24"/>
                  </a:lnTo>
                  <a:lnTo>
                    <a:pt x="248" y="24"/>
                  </a:lnTo>
                  <a:lnTo>
                    <a:pt x="232" y="24"/>
                  </a:lnTo>
                  <a:lnTo>
                    <a:pt x="224" y="8"/>
                  </a:lnTo>
                  <a:lnTo>
                    <a:pt x="216" y="8"/>
                  </a:lnTo>
                  <a:lnTo>
                    <a:pt x="208" y="8"/>
                  </a:lnTo>
                  <a:lnTo>
                    <a:pt x="208" y="16"/>
                  </a:lnTo>
                  <a:lnTo>
                    <a:pt x="192" y="0"/>
                  </a:lnTo>
                  <a:lnTo>
                    <a:pt x="184" y="8"/>
                  </a:lnTo>
                  <a:lnTo>
                    <a:pt x="184" y="0"/>
                  </a:lnTo>
                  <a:lnTo>
                    <a:pt x="168" y="0"/>
                  </a:lnTo>
                  <a:lnTo>
                    <a:pt x="160" y="8"/>
                  </a:lnTo>
                  <a:lnTo>
                    <a:pt x="152" y="16"/>
                  </a:lnTo>
                  <a:lnTo>
                    <a:pt x="144" y="16"/>
                  </a:lnTo>
                  <a:lnTo>
                    <a:pt x="136" y="16"/>
                  </a:lnTo>
                  <a:lnTo>
                    <a:pt x="120" y="32"/>
                  </a:lnTo>
                  <a:lnTo>
                    <a:pt x="112" y="32"/>
                  </a:lnTo>
                  <a:lnTo>
                    <a:pt x="96" y="48"/>
                  </a:lnTo>
                  <a:lnTo>
                    <a:pt x="72" y="80"/>
                  </a:lnTo>
                  <a:lnTo>
                    <a:pt x="72" y="88"/>
                  </a:lnTo>
                  <a:lnTo>
                    <a:pt x="48" y="88"/>
                  </a:lnTo>
                  <a:lnTo>
                    <a:pt x="32" y="104"/>
                  </a:lnTo>
                  <a:lnTo>
                    <a:pt x="48" y="112"/>
                  </a:lnTo>
                  <a:lnTo>
                    <a:pt x="72" y="136"/>
                  </a:lnTo>
                  <a:lnTo>
                    <a:pt x="72" y="152"/>
                  </a:lnTo>
                  <a:lnTo>
                    <a:pt x="96" y="160"/>
                  </a:lnTo>
                  <a:lnTo>
                    <a:pt x="104" y="176"/>
                  </a:lnTo>
                  <a:lnTo>
                    <a:pt x="112" y="176"/>
                  </a:lnTo>
                  <a:lnTo>
                    <a:pt x="112" y="184"/>
                  </a:lnTo>
                  <a:lnTo>
                    <a:pt x="96" y="184"/>
                  </a:lnTo>
                  <a:lnTo>
                    <a:pt x="88" y="168"/>
                  </a:lnTo>
                  <a:lnTo>
                    <a:pt x="88" y="176"/>
                  </a:lnTo>
                  <a:lnTo>
                    <a:pt x="96" y="184"/>
                  </a:lnTo>
                  <a:lnTo>
                    <a:pt x="112" y="192"/>
                  </a:lnTo>
                  <a:lnTo>
                    <a:pt x="96" y="200"/>
                  </a:lnTo>
                  <a:lnTo>
                    <a:pt x="64" y="192"/>
                  </a:lnTo>
                  <a:lnTo>
                    <a:pt x="72" y="176"/>
                  </a:lnTo>
                  <a:lnTo>
                    <a:pt x="40" y="184"/>
                  </a:lnTo>
                  <a:lnTo>
                    <a:pt x="40" y="192"/>
                  </a:lnTo>
                  <a:lnTo>
                    <a:pt x="32" y="192"/>
                  </a:lnTo>
                  <a:lnTo>
                    <a:pt x="32" y="184"/>
                  </a:lnTo>
                  <a:lnTo>
                    <a:pt x="24" y="184"/>
                  </a:lnTo>
                  <a:lnTo>
                    <a:pt x="0" y="200"/>
                  </a:lnTo>
                  <a:lnTo>
                    <a:pt x="0" y="208"/>
                  </a:lnTo>
                  <a:lnTo>
                    <a:pt x="8" y="224"/>
                  </a:lnTo>
                  <a:lnTo>
                    <a:pt x="16" y="224"/>
                  </a:lnTo>
                  <a:lnTo>
                    <a:pt x="24" y="232"/>
                  </a:lnTo>
                  <a:lnTo>
                    <a:pt x="24" y="240"/>
                  </a:lnTo>
                  <a:lnTo>
                    <a:pt x="32" y="248"/>
                  </a:lnTo>
                  <a:lnTo>
                    <a:pt x="56" y="248"/>
                  </a:lnTo>
                  <a:lnTo>
                    <a:pt x="72" y="256"/>
                  </a:lnTo>
                  <a:lnTo>
                    <a:pt x="88" y="256"/>
                  </a:lnTo>
                  <a:lnTo>
                    <a:pt x="104" y="240"/>
                  </a:lnTo>
                  <a:lnTo>
                    <a:pt x="112" y="240"/>
                  </a:lnTo>
                  <a:lnTo>
                    <a:pt x="120" y="240"/>
                  </a:lnTo>
                  <a:lnTo>
                    <a:pt x="120" y="248"/>
                  </a:lnTo>
                  <a:lnTo>
                    <a:pt x="104" y="256"/>
                  </a:lnTo>
                  <a:lnTo>
                    <a:pt x="112" y="272"/>
                  </a:lnTo>
                  <a:lnTo>
                    <a:pt x="112" y="288"/>
                  </a:lnTo>
                  <a:lnTo>
                    <a:pt x="88" y="288"/>
                  </a:lnTo>
                  <a:lnTo>
                    <a:pt x="72" y="312"/>
                  </a:lnTo>
                  <a:lnTo>
                    <a:pt x="72" y="304"/>
                  </a:lnTo>
                  <a:lnTo>
                    <a:pt x="64" y="304"/>
                  </a:lnTo>
                  <a:lnTo>
                    <a:pt x="48" y="304"/>
                  </a:lnTo>
                  <a:lnTo>
                    <a:pt x="48" y="312"/>
                  </a:lnTo>
                  <a:lnTo>
                    <a:pt x="48" y="320"/>
                  </a:lnTo>
                  <a:lnTo>
                    <a:pt x="48" y="336"/>
                  </a:lnTo>
                  <a:lnTo>
                    <a:pt x="32" y="336"/>
                  </a:lnTo>
                  <a:lnTo>
                    <a:pt x="32" y="344"/>
                  </a:lnTo>
                  <a:lnTo>
                    <a:pt x="24" y="352"/>
                  </a:lnTo>
                  <a:lnTo>
                    <a:pt x="16" y="360"/>
                  </a:lnTo>
                  <a:lnTo>
                    <a:pt x="16" y="368"/>
                  </a:lnTo>
                  <a:lnTo>
                    <a:pt x="24" y="368"/>
                  </a:lnTo>
                  <a:lnTo>
                    <a:pt x="32" y="360"/>
                  </a:lnTo>
                  <a:lnTo>
                    <a:pt x="24" y="376"/>
                  </a:lnTo>
                  <a:lnTo>
                    <a:pt x="32" y="384"/>
                  </a:lnTo>
                  <a:lnTo>
                    <a:pt x="48" y="400"/>
                  </a:lnTo>
                  <a:lnTo>
                    <a:pt x="56" y="400"/>
                  </a:lnTo>
                  <a:lnTo>
                    <a:pt x="40" y="416"/>
                  </a:lnTo>
                  <a:lnTo>
                    <a:pt x="40" y="424"/>
                  </a:lnTo>
                  <a:lnTo>
                    <a:pt x="48" y="424"/>
                  </a:lnTo>
                  <a:lnTo>
                    <a:pt x="56" y="432"/>
                  </a:lnTo>
                  <a:lnTo>
                    <a:pt x="56" y="440"/>
                  </a:lnTo>
                  <a:lnTo>
                    <a:pt x="72" y="440"/>
                  </a:lnTo>
                  <a:lnTo>
                    <a:pt x="80" y="416"/>
                  </a:lnTo>
                  <a:lnTo>
                    <a:pt x="88" y="408"/>
                  </a:lnTo>
                  <a:lnTo>
                    <a:pt x="88" y="416"/>
                  </a:lnTo>
                  <a:lnTo>
                    <a:pt x="88" y="432"/>
                  </a:lnTo>
                  <a:lnTo>
                    <a:pt x="96" y="440"/>
                  </a:lnTo>
                  <a:lnTo>
                    <a:pt x="96" y="448"/>
                  </a:lnTo>
                  <a:lnTo>
                    <a:pt x="96" y="456"/>
                  </a:lnTo>
                  <a:lnTo>
                    <a:pt x="96" y="464"/>
                  </a:lnTo>
                  <a:lnTo>
                    <a:pt x="96" y="472"/>
                  </a:lnTo>
                  <a:lnTo>
                    <a:pt x="96" y="480"/>
                  </a:lnTo>
                  <a:lnTo>
                    <a:pt x="96" y="488"/>
                  </a:lnTo>
                  <a:lnTo>
                    <a:pt x="104" y="488"/>
                  </a:lnTo>
                  <a:lnTo>
                    <a:pt x="112" y="464"/>
                  </a:lnTo>
                  <a:lnTo>
                    <a:pt x="120" y="456"/>
                  </a:lnTo>
                  <a:lnTo>
                    <a:pt x="128" y="472"/>
                  </a:lnTo>
                  <a:lnTo>
                    <a:pt x="128" y="456"/>
                  </a:lnTo>
                  <a:lnTo>
                    <a:pt x="136" y="456"/>
                  </a:lnTo>
                  <a:lnTo>
                    <a:pt x="144" y="472"/>
                  </a:lnTo>
                  <a:lnTo>
                    <a:pt x="144" y="488"/>
                  </a:lnTo>
                  <a:lnTo>
                    <a:pt x="152" y="488"/>
                  </a:lnTo>
                  <a:lnTo>
                    <a:pt x="152" y="472"/>
                  </a:lnTo>
                  <a:lnTo>
                    <a:pt x="160" y="472"/>
                  </a:lnTo>
                  <a:lnTo>
                    <a:pt x="176" y="472"/>
                  </a:lnTo>
                  <a:lnTo>
                    <a:pt x="184" y="464"/>
                  </a:lnTo>
                  <a:lnTo>
                    <a:pt x="192" y="448"/>
                  </a:lnTo>
                  <a:lnTo>
                    <a:pt x="184" y="480"/>
                  </a:lnTo>
                  <a:lnTo>
                    <a:pt x="176" y="504"/>
                  </a:lnTo>
                  <a:lnTo>
                    <a:pt x="168" y="536"/>
                  </a:lnTo>
                  <a:lnTo>
                    <a:pt x="160" y="536"/>
                  </a:lnTo>
                  <a:lnTo>
                    <a:pt x="160" y="544"/>
                  </a:lnTo>
                  <a:lnTo>
                    <a:pt x="136" y="560"/>
                  </a:lnTo>
                  <a:lnTo>
                    <a:pt x="120" y="568"/>
                  </a:lnTo>
                  <a:lnTo>
                    <a:pt x="120" y="584"/>
                  </a:lnTo>
                  <a:lnTo>
                    <a:pt x="120" y="592"/>
                  </a:lnTo>
                  <a:lnTo>
                    <a:pt x="112" y="592"/>
                  </a:lnTo>
                  <a:lnTo>
                    <a:pt x="112" y="584"/>
                  </a:lnTo>
                  <a:lnTo>
                    <a:pt x="104" y="584"/>
                  </a:lnTo>
                  <a:lnTo>
                    <a:pt x="96" y="584"/>
                  </a:lnTo>
                  <a:lnTo>
                    <a:pt x="88" y="584"/>
                  </a:lnTo>
                  <a:lnTo>
                    <a:pt x="64" y="608"/>
                  </a:lnTo>
                  <a:lnTo>
                    <a:pt x="56" y="616"/>
                  </a:lnTo>
                  <a:lnTo>
                    <a:pt x="64" y="624"/>
                  </a:lnTo>
                  <a:lnTo>
                    <a:pt x="80" y="608"/>
                  </a:lnTo>
                  <a:lnTo>
                    <a:pt x="96" y="592"/>
                  </a:lnTo>
                  <a:lnTo>
                    <a:pt x="96" y="600"/>
                  </a:lnTo>
                  <a:lnTo>
                    <a:pt x="96" y="608"/>
                  </a:lnTo>
                  <a:lnTo>
                    <a:pt x="104" y="608"/>
                  </a:lnTo>
                  <a:lnTo>
                    <a:pt x="128" y="592"/>
                  </a:lnTo>
                  <a:lnTo>
                    <a:pt x="128" y="584"/>
                  </a:lnTo>
                  <a:lnTo>
                    <a:pt x="136" y="592"/>
                  </a:lnTo>
                  <a:lnTo>
                    <a:pt x="136" y="584"/>
                  </a:lnTo>
                  <a:lnTo>
                    <a:pt x="152" y="576"/>
                  </a:lnTo>
                  <a:lnTo>
                    <a:pt x="168" y="576"/>
                  </a:lnTo>
                  <a:lnTo>
                    <a:pt x="160" y="568"/>
                  </a:lnTo>
                  <a:lnTo>
                    <a:pt x="160" y="560"/>
                  </a:lnTo>
                  <a:lnTo>
                    <a:pt x="184" y="544"/>
                  </a:lnTo>
                  <a:lnTo>
                    <a:pt x="200" y="536"/>
                  </a:lnTo>
                  <a:lnTo>
                    <a:pt x="200" y="528"/>
                  </a:lnTo>
                  <a:lnTo>
                    <a:pt x="216" y="504"/>
                  </a:lnTo>
                  <a:lnTo>
                    <a:pt x="248" y="480"/>
                  </a:lnTo>
                  <a:lnTo>
                    <a:pt x="256" y="472"/>
                  </a:lnTo>
                  <a:lnTo>
                    <a:pt x="256" y="464"/>
                  </a:lnTo>
                  <a:lnTo>
                    <a:pt x="256" y="456"/>
                  </a:lnTo>
                  <a:lnTo>
                    <a:pt x="240" y="456"/>
                  </a:lnTo>
                  <a:lnTo>
                    <a:pt x="240" y="448"/>
                  </a:lnTo>
                  <a:lnTo>
                    <a:pt x="248" y="432"/>
                  </a:lnTo>
                  <a:lnTo>
                    <a:pt x="272" y="416"/>
                  </a:lnTo>
                  <a:lnTo>
                    <a:pt x="272" y="400"/>
                  </a:lnTo>
                  <a:lnTo>
                    <a:pt x="288" y="360"/>
                  </a:lnTo>
                  <a:lnTo>
                    <a:pt x="312" y="360"/>
                  </a:lnTo>
                  <a:lnTo>
                    <a:pt x="320" y="368"/>
                  </a:lnTo>
                  <a:lnTo>
                    <a:pt x="312" y="376"/>
                  </a:lnTo>
                  <a:lnTo>
                    <a:pt x="288" y="376"/>
                  </a:lnTo>
                  <a:lnTo>
                    <a:pt x="288" y="400"/>
                  </a:lnTo>
                  <a:lnTo>
                    <a:pt x="296" y="408"/>
                  </a:lnTo>
                  <a:lnTo>
                    <a:pt x="288" y="424"/>
                  </a:lnTo>
                  <a:lnTo>
                    <a:pt x="296" y="424"/>
                  </a:lnTo>
                  <a:lnTo>
                    <a:pt x="288" y="440"/>
                  </a:lnTo>
                  <a:lnTo>
                    <a:pt x="288" y="448"/>
                  </a:lnTo>
                  <a:lnTo>
                    <a:pt x="296" y="440"/>
                  </a:lnTo>
                  <a:lnTo>
                    <a:pt x="304" y="432"/>
                  </a:lnTo>
                  <a:lnTo>
                    <a:pt x="320" y="416"/>
                  </a:lnTo>
                  <a:lnTo>
                    <a:pt x="328" y="416"/>
                  </a:lnTo>
                  <a:lnTo>
                    <a:pt x="336" y="408"/>
                  </a:lnTo>
                  <a:lnTo>
                    <a:pt x="344" y="400"/>
                  </a:lnTo>
                  <a:lnTo>
                    <a:pt x="344" y="392"/>
                  </a:lnTo>
                  <a:lnTo>
                    <a:pt x="336" y="384"/>
                  </a:lnTo>
                  <a:lnTo>
                    <a:pt x="336" y="376"/>
                  </a:lnTo>
                  <a:lnTo>
                    <a:pt x="336" y="368"/>
                  </a:lnTo>
                  <a:lnTo>
                    <a:pt x="352" y="360"/>
                  </a:lnTo>
                  <a:lnTo>
                    <a:pt x="352" y="368"/>
                  </a:lnTo>
                  <a:lnTo>
                    <a:pt x="368" y="360"/>
                  </a:lnTo>
                  <a:lnTo>
                    <a:pt x="392" y="368"/>
                  </a:lnTo>
                  <a:lnTo>
                    <a:pt x="400" y="384"/>
                  </a:lnTo>
                  <a:lnTo>
                    <a:pt x="408" y="368"/>
                  </a:lnTo>
                  <a:lnTo>
                    <a:pt x="424" y="392"/>
                  </a:lnTo>
                  <a:lnTo>
                    <a:pt x="424" y="384"/>
                  </a:lnTo>
                  <a:lnTo>
                    <a:pt x="448" y="376"/>
                  </a:lnTo>
                  <a:lnTo>
                    <a:pt x="480" y="376"/>
                  </a:lnTo>
                  <a:lnTo>
                    <a:pt x="496" y="376"/>
                  </a:lnTo>
                  <a:lnTo>
                    <a:pt x="504" y="368"/>
                  </a:lnTo>
                  <a:lnTo>
                    <a:pt x="512" y="376"/>
                  </a:lnTo>
                  <a:lnTo>
                    <a:pt x="512" y="384"/>
                  </a:lnTo>
                  <a:lnTo>
                    <a:pt x="536" y="384"/>
                  </a:lnTo>
                  <a:lnTo>
                    <a:pt x="544" y="384"/>
                  </a:lnTo>
                  <a:lnTo>
                    <a:pt x="568" y="400"/>
                  </a:lnTo>
                  <a:lnTo>
                    <a:pt x="576" y="408"/>
                  </a:lnTo>
                  <a:lnTo>
                    <a:pt x="592" y="408"/>
                  </a:lnTo>
                  <a:lnTo>
                    <a:pt x="592" y="400"/>
                  </a:lnTo>
                  <a:lnTo>
                    <a:pt x="576" y="384"/>
                  </a:lnTo>
                  <a:lnTo>
                    <a:pt x="584" y="376"/>
                  </a:lnTo>
                  <a:lnTo>
                    <a:pt x="592" y="384"/>
                  </a:lnTo>
                  <a:lnTo>
                    <a:pt x="600" y="392"/>
                  </a:lnTo>
                  <a:lnTo>
                    <a:pt x="608" y="392"/>
                  </a:lnTo>
                  <a:lnTo>
                    <a:pt x="592" y="368"/>
                  </a:lnTo>
                  <a:lnTo>
                    <a:pt x="600" y="360"/>
                  </a:lnTo>
                  <a:lnTo>
                    <a:pt x="616" y="392"/>
                  </a:lnTo>
                  <a:lnTo>
                    <a:pt x="632" y="384"/>
                  </a:lnTo>
                  <a:lnTo>
                    <a:pt x="640" y="392"/>
                  </a:lnTo>
                  <a:lnTo>
                    <a:pt x="648" y="400"/>
                  </a:lnTo>
                  <a:lnTo>
                    <a:pt x="664" y="432"/>
                  </a:lnTo>
                  <a:lnTo>
                    <a:pt x="672" y="432"/>
                  </a:lnTo>
                  <a:lnTo>
                    <a:pt x="672" y="424"/>
                  </a:lnTo>
                  <a:lnTo>
                    <a:pt x="704" y="440"/>
                  </a:lnTo>
                  <a:lnTo>
                    <a:pt x="704" y="448"/>
                  </a:lnTo>
                  <a:lnTo>
                    <a:pt x="704" y="456"/>
                  </a:lnTo>
                  <a:lnTo>
                    <a:pt x="720" y="440"/>
                  </a:lnTo>
                  <a:lnTo>
                    <a:pt x="728" y="440"/>
                  </a:lnTo>
                  <a:lnTo>
                    <a:pt x="728" y="448"/>
                  </a:lnTo>
                  <a:lnTo>
                    <a:pt x="744" y="464"/>
                  </a:lnTo>
                  <a:lnTo>
                    <a:pt x="744" y="472"/>
                  </a:lnTo>
                  <a:lnTo>
                    <a:pt x="744" y="480"/>
                  </a:lnTo>
                  <a:close/>
                </a:path>
              </a:pathLst>
            </a:custGeom>
            <a:solidFill>
              <a:srgbClr val="33996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Freeform 101"/>
            <p:cNvSpPr/>
            <p:nvPr/>
          </p:nvSpPr>
          <p:spPr>
            <a:xfrm>
              <a:off x="2144160" y="5570640"/>
              <a:ext cx="59400" cy="6048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32" h="32">
                  <a:moveTo>
                    <a:pt x="0" y="8"/>
                  </a:moveTo>
                  <a:lnTo>
                    <a:pt x="0" y="8"/>
                  </a:lnTo>
                  <a:lnTo>
                    <a:pt x="16" y="0"/>
                  </a:lnTo>
                  <a:lnTo>
                    <a:pt x="32" y="24"/>
                  </a:lnTo>
                  <a:lnTo>
                    <a:pt x="24" y="16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16" y="32"/>
                  </a:lnTo>
                  <a:lnTo>
                    <a:pt x="0" y="1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33996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Freeform 102"/>
            <p:cNvSpPr/>
            <p:nvPr/>
          </p:nvSpPr>
          <p:spPr>
            <a:xfrm>
              <a:off x="2203560" y="5631120"/>
              <a:ext cx="44640" cy="604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24" h="32">
                  <a:moveTo>
                    <a:pt x="0" y="0"/>
                  </a:moveTo>
                  <a:lnTo>
                    <a:pt x="0" y="0"/>
                  </a:lnTo>
                  <a:lnTo>
                    <a:pt x="8" y="24"/>
                  </a:lnTo>
                  <a:lnTo>
                    <a:pt x="24" y="32"/>
                  </a:lnTo>
                  <a:lnTo>
                    <a:pt x="16" y="8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996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Freeform 103"/>
            <p:cNvSpPr/>
            <p:nvPr/>
          </p:nvSpPr>
          <p:spPr>
            <a:xfrm>
              <a:off x="2188800" y="5570640"/>
              <a:ext cx="59400" cy="4536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" h="24">
                  <a:moveTo>
                    <a:pt x="32" y="16"/>
                  </a:moveTo>
                  <a:lnTo>
                    <a:pt x="32" y="16"/>
                  </a:lnTo>
                  <a:lnTo>
                    <a:pt x="24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0" y="0"/>
                  </a:lnTo>
                  <a:lnTo>
                    <a:pt x="8" y="0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33996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Freeform 104"/>
            <p:cNvSpPr/>
            <p:nvPr/>
          </p:nvSpPr>
          <p:spPr>
            <a:xfrm>
              <a:off x="2322360" y="5676840"/>
              <a:ext cx="59400" cy="7560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32" h="40">
                  <a:moveTo>
                    <a:pt x="8" y="8"/>
                  </a:moveTo>
                  <a:lnTo>
                    <a:pt x="8" y="8"/>
                  </a:lnTo>
                  <a:lnTo>
                    <a:pt x="32" y="32"/>
                  </a:lnTo>
                  <a:lnTo>
                    <a:pt x="32" y="40"/>
                  </a:lnTo>
                  <a:lnTo>
                    <a:pt x="16" y="24"/>
                  </a:lnTo>
                  <a:lnTo>
                    <a:pt x="8" y="24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33996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Freeform 105"/>
            <p:cNvSpPr/>
            <p:nvPr/>
          </p:nvSpPr>
          <p:spPr>
            <a:xfrm>
              <a:off x="2367000" y="5798160"/>
              <a:ext cx="74160" cy="4536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40" h="24">
                  <a:moveTo>
                    <a:pt x="16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32" y="24"/>
                  </a:lnTo>
                  <a:lnTo>
                    <a:pt x="24" y="24"/>
                  </a:lnTo>
                  <a:lnTo>
                    <a:pt x="16" y="24"/>
                  </a:lnTo>
                  <a:lnTo>
                    <a:pt x="8" y="16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996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Freeform 106"/>
            <p:cNvSpPr/>
            <p:nvPr/>
          </p:nvSpPr>
          <p:spPr>
            <a:xfrm>
              <a:off x="1490040" y="5752440"/>
              <a:ext cx="88920" cy="7596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8" h="40">
                  <a:moveTo>
                    <a:pt x="24" y="0"/>
                  </a:moveTo>
                  <a:lnTo>
                    <a:pt x="24" y="0"/>
                  </a:lnTo>
                  <a:lnTo>
                    <a:pt x="16" y="8"/>
                  </a:lnTo>
                  <a:lnTo>
                    <a:pt x="16" y="16"/>
                  </a:lnTo>
                  <a:lnTo>
                    <a:pt x="16" y="24"/>
                  </a:lnTo>
                  <a:lnTo>
                    <a:pt x="8" y="8"/>
                  </a:lnTo>
                  <a:lnTo>
                    <a:pt x="0" y="24"/>
                  </a:lnTo>
                  <a:lnTo>
                    <a:pt x="8" y="40"/>
                  </a:lnTo>
                  <a:lnTo>
                    <a:pt x="24" y="32"/>
                  </a:lnTo>
                  <a:lnTo>
                    <a:pt x="32" y="16"/>
                  </a:lnTo>
                  <a:lnTo>
                    <a:pt x="48" y="16"/>
                  </a:lnTo>
                  <a:lnTo>
                    <a:pt x="40" y="8"/>
                  </a:lnTo>
                  <a:lnTo>
                    <a:pt x="40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33996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Freeform 107"/>
            <p:cNvSpPr/>
            <p:nvPr/>
          </p:nvSpPr>
          <p:spPr>
            <a:xfrm>
              <a:off x="969120" y="6041160"/>
              <a:ext cx="59400" cy="4536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" h="24">
                  <a:moveTo>
                    <a:pt x="24" y="0"/>
                  </a:moveTo>
                  <a:lnTo>
                    <a:pt x="24" y="0"/>
                  </a:lnTo>
                  <a:lnTo>
                    <a:pt x="32" y="8"/>
                  </a:lnTo>
                  <a:lnTo>
                    <a:pt x="8" y="24"/>
                  </a:lnTo>
                  <a:lnTo>
                    <a:pt x="0" y="24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33996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Freeform 108"/>
            <p:cNvSpPr/>
            <p:nvPr/>
          </p:nvSpPr>
          <p:spPr>
            <a:xfrm>
              <a:off x="969120" y="6041160"/>
              <a:ext cx="59400" cy="4536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" h="24">
                  <a:moveTo>
                    <a:pt x="24" y="0"/>
                  </a:moveTo>
                  <a:lnTo>
                    <a:pt x="24" y="0"/>
                  </a:lnTo>
                  <a:lnTo>
                    <a:pt x="32" y="8"/>
                  </a:lnTo>
                  <a:lnTo>
                    <a:pt x="8" y="24"/>
                  </a:lnTo>
                  <a:lnTo>
                    <a:pt x="0" y="24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24" y="0"/>
                  </a:lnTo>
                  <a:lnTo>
                    <a:pt x="32" y="8"/>
                  </a:lnTo>
                  <a:lnTo>
                    <a:pt x="8" y="24"/>
                  </a:lnTo>
                  <a:lnTo>
                    <a:pt x="0" y="24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33996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Freeform 109"/>
            <p:cNvSpPr/>
            <p:nvPr/>
          </p:nvSpPr>
          <p:spPr>
            <a:xfrm>
              <a:off x="909720" y="6071400"/>
              <a:ext cx="59400" cy="4536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" h="24">
                  <a:moveTo>
                    <a:pt x="0" y="24"/>
                  </a:moveTo>
                  <a:lnTo>
                    <a:pt x="0" y="24"/>
                  </a:lnTo>
                  <a:lnTo>
                    <a:pt x="0" y="16"/>
                  </a:lnTo>
                  <a:lnTo>
                    <a:pt x="8" y="8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24" y="8"/>
                  </a:lnTo>
                  <a:lnTo>
                    <a:pt x="16" y="16"/>
                  </a:lnTo>
                  <a:lnTo>
                    <a:pt x="8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33996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Oval 110"/>
            <p:cNvSpPr/>
            <p:nvPr/>
          </p:nvSpPr>
          <p:spPr>
            <a:xfrm>
              <a:off x="1088280" y="5995800"/>
              <a:ext cx="44640" cy="45360"/>
            </a:xfrm>
            <a:prstGeom prst="ellipse">
              <a:avLst/>
            </a:prstGeom>
            <a:solidFill>
              <a:srgbClr val="3399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Oval 111"/>
            <p:cNvSpPr/>
            <p:nvPr/>
          </p:nvSpPr>
          <p:spPr>
            <a:xfrm>
              <a:off x="552960" y="6117120"/>
              <a:ext cx="44640" cy="45360"/>
            </a:xfrm>
            <a:prstGeom prst="ellipse">
              <a:avLst/>
            </a:prstGeom>
            <a:solidFill>
              <a:srgbClr val="3399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Oval 112"/>
            <p:cNvSpPr/>
            <p:nvPr/>
          </p:nvSpPr>
          <p:spPr>
            <a:xfrm>
              <a:off x="686880" y="6117120"/>
              <a:ext cx="44640" cy="45360"/>
            </a:xfrm>
            <a:prstGeom prst="ellipse">
              <a:avLst/>
            </a:prstGeom>
            <a:solidFill>
              <a:srgbClr val="3399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Oval 113"/>
            <p:cNvSpPr/>
            <p:nvPr/>
          </p:nvSpPr>
          <p:spPr>
            <a:xfrm>
              <a:off x="493560" y="6102000"/>
              <a:ext cx="29880" cy="45360"/>
            </a:xfrm>
            <a:prstGeom prst="ellipse">
              <a:avLst/>
            </a:prstGeom>
            <a:solidFill>
              <a:srgbClr val="3399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Oval 114"/>
            <p:cNvSpPr/>
            <p:nvPr/>
          </p:nvSpPr>
          <p:spPr>
            <a:xfrm>
              <a:off x="1251720" y="5965200"/>
              <a:ext cx="29880" cy="30240"/>
            </a:xfrm>
            <a:prstGeom prst="ellipse">
              <a:avLst/>
            </a:prstGeom>
            <a:solidFill>
              <a:srgbClr val="3399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Freeform 115"/>
            <p:cNvSpPr/>
            <p:nvPr/>
          </p:nvSpPr>
          <p:spPr>
            <a:xfrm>
              <a:off x="1028880" y="5585760"/>
              <a:ext cx="59400" cy="3024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32" h="16">
                  <a:moveTo>
                    <a:pt x="24" y="0"/>
                  </a:moveTo>
                  <a:lnTo>
                    <a:pt x="32" y="0"/>
                  </a:lnTo>
                  <a:lnTo>
                    <a:pt x="32" y="8"/>
                  </a:lnTo>
                  <a:lnTo>
                    <a:pt x="32" y="16"/>
                  </a:lnTo>
                  <a:lnTo>
                    <a:pt x="16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33996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Freeform 116"/>
            <p:cNvSpPr/>
            <p:nvPr/>
          </p:nvSpPr>
          <p:spPr>
            <a:xfrm>
              <a:off x="627480" y="6102000"/>
              <a:ext cx="59400" cy="2988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32" h="16">
                  <a:moveTo>
                    <a:pt x="0" y="8"/>
                  </a:moveTo>
                  <a:lnTo>
                    <a:pt x="0" y="8"/>
                  </a:lnTo>
                  <a:lnTo>
                    <a:pt x="24" y="16"/>
                  </a:lnTo>
                  <a:lnTo>
                    <a:pt x="32" y="0"/>
                  </a:lnTo>
                  <a:lnTo>
                    <a:pt x="16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33996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Freeform 117"/>
            <p:cNvSpPr/>
            <p:nvPr/>
          </p:nvSpPr>
          <p:spPr>
            <a:xfrm>
              <a:off x="627480" y="6102000"/>
              <a:ext cx="59400" cy="2988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32" h="16">
                  <a:moveTo>
                    <a:pt x="0" y="8"/>
                  </a:moveTo>
                  <a:lnTo>
                    <a:pt x="0" y="8"/>
                  </a:lnTo>
                  <a:lnTo>
                    <a:pt x="24" y="16"/>
                  </a:lnTo>
                  <a:lnTo>
                    <a:pt x="32" y="0"/>
                  </a:lnTo>
                  <a:lnTo>
                    <a:pt x="16" y="0"/>
                  </a:lnTo>
                  <a:lnTo>
                    <a:pt x="0" y="8"/>
                  </a:lnTo>
                  <a:lnTo>
                    <a:pt x="24" y="16"/>
                  </a:lnTo>
                  <a:lnTo>
                    <a:pt x="32" y="0"/>
                  </a:lnTo>
                  <a:lnTo>
                    <a:pt x="16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33996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Freeform 118"/>
            <p:cNvSpPr/>
            <p:nvPr/>
          </p:nvSpPr>
          <p:spPr>
            <a:xfrm>
              <a:off x="924480" y="5312520"/>
              <a:ext cx="74520" cy="7596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0" h="40">
                  <a:moveTo>
                    <a:pt x="0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16"/>
                  </a:lnTo>
                  <a:lnTo>
                    <a:pt x="24" y="8"/>
                  </a:lnTo>
                  <a:lnTo>
                    <a:pt x="24" y="16"/>
                  </a:lnTo>
                  <a:lnTo>
                    <a:pt x="32" y="24"/>
                  </a:lnTo>
                  <a:lnTo>
                    <a:pt x="40" y="24"/>
                  </a:lnTo>
                  <a:lnTo>
                    <a:pt x="24" y="40"/>
                  </a:lnTo>
                  <a:lnTo>
                    <a:pt x="24" y="32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996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1" name="Group 119"/>
          <p:cNvGrpSpPr/>
          <p:nvPr/>
        </p:nvGrpSpPr>
        <p:grpSpPr>
          <a:xfrm>
            <a:off x="2498760" y="5295960"/>
            <a:ext cx="1091880" cy="810360"/>
            <a:chOff x="2498760" y="5295960"/>
            <a:chExt cx="1091880" cy="810360"/>
          </a:xfrm>
        </p:grpSpPr>
        <p:sp>
          <p:nvSpPr>
            <p:cNvPr id="432" name="Freeform 120"/>
            <p:cNvSpPr/>
            <p:nvPr/>
          </p:nvSpPr>
          <p:spPr>
            <a:xfrm>
              <a:off x="2589480" y="5295960"/>
              <a:ext cx="90720" cy="10512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32" h="32">
                  <a:moveTo>
                    <a:pt x="0" y="16"/>
                  </a:moveTo>
                  <a:lnTo>
                    <a:pt x="0" y="8"/>
                  </a:lnTo>
                  <a:lnTo>
                    <a:pt x="16" y="0"/>
                  </a:lnTo>
                  <a:lnTo>
                    <a:pt x="32" y="0"/>
                  </a:lnTo>
                  <a:lnTo>
                    <a:pt x="32" y="16"/>
                  </a:lnTo>
                  <a:lnTo>
                    <a:pt x="24" y="32"/>
                  </a:lnTo>
                  <a:lnTo>
                    <a:pt x="16" y="32"/>
                  </a:lnTo>
                  <a:lnTo>
                    <a:pt x="0" y="24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Freeform 121"/>
            <p:cNvSpPr/>
            <p:nvPr/>
          </p:nvSpPr>
          <p:spPr>
            <a:xfrm>
              <a:off x="2908080" y="5427000"/>
              <a:ext cx="113400" cy="13032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40" h="40">
                  <a:moveTo>
                    <a:pt x="8" y="8"/>
                  </a:move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4" y="16"/>
                  </a:lnTo>
                  <a:lnTo>
                    <a:pt x="32" y="24"/>
                  </a:lnTo>
                  <a:lnTo>
                    <a:pt x="40" y="32"/>
                  </a:lnTo>
                  <a:lnTo>
                    <a:pt x="32" y="40"/>
                  </a:lnTo>
                  <a:lnTo>
                    <a:pt x="16" y="32"/>
                  </a:lnTo>
                  <a:lnTo>
                    <a:pt x="8" y="32"/>
                  </a:lnTo>
                  <a:lnTo>
                    <a:pt x="0" y="24"/>
                  </a:lnTo>
                  <a:lnTo>
                    <a:pt x="0" y="8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Freeform 122"/>
            <p:cNvSpPr/>
            <p:nvPr/>
          </p:nvSpPr>
          <p:spPr>
            <a:xfrm>
              <a:off x="3089880" y="5531400"/>
              <a:ext cx="113400" cy="5256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0" h="16">
                  <a:moveTo>
                    <a:pt x="8" y="0"/>
                  </a:moveTo>
                  <a:lnTo>
                    <a:pt x="0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40" y="16"/>
                  </a:lnTo>
                  <a:lnTo>
                    <a:pt x="40" y="8"/>
                  </a:lnTo>
                  <a:lnTo>
                    <a:pt x="24" y="8"/>
                  </a:lnTo>
                  <a:lnTo>
                    <a:pt x="8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Freeform 123"/>
            <p:cNvSpPr/>
            <p:nvPr/>
          </p:nvSpPr>
          <p:spPr>
            <a:xfrm>
              <a:off x="3226680" y="5609880"/>
              <a:ext cx="136080" cy="104400"/>
            </a:xfrm>
            <a:custGeom>
              <a:avLst/>
              <a:gdLst>
                <a:gd name="textAreaLeft" fmla="*/ 0 w 136080"/>
                <a:gd name="textAreaRight" fmla="*/ 136440 w 13608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48" h="32">
                  <a:moveTo>
                    <a:pt x="0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16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32" y="24"/>
                  </a:lnTo>
                  <a:lnTo>
                    <a:pt x="24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8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Freeform 124"/>
            <p:cNvSpPr/>
            <p:nvPr/>
          </p:nvSpPr>
          <p:spPr>
            <a:xfrm>
              <a:off x="3340440" y="5766480"/>
              <a:ext cx="250200" cy="339840"/>
            </a:xfrm>
            <a:custGeom>
              <a:avLst/>
              <a:gdLst>
                <a:gd name="textAreaLeft" fmla="*/ 0 w 250200"/>
                <a:gd name="textAreaRight" fmla="*/ 250560 w 250200"/>
                <a:gd name="textAreaTop" fmla="*/ 0 h 339840"/>
                <a:gd name="textAreaBottom" fmla="*/ 340200 h 339840"/>
              </a:gdLst>
              <a:ahLst/>
              <a:rect l="textAreaLeft" t="textAreaTop" r="textAreaRight" b="textAreaBottom"/>
              <a:pathLst>
                <a:path w="88" h="104">
                  <a:moveTo>
                    <a:pt x="16" y="8"/>
                  </a:moveTo>
                  <a:lnTo>
                    <a:pt x="16" y="0"/>
                  </a:lnTo>
                  <a:lnTo>
                    <a:pt x="32" y="16"/>
                  </a:lnTo>
                  <a:lnTo>
                    <a:pt x="64" y="32"/>
                  </a:lnTo>
                  <a:lnTo>
                    <a:pt x="72" y="32"/>
                  </a:lnTo>
                  <a:lnTo>
                    <a:pt x="72" y="40"/>
                  </a:lnTo>
                  <a:lnTo>
                    <a:pt x="80" y="56"/>
                  </a:lnTo>
                  <a:lnTo>
                    <a:pt x="88" y="56"/>
                  </a:lnTo>
                  <a:lnTo>
                    <a:pt x="88" y="72"/>
                  </a:lnTo>
                  <a:lnTo>
                    <a:pt x="72" y="80"/>
                  </a:lnTo>
                  <a:lnTo>
                    <a:pt x="40" y="88"/>
                  </a:lnTo>
                  <a:lnTo>
                    <a:pt x="32" y="104"/>
                  </a:lnTo>
                  <a:lnTo>
                    <a:pt x="24" y="104"/>
                  </a:lnTo>
                  <a:lnTo>
                    <a:pt x="8" y="96"/>
                  </a:lnTo>
                  <a:lnTo>
                    <a:pt x="16" y="72"/>
                  </a:lnTo>
                  <a:lnTo>
                    <a:pt x="16" y="64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8" y="40"/>
                  </a:lnTo>
                  <a:lnTo>
                    <a:pt x="16" y="40"/>
                  </a:lnTo>
                  <a:lnTo>
                    <a:pt x="16" y="16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Freeform 125"/>
            <p:cNvSpPr/>
            <p:nvPr/>
          </p:nvSpPr>
          <p:spPr>
            <a:xfrm>
              <a:off x="3158280" y="5635800"/>
              <a:ext cx="22320" cy="259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Oval 126"/>
            <p:cNvSpPr/>
            <p:nvPr/>
          </p:nvSpPr>
          <p:spPr>
            <a:xfrm>
              <a:off x="3226680" y="5714640"/>
              <a:ext cx="45000" cy="5184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Oval 127"/>
            <p:cNvSpPr/>
            <p:nvPr/>
          </p:nvSpPr>
          <p:spPr>
            <a:xfrm>
              <a:off x="2498760" y="5374440"/>
              <a:ext cx="68040" cy="5256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0" name="Text Box 128"/>
          <p:cNvSpPr/>
          <p:nvPr/>
        </p:nvSpPr>
        <p:spPr>
          <a:xfrm>
            <a:off x="6138360" y="4467240"/>
            <a:ext cx="56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37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Text Box 129"/>
          <p:cNvSpPr/>
          <p:nvPr/>
        </p:nvSpPr>
        <p:spPr>
          <a:xfrm>
            <a:off x="5166720" y="4775040"/>
            <a:ext cx="56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30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Text Box 130"/>
          <p:cNvSpPr/>
          <p:nvPr/>
        </p:nvSpPr>
        <p:spPr>
          <a:xfrm>
            <a:off x="5687280" y="451800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3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Text Box 131"/>
          <p:cNvSpPr/>
          <p:nvPr/>
        </p:nvSpPr>
        <p:spPr>
          <a:xfrm>
            <a:off x="5158800" y="4132440"/>
            <a:ext cx="56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25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Text Box 132"/>
          <p:cNvSpPr/>
          <p:nvPr/>
        </p:nvSpPr>
        <p:spPr>
          <a:xfrm>
            <a:off x="7104960" y="4100400"/>
            <a:ext cx="56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27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Text Box 133"/>
          <p:cNvSpPr/>
          <p:nvPr/>
        </p:nvSpPr>
        <p:spPr>
          <a:xfrm>
            <a:off x="2898000" y="418608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3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Text Box 134"/>
          <p:cNvSpPr/>
          <p:nvPr/>
        </p:nvSpPr>
        <p:spPr>
          <a:xfrm>
            <a:off x="4345920" y="4024440"/>
            <a:ext cx="56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15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Text Box 135"/>
          <p:cNvSpPr/>
          <p:nvPr/>
        </p:nvSpPr>
        <p:spPr>
          <a:xfrm>
            <a:off x="4192200" y="3457440"/>
            <a:ext cx="56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41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Text Box 136"/>
          <p:cNvSpPr/>
          <p:nvPr/>
        </p:nvSpPr>
        <p:spPr>
          <a:xfrm>
            <a:off x="6406560" y="3486240"/>
            <a:ext cx="56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20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Text Box 137"/>
          <p:cNvSpPr/>
          <p:nvPr/>
        </p:nvSpPr>
        <p:spPr>
          <a:xfrm>
            <a:off x="7524000" y="151452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3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Text Box 138"/>
          <p:cNvSpPr/>
          <p:nvPr/>
        </p:nvSpPr>
        <p:spPr>
          <a:xfrm>
            <a:off x="7825680" y="1328760"/>
            <a:ext cx="56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18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Text Box 139"/>
          <p:cNvSpPr/>
          <p:nvPr/>
        </p:nvSpPr>
        <p:spPr>
          <a:xfrm>
            <a:off x="4947840" y="2757600"/>
            <a:ext cx="56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33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Text Box 140"/>
          <p:cNvSpPr/>
          <p:nvPr/>
        </p:nvSpPr>
        <p:spPr>
          <a:xfrm>
            <a:off x="4031280" y="170172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3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Text Box 141"/>
          <p:cNvSpPr/>
          <p:nvPr/>
        </p:nvSpPr>
        <p:spPr>
          <a:xfrm>
            <a:off x="4015440" y="233028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5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Text Box 142"/>
          <p:cNvSpPr/>
          <p:nvPr/>
        </p:nvSpPr>
        <p:spPr>
          <a:xfrm>
            <a:off x="1988640" y="3203640"/>
            <a:ext cx="56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3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Text Box 143"/>
          <p:cNvSpPr/>
          <p:nvPr/>
        </p:nvSpPr>
        <p:spPr>
          <a:xfrm>
            <a:off x="1775520" y="228132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9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Text Box 144"/>
          <p:cNvSpPr/>
          <p:nvPr/>
        </p:nvSpPr>
        <p:spPr>
          <a:xfrm>
            <a:off x="858240" y="2031840"/>
            <a:ext cx="56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37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Text Box 145"/>
          <p:cNvSpPr/>
          <p:nvPr/>
        </p:nvSpPr>
        <p:spPr>
          <a:xfrm>
            <a:off x="5472720" y="5502240"/>
            <a:ext cx="1390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Lucida Sans Unicode"/>
              </a:rPr>
              <a:t>1 - 99 Compan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Oval 146"/>
          <p:cNvSpPr/>
          <p:nvPr/>
        </p:nvSpPr>
        <p:spPr>
          <a:xfrm flipH="1">
            <a:off x="5332320" y="5502240"/>
            <a:ext cx="184320" cy="1922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Text Box 147"/>
          <p:cNvSpPr/>
          <p:nvPr/>
        </p:nvSpPr>
        <p:spPr>
          <a:xfrm>
            <a:off x="2566080" y="176688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Text Box 148"/>
          <p:cNvSpPr/>
          <p:nvPr/>
        </p:nvSpPr>
        <p:spPr>
          <a:xfrm>
            <a:off x="2832840" y="256716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Text Box 149"/>
          <p:cNvSpPr/>
          <p:nvPr/>
        </p:nvSpPr>
        <p:spPr>
          <a:xfrm>
            <a:off x="1324080" y="508788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9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Text Box 150"/>
          <p:cNvSpPr/>
          <p:nvPr/>
        </p:nvSpPr>
        <p:spPr>
          <a:xfrm>
            <a:off x="3398040" y="550224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4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Oval 151"/>
          <p:cNvSpPr/>
          <p:nvPr/>
        </p:nvSpPr>
        <p:spPr>
          <a:xfrm flipH="1">
            <a:off x="5332320" y="5710320"/>
            <a:ext cx="184320" cy="191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Oval 152"/>
          <p:cNvSpPr/>
          <p:nvPr/>
        </p:nvSpPr>
        <p:spPr>
          <a:xfrm flipH="1">
            <a:off x="3535200" y="6124680"/>
            <a:ext cx="184320" cy="19044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Oval 153"/>
          <p:cNvSpPr/>
          <p:nvPr/>
        </p:nvSpPr>
        <p:spPr>
          <a:xfrm flipH="1">
            <a:off x="5332320" y="5918040"/>
            <a:ext cx="184320" cy="1890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Text Box 154"/>
          <p:cNvSpPr/>
          <p:nvPr/>
        </p:nvSpPr>
        <p:spPr>
          <a:xfrm>
            <a:off x="8335440" y="1539720"/>
            <a:ext cx="56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1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Line 155"/>
          <p:cNvSpPr/>
          <p:nvPr/>
        </p:nvSpPr>
        <p:spPr>
          <a:xfrm>
            <a:off x="8220240" y="1619280"/>
            <a:ext cx="161640" cy="4953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Line 156"/>
          <p:cNvSpPr/>
          <p:nvPr/>
        </p:nvSpPr>
        <p:spPr>
          <a:xfrm>
            <a:off x="7886880" y="1752480"/>
            <a:ext cx="314280" cy="466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Text Box 157"/>
          <p:cNvSpPr/>
          <p:nvPr/>
        </p:nvSpPr>
        <p:spPr>
          <a:xfrm>
            <a:off x="7034760" y="320040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5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Text Box 158"/>
          <p:cNvSpPr/>
          <p:nvPr/>
        </p:nvSpPr>
        <p:spPr>
          <a:xfrm>
            <a:off x="8579880" y="3301920"/>
            <a:ext cx="56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28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Line 159"/>
          <p:cNvSpPr/>
          <p:nvPr/>
        </p:nvSpPr>
        <p:spPr>
          <a:xfrm flipH="1" flipV="1">
            <a:off x="8039160" y="3152880"/>
            <a:ext cx="581040" cy="2952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Text Box 160"/>
          <p:cNvSpPr/>
          <p:nvPr/>
        </p:nvSpPr>
        <p:spPr>
          <a:xfrm>
            <a:off x="8591400" y="2441520"/>
            <a:ext cx="692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24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Line 161"/>
          <p:cNvSpPr/>
          <p:nvPr/>
        </p:nvSpPr>
        <p:spPr>
          <a:xfrm flipH="1" flipV="1">
            <a:off x="8496000" y="2485800"/>
            <a:ext cx="181080" cy="759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Text Box 162"/>
          <p:cNvSpPr/>
          <p:nvPr/>
        </p:nvSpPr>
        <p:spPr>
          <a:xfrm>
            <a:off x="1325880" y="5848200"/>
            <a:ext cx="136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Lucida Sans Unicode"/>
              </a:rPr>
              <a:t>Puerto Rico 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Text Box 163"/>
          <p:cNvSpPr/>
          <p:nvPr/>
        </p:nvSpPr>
        <p:spPr>
          <a:xfrm>
            <a:off x="1323720" y="6124680"/>
            <a:ext cx="140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Lucida Sans Unicode"/>
              </a:rPr>
              <a:t>Virgin Islands 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Line 164"/>
          <p:cNvSpPr/>
          <p:nvPr/>
        </p:nvSpPr>
        <p:spPr>
          <a:xfrm flipH="1" flipV="1">
            <a:off x="7400880" y="5266800"/>
            <a:ext cx="581040" cy="2955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Oval 165"/>
          <p:cNvSpPr/>
          <p:nvPr/>
        </p:nvSpPr>
        <p:spPr>
          <a:xfrm flipH="1">
            <a:off x="5332320" y="6124680"/>
            <a:ext cx="184320" cy="190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Text Box 166"/>
          <p:cNvSpPr/>
          <p:nvPr/>
        </p:nvSpPr>
        <p:spPr>
          <a:xfrm>
            <a:off x="5470560" y="6125400"/>
            <a:ext cx="30132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Lucida Sans Unicode"/>
              </a:rPr>
              <a:t>3,000+ Compan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Text Box 167"/>
          <p:cNvSpPr/>
          <p:nvPr/>
        </p:nvSpPr>
        <p:spPr>
          <a:xfrm>
            <a:off x="6750000" y="411120"/>
            <a:ext cx="20923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  <a:ea typeface="Lucida Sans Unicode"/>
              </a:rPr>
              <a:t>Source: Extracted from ACC data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Text Box 168"/>
          <p:cNvSpPr/>
          <p:nvPr/>
        </p:nvSpPr>
        <p:spPr>
          <a:xfrm>
            <a:off x="0" y="111240"/>
            <a:ext cx="92725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Slide content by Former ACC Gen’l Counsel Susan Hackett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5/09 CCJ Conf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Rectangle 169"/>
          <p:cNvSpPr/>
          <p:nvPr/>
        </p:nvSpPr>
        <p:spPr>
          <a:xfrm>
            <a:off x="3535200" y="6056280"/>
            <a:ext cx="34632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Slide Number Placeholder 2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F1953-388D-47D4-A369-958EB676E4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Times New Roman"/>
              </a:rPr>
              <a:t>This is More Than a BigLaw Phenomenon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762120" y="14475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2010, 12% of U.S. population was foreign born (more than 37millio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 states (almost one-third) had a foreign-born population that was ≥1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Exampl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California (27.2%,), Nevada (18.9%), New York (22.2%), Florida (19.4%), Massachusetts (15%), Washington (13.1%), Maryland (13.9%)  &amp; R.I. (12.8%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elected cities [2009]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LA (39%), San Jose (38%), NY (35%), Boston (25%), Austin (20%), Chicago (20%),  Denver (15%), Charlotte (13%), &amp; Columbus (10%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58578-D6AA-4A69-9480-6B323C6A17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380880" y="6102360"/>
            <a:ext cx="805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See also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aurel S. Terry, </a:t>
            </a:r>
            <a:r>
              <a:rPr b="0" i="1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The Legal World is Flat: Globalization and its Effect on Lawyers Practicing in Non-Global Law Firm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, 28 Northwestern J. Int’l L. &amp; Bus. 527 (2008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Rectangle 6"/>
          <p:cNvSpPr/>
          <p:nvPr/>
        </p:nvSpPr>
        <p:spPr>
          <a:xfrm>
            <a:off x="380880" y="54640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Sources: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ABA Commission on Ethics 20/20 Proposed Model Rule on Pro Hac Vice Admission &amp; U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.S. Census Bureau, 2010 American Community Survey, MPI Data Hu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Library</dc:creator>
  <dc:description/>
  <dc:language>en-US</dc:language>
  <cp:lastModifiedBy>tkaiser</cp:lastModifiedBy>
  <cp:lastPrinted>2012-01-09T19:16:46Z</cp:lastPrinted>
  <dcterms:modified xsi:type="dcterms:W3CDTF">2012-04-04T18:50:04Z</dcterms:modified>
  <cp:revision>470</cp:revision>
  <dc:subject/>
  <dc:title>My First Presentation</dc:title>
</cp:coreProperties>
</file>