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628-7AB3-48A1-990C-7F2060DBF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B039-4AD9-4862-A3C7-A796C76D1EC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50EE-27A0-4255-B1F8-40E1D69367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A97F-CD4A-44C2-895F-2A756C94088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6CA6-34E6-4501-9B10-C1F5F6A5C35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33D1-6EDF-4CB2-8821-F47D0576594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69AB-AE05-4D98-BE95-C43F5E24096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9418-50A2-4D2A-A96D-D446AAAACDD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2BD6-2195-4C7C-8959-A332AB3DB1D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A96C-CAF9-4D78-9D27-253CF8CB496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EAC8-6197-4D8D-BFD6-A43015DC4D9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D635-1C4A-4B33-A8AB-70ACA3209F6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0DDC-2725-41C3-AEB4-089DB3B0D92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5DB1-F332-42AB-9C28-4E5EDA367F2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578-FB35-4D55-A965-EABEB0C2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FAC-E0EC-4812-93A3-8F6DF2C4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8B2-1FE9-4A91-8B1B-86E16591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6CF-598C-4B05-BAFD-84E2E2DC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7F8F-DD4B-4473-AF79-35F0A476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55FB-3C70-4857-9FEB-3625277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6A2C-868D-4727-8D2F-8BDE00E2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67D1-BA0E-4C56-A23E-BFB75422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5F6B-9BA1-4EB1-B09C-87AD4597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CB17-D07E-4C0D-B16A-53F11D81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F5E6-110C-47AA-84B4-87EC2831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6E5-9CEE-40BF-9DBE-C83F6653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2988-F23A-4C30-8F74-A56D4FE4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DF81-43F4-4215-B39A-3B9D677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910F-C33A-4658-B1E4-DFDC8E04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ED5E-B4D4-49E3-9328-20B6D785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90C4-EF40-45D2-84A4-1546A00C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F08-9F32-436C-9E05-F5AB6868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035-EDFB-421E-9AE2-1E72B5EC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F8F-2ED1-4363-A0D6-0994B8C3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477-768C-486C-ADD4-18596142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A26-D3A4-42E9-BB3A-C3C329F6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BC2-E9DC-40C2-82F3-A1BD4F3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085-D353-4721-B749-07C35A9C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Diane Penneys Edelman Villanova University School of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0E86-DFC6-47AF-B514-127D48180EF7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Times New Roman"/>
              </a:rPr>
              <a:t>Diane Penneys Edelman Villanova University School of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53A1-69D3-4079-A927-94D511DE8954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ing and Implementing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D/LLM Programs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eb"/>
                </a:solidFill>
                <a:latin typeface="Arial"/>
              </a:rPr>
              <a:t>International Legal Education Abroad Con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Washington College of La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American Univers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April 2-3,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Program Desig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connections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ABA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and publish statement on study abroad educational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overall program proposal &amp; proposals for each host school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 through regular law school channels – curriculum committee, study abroad office, facul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iz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reate timel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morialize application process and “who’s who” of involved law school person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sign application and recommendation for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repare MOUs with partner schools abro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termine feasibility and types of available financial ai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ffer multiple information session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vise studen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rocess applic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Upkeep”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host school curriculum regul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ve individual student curricul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e with host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M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rm transfer of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 to A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ize achievements of students &amp; alum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For more information …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285640"/>
            <a:ext cx="81536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law.villanova.edu/internationalstud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ne Edel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International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om 3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10-519-70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lman@law.villanova.ed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and nature of the program at Villanov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k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What is the JD/LLM 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 International Studies Program?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gible students earn JD from Villanov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LM from a law school abroad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 to 3-1/2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 first two years at V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 third year abr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year counts toward Villanova J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LM from law school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 abroad may end in May or in fall of graduation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Our Partners Abroad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rkbeck College, University of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University of Hong K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Edinbur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Lei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University of Singap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degrees in a little more than the time it takes to earn one degre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igibility to graduate with honors from V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ility to walk with original class at grad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-notch education at a law school in another coun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osure to other legal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rnship opportun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obal network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Requiremen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GPA requi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ion of upper-level graduation requirements by end of second year (currently 11 cred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l application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ademic refere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 from V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s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uation d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tion of coursework (at both institu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examination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ra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ceipt of documentation by V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Restrictions/Limitation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nnual maximum  # of participants to be determined by De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mbination of JD/LLM with Villanova MB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pending upon the calendar of the host institution abroad, a student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may not be able to tak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the July bar examinati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during the year when he or she receives the JD and the LLM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student will not be cumulatively ranked and therefore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will not be eligible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r the Order of the Coif Honor Society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 student will earn the VLS JD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only after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LS receives official documentation confirming  that the student has earned the LLM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visa is required, and may take time to obtai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Timelin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uary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 fall transcript for GPA eligibility and graduation requirement fulfill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ruar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Submit application, Statement of Interest, application fee, unofficial transcripts, faculty recommendations to Registrar’s office and Program Dir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ruary – Marc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Interviews (VL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te Mar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Notification of recommendation by VLS; completion of Financial Aid application and host school application (students should register for fall classes in the meanti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r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Notification of decision by school abro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lternative programs. . 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may, on rare occasions, receive approval for study abroad at institutions other than our five approved JD/LLM partner school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sons for special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e academic qualif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ingness of host school to enroll third year law student from U.S. law sch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utation of host sch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2:38:10Z</dcterms:created>
  <dc:creator>Diane</dc:creator>
  <dc:description/>
  <dc:language>en-US</dc:language>
  <cp:lastModifiedBy>tkaiser</cp:lastModifiedBy>
  <dcterms:modified xsi:type="dcterms:W3CDTF">2012-04-04T18:46:21Z</dcterms:modified>
  <cp:revision>50</cp:revision>
  <dc:subject/>
  <dc:title>Villanova Law Dual Degree Programs</dc:title>
</cp:coreProperties>
</file>