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1187-AF21-4FC7-82B1-89DECE266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D074-DDF0-470B-9B4B-93204D0593A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18C2-EE72-4288-AFB9-1D1EFAF6D0A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0FF0-C77E-4DC4-BD7F-EEF3B50BE9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CF9-A220-41F4-A25A-1F35804C27D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CC53-B5F9-4C41-A8BF-905B978B007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0807-58C8-45B6-BD41-6F3A6189A99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8241-525B-4165-9730-B6147A8698C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E62F-2E56-4D6B-9840-F3D02AA643B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C7A-A6FB-4E03-899D-43455F55926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3545-B2B8-42DA-84DC-A9EEAB7814E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1468-92BF-409F-9A1C-FB3D86C85E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A32-FE20-4D7C-94E7-29EC980407F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4BEC-C7A7-4B01-ADB5-E007F637169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DA3-25F3-4690-B578-7D3E2579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A14-48FF-4A73-9BC0-5E088005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FC5-71DF-41DE-B1B1-FC1FAEF3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12A-A245-4E76-A41A-BA40B797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B66D-A667-440B-B43E-5731669B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84B2-307B-4EF4-97A1-F7D825C1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0ABC-2B81-4288-929D-542C09A4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B368-7C56-4B36-95D3-9FB56145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016F-1E05-40BA-9363-4DBED91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13E7-1341-4780-BCE6-F34AC6B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AA1A-86E5-4678-94D1-25719916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020-45C6-4504-B9A2-F84AC5D4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420D-083F-413B-BA4B-D3A8148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B688-FC7A-483E-8A83-94BD45B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9F02-C4A2-4813-BF46-41D22CB4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4C2B-05C2-4BED-93FC-27BF382F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DDA8-4091-49FC-8A34-103D81B4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E21-6582-4FB1-948B-1A065B3E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E64-34B8-4E99-9FD0-C0BE8399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7FD-03A9-4B7C-A46D-B5EC8ED6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C7E-703B-426D-9801-9F55408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2F4-0ED5-449D-9630-6854FA2D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BBC-A3E5-439F-91BA-92B639C9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41B-0E0B-41A5-91EE-77B64E9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Diane Penneys Edelman Villanova University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2BF1-D8A9-4D2A-9CAE-A931EF2783B2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Times New Roman"/>
              </a:rPr>
              <a:t>Diane Penneys Edelman Villanova University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A349-08E0-4956-834A-0915F14B24C2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ing and Implementing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D/LLM Programs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eb"/>
                </a:solidFill>
                <a:latin typeface="Arial"/>
              </a:rPr>
              <a:t>International Legal Education Abroad Con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Washington College of La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American Univers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April 2-3,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Program Desig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connections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ABA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nd publish statement on study abroad educational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overall program proposal &amp; proposals for each host school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 through regular law school channels – curriculum committee, study abroad office, facul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iz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reate timel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morialize application process and “who’s who” of involved law school person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sign application and recommendation for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repare MOUs with partner schools abro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termine feasibility and types of available financial ai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ffer multiple information session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vise studen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rocess applic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Upkeep”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host school curriculum regul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ve individual student curricul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e with host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M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rm transfer of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to A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ize achievements of students &amp; alum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For more information …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285640"/>
            <a:ext cx="81536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law.villanova.edu/internationalstud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ne Edel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International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om 3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10-519-70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lman@law.villanova.ed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and nature of the program at Villanov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k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What is the JD/LLM 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 International Studies Program?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gible students earn JD from Villanov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LM from a law school abroad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 to 3-1/2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first two years at V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third year abr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year counts toward Villanova J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LM from law school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 abroad may end in May or in fall of graduation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ur Partners Abroad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rkbeck College, University of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University of Hong K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Edinbur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Lei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University of Singap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degrees in a little more than the time it takes to earn one degr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igibility to graduate with honors from V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ility to walk with original class at grad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-notch education at a law school in another coun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osure to other legal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rnship opportun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obal networ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Requiremen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GPA requi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ion of upper-level graduation requirements by end of second year (currently 11 cred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l application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ademic refere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from V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s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uation d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tion of coursework (at both institu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examination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ra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ceipt of documentation by V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Restrictions/Limitation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nnual maximum  # of participants to be determined by De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mbination of JD/LLM with Villanova MB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pending upon the calendar of the host institution abroad, a student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may not be able to tak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the July bar examinati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during the year when he or she receives the JD and the LLM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student will not be cumulatively ranked and therefore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will not be eligible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r the Order of the Coif Honor Society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 student will earn the VLS JD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only after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LS receives official documentation confirming  that the student has earned the LLM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visa is required, and may take time to obtai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Timelin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uary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fall transcript for GPA eligibility and graduation requirement fulfill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ruar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Submit application, Statement of Interest, application fee, unofficial transcripts, faculty recommendations to Registrar’s office and Program Dir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ruary – Marc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Interviews (V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e Mar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Notification of recommendation by VLS; completion of Financial Aid application and host school application (students should register for fall classes in the meanti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r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Notification of decision by school abro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lternative programs. . 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may, on rare occasions, receive approval for study abroad at institutions other than our five approved JD/LLM partner school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sons for special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e academic qualif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ngness of host school to enroll third year law student from U.S. law sch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utation of host sch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2:38:10Z</dcterms:created>
  <dc:creator>Diane</dc:creator>
  <dc:description/>
  <dc:language>en-US</dc:language>
  <cp:lastModifiedBy>tkaiser</cp:lastModifiedBy>
  <dcterms:modified xsi:type="dcterms:W3CDTF">2012-04-04T18:46:21Z</dcterms:modified>
  <cp:revision>50</cp:revision>
  <dc:subject/>
  <dc:title>Villanova Law Dual Degree Programs</dc:title>
</cp:coreProperties>
</file>