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3A9F-D8CC-412C-9D48-7918814EF4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9C60-2B56-4937-B29B-6766E07B070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C23D-70D0-45E1-897A-9F71E38100A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3C01-1716-4A2C-B8FE-5156B14DFA3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2F5C-6A72-448F-BC5D-218C96EC10B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3B58-FB29-4506-A7C9-011E8E6C23C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6600-C64F-4483-AA9C-18674EAE947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F81E-904E-47A3-87D8-B282C73578D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9FE3-C491-4C64-A578-8558C2DD662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2178-633C-4CE2-B04C-2AB0D8128B6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157D-992E-4810-B58A-D5D6C4901D6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FFF5-051B-4CDF-89F5-CA81A5D4912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0FEC-0AFE-4075-AA3A-1D3023966B9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F7D7-038D-456C-AE00-9D906C3D167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54CD-BCE0-439B-8859-ED1F62924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FA51-FC70-4412-AE0E-3934577C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B58E-BBD1-4C39-A040-2607123F1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4008-6875-4902-9991-31D62D440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B52E-BCE8-4D27-B1E0-2CB939422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47DB-A19A-4301-AD34-99B4A370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B0D1-3ABB-4914-9074-38F04EBE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068E-55A4-4A46-B1F1-BA83041F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11A1-CF0D-4CB1-B834-1245B8CD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34E4-AB3F-4CFA-B879-EC0BD773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21CF-6609-4349-8DA2-624A30CB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FFAA-1366-4F71-8DAF-FF099A07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AF18-213F-47B6-957A-5E1051EA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BAFB-EE4C-4F67-8686-C509D66E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5AD9-4A75-49E3-86BC-025DE022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0C39-BDD2-441D-8413-9D1FDF1F8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71AC-22E5-4BB3-BC52-1CBA37536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F6F2-1C40-46FE-8408-BA01D8DF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33DD-5813-480A-B57F-45A4A200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D18F-AC6C-4FB6-AB79-C2568FB6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111D-D75D-4806-A2CB-9953D13F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C785-C0DF-4DF5-A094-D10F19BA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7D13-9FC0-44BD-9A87-BBF1E60A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93CE-6CC0-4A0D-97F0-F4B83DFC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Times New Roman"/>
              </a:rPr>
              <a:t>Diane Penneys Edelman Villanova University School of La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CEE3-4E72-4DC4-AC3A-2EBCB4395FAE}" type="slidenum">
              <a:rPr b="1" lang="en-US" sz="26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Times New Roman"/>
              </a:rPr>
              <a:t>Diane Penneys Edelman Villanova University School of La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77B3-C647-41FE-A10A-71864B592522}" type="slidenum">
              <a:rPr b="1" lang="en-US" sz="26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igning and Implementing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D/LLM Programs</a:t>
            </a:r>
            <a:endParaRPr b="1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eb"/>
                </a:solidFill>
                <a:latin typeface="Arial"/>
              </a:rPr>
              <a:t>International Legal Education Abroad Conferenc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eb"/>
                </a:solidFill>
                <a:latin typeface="Arial"/>
              </a:rPr>
              <a:t>Washington College of Law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eb"/>
                </a:solidFill>
                <a:latin typeface="Arial"/>
              </a:rPr>
              <a:t>American Universit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eb"/>
                </a:solidFill>
                <a:latin typeface="Arial"/>
              </a:rPr>
              <a:t>April 2-3, 201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1600200" cy="17524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Program Design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 connections abr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ABA Crite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 and publish statement on study abroad educational objecti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 overall program proposal &amp; proposals for each host school abr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mit through regular law school channels – curriculum committee, study abroad office, faculty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bliciz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Implementation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Create timelin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Memorialize application process and “who’s who” of involved law school personne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Design application and recommendation form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repare MOUs with partner schools abroa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Determine feasibility and types of available financial ai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Offer multiple information sessions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Advise student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rocess application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Upkeep”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iew host school curriculum regular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rove individual student curricul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unicate with host sch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date MO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firm transfer of docum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ort to A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ize achievements of students &amp; alum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For more information …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7720" y="2285640"/>
            <a:ext cx="815364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law.villanova.edu/internationalstudie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c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ane Edelm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or of International Pro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om 3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10-519-70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delman@law.villanova.edu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y and nature of the program at Villanova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k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What is the JD/LLM 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 International Studies Program?</a:t>
            </a:r>
            <a:endParaRPr b="1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igible students earn JD from Villanova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LM from a law school abroad 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3 to 3-1/2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nd first two years at V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nd third year abr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year counts toward Villanova J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LM from law school abr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ear abroad may end in May or in fall of graduation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Our Partners Abroad 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rkbeck College, University of Lond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ty University of Hong Ko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versity of Edinbur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versity of Lei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onal University of Singap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Benefits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wo degrees in a little more than the time it takes to earn one degre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igibility to graduate with honors from V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bility to walk with original class at gradu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p-notch education at a law school in another count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posure to other legal syste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rnship opportuni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lobal network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Requirements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mulative GPA requir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letion of upper-level graduation requirements by end of second year (currently 11 credi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al application 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ademic referen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ference from V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s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crip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knowledg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RP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duation d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letion of coursework (at both institution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r examination d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 ran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ceipt of documentation by V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Restrictions/Limitations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nnual maximum  # of participants to be determined by Dea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Combination of JD/LLM with Villanova MB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Depending upon the calendar of the host institution abroad, a student 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may not be able to take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the July bar examination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during the year when he or she receives the JD and the LLM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 student will not be cumulatively ranked and therefore 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will not be eligible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for the Order of the Coif Honor Society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The student will earn the VLS JD 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only after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VLS receives official documentation confirming  that the student has earned the LLM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 visa is required, and may take time to obtain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Timeline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01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7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uary –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view fall transcript for GPA eligibility and graduation requirement fulfill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7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ebruar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– Submit application, Statement of Interest, application fee, unofficial transcripts, faculty recommendations to Registrar’s office and Program Direc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7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ebruary – March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– Interviews (VL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7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te Marc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Notification of recommendation by VLS; completion of Financial Aid application and host school application (students should register for fall classes in the meantim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7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ri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Notification of decision by school abro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Alternative programs. . .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may, on rare occasions, receive approval for study abroad at institutions other than our five approved JD/LLM partner school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a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asons for special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e academic qualific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llingness of host school to enroll third year law student from U.S. law scho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utation of host scho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02:38:10Z</dcterms:created>
  <dc:creator>Diane</dc:creator>
  <dc:description/>
  <dc:language>en-US</dc:language>
  <cp:lastModifiedBy>tkaiser</cp:lastModifiedBy>
  <dcterms:modified xsi:type="dcterms:W3CDTF">2012-04-04T18:46:21Z</dcterms:modified>
  <cp:revision>50</cp:revision>
  <dc:subject/>
  <dc:title>Villanova Law Dual Degree Programs</dc:title>
</cp:coreProperties>
</file>