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E6E4-8916-43AD-A676-363BB5ACF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411A-D6EE-43A6-82CF-9FA7D89923D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2EFA-4C69-4E86-B241-FF8B282D550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D61D-CF2C-4B67-9356-4CBE3274D4C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9CA1-7976-4277-AF02-901969BBA92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07B8-0BD0-40DC-B529-770F70DEE16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8966-F723-461D-AF30-01F7A54055E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1567-CC8E-4359-AF3D-07D6C934CCE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D72B-C490-4740-91F7-60317854557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7CC7-C228-4809-B456-C04B018EB0B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8DF3-E212-4F61-977D-C7A02840409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26B5-F101-4B38-A05F-798D8FE4764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B619-A974-4C4B-95AA-571F9F81CA6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AAA3-E2BF-402E-9DAF-C8C4497FD52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7A1-05C7-47AF-BB99-0EAFB0ED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8D55-8ABC-47B4-9A42-88120591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849-EBC3-498F-BE43-CE4941AA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F76-0C55-44B6-8354-16A3B715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5031-76EF-41BB-9B06-5E2FB132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3F84-FD40-4CA4-9339-E6C54EF3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1AAE-CF17-4147-993D-F02FD57A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0B8F-7C05-4062-A91D-9F75284E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53DA-942E-4EF7-9CAC-4344EAB9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6313-3BF6-47DC-BB4C-59A43D2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9AE3-5FE8-4FAD-8782-F04379D2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6D3-BE19-4A3B-AF90-FAF59362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2B78-A8BA-469A-8A25-892D20F1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80C5-CE55-4280-BB4D-DE80E8EE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83A0-A725-403D-B00D-B7587493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FA51-3783-47CA-AC53-ED40E821D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701D-FE0D-4443-96F5-25C56AE6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E72-4CB7-41DB-AFE9-8CF43284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A74-0C55-4423-9EE3-9A00589A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593-D242-4276-B6E1-44CDB7BC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59B-8708-42AA-A2C8-4D8BAEE4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680C-78AD-410A-9687-976B142A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4B4-EA66-4C45-B76D-22B778CB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46E-8627-4EEF-A287-F6649E75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Times New Roman"/>
              </a:rPr>
              <a:t>Diane Penneys Edelman Villanova University School of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319B-01E9-47B1-9ACD-8E114EB1460A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Times New Roman"/>
              </a:rPr>
              <a:t>Diane Penneys Edelman Villanova University School of La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EB63-4A17-4984-B67A-8F0FD902195C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ing and Implementing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D/LLM Programs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eb"/>
                </a:solidFill>
                <a:latin typeface="Arial"/>
              </a:rPr>
              <a:t>International Legal Education Abroad Conferenc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Washington College of La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American Univers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eb"/>
                </a:solidFill>
                <a:latin typeface="Arial"/>
              </a:rPr>
              <a:t>April 2-3, 201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Program Desig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connections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ABA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and publish statement on study abroad educational objec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overall program proposal &amp; proposals for each host school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mit through regular law school channels – curriculum committee, study abroad office, facul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iz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Create timel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morialize application process and “who’s who” of involved law school person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sign application and recommendation form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repare MOUs with partner schools abro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termine feasibility and types of available financial ai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ffer multiple information session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dvise student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rocess applica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374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Upkeep”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host school curriculum regula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rove individual student curricul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e with host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M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rm transfer of 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 to A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ize achievements of students &amp; alum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For more information …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2285640"/>
            <a:ext cx="81536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law.villanova.edu/internationalstud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ne Edel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 of International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om 3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10-519-70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elman@law.villanova.edu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and nature of the program at Villanova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k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What is the JD/LLM 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 International Studies Program?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gible students earn JD from Villanov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LM from a law school abroad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3 to 3-1/2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 first two years at V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 third year abr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year counts toward Villanova J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LM from law school abr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ar abroad may end in May or in fall of graduation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Our Partners Abroad 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rkbeck College, University of Lond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University of Hong K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Edinbur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Lei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University of Singap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o degrees in a little more than the time it takes to earn one degre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igibility to graduate with honors from V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ility to walk with original class at grad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p-notch education at a law school in another count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osure to other legal 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rnship opportun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lobal network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Requiremen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mulative GPA requir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tion of upper-level graduation requirements by end of second year (currently 11 cred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al application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ademic referen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erence from V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s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p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P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duation d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tion of coursework (at both institutio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examination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 ra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ceipt of documentation by V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Restrictions/Limitation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nnual maximum  # of participants to be determined by De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mbination of JD/LLM with Villanova MB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pending upon the calendar of the host institution abroad, a student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may not be able to tak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the July bar examination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during the year when he or she receives the JD and the LLM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student will not be cumulatively ranked and therefore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will not be eligible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for the Order of the Coif Honor Society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he student will earn the VLS JD </a:t>
            </a: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only after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VLS receives official documentation confirming  that the student has earned the LLM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 visa is required, and may take time to obtai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Timelin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uary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ew fall transcript for GPA eligibility and graduation requirement fulfill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bruary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Submit application, Statement of Interest, application fee, unofficial transcripts, faculty recommendations to Registrar’s office and Program Dir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bruary – Marc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Interviews (VL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te Mar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Notification of recommendation by VLS; completion of Financial Aid application and host school application (students should register for fall classes in the meanti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70000"/>
              </a:lnSpc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ri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Notification of decision by school abro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Alternative programs. . 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may, on rare occasions, receive approval for study abroad at institutions other than our five approved JD/LLM partner school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sons for special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e academic qualif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ingness of host school to enroll third year law student from U.S. law sch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utation of host sch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02:38:10Z</dcterms:created>
  <dc:creator>Diane</dc:creator>
  <dc:description/>
  <dc:language>en-US</dc:language>
  <cp:lastModifiedBy>tkaiser</cp:lastModifiedBy>
  <dcterms:modified xsi:type="dcterms:W3CDTF">2012-04-04T18:46:21Z</dcterms:modified>
  <cp:revision>50</cp:revision>
  <dc:subject/>
  <dc:title>Villanova Law Dual Degree Programs</dc:title>
</cp:coreProperties>
</file>