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A19-B330-4AE3-8EA2-7C44FC9A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362-245D-467B-8867-F07A1AED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98D1DD-7332-499D-B866-59C1FBEA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3E65EB-E515-44FF-BFE7-1931948E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320028-FD5D-4EB9-A2E5-32EECF23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D11E59-A741-4B14-AE77-AB65A66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979FA9-B2EB-420B-B785-85EB46E1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20C73B-56A0-4302-A753-3B9A88A3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C81044-88C3-4D32-B698-641F87D9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1759A0-94D1-4E32-AC3D-3BC22600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401C7A-8B13-4DB6-9326-AA35BC28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E7FE0-D486-4B76-AE96-5ABFE729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513-D857-459B-935B-D559DF81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D5792-9916-4A30-872C-635B3176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A9996-B232-49DF-9243-0B272361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8BE1B-1482-4FE4-B2A8-8E0A058B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127B5-D842-474E-A95B-38A2D568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865DB-26D2-42FB-BFB0-78C10CA0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80B06-47C2-4679-87A3-5C868E9E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7D5AD-54CC-4D58-BC3C-848C2947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E0E62-E67F-40E5-9032-769BD49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61DAB-A88F-41CC-8175-82A5EB8D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77A74-44A6-4A56-AC6F-C804272D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FD8-4492-471B-950E-8940FAAF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90FD8-E8CB-4203-A81C-EBF270E4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101D-03C3-4CAF-99BB-4F64E47E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DA0F-38FB-465C-A4DA-8C2D5D4E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E466-8D46-4E3A-B3F4-761AC77F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1890-7454-48E7-8DB1-E1480C0A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7BFC-578D-4117-BFA5-69D8EA81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02F4-2AA9-4B71-A829-14D123EC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65FC-BB8B-4C3E-B55C-A2D9C9D8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FCA-2B18-4A9A-B95C-9F1D0EC0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D0E4-C9D5-4A7A-A3FF-E48941D8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7870-B677-4646-961C-6402B7B0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7924-1110-4B81-BC0F-2A10AF1B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DF19-7FDD-4D10-82C1-64800980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5C12-3065-47F9-ACC2-2AEF89DC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919B3-9185-418D-BE0A-63EBA57B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F0FF-2D95-4CE1-826C-F27C9E26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248E1-BA60-498B-9003-A58858ED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4726F-7D59-4382-8B05-E2E23FF0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85B5F-4ED0-4999-8411-B40B5AFD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C72-75A3-4E7A-BC76-A7DFB330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78C27-8837-465A-BAD5-83551597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E2016-160D-48E2-AD53-22178576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BA67-3E7B-4889-B7BD-876BF631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66DA5-CB46-429A-9E69-9920CBED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023E3-06CA-484B-B34E-5A16AC6A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27C70-FBC8-44FA-A449-ED0440B5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8EB5D-FE20-4C5B-BD15-67E57226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30864-4BF9-400C-BB47-99A803BE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FC256-B954-4D57-9853-2A72F06C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DE168-125D-46D8-B0A0-130F55B7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67F-44F3-428B-B88D-05BE12BE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A4E5D-6D20-4914-AF0A-4188AC06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792F7-83A6-47E8-A576-3EC65986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76B18-CFC3-43C3-BE66-6D0D0088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AA174-E19F-4118-8563-1497ADD7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6CADA-7883-445B-994B-A649A4CF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08FD7-6CB6-4D05-B20D-BC67B7D8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8B059-7147-41B8-9BBE-9682DFFB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3EA35-991D-4914-9BB6-1D6F2BED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EEF27-FEFA-4F2C-9298-F11A6AE3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2C3D0-7D90-4BEC-8F3F-1C3EA6D4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D2B-6E00-4C41-9878-534EE574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2C91D-7402-4B53-8F66-E5E37B9F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D0558-4957-432A-8631-CA98CE9C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9CFE6-F30B-4FBA-8EAB-B0639E7D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D89B5-D85D-44B0-B42B-64FB2BE8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4B78A-77A5-4D43-8877-50ACDB25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EF2E1-48BC-4C55-B8AF-5023FD83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B275A-9B9F-40D6-8673-80314599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735A9-33E3-401F-8EB5-84BC5267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459A5-DE40-4906-A0D3-2853F9D1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9EF721-1C48-4B15-A72D-5E71B5AD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87A-A368-4B05-B978-375E9E2F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27C59-1C39-4CC2-AAE9-B701ECA0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42FFB4-FDFE-495D-ADD3-2AB50CBB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3FA575-962A-49EC-93D3-B8760039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0588DE-37BF-4F0C-903E-E972738C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6947E-8FE7-4D72-AF7C-37CA19F0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9C6B3-B057-423F-AE63-B6179704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4DF79-BB84-4A2A-90E9-7BFDB8B5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AE05C-B884-44A2-B197-E797BA19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1F1C4-9122-4334-8745-7519795F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57303-FE97-4C9D-B9B7-09712246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D16-3D7E-44F9-9750-84466862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F2AB4-BD1B-4804-868D-32976B72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BECEB-A7B7-4D40-A926-116A3DC5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FA4B8-DC7C-4773-8780-F35B96A0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96A351-565F-470F-8382-CD0A4BC7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053D68-FDBB-4010-8D14-2D0F37FE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4B4B5-9546-43C0-AC44-685C41A4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742C00-DBA0-46EA-9C30-46FA9DD2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15BC7-CA61-4658-9AAB-25A977CD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E56BE2-5FAF-4F33-B3B2-BA8A1B9B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DDB97-BB53-4D74-83BF-8825C366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2CD-5B70-49B3-9E2F-5018BD37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AA444-61EC-4745-92F9-D69FA5E0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41508-B296-4E5B-B836-B2B4CDB0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EE674C-5E93-4376-BB9C-151532F2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A40FB-FE18-4AB2-A271-EE540AB0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712BD-7D9E-4E67-8680-8AE7BA12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080A3-4D73-4DF6-8016-112CCDB7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2C622-E012-4958-B4BC-C3BAD23F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FC906-8C62-4698-ACCE-664BA354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7E7C2-15E4-425A-BA1F-C6F33E18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D9311-5F7C-44C6-B5E6-82171470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B31-4E45-40F9-BBC5-5F257CC2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45A27-0DFE-40F7-B494-7C40F4C4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84E82-8323-43E2-A62E-C41B4B08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DC9F6-D658-4029-A008-419D88F4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6FEAE-9E65-4329-917C-707C845E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A332F-0ABA-4CBC-899B-976CAF2E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3F2F3-05AE-43EA-B980-5AD40096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58993-50DD-4DE7-B675-60423F62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249943-B242-469D-ABE4-373A6C66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426747-2060-4834-80DB-02D621B3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02FDC1-24E0-485F-B19D-575DFA2B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87D1-255F-49A2-AE66-9A9B875D7B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6C03-8F05-4731-A8DA-BA78D0155E5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8F5D-B11C-4329-BB48-8A702CA3932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5117-1AD6-4D17-8B55-8B082D082E2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7E6B-AC75-43A3-9F78-D326DBCCA8B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925C-BFE1-4F36-B159-EF835FD3172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BE49-DA9B-41EE-8566-582FD4E8177A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23DD-0B23-4488-9D91-F53F08D6CEC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4491-79E9-4F82-B7DC-4B6A54F314E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63EF-7B6E-45DB-9D71-FA6E03A6DF3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76BF-38CA-4741-823B-18BAEC147B9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E0FC-5AAB-4DEC-BBE1-CF11F338C92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A2CD-291E-4B13-974F-D490405B2C4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6135-D0E6-4422-A46F-2828680332F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697C-C83E-4365-A4A0-D2C5850B76C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40DD-0F21-4C4B-A32B-83022169CA67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95A2-7D8C-400D-9F06-7E4E551A473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3D63-5402-473C-9001-7ED74F450860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azareff-lebars.com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rse requirements fo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national Dual Degree Progra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ephanie Farri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fessor of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"/>
          <p:cNvSpPr/>
          <p:nvPr/>
        </p:nvSpPr>
        <p:spPr>
          <a:xfrm>
            <a:off x="70488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t least one course in each of the following categori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uropean Union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ternational Human Righ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aw of International Organizations  International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lection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ivil Rights Semin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ace and th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exual Orientation and th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omen and th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JD/MPhil </a:t>
            </a:r>
            <a:br>
              <a:rPr sz="4000"/>
            </a:b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University of  Cambridge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d Use Regula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d Transactions and Fin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ministrative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vironmental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lazareff-leba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46440" y="693720"/>
            <a:ext cx="5122800" cy="922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" descr="International Arbitration Lawyer"/>
          <p:cNvPicPr/>
          <p:nvPr/>
        </p:nvPicPr>
        <p:blipFill>
          <a:blip r:embed="rId3"/>
          <a:stretch/>
        </p:blipFill>
        <p:spPr>
          <a:xfrm>
            <a:off x="1846440" y="3753000"/>
            <a:ext cx="1503360" cy="19810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>
            <a:off x="1506600" y="2340000"/>
            <a:ext cx="55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rbitrage, médiation, ADR et contentieu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1506600" y="3105000"/>
            <a:ext cx="55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roit des sociétés et droit financi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ermont Law School/Cergy alumna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Legal Advisor, OECD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2363760" y="2016000"/>
            <a:ext cx="465156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ternational Dual Degr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University of Cambridge</a:t>
            </a:r>
            <a:br>
              <a:rPr sz="3600"/>
            </a:b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JD/MPh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Environmental Poli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Real Estate Fin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Planning, Growth a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Regen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1" name="Picture 3" descr="kings senate.JPG"/>
          <p:cNvPicPr/>
          <p:nvPr/>
        </p:nvPicPr>
        <p:blipFill>
          <a:blip r:embed="rId1"/>
          <a:stretch/>
        </p:blipFill>
        <p:spPr>
          <a:xfrm>
            <a:off x="4952880" y="3429000"/>
            <a:ext cx="4023000" cy="2894040"/>
          </a:xfrm>
          <a:prstGeom prst="rect">
            <a:avLst/>
          </a:prstGeom>
          <a:ln w="9360">
            <a:solidFill>
              <a:srgbClr val="5947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ternational Dual Degr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Université de Cergy-Pontois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65"/>
                </a:solidFill>
                <a:latin typeface="Verdana"/>
              </a:rPr>
              <a:t>JD/Master 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Droit des affaires et de l’entrepr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Droit et éthiques des affai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65"/>
                </a:solidFill>
                <a:latin typeface="Verdana"/>
              </a:rPr>
              <a:t>JD/Master II-DJCE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Diplôme de juriste conseil d’entrepr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65"/>
                </a:solidFill>
                <a:latin typeface="Verdana"/>
              </a:rPr>
              <a:t>JD/LLM in French and European Law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7023240" y="3429000"/>
            <a:ext cx="1814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ternational Dual Degr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Universidad de Sevil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JD/Master in Spanish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Constitutional La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6019920" y="3733920"/>
            <a:ext cx="27432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mester Exchanges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nmin University, Beij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cGill University, Montré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versity of Trento, Ita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versity of Cergy-Pontoise, Fr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JD/Master I et II</a:t>
            </a:r>
            <a:br>
              <a:rPr sz="4000"/>
            </a:b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University of Cergy-Pontoise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urse require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oduction to French Law and Legal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nch Corporate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rpora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 least one in each of the following categori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rporate Fin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urities Regul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counting and Business Fundamenta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nkruptc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siness Plan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ercial Arbi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ployment La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vironmental Issues in Business Trans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Business Trans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Commercial Arbi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Intellectual Proper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Regulation of Tra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ured Trans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 either . . 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ome Taxation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siness Tax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JD/Master in Spanish Constitutional Law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titutional Law I and I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ministrativ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arativ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titutional Criminal Procedur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or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iminal Procedure and Pract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anish Constitutional Law Semin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21:05:39Z</dcterms:created>
  <dc:creator>dnadmin</dc:creator>
  <dc:description/>
  <dc:language>en-US</dc:language>
  <cp:lastModifiedBy>tkaiser</cp:lastModifiedBy>
  <dcterms:modified xsi:type="dcterms:W3CDTF">2012-04-04T18:51:02Z</dcterms:modified>
  <cp:revision>93</cp:revision>
  <dc:subject/>
  <dc:title>Human Rights Law</dc:title>
</cp:coreProperties>
</file>