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3BD-5FCE-4CAE-A78B-88869F85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BFD5-4A2A-44C2-8CA8-7E51B31F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C268E2-15A2-4CEA-8BC3-10248ED1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AF3976-4B9E-4E8D-9BCE-12679F1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B5A3F5-B6A3-4091-963F-A80EEA78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89E64A-CA00-47A7-8CED-37308D6C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8B61A0-45CB-4451-9EF5-E36D5E07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4DCED3-69AD-4D9A-BF07-9273889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D38297-0982-4342-9A8F-1D7C7B28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AE15C1-76E9-4EF5-8A8A-C6355E93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A2BEA-BC23-469A-9221-C8BD811A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32F61-5001-4514-9DD1-C30110EE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9F1-8ACB-47AE-8ED0-2E0DAB67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34F97-D2CD-4D43-B28C-76E0DA3E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F7436-C209-4C4B-9B4C-808F0EB0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DF50B-4F6B-4BDE-A55F-A7550A5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94BC6-9A8F-4896-9442-1A97415E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CA053-6F89-4A3C-BABD-DC1D6322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1F962-B4C2-443A-AFE6-68695229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03D45-D2F3-4116-86AE-298B98C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1AB69-4B5E-4767-87F4-35FF0CFB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76EAD-7B29-4732-A31E-5640D179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1186D-3871-4CDA-99C0-B71640BF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85D3-3D19-4F9E-BD6E-4787AC49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F9B20-C9CB-43C1-BB09-3EB60340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AAD1-4412-4EE4-AEAE-85809B0A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40AF-D278-426D-A707-71AD6DA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7E1F-8DD3-4860-93C6-7B519140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63CA-8ABF-40D2-9753-F51CC0CF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CBE-BDC2-411C-A153-5DE84A48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3584-3B71-470F-94B3-36C55021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7CD1-7818-403D-9B93-07E7A78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144-CE09-4C18-AB53-B958BFEF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912E-0CA5-4F5C-8777-DA08FA0D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4BAB-5238-4141-9EAA-E2FA611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90E3-B53B-4D36-BB29-AEA51D1F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5749-2B37-4F1B-98F6-F26D76CE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8581-0A90-4C3B-903E-2BF5B875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FB75C-5989-4609-8478-AD2903CD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19DF2-A538-41ED-B648-1BB4928E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4FBF-C157-42D9-B69F-D2DF4F94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6E071-068D-47A8-9E6C-3280DF0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B1291-1532-415D-84CD-01CE7E5D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224-CCBE-407E-8756-0D2223B8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9260-9CA4-42DB-A518-45C5B119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79257-522C-4421-8099-A9B392E8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0D80-2925-4828-91F7-32768E9D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D16C-910E-41F8-A631-BD556BCC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9C8D-6327-4364-83D0-6A68FF01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AF28A-89B4-46B5-B517-FC76D6D5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DD441-BB1F-4FCB-A403-8F0C4722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636A-B595-45D4-8CB0-B364BDCC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4CC3-B2F7-42FF-B5E4-ADBC89BB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21573-6501-40E6-8D79-B903E410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87AE-F7A2-4A33-BB2C-6CDA8ADF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2F3D-5E33-44AC-9E95-A97F3E2A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0BC0-85B8-4A72-8C14-FFF2E16E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05B3D-6E3D-4D48-96EE-48B32A6C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F5FF-FE00-4C1A-8E6D-6DED3C3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CE29-2233-424E-9566-DFF7D8B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3DA38-A9B1-43D6-A5B7-11DCD438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74F05-66B7-440B-A50B-06088531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3DB5-3A5D-47A3-A653-5FB89948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879DB-7FA2-423B-8CE6-AE828AEF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CCE49-5DCF-4093-B83A-2FDFECBB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8CD-5FBC-4AC4-9F28-BE9001D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AAB870-A7AE-4B39-A9D1-FAA121D5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3AB95-1B64-45C5-9C02-FAEEEA23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01396-4146-4C8D-881E-0DC14C5E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36E616-E506-4BF4-B74B-E47AB32E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8872A-5336-49DC-8215-5583E6DD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BF76D-B329-41AE-86FF-5E1B9D1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13D03-DC1B-4BF5-946E-38395A8C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D8E04-5C74-4EBA-A2F7-1A3C5B35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B5FE3-2F66-467B-A202-9423BD8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475CC0-3F99-4151-8FDC-BA7AF1F6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728-96DF-4944-863D-B4C2C418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C020C-8343-40B9-A6D9-69FB695E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7FB98-C81D-4594-9AD3-FFCB274E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485A7-F7A2-4816-8040-AC287339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88A49-0622-42CD-9DD6-BF01CECA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F6BC7-5E9C-49AB-8FD7-9D98D5A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9CDAD5-C31D-4692-B7FE-4D267610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E5BA2-C7A2-4F94-A0B7-45BDE73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03E6F-0B35-46A9-B5F3-1EEB78B1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61BF6-284A-46EA-AD84-9B79E109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23E80-3D2A-45EE-ACCF-FC85F86C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B04-490F-43C9-8346-F8BF4F21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2F338-06E2-4A1F-A5CF-6F1C693A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5E61A-C000-48D8-AF5D-386ED91A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C9C9C9-5FC4-47AD-B913-A5D1D972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7D5258-381F-4B55-A9AB-439B86F7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C49F8B-FA6C-4347-82CF-1849C33F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FC6B5-4012-4DF8-879A-08449AE8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9F5B7-7DF9-4537-A445-990BAC7B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DE601-E5FC-46A0-9E8F-36C83612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0E784E-D82E-4FAE-A8E8-ADF3EE0B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1CD25-4726-4E24-AE84-19501A3F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778-AF15-41F0-9F16-D9E46404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22D70-FB3D-4134-8249-E2AC645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FFF4A1-A462-405B-B048-7EA802CF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F085D1-26E2-42AC-B89B-B8410546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3D85E-8F6B-49AE-8898-43650A2C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30502-95F4-4CB2-8867-12633FB9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F61F2-3DA0-4CD7-8E44-127D34745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703B0-DC59-4197-9614-C842C720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DC42D-4390-4677-A6A7-4B6D20ED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7F8E8-46FB-4DD8-AFA8-813C1102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5DFC3-8512-480B-A441-15691B4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D34-078C-4014-9EB4-49ACA03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AE6A1-3601-4639-A5AF-4AD25210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47998-6A62-48F2-8FFA-7CBB2AC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25EBA-A853-4416-A348-847E1043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45F42-3542-4E5A-9CEF-77192DF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A08A5-37D2-4ACB-BAFD-9C792AA8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BBA50-FB01-4D75-A82E-3A7A1D19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EE607-57AA-4607-A331-BAAA5C77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7F750E-87CC-44BB-911B-5880FA2D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CBE9CC-368F-4BA9-88B8-1E7458D8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69D8A-A077-4A22-A5E5-33154829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C84D-3263-4DBB-A486-F8D087B83F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2165-50BF-451F-A2D4-6A399BEF811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ADAE-1D56-47D4-B44C-9201D90674F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BCE2-E886-4CE8-B799-2C90E5798F1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49F6-1F27-47E4-8BB1-2BD370768F9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8656"/>
            </a:gs>
            <a:gs pos="100000">
              <a:srgbClr val="25352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f8656"/>
                  </a:gs>
                  <a:gs pos="100000">
                    <a:srgbClr val="3f5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c5436"/>
                </a:gs>
                <a:gs pos="100000">
                  <a:srgbClr val="2433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5f8656"/>
                </a:gs>
                <a:gs pos="100000">
                  <a:srgbClr val="597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5f8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5f8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5f86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3c5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8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6f99b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1000-C11E-4F09-A55D-4B37BBBA761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B791-9D82-45DB-A0BE-A10544119B83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D399-C602-4DAE-9B2A-0224871FB28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8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14CD-A875-49ED-A2FB-55A52A45DF0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D583-6B3C-4698-A609-BF7C934ADC1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BBEA-4A23-4FE7-9C7A-2F1384B32F2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0E25-3406-4936-B40E-92E9519C6C6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1937-40C7-4602-B76A-96466F10761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D3B5-6E0B-4034-AD88-3B391C4FA8E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5E01-D7F0-4428-8ACF-B836AFBC4C8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7817-F12C-41BA-ADE0-3373F9401D7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bc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6a86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bc87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6a8634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bc87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F054-2FBC-438D-BB36-644CA214973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3A47-AC1D-472D-85B5-914CEABBEFC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azareff-lebars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urse requirements fo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ational Dual Degree Progra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phanie Farri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fessor of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"/>
          <p:cNvSpPr/>
          <p:nvPr/>
        </p:nvSpPr>
        <p:spPr>
          <a:xfrm>
            <a:off x="70488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At least one cours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uropean Un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International Human Righ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Law of International Organizations  International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Election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ivil Rights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Race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Sexual Orientatio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Women and th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Phil 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 Cambridg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Use Regulation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d Transactions and Fin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vironmental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lazareff-leba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46440" y="693720"/>
            <a:ext cx="5122800" cy="922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" descr="International Arbitration Lawyer"/>
          <p:cNvPicPr/>
          <p:nvPr/>
        </p:nvPicPr>
        <p:blipFill>
          <a:blip r:embed="rId3"/>
          <a:stretch/>
        </p:blipFill>
        <p:spPr>
          <a:xfrm>
            <a:off x="1846440" y="3753000"/>
            <a:ext cx="1503360" cy="19810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>
            <a:off x="1506600" y="2340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rbitrage, médiation, ADR et contentieu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1506600" y="310500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roit des sociétés et droit financi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Vermont Law School/Cergy alumna</a:t>
            </a:r>
            <a:br>
              <a:rPr sz="4000"/>
            </a:b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Legal Advisor, OECD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363760" y="2016000"/>
            <a:ext cx="465156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y of Cambridge</a:t>
            </a:r>
            <a:br>
              <a:rPr sz="3600"/>
            </a:b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Ph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Environmental Polic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al Estate Fina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73d58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Planning, Growth 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   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Regen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1" name="Picture 3" descr="kings senate.JPG"/>
          <p:cNvPicPr/>
          <p:nvPr/>
        </p:nvPicPr>
        <p:blipFill>
          <a:blip r:embed="rId1"/>
          <a:stretch/>
        </p:blipFill>
        <p:spPr>
          <a:xfrm>
            <a:off x="4952880" y="3429000"/>
            <a:ext cx="4023000" cy="2894040"/>
          </a:xfrm>
          <a:prstGeom prst="rect">
            <a:avLst/>
          </a:prstGeom>
          <a:ln w="9360">
            <a:solidFill>
              <a:srgbClr val="5947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té de Cergy-Pontois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des affaires et de l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roit et éthiques des affai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Master II-DJCE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e697"/>
                </a:solidFill>
                <a:latin typeface="Verdana"/>
              </a:rPr>
              <a:t>Diplôme de juriste conseil d’entrepr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a65"/>
                </a:solidFill>
                <a:latin typeface="Verdana"/>
              </a:rPr>
              <a:t>JD/LLM in French and European Law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7023240" y="3429000"/>
            <a:ext cx="18144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endParaRPr b="0" lang="en-US" sz="5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International Dual Degre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c000"/>
                </a:solidFill>
                <a:latin typeface="Verdana"/>
              </a:rPr>
              <a:t>Universidad de Sevill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JD/Master in Spanis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ffda65"/>
                </a:solidFill>
                <a:latin typeface="Verdana"/>
              </a:rPr>
              <a:t>Constitutional La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7432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d6d8c0"/>
                </a:solidFill>
                <a:latin typeface="Garamond"/>
              </a:rPr>
              <a:t>Vermont Law Schoo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mester Exchanges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nmin University, Beij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cGill University, Montré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Trento, Ita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iversity of Cergy-Pontoise, Fra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JD/Master I et II</a:t>
            </a:r>
            <a:br>
              <a:rPr sz="4000"/>
            </a:br>
            <a:r>
              <a:rPr b="0" lang="en-US" sz="4000" spc="-1" strike="noStrike">
                <a:solidFill>
                  <a:srgbClr val="d6d8c0"/>
                </a:solidFill>
                <a:latin typeface="Arial"/>
              </a:rPr>
              <a:t>University of Cergy-Pontoise</a:t>
            </a:r>
            <a:endParaRPr b="0" lang="en-US" sz="40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urse requirem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oduction to French Law and Legal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nch Corporate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rpora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 least one in each of the following categori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rporate Fina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ities Regul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ounting and Business Fundamenta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nkrupt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 Plan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ployment La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mental Issues in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Business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Commercial Arbi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Intellectual Propert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ational Regulation of Tr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ured Transa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either . . 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come Taxati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siness Tax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8c0"/>
                </a:solidFill>
                <a:latin typeface="Arial"/>
              </a:rPr>
              <a:t>JD/Master in Spanish Constitutional Law</a:t>
            </a:r>
            <a:endParaRPr b="0" lang="en-US" sz="4400" spc="-1" strike="noStrike">
              <a:solidFill>
                <a:srgbClr val="d6d8c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Law I and I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minist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arative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itutional Criminal Procedur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iminal Procedure and Practi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24a3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anish Constitutional Law Semin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73d58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21:05:39Z</dcterms:created>
  <dc:creator>dnadmin</dc:creator>
  <dc:description/>
  <dc:language>en-US</dc:language>
  <cp:lastModifiedBy>tkaiser</cp:lastModifiedBy>
  <dcterms:modified xsi:type="dcterms:W3CDTF">2012-04-04T18:51:02Z</dcterms:modified>
  <cp:revision>93</cp:revision>
  <dc:subject/>
  <dc:title>Human Rights Law</dc:title>
</cp:coreProperties>
</file>