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2DE-DF92-41B1-8EF7-96DE5E83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31F-9C98-4586-9AF2-6A266875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5ABBBF-DBE1-4981-9C96-4A7235EE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A52B2-5F04-4F31-BD15-BA98551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D2866-235D-4291-83D4-26EE244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027E18-B3DE-4C48-959B-383F67D3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02284-32C3-453A-AD19-E62D1C95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8BC2B8-BB82-4F6E-A363-3B007EB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40CA38-8A58-40BA-BED2-9310948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CF27BA-E82D-4AAF-8218-E9C916B7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689BE-E15D-4431-A493-C92C7563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3C3F9-088C-4F21-93C2-60F8A856A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2CD-8FFB-4888-8F2A-CEA21EBC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A66EB-046F-455F-909F-FA0085E3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D97FC-C796-48DE-A058-CAC30ADD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B8C42-5722-430B-A85D-43DE237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79522-633C-4E71-A8AA-D493782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250AE-7581-4E11-B46C-169CD29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54C8F-F317-40C3-B6E0-BDEE392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87242-B8A5-4EB8-A241-F9042219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75415-FB54-4A66-8AAA-E97CEB7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42D40-FCA9-4C2A-AE5D-D495E546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5B2B2-B1CC-43C0-98D7-ECEBE8DE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179-F46F-4E0E-85E3-A216DAAA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FB496-610A-4D12-9EE4-3C56C144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2FF0-7B13-4395-8607-009176F9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54E5-7A59-46C8-A0D6-6F244CBF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D277-041E-418D-911F-F6C9827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A86E-F6DD-49CF-AC0F-756732B5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CA60-C4DC-4AAA-8571-9462A545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1DF2-B6AE-4487-A830-B3A082B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2878-6077-49E4-B450-6941F372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70F-E4C3-4D25-8D8A-050296BD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5E3B-6B29-48E4-B0E9-1A76F8E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2ACC-C3FB-431A-8D07-7AB25B6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330-6EB0-4A9B-BE2A-9F8943DC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8BD-5D48-44E7-BF06-29924486D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5163-6673-4909-9A57-9DE55797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F3FA-B5E5-473B-808C-8446D3F87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D7AB5-B8A1-4A64-A4EB-B1D8900B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1C58-BE2C-4138-8D68-00F2DF8F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1CF7-6292-4937-81A0-1B8CA2A4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FFED-FDC3-4FEF-9839-AA990792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BF93-653D-4E34-8998-88E1D3A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FF0E-6A78-43C2-BBB6-4A1BEDAA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8C041-C182-420E-B5EC-B0258F1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C991-9645-4747-BBC4-3F114D8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454A-600A-4F6E-8237-61F40600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28C8-3205-4C10-A1F2-B9725F62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F215-3196-4824-86DD-F4CCA5A6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F0ECD-B961-4E5D-BCAB-85902E97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AD34-81C1-474F-8919-E9CD5C21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A646-AF0E-4CCB-8EEA-78F55DA7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F215B-7769-40A0-A808-9130D32D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3D3C-C1C4-4BB3-A4C3-1BFA3BD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0C30-D0F5-4DE0-80DD-90896A97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9448-0449-41E7-B8DD-CEF98A5C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8644B-7072-4D06-9A3F-A90BC4C1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03F3-32E6-4CD6-AC1E-1964834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E94C-02D9-40AF-8FF7-07E5D6A3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6D622-F18C-47E4-89AD-FACE0EF0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ADF3-87F5-4E25-8F26-FC1474B7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31EB5-D36E-466B-8319-0AE5DDEE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D980-D97D-45E4-9E20-8EE3500A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D9BF2-CBAA-41BF-84B1-12B6C7EB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806-C98D-45F9-92F9-26E9EF2C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DA61C-A1E6-4AE2-80BF-813DCC08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C8BEA4-4A09-41E0-BD8B-B09960EF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321F0-B2FD-4542-9AC2-D2D7083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FD051-59E7-47FC-A672-FC63B714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C99FF-9313-4465-898B-4F0BA10F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14338-2546-4A34-A1BB-D715387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A2A03-52DC-4B61-8463-AD31E1EE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5E43E-0045-45AC-BC39-4B24E677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4955F7-910E-4784-A585-9175C8CB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9961C-1A5F-4E2B-886F-6AC96139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D43-922B-4703-BB9D-265C5659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57A63-9A05-4C0D-B21B-DA7A8C94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685D57-B373-41C1-A2D0-60D261C5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87D8F-D1BD-408E-BA7E-F71E6E9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41CD0-62E6-4B82-AD2E-58A84B01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9827C-80C0-4EEE-893C-94D526D9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B61BDB-46C8-456C-B4CC-21B87B7F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D96AE6-052C-4B9F-876D-A6156525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7EED8-7F26-41A5-B824-6C1C09F6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728F96-661A-4B8B-93B7-6692505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1D403-85AD-4E54-8BC3-EEF93968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640-4D8A-4377-9249-E164C9C5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ED63C-E64D-4804-9724-9D88A980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EB049A-2062-4CB3-9BD2-D02EB2A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330CF-A903-4A58-99C6-ED36DFFE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A9C8BE-0068-42A3-AC6E-3E2E1762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E9ADA-08BA-4DAB-941D-95463362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1C50B-A484-422E-94C3-5A598C65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E611D-5B42-493B-AEBD-1FD3C9C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0B9435-473D-4DE1-8D09-D4028A27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41D09-66EF-476A-A571-E2AF6F01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71BA5-48D1-4E08-A882-731523AB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F0C-6DE7-43C7-97C3-D1ECB86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FBE72-1102-4AF5-BDF8-6D9B7CB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898D6-EE31-4A8B-933E-DA12BF8C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F74B2-396D-4135-B96B-9D56C66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648A2E-6BB7-49AB-BC1E-15647224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7FE65-FFA3-49FC-A24B-EF40A609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B29E8-9BC2-494A-A5AC-6DB8539B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B3C66-4684-4E80-8ABD-8F0C92F4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39F30-638C-46A9-81E4-D5CE0A33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E351-7009-4CCB-9D87-42F7D8E2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58DDD-3B7B-4AAC-879A-488EA26F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5D8-3B18-4717-BDE1-DE9BA1B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955E8-6787-416C-90DD-BDE9C83B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FDD29-0F70-449D-8F74-9D553308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998C3-C18A-4977-8EC9-40FB7333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F42A9-BB82-4ED5-A516-10F1B81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744A-6BEB-41E4-91CF-4F3488F0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B910E-1AB7-4288-9B76-5841D67D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0C8A8-9D43-4AB2-9380-D9BEB4D6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FAE29F-6AC6-4A31-82DC-DB8639BD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A94A8-0893-427D-8C08-0101F261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232753-B325-4ED6-AE76-30EC253C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1F4E-94D5-465D-B8BA-8E0D64E799B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0688-3832-4E04-8016-3766CBB4CB5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F602-964E-48BE-B06F-8A7D89341B1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F4A8-A48D-4193-A466-86229E4A1D1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9636-B94E-4414-ADFB-CFFBF274C06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EC96-456E-4743-A939-BF799FA770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276F-FF8E-43AF-BAF2-7C284F63D7FD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83F0-DFEC-4CBF-820C-1CF3BCAACDA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F711-2348-4FA4-8972-17C1609CEE2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8F6C-D3C4-46EF-AAEC-68696908309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A12C-3141-4CC4-85F5-6B60863E7CF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BEF-F084-47D3-8931-782A6F04E56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5B16-FDE1-4D2A-B345-AEADB639D3F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0728-937D-4441-8F8C-0229B3586C0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8BFA-3790-4587-9F44-F86E0C75912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82D5-27DB-4823-94E3-7F1DA36CEB7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C77B-EE04-4188-9A95-20143C476ED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DBAD-445F-484E-8149-564C0692373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azareff-lebar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requirements f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ational Dual Degree Progr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phanie Far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or of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70488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t least one cours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uropean Un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ternational Human Righ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aw of International Organizations  International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ect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ivil Rights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ace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xual Orientatio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me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Phil 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 Cambridg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Use Regula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Transactions and Fi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ironmental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lazareff-leba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46440" y="693720"/>
            <a:ext cx="5122800" cy="922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International Arbitration Lawyer"/>
          <p:cNvPicPr/>
          <p:nvPr/>
        </p:nvPicPr>
        <p:blipFill>
          <a:blip r:embed="rId3"/>
          <a:stretch/>
        </p:blipFill>
        <p:spPr>
          <a:xfrm>
            <a:off x="1846440" y="3753000"/>
            <a:ext cx="1503360" cy="19810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1506600" y="2340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rbitrage, médiation, ADR et contentieu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506600" y="3105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roit des sociétés et droit financ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ermont Law School/Cergy alumna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Legal Advisor, OEC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363760" y="2016000"/>
            <a:ext cx="46515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y of Cambridg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Ph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Environmental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al Estate 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Planning, Growth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1" name="Picture 3" descr="kings senate.JPG"/>
          <p:cNvPicPr/>
          <p:nvPr/>
        </p:nvPicPr>
        <p:blipFill>
          <a:blip r:embed="rId1"/>
          <a:stretch/>
        </p:blipFill>
        <p:spPr>
          <a:xfrm>
            <a:off x="4952880" y="3429000"/>
            <a:ext cx="4023000" cy="2894040"/>
          </a:xfrm>
          <a:prstGeom prst="rect">
            <a:avLst/>
          </a:prstGeom>
          <a:ln w="9360">
            <a:solidFill>
              <a:srgbClr val="5947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é de Cergy-Pontoi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des affaires et de l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et éthiques des affai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I-DJCE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iplôme de juriste conseil d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LLM in French and European La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7023240" y="3429000"/>
            <a:ext cx="1814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dad de Sevil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aster in Spanis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Constitutional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7432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mester Exchanges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nmin University, Beij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Gill University, Montré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Trento, Ita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Cergy-Pontoise, F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aster I et II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Cergy-Pontois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urse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to French Law and Legal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nch Corporat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rpor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least on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porate Fin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ities Reg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ounting and Business Fundament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nkrupt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 Plan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loyment La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mental Issues in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Intellectual Proper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Regulation of Tr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d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either . .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ome Taxa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siness Tax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JD/Master in Spanish Constitutional Law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Law I and 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a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Criminal Procedur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minal Procedure and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nish Constitutional Law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21:05:39Z</dcterms:created>
  <dc:creator>dnadmin</dc:creator>
  <dc:description/>
  <dc:language>en-US</dc:language>
  <cp:lastModifiedBy>tkaiser</cp:lastModifiedBy>
  <dcterms:modified xsi:type="dcterms:W3CDTF">2012-04-04T18:51:02Z</dcterms:modified>
  <cp:revision>93</cp:revision>
  <dc:subject/>
  <dc:title>Human Rights Law</dc:title>
</cp:coreProperties>
</file>