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A576-A9EE-401C-8AF2-F8C20C33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D5C-ECE2-4691-B752-2442C215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CD3ACD-FE6E-41D6-AB69-48B240F3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28A419-5A8C-4B55-AAFB-6F52B4D2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85982F-2B3D-4D52-9CD0-A2D83697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8ADC99-21EA-4702-923C-AFEC867F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B3D57E-2785-4576-951D-033352A3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4AAB55-6EC0-4F4A-91A8-A861E988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EEB58C-EF5B-469D-B30C-54E77946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C5F241-2FAB-4450-B6AC-538A6F94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303F65-D0E4-437C-946F-16B9C01E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B9B49-638A-4D0C-95E6-1529CEF9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568-FCC4-46DE-BBA3-94F04756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D4C9B-BE01-4C9D-B7BF-4B2BC101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1AE61-81FA-4EB1-802B-62DF13EC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5164B-7548-4467-8344-DAE62D90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3E919-3D07-4753-AC56-9243583E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35F7C-E5ED-4734-8140-D51694BD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AA62B-E8D1-4EC8-AA90-795A4D19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76CF9-8087-425F-B71C-3E3B552E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56CEC-DD18-4CDE-8FDE-FBD35D19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B20D4-C3C9-4F62-BB59-80421264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E92DC-2DA1-4A1C-897F-57036BF4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675-A74C-4107-8B6C-45A4C145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573EE-8F08-42D7-A21A-3690385C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1098-7F17-492A-823A-1B375204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B4A9-CC65-45AB-B925-EAFB5DF8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E747-57DA-4560-923F-BC2298E1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BD0C-B5BF-4FE6-92BA-0301F4F4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B8F2-FCFC-46FD-B6CE-470692D4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8081-0126-4D3D-9E64-E1E49CBA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36C6-B7D5-40D3-A372-2120E29A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8E2-DDE9-4C10-96A6-86A5E828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D331-7F29-42AE-A055-4719BAA5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B2B9-1967-4E3F-BCC5-9401A858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CA4F-5464-44C9-9A63-CB71A6AD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E119-A0BD-4F1B-BF31-9FCCF967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6DCA-09B3-41B6-B37A-C17F06BF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EB0A7-A39E-4940-9160-29BBE5E3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6DBF9-DCAB-4315-BB39-671847EE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5835A-28FD-4991-8CBC-F7DE25E6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2A819-39A7-4332-A9F2-7D0DFDED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071F0-264E-4C8C-9776-326BDBF0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D7C-2937-41FE-A607-B9FFA797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15623-CF8A-496C-9EFA-4E12E6ED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64C1-DF8D-40FF-9BCC-604C521D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F307A-415F-4730-988B-076F7AAC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17067-2EAE-4960-A8DC-0658E0A7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C7AC4-1ABF-4FEA-850E-EC9AFC23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D9109-35DB-4C2D-A0C6-67149E28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A5165-C80A-42F8-99EE-5947CCC9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D163A-310D-4273-AC20-31AA8BE5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A079A-D7E1-4894-B5F5-34603137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D40B0-4F31-47D1-AF83-618C77BD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0DF-BE96-4DE8-AD47-2D3D2E31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D2B73-BA35-4D19-9D99-E762EE5D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8B9B6-0A58-491E-97BA-33A5EF62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01B38-559C-4581-AA63-5EDF5ABB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360D7-37C3-483A-8FDA-38F582C6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3D828-B211-47C1-A05A-1F3F21DF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C8FD8-0022-4956-9178-12125F40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59222-10A9-473B-8A2D-CBC75272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02E77-89C4-49FF-B316-74569952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68787-829A-449D-B591-CB68E6AA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213BCF-27C1-4BF1-B2A3-09EA18DC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838-AA35-49C9-A3DE-C0D2E5A8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48219-1069-4D76-A243-DC0CF8B4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06C68-10EE-4015-866E-3470FF3F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343949-8202-4361-9E02-809AA0EF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60C58-51B4-4C3D-8F03-C2810BAA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858D4D-3D76-434A-BBD8-E6C1FC63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94F82D-97C9-47EF-99AA-4427C738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7FF50-1385-4D1E-8094-2D4A5110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5DB4C-385B-4711-BEBD-6EA90159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FEA27-C348-4D26-B34A-A58AD3AB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B3C615-27D0-4771-B4C5-A8534DCA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5CC2-FC22-4FD4-9B64-AD3719E4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B0FE33-96A9-40A8-A133-F2D43497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AD17A-2C88-480E-ADE9-202E4111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CF5BDA-D370-47FC-9263-42DD4779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E0F599-52F9-48D3-B882-91424A95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A636BA-1322-40BF-BD4B-F3885721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4B12F-DDCE-4486-84EF-58296DAD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B07880-C090-4BE3-B031-41861954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6A9CD-9DBD-495C-A6FF-B5DE29FC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00096-3125-4523-AFB5-175EA01D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463021-0E18-4A0B-8425-7E3FBAEB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BCA-98A5-4DE2-BD05-0B6EC887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C016EB-04DF-4B8C-9EE3-FE41A21E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27733-3373-4414-9174-C4BD007C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57EBAB-49DD-4E60-818A-3E128035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7A1B5-12B6-4772-9533-E67D5BB8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D1A543-D037-4B56-AD6C-2EDEDE00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93F7D3-0A74-49CD-8575-FCC59AA7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439ABB-A256-4085-91F5-BDD432DB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6EBA6A-422A-46FE-B84B-1C87A38E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FA2B8A-0918-4F16-93A6-CBC22420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AEBB13-D318-475B-B723-F73A7593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E0C-C58D-4E5F-A66A-1D27FD83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566C66-5CEF-45B3-AE98-C1315B78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F81FF-1B9A-450F-8CA3-11519A01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7D7DCD-B940-4106-9C2D-2F3B0AD8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C41B7-69D7-47A4-A28D-723B069D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BDF10-129A-4589-AE51-42E5B3DD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93247-3BAA-4D67-BE02-8C9935DC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153CD-6035-4B85-A80D-30FB8452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A2536-B85F-46D0-9BD0-A1E365CB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797D4-20E5-4D87-97AB-D6C1B18E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D157A-E8C0-41C8-A871-BCB226E2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195-B7A9-42E0-B658-444F388E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3B654-04A9-4921-8FEE-724F0999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75554-77A9-4F1E-A023-0D2511DF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8E53D-7A76-4C7B-A6A6-21697C07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9BD6A-63CC-4999-810A-B05C4761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4D87D-EBD7-4CAC-BB8B-9ED2AA69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F8E34-547A-4EC7-A3B0-ADBB58CA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34B1B-3C2E-428E-90DF-6CA6BF6F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66B896-A834-4673-ACA5-3B330BB5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8C9103-963E-406E-89BC-1487EC0A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FA3671-2111-447D-8B4D-8BB3D621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5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E8BB-5439-48D3-A869-18272B0783B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8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3AEA-29D7-4F77-B53A-00F56B6733B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A70C-93D3-4043-BCC4-1E189219C22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3AD4-25BA-4FA6-807C-C2A455AC916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48EE-43B2-4574-9C06-DE35D8C5829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5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4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5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8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484E-469C-4BC0-B4E7-4DE40D52FD0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C1F0-0BE3-4C5D-819E-7F62BDFD155B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8477-B317-4AE0-8F8C-1E71DE76D773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9DC0-0ED9-4F99-A93B-97627B6E558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2E0A-2755-492D-84F8-FD3F0F8C9A4E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DB67-6B8C-4E6C-ADD1-DD8D76C93BF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F50E-2E8D-4319-B539-EC9CA78CA6B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DD3B-A4C9-41FC-8E44-85D8973FBB2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BF65-CA8F-489D-9CFE-F359F980DE3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985B-72E6-4537-830D-B83A2B38FC0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594D-D0DB-4401-BF97-7A82EA4C004B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FFD5-1305-45A1-91F1-3275C1D4490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6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A4EB-64B7-4259-AD85-7EB04286636A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7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azareff-lebars.com/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rse requirements fo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national Dual Degree Progra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ephanie Farri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fessor of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"/>
          <p:cNvSpPr/>
          <p:nvPr/>
        </p:nvSpPr>
        <p:spPr>
          <a:xfrm>
            <a:off x="70488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t least one course in each of the following categori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uropean Union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ternational Human Righ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Law of International Organizations  International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lection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ivil Rights Semin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Race and th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exual Orientation and th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omen and th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JD/MPhil </a:t>
            </a:r>
            <a:br>
              <a:rPr sz="4000"/>
            </a:b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University of  Cambridge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d Use Regulatio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d Transactions and Fin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ministrative La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vironmental La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lazareff-lebar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46440" y="693720"/>
            <a:ext cx="5122800" cy="9223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" descr="International Arbitration Lawyer"/>
          <p:cNvPicPr/>
          <p:nvPr/>
        </p:nvPicPr>
        <p:blipFill>
          <a:blip r:embed="rId3"/>
          <a:stretch/>
        </p:blipFill>
        <p:spPr>
          <a:xfrm>
            <a:off x="1846440" y="3753000"/>
            <a:ext cx="1503360" cy="19810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"/>
          <p:cNvSpPr/>
          <p:nvPr/>
        </p:nvSpPr>
        <p:spPr>
          <a:xfrm>
            <a:off x="1506600" y="2340000"/>
            <a:ext cx="55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rbitrage, médiation, ADR et contentieu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1506600" y="3105000"/>
            <a:ext cx="55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roit des sociétés et droit financi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ermont Law School/Cergy alumna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Legal Advisor, OECD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2363760" y="2016000"/>
            <a:ext cx="465156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8c0"/>
                </a:solidFill>
                <a:latin typeface="Garamond"/>
              </a:rPr>
              <a:t>Vermont Law School</a:t>
            </a:r>
            <a:endParaRPr b="0" lang="en-US" sz="5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International Dual Degr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University of Cambridge</a:t>
            </a:r>
            <a:br>
              <a:rPr sz="3600"/>
            </a:b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da65"/>
                </a:solidFill>
                <a:latin typeface="Verdana"/>
              </a:rPr>
              <a:t>JD/MPh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Environmental Poli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Real Estate Fin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Planning, Growth an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Regen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1" name="Picture 3" descr="kings senate.JPG"/>
          <p:cNvPicPr/>
          <p:nvPr/>
        </p:nvPicPr>
        <p:blipFill>
          <a:blip r:embed="rId1"/>
          <a:stretch/>
        </p:blipFill>
        <p:spPr>
          <a:xfrm>
            <a:off x="4952880" y="3429000"/>
            <a:ext cx="4023000" cy="2894040"/>
          </a:xfrm>
          <a:prstGeom prst="rect">
            <a:avLst/>
          </a:prstGeom>
          <a:ln w="9360">
            <a:solidFill>
              <a:srgbClr val="59474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8c0"/>
                </a:solidFill>
                <a:latin typeface="Garamond"/>
              </a:rPr>
              <a:t>Vermont Law School</a:t>
            </a:r>
            <a:endParaRPr b="0" lang="en-US" sz="5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International Dual Degr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Université de Cergy-Pontois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a65"/>
                </a:solidFill>
                <a:latin typeface="Verdana"/>
              </a:rPr>
              <a:t>JD/Master 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Droit des affaires et de l’entrepr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Droit et éthiques des affai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a65"/>
                </a:solidFill>
                <a:latin typeface="Verdana"/>
              </a:rPr>
              <a:t>JD/Master II-DJCE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Diplôme de juriste conseil d’entrepr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a65"/>
                </a:solidFill>
                <a:latin typeface="Verdana"/>
              </a:rPr>
              <a:t>JD/LLM in French and European Law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7023240" y="3429000"/>
            <a:ext cx="18144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8c0"/>
                </a:solidFill>
                <a:latin typeface="Garamond"/>
              </a:rPr>
              <a:t>Vermont Law School</a:t>
            </a:r>
            <a:endParaRPr b="0" lang="en-US" sz="5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International Dual Degr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Universidad de Sevil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da65"/>
                </a:solidFill>
                <a:latin typeface="Verdana"/>
              </a:rPr>
              <a:t>JD/Master in Spanish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a65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da65"/>
                </a:solidFill>
                <a:latin typeface="Verdana"/>
              </a:rPr>
              <a:t>Constitutional La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6019920" y="3733920"/>
            <a:ext cx="27432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d6d8c0"/>
                </a:solidFill>
                <a:latin typeface="Garamond"/>
              </a:rPr>
              <a:t>Vermont Law Schoo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mester Exchanges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nmin University, Beij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cGill University, Montré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iversity of Trento, Ita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iversity of Cergy-Pontoise, Fr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JD/Master I et II</a:t>
            </a:r>
            <a:br>
              <a:rPr sz="4000"/>
            </a:b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University of Cergy-Pontoise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urse require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roduction to French Law and Legal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nch Corporate La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rporati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 least one in each of the following categori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rporate Fin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urities Regul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ccounting and Business Fundamenta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nkruptc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siness Plan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ercial Arbi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ployment La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vironmental Issues in Business Trans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ational Business Trans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ational Commercial Arbi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ational Intellectual Proper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ational Regulation of Tra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ured Trans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 either . . 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ome Taxation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siness Tax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JD/Master in Spanish Constitutional Law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titutional Law I and I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ministrativ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arativ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titutional Criminal Procedure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or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iminal Procedure and Pract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anish Constitutional Law Semin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21:05:39Z</dcterms:created>
  <dc:creator>dnadmin</dc:creator>
  <dc:description/>
  <dc:language>en-US</dc:language>
  <cp:lastModifiedBy>tkaiser</cp:lastModifiedBy>
  <dcterms:modified xsi:type="dcterms:W3CDTF">2012-04-04T18:51:02Z</dcterms:modified>
  <cp:revision>93</cp:revision>
  <dc:subject/>
  <dc:title>Human Rights Law</dc:title>
</cp:coreProperties>
</file>